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121-FDC9-4CA0-B48A-5FC7BDBF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A30-261C-4F81-A101-8EE8E26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B56-AACE-48E9-A425-53792363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809-1271-4100-B642-3A1A11FF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F3B-3EC0-4344-80D1-DB345483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426-E315-4048-8870-47DC227B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872-398E-4BA1-8753-F86848E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3AE-5055-4876-8F63-E56F1068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1C9-A323-45A5-89E8-899F88EA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561-96A0-4E82-95E4-42CBD8F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9DB-5584-456C-AA5D-2CA3728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58F-F6A8-4761-99D8-D8717F5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D22-2EA0-4583-B4B5-EDE994B55F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47628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Structural System. The portion of a building that extends above the grou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utside it is called the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perstructure. The portion below the outside grou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called the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structure. The parts of the substructure that distribut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s to the ground are known as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und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undations may take the form of walls. When the ground under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excavated for a cellar, or basement, the foundation walls have the additional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retaining the earth along the outside of the building (Fig. 1.1). The super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such cases is erected atop the foundation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624720" cy="34574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03_U Kyaw Naing.mp3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22:17Z</dcterms:created>
  <dc:creator>ukyawnaing</dc:creator>
  <dc:description/>
  <dc:language>en-US</dc:language>
  <cp:lastModifiedBy>ds0929</cp:lastModifiedBy>
  <dcterms:modified xsi:type="dcterms:W3CDTF">2013-06-24T11:47:12Z</dcterms:modified>
  <cp:revision>3</cp:revision>
  <dc:subject/>
  <dc:title>Slide 1</dc:title>
</cp:coreProperties>
</file>