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1CE-3997-4132-A6F7-819228A0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79D-271B-42EE-9750-82B92FD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C7D-2940-4BB5-9A9E-2F9581FD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A89-C197-4E8A-9F1F-D1EB525A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7CA-E09C-4E73-B19E-07F43DB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280-16A8-4B98-ADC8-F4221FE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87A-C82F-4ACC-B772-17EB4473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985-8358-4A03-B561-DD4328BD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19B-F9E8-487B-851F-6B0044D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4D9-C135-4396-BC74-423A473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1B3-ABFF-489B-9898-56A310EB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D64-4CC0-4F9B-B995-A905F07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59B3-FF79-44EC-BCC9-4BB3D4093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826920" y="227160"/>
            <a:ext cx="4677120" cy="2936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5227920" cy="3024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30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428360" y="48474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231f20"/>
                </a:solidFill>
                <a:latin typeface="Arial"/>
                <a:ea typeface="Calibri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156360" y="404640"/>
            <a:ext cx="2411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6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amples of floor-ceiling and roof-ceiling systems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Concrete structural sl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rries hollow-steel deck, concrete fill, and flexible tile flooring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Acoustical-tile ce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corporating a lighting fixture with provisions for air distribution is suspended below a flo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nsulated roof and steel beams are sprayed with mineral fiber for fire protection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ns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 and open-web joists are protected by a fire-rated suspended ceil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001_A_008_U Kyaw Naing.mp3" descr=""/>
          <p:cNvPicPr/>
          <p:nvPr/>
        </p:nvPicPr>
        <p:blipFill>
          <a:blip r:embed="rId3"/>
          <a:stretch/>
        </p:blipFill>
        <p:spPr>
          <a:xfrm>
            <a:off x="88995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8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95280" y="3333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Systems for Enclosing Interior Space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interior of a building usually is compart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o spaces or rooms by horizontal dividers (floor-ceiling or roof-ce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ystems) and vertical dividers (interior walls and partitions). (The term partition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enerally applied to non-load-bearing walls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Floor-Ceiling System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basic element of a floor is a load-carrying de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protection against wear, esthetic reasons, foot comfort, or noise control,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over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ten is placed over the deck, which then may be referred to as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flo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 a concrete subfloor with a flexible-tile floor covering. A hollowcold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med steel deck is incorporated in the subfloor to house electric wi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57:21Z</dcterms:created>
  <dc:creator>Administrator</dc:creator>
  <dc:description/>
  <dc:language>en-US</dc:language>
  <cp:lastModifiedBy>ds0929</cp:lastModifiedBy>
  <dcterms:modified xsi:type="dcterms:W3CDTF">2013-06-24T11:49:03Z</dcterms:modified>
  <cp:revision>4</cp:revision>
  <dc:subject/>
  <dc:title>PowerPoint Presentation</dc:title>
</cp:coreProperties>
</file>