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43F-F0A2-48D5-A212-9C81C837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77B-233A-4150-BB32-23FD1C3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3D6-CA7D-4626-A0AF-C19D566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344-3591-411D-A983-02206EF4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29B-AC55-4495-B290-434BEFA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E7C-2412-45B6-BD83-6F031446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B85-7F5E-4A5A-AC0F-F3F60C4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59C-A199-4850-9922-D076C516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39B-C1A9-4574-BFA2-38A7FB2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0AD-0130-4652-9EC7-0B24E757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1BD-6E51-486C-8DEB-1CF29F8B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CBD-53F1-4577-BB56-6E8825A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550F-0E97-4953-A6EF-84F7F2F6A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18900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40.3 Types of Carbon Ste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st of the steel used for construction is low- to medium-carbon, relatively mil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ugh, and strong, fairly easy to work by cutting, punching, riveting, and we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ble 4.16 summarizes the most important carbon steels and low-alloy steel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construction as specified by AS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plain iron-carbon metals with less than 0.8% carbon content consist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errite and pearlite and provide the low-carbon (0.06 to 0.30%), medium-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0.30 to 0.50%), and high-carbon (0.50 to 0.80%) steels called hypoeutectoid st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higher-carbon or hypereutectoid tool steels contain 0.8 to 2.0% carb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of pearlite and cementite. The eutectoid steels occurring in the vicinity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0.8% carbon are essentially all pearl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American Iron and Steel Institute and the Society of Automotive Engin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ve designated standard compositions for various steels including plain 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eels and alloy st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4_U Kyaw Naing.mp3" descr=""/>
          <p:cNvPicPr/>
          <p:nvPr/>
        </p:nvPicPr>
        <p:blipFill>
          <a:blip r:embed="rId1"/>
          <a:stretch/>
        </p:blipFill>
        <p:spPr>
          <a:xfrm>
            <a:off x="716436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23:15Z</dcterms:created>
  <dc:creator>Administrator</dc:creator>
  <dc:description/>
  <dc:language>en-US</dc:language>
  <cp:lastModifiedBy>ds0929</cp:lastModifiedBy>
  <dcterms:modified xsi:type="dcterms:W3CDTF">2013-06-24T11:55:01Z</dcterms:modified>
  <cp:revision>4</cp:revision>
  <dc:subject/>
  <dc:title>PowerPoint Presentation</dc:title>
</cp:coreProperties>
</file>