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51B1-E6AD-4432-8720-BBE0D681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43B-6D4A-48E8-B435-E0C48BB5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0ABF-0FF9-40F0-8A4D-1C5F7158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C8CF-B2BD-4AEC-9A9F-8B7A257E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250B-3F03-4483-B3FF-644DA684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114D-84BC-482E-A38D-357342A5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9D41-3173-4EA4-B0E6-30020362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16AB-BED8-44C2-9A00-100731E8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CBD0-60A8-4A82-84A9-C26A407C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7CC0-C368-4930-9DC4-11B593E8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BB04-E3B1-486E-B3C3-138F4EC9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28F-15B3-401B-B4C8-F44E33E0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AB9F-81E1-4053-A6B1-7DCEAA08EC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11280" y="18900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Hardware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s provided to enable the door to function as required. For example, hinges are provided for swinging doors, and guides are installed for sliding doo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ocks or latches are placed in or on doors to prevent them from being open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Knobs or pulls are attached to doors for hand contro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611280" y="2690640"/>
            <a:ext cx="7200720" cy="3402360"/>
          </a:xfrm>
          <a:prstGeom prst="rect">
            <a:avLst/>
          </a:prstGeom>
          <a:ln w="0">
            <a:noFill/>
          </a:ln>
        </p:spPr>
      </p:pic>
      <p:pic>
        <p:nvPicPr>
          <p:cNvPr id="43" name="001_A_010_U Kyaw Naing.mp3" descr=""/>
          <p:cNvPicPr/>
          <p:nvPr/>
        </p:nvPicPr>
        <p:blipFill>
          <a:blip r:embed="rId2"/>
          <a:stretch/>
        </p:blipFill>
        <p:spPr>
          <a:xfrm>
            <a:off x="7885080" y="501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963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1187280" y="1052640"/>
            <a:ext cx="698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1.7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ypes of partitions: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non-load-bearing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gypsumboard on metal studs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ypsumboard face panels laminated to a gypsum core panel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concrete bearing wall, floor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nd beams.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Reprinted with permission from F. S. Merritt and J. Ambrose, ‘‘Building Engine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and Systems Design,’’ 2d ed., Van Nostrand Reinhold, New York.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7:04:56Z</dcterms:created>
  <dc:creator>Administrator</dc:creator>
  <dc:description/>
  <dc:language>en-US</dc:language>
  <cp:lastModifiedBy>ds0929</cp:lastModifiedBy>
  <dcterms:modified xsi:type="dcterms:W3CDTF">2013-06-24T11:49:49Z</dcterms:modified>
  <cp:revision>3</cp:revision>
  <dc:subject/>
  <dc:title>PowerPoint Presentation</dc:title>
</cp:coreProperties>
</file>