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F614-3F3C-456B-8DF9-3823317B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A0CD-5B14-47B6-A9BA-9FABBD8C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7D89-EA2F-44E3-9656-14245CCA0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0E42-2B35-4D37-B153-C4395124B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529C-E44D-400C-AA9D-749AAC82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140D-3BBE-4DBE-87AB-5BF45681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49C5-8C0F-459F-A5B3-7B6B2EA6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AF5F-A0ED-435F-A5BB-CE683482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E178-1B24-4A2A-9876-C66AA914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29FB-3F84-48A9-A1F9-9A1FF9E8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2EAD-C6DD-47DB-B687-E3C96D8C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B8D8-0B86-4297-9514-CE7C2C81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5F14-B379-4D43-A682-DC6F5F8BEE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11280" y="260280"/>
            <a:ext cx="8208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stairway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onsists of a series of steps and landings. Each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step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onsists of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orizontal platform, or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tread,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nd a vertical separation or enclosure, called a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ris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(Fig. 1.9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. Railings are placed along the sides of the stairway and floor opening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for safety reasons. Also, structural members may be provided to support the stai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nd the floor edges. Often, in addition, the stairway must be enclosed for f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rotec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Escalators,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or powered stairs, are installed in such buildings as depart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tores and transportation terminals, or in the lower stories of office buildings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otels, where there is heavy pedestrian traffic between floors. Such powered stai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onsist basically of a conveyor belt with steps attached; an electric motor for mov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e belt, and steps, controls, and structural suppor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Elevators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re installed to provide speedier vertical transportation, especially 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all buildings. Transportation is provided in an enclosed car that moves alo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guides, usually within a fire-resistant vertical shaft but sometimes unenclosed alo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e exterior of a building. The shaft, or the exterior wall, has openings, protec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y doors, at each floor to provide access to the elevator car. The car may be suspended on and moved by cables (Fig. 1.9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or set atop a piston moved by hydraul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ressure (Fig. 1.9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More information on vertical-circulation elements is given in Sec. 1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001_A_012_U Kyaw Naing.mp3" descr=""/>
          <p:cNvPicPr/>
          <p:nvPr/>
        </p:nvPicPr>
        <p:blipFill>
          <a:blip r:embed="rId1"/>
          <a:stretch/>
        </p:blipFill>
        <p:spPr>
          <a:xfrm>
            <a:off x="7956720" y="5805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443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6840360" cy="4032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1116000" y="4653000"/>
            <a:ext cx="71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IGURE 1.9   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Vertical-circulation elements: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stairs;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electric traction elevator;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hydraulic elevat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7:29:06Z</dcterms:created>
  <dc:creator>Administrator</dc:creator>
  <dc:description/>
  <dc:language>en-US</dc:language>
  <cp:lastModifiedBy>ds0929</cp:lastModifiedBy>
  <dcterms:modified xsi:type="dcterms:W3CDTF">2013-06-24T11:50:34Z</dcterms:modified>
  <cp:revision>4</cp:revision>
  <dc:subject/>
  <dc:title>PowerPoint Presentation</dc:title>
</cp:coreProperties>
</file>