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700-9146-467C-866C-2591D68E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45A-35A7-4E43-BF31-7A257A2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C0C-54EE-4F46-8F1B-96C54ECA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DBE-41F9-4829-83D0-CB6B0233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92C-AEA5-4854-8022-21CECE4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51E-E8C5-481A-B0B8-3008C505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03-5E22-4AA8-88FF-410FA69B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85C-1344-49D1-AE50-D8CEB3CD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204-F9AF-4A33-96C4-4473BBA7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686-FDD9-4C9B-A088-128F23D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1A8-77E8-45A8-A829-AE85654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DEF-3352-4B48-A260-DBF52F3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41FE-7C01-4C7A-A76E-F6462FED5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11592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penings are provided in exterior walls for a variety of purposes, but mai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windows and doors. Where openings occur, structural support must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ver them to carry the weight of the wall above and any other loads on that por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wall. Usually, a beam called a lintel is placed over openings in mason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 (Fig.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and a beam called a top header is set over openings in woodfra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sually consists of transparent glass or plastics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(glazing)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eld in 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y light framing, called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ash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window is fitted into a frame secured to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 (Fig.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For sliding windows, the frame carries guides in which the s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lides. For swinging windows, stops against which the window closes are built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fr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rdwar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provided to enable the window to function as required. For mov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indows, the hardware includes grips for moving them, locks, hinges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winging windows, and sash balances and pulleys for vertically sliding windo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main purposes of windows are to illuminate the building interior with dayligh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ventilate the interior, and to give occupants a view of the outside. For re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ores, windows may have the major purpose of giving passersby a view of i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splayed inside. (See also Sec. 11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oo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installed in exterior walls to give access to or from the interior or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event such access. For similar reasons, doors are also provided in interior w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partitions. Thus, a door may be part of a system for enclosing a building or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mponent of a system for enclosing interior spa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7_U Kyaw Naing.mp3" descr=""/>
          <p:cNvPicPr/>
          <p:nvPr/>
        </p:nvPicPr>
        <p:blipFill>
          <a:blip r:embed="rId1"/>
          <a:stretch/>
        </p:blipFill>
        <p:spPr>
          <a:xfrm>
            <a:off x="831708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55:59Z</dcterms:created>
  <dc:creator>Administrator</dc:creator>
  <dc:description/>
  <dc:language>en-US</dc:language>
  <cp:lastModifiedBy>ds0929</cp:lastModifiedBy>
  <dcterms:modified xsi:type="dcterms:W3CDTF">2013-06-24T11:48:42Z</dcterms:modified>
  <cp:revision>4</cp:revision>
  <dc:subject/>
  <dc:title>PowerPoint Presentation</dc:title>
</cp:coreProperties>
</file>