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3D475-6578-4814-9F8E-186AA55C3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73E92-354F-4EF0-8475-03D7E8A40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9C72D-FE55-4C4C-8633-4412551FA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B6116-14C9-4E8B-8F12-66C355C23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9CC5E-5D73-4CD6-9E76-FAA2708A2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A8EE6-E77E-4591-B04B-CE302A026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DAB48-2D6C-4AB1-BCFA-3405E691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75BF0-3F04-4B61-B9EE-D4B6F2976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8D842-4D8A-40DE-ADD6-01096806E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3F64-6760-443E-AE86-27739A657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D61D9-A53F-4838-BFBB-4C6B2211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3711-4689-4448-B166-EED75D30B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F756-9BAE-4332-9741-7EE38E6C96A3}"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684360" y="404640"/>
            <a:ext cx="7848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3.4.3 Roof Drain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ny roof failures have been caused by excessive water accumulation. In most cases, the overload that caused failure was not anticipated in design of those roofs, because the designers expected rainwater to run off the roof. But because of inadequate drainage, the water ponded instea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 flat roofs, ponding of rainwater causes structural members to deflect.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sulting bowing of the roof surface permits more rainwater to accumulate, and the additional weight of this water causes additional bowing and collection of even more water. This process can lead to roof collapse. Similar conditions also can occur in the valleys of sloping roof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avoid water accumulation, roofs should be sloped toward drains and pip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at have adequate capacity to conduct water away from the roofs, in accord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local plumbing codes. </a:t>
            </a:r>
            <a:endParaRPr b="0" lang="en-US" sz="1800" spc="-1" strike="noStrike">
              <a:solidFill>
                <a:srgbClr val="000000"/>
              </a:solidFill>
              <a:latin typeface="Calibri"/>
            </a:endParaRPr>
          </a:p>
        </p:txBody>
      </p:sp>
      <p:pic>
        <p:nvPicPr>
          <p:cNvPr id="42" name="001_A_017_U Kyaw Naing.mp3" descr=""/>
          <p:cNvPicPr/>
          <p:nvPr/>
        </p:nvPicPr>
        <p:blipFill>
          <a:blip r:embed="rId1"/>
          <a:stretch/>
        </p:blipFill>
        <p:spPr>
          <a:xfrm>
            <a:off x="759636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3536"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7:59:49Z</dcterms:created>
  <dc:creator>Administrator</dc:creator>
  <dc:description/>
  <dc:language>en-US</dc:language>
  <cp:lastModifiedBy>ds0929</cp:lastModifiedBy>
  <dcterms:modified xsi:type="dcterms:W3CDTF">2013-06-24T11:52:13Z</dcterms:modified>
  <cp:revision>4</cp:revision>
  <dc:subject/>
  <dc:title>PowerPoint Presentation</dc:title>
</cp:coreProperties>
</file>