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019F-F90C-40C3-87AA-424FFEE4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87FE-D6DF-41C1-9B38-90DE93DB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0328-CC8B-4D24-82C0-699A0671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80BA-9F9E-49D6-8BC7-84877780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6E4F-63B1-4FBC-968E-3E44A3C7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C631-1F53-480D-8F69-0691A4FD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CB78-3AA9-4662-9B37-ABDC0696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162C-ED63-4E12-A44B-A7CAD8D7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638A-C4CB-4F7F-976E-F7CFDF6A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6089-5D15-4C0E-A114-CE58C54E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051F-51BF-44B4-A498-9ECE2EF5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1CE6-DA92-4E47-851F-E4FACD45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B4BC-79CE-463F-A6EA-79755F941F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11280" y="333360"/>
            <a:ext cx="8137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Calibri"/>
              </a:rPr>
              <a:t>4.33 MECHANICAL PROPERTIES OF WO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Because of its structure, wood has different strength properties parallel and perpendicular to the grain. Tensile, bending, and compressive strengths are great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arallel to the grain and least across the grain, whereas shear strength is lea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arallel to the grain and greatest across the grain. Except in plywood, the shear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trength of wood is usually governed by the parallel-to-grain direct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98320" y="1717560"/>
            <a:ext cx="7704360" cy="50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Lumber is graded by the various associations of lumber manufacturers having jurisdic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over various species. Two principal sets of grading rules are employe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(1) for softwoods, and (2) for hardwood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Calibri"/>
              </a:rPr>
              <a:t>Softwoods.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oftwood lumber is classified as dry, moisture content 19% or les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nd green, moisture content above 19%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ccording to the American Softwood Lumber Standard, softwoods are classifi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ccording to use a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Yard Lumber.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Lumber of grades, sizes, and patterns generally intended for ord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construction and general building purpos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Structural Lumber.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Lumber 2 in or more nominal thickness and width for u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where working stresses are requir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Factory and Shop Lumber.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Lumber produced or selected primarily for manufacturing purpos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oftwoods are classified according to extent of manufacture a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Rough Lumber.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Lumber that has not been dressed (surfaced) but has be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awed, edged, and trimm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Dressed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Surfaced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Lumber.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Lumber that has been dressed by a planning mach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(for the purpose of attaining smoothness of surface and uniformity of siz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on one side (S1S), two sides (S2S), one edge (S1E), two edges (S2E), or a combin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of sides and edges (S1S1E, S1S2, S2S1E, S4S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Worked Lumber.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Lumber that, in addition to being dressed, has been matched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hiplapped or patterne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Matched Lumber.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Lumber that has been worked with a tongue on one edge of each piece and a groove on the opposite edge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23_U Kyaw Naing.mp3" descr=""/>
          <p:cNvPicPr/>
          <p:nvPr/>
        </p:nvPicPr>
        <p:blipFill>
          <a:blip r:embed="rId1"/>
          <a:stretch/>
        </p:blipFill>
        <p:spPr>
          <a:xfrm>
            <a:off x="8317080" y="4292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721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8:18:50Z</dcterms:created>
  <dc:creator>Administrator</dc:creator>
  <dc:description/>
  <dc:language>en-US</dc:language>
  <cp:lastModifiedBy>ds0929</cp:lastModifiedBy>
  <dcterms:modified xsi:type="dcterms:W3CDTF">2013-06-24T11:54:37Z</dcterms:modified>
  <cp:revision>3</cp:revision>
  <dc:subject/>
  <dc:title>PowerPoint Presentation</dc:title>
</cp:coreProperties>
</file>