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A9E-D3BC-4C3B-AA59-C76CB9B0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B37-87F1-40A3-B707-12FBD20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959-A063-431C-B19C-434347DC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62A-0825-43AC-A21B-C7A1E4E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B30-EF12-4963-8BAF-B010FE5F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FEF-BFB3-4179-8AC8-9C9DB947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300-BDEB-4BC3-A94C-1C131C2F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EE4-1DBC-43D3-B213-E0E40FD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151-8E7D-4CB3-8AA4-4581A4B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376-1721-48EA-AA8B-604EEAE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373-25FC-4A11-A7E4-96D66BA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C81-9A2D-42C5-9B16-50D5CFC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03D2-B3D6-41B5-AB08-A0CA247A1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46920" cy="4626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534960" y="518472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5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ypes of exterior wall construction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concrete-block wall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wood-framed wall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precast-concrete curtain wa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5_U Kyaw Naing.mp3" descr=""/>
          <p:cNvPicPr/>
          <p:nvPr/>
        </p:nvPicPr>
        <p:blipFill>
          <a:blip r:embed="rId2"/>
          <a:stretch/>
        </p:blipFill>
        <p:spPr>
          <a:xfrm>
            <a:off x="788508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16000" y="19692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Exterior wal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nclose a building below the roof. The basis element in the w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a strong, durable, water-resistant facing. For added strength or lateral stabi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is facing may be supplemented on the inner side by a backing or sheathing (Fi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 For esthetic purposes, an interior facing usually is placed on the inner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 backing. A layer of insulation should be incorporated in walls to res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assage of he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enerally, walls may be built of unit masonry, panels, framing, or a comb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se materia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Unit masonry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s of small units, such as clay brick, concrete block, g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lock, or clay tile, held together by a cement such as mortar. Figure 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 built of concrete blo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anel wal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 of units much larger than unit masonry. Made of meta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crete, glass, plastics, or preassembled brick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8:33Z</dcterms:created>
  <dc:creator>Administrator</dc:creator>
  <dc:description/>
  <dc:language>en-US</dc:language>
  <cp:lastModifiedBy>ds0929</cp:lastModifiedBy>
  <dcterms:modified xsi:type="dcterms:W3CDTF">2013-06-24T11:47:55Z</dcterms:modified>
  <cp:revision>3</cp:revision>
  <dc:subject/>
  <dc:title>PowerPoint Presentation</dc:title>
</cp:coreProperties>
</file>