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5E8-17B4-4B8D-9D37-B652CFA2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62F-0630-4E05-B3B7-040AAB6F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4DE-8A6F-4624-B5FF-DEE98760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E90-FCAE-4EBD-8D65-D31563BE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D97-0A6B-4562-AEB0-1D31F838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3F2-BA42-445A-864B-E85103F3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4A3-75ED-4844-8388-94ED0D41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A2E-2D6F-4386-98EE-2D8EB2E2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DD3-85B3-4EEC-9CE4-6CBEBFFC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D31-66D0-4924-A3E9-5AE3A0A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139-EAC8-4117-8EE5-469384A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BAF-C518-41CB-B753-6F5AA4D4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548C-5948-44CC-B5C7-317B3467F7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basic traditional design procedure (Art. 1.3), which has been widely used 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y years, and commonly used variations of it have resulted in many excell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ildings. It needs improvement, however, because clients cannot be certain th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ts use gives the best value for the money or that the required performance cou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ot have been attained at lower cost. The uncertainty arises because historicall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ctual construction costs often exceed low bids or negotiated prices, because of design changes during construction;  unanticipated  delays during  construction, which increase costs; and unforeseen conditions, such as unexpectedly poor sub- surface conditions that make excavation and foundation  construction more ex- pens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truction, operation, or maintenance costs are higher than estimated, because of design mistakes or omiss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paration of design and construction into different specialties leads to  under- estimated or overestimated construction costs and antagonistic relations between designers and build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4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truction costs are kept within the client’s budget at the expense of  later higher operating, maintenance, and repair co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5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ordination of the output of architects and consultants is not sufficiently close for production of an optimum building for the client’s actual nee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13_U Kyaw Naing.mp3" descr=""/>
          <p:cNvPicPr/>
          <p:nvPr/>
        </p:nvPicPr>
        <p:blipFill>
          <a:blip r:embed="rId1"/>
          <a:stretch/>
        </p:blipFill>
        <p:spPr>
          <a:xfrm>
            <a:off x="759636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33:33Z</dcterms:created>
  <dc:creator>Administrator</dc:creator>
  <dc:description/>
  <dc:language>en-US</dc:language>
  <cp:lastModifiedBy>ds0929</cp:lastModifiedBy>
  <dcterms:modified xsi:type="dcterms:W3CDTF">2013-06-24T11:51:01Z</dcterms:modified>
  <cp:revision>4</cp:revision>
  <dc:subject/>
  <dc:title>PowerPoint Presentation</dc:title>
</cp:coreProperties>
</file>