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B647-BC48-4599-B41D-6A85B6CCB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1F88-A5B1-4678-A5B0-5B657328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7E436-5CA0-46E6-AACF-0813C881B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6C0EE-66FD-4EAE-BF79-E03AA5626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F893-09D9-4FC2-82C0-306956449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1643-D049-486C-AF70-AF971ABD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9C48B-0D02-4BF2-B1B4-2F066E1BD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66EE2-2612-432C-B4F2-59E5205AD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4D392-D2DD-46F6-81C1-0F5479924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070D-D52D-492B-A37B-8A188A56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45984-CA18-4663-8CC8-964CB8A49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10BED-6393-4691-81AE-AC53DE16B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D0EF-B0A4-4BDE-BB29-743FAD44D9F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468360" y="404640"/>
            <a:ext cx="76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Acoustics. </a:t>
            </a:r>
            <a:r>
              <a:rPr b="0" lang="en-AU" sz="1800" spc="-1" strike="noStrike">
                <a:solidFill>
                  <a:srgbClr val="000000"/>
                </a:solidFill>
                <a:latin typeface="Calibri"/>
              </a:rPr>
              <a:t>The science of sound, its production, transmission, and effects are applied in the building design for sound and vibration contro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major objective of acoustics is provision of an environment that enha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mmunication in the building interior, whether the sound is created by speech or music. This is accomplished by installation of enclosures with appropriate acoustic properties around sound sources and receivers. Another important objective is reduction or elimination of noise—unwanted sound—from building interiors. This may be accomplished by elimination of the noise at the source, by installation of sound barriers, or by placing sound-absorbing materials on the surfaces of enclosu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ill another objective is reduction or elimination of vibrations that can anno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ccupants, produce noise by rattling loose objects, or crack or break parts or contents of a building. The most effective means of preventing undesirable vibrations is correction of the sourc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therwise, the source should be isolated from the building structure and potential transmission paths should be interrupted with carefully designed discontinuities.</a:t>
            </a:r>
            <a:endParaRPr b="0" lang="en-US" sz="1800" spc="-1" strike="noStrike">
              <a:solidFill>
                <a:srgbClr val="000000"/>
              </a:solidFill>
              <a:latin typeface="Calibri"/>
            </a:endParaRPr>
          </a:p>
        </p:txBody>
      </p:sp>
      <p:pic>
        <p:nvPicPr>
          <p:cNvPr id="42" name="001_A_011_U Kyaw Naing.mp3" descr=""/>
          <p:cNvPicPr/>
          <p:nvPr/>
        </p:nvPicPr>
        <p:blipFill>
          <a:blip r:embed="rId1"/>
          <a:stretch/>
        </p:blipFill>
        <p:spPr>
          <a:xfrm>
            <a:off x="802800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38592"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7:07:15Z</dcterms:created>
  <dc:creator>Administrator</dc:creator>
  <dc:description/>
  <dc:language>en-US</dc:language>
  <cp:lastModifiedBy>ds0929</cp:lastModifiedBy>
  <dcterms:modified xsi:type="dcterms:W3CDTF">2013-06-24T11:50:12Z</dcterms:modified>
  <cp:revision>4</cp:revision>
  <dc:subject/>
  <dc:title>PowerPoint Presentation</dc:title>
</cp:coreProperties>
</file>