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348-F407-4319-91CC-1BDA4380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A19-54BC-4A29-B9E6-93A4E90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424-0430-45F8-A507-8941AE8F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BC3-23E6-4304-B565-42E39F7D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847-FE16-49F4-8502-C108FF9C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B18-D2B3-4D69-B71E-4382D54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D5E-FD05-4969-9A18-56109C53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EA8-64FC-4E4F-AE0A-453C768D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759-41B3-48B5-AAA8-FB0A354B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8A1-52F1-4E47-89F2-1E38697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3F6-AE2A-4A33-8D85-8C9A918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667-4045-45A3-AF4E-9C76C3D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F5FF-AEAA-4825-B6F1-205D047C04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46120" y="655560"/>
            <a:ext cx="7575480" cy="3546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730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55640" y="45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3.8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sulated concrete slab on ground with membrane dampproof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001_A_019_U Kyaw Naing.mp3" descr=""/>
          <p:cNvPicPr/>
          <p:nvPr/>
        </p:nvPicPr>
        <p:blipFill>
          <a:blip r:embed="rId2"/>
          <a:stretch/>
        </p:blipFill>
        <p:spPr>
          <a:xfrm>
            <a:off x="802800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0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06:46Z</dcterms:created>
  <dc:creator>Administrator</dc:creator>
  <dc:description/>
  <dc:language>en-US</dc:language>
  <cp:lastModifiedBy>ds0929</cp:lastModifiedBy>
  <dcterms:modified xsi:type="dcterms:W3CDTF">2013-06-24T11:53:07Z</dcterms:modified>
  <cp:revision>4</cp:revision>
  <dc:subject/>
  <dc:title>PowerPoint Presentation</dc:title>
</cp:coreProperties>
</file>