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8CB-3998-4B78-B59B-E9D713E2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149-8428-4304-9B2B-A500103F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A04-7EE5-45D0-A5EA-9E773663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011-4DAC-4E63-BDE9-0D159CA7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49A-6437-4AC3-B55F-A43A08A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24D-5EB0-4996-B3D5-853C4F87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E7E-9AC6-4AA0-A157-1A29A11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E80-A3CF-43CB-AB57-BA4AE6A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F8D-FEA1-4EDA-914A-D9180218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BC1-B775-4427-985C-4D72DBD4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297-E1F1-4FBB-AE3A-20B7A0F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902-8419-40A7-B2A7-947F7BE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F541-A1AF-40C6-8F2A-B725833367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9640" y="4046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MORTARS AND CONCR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16 </a:t>
            </a: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MORT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rtars are composed of a cementitious material, fine aggregate, sand, and wa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y are used for bedding unit masonry, for plasters and stuccoes, and with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ddition of coarse aggregate, for concrete. Here consideration is given primarily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ose mortars used for unit masonry and plast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operties of mortars vary greatly, being dependent on the properties of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ementitious material used, ratio of cementitious material to sand, character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grading of the sand, and ratio of water to soli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1_U Kyaw Naing.mp3" descr=""/>
          <p:cNvPicPr/>
          <p:nvPr/>
        </p:nvPicPr>
        <p:blipFill>
          <a:blip r:embed="rId1"/>
          <a:stretch/>
        </p:blipFill>
        <p:spPr>
          <a:xfrm>
            <a:off x="738036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7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3:46Z</dcterms:created>
  <dc:creator>Administrator</dc:creator>
  <dc:description/>
  <dc:language>en-US</dc:language>
  <cp:lastModifiedBy>ds0929</cp:lastModifiedBy>
  <dcterms:modified xsi:type="dcterms:W3CDTF">2013-06-24T11:53:48Z</dcterms:modified>
  <cp:revision>3</cp:revision>
  <dc:subject/>
  <dc:title>PowerPoint Presentation</dc:title>
</cp:coreProperties>
</file>