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DB7-BF1B-46CF-8253-083F1DA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EF3-C640-402B-850A-7A8BC9C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051-04A7-4EE5-81E5-A833993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266-25C3-4045-9C6F-2F6577B2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003-CD49-4172-94F3-4D5FD0C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681-E68F-42B3-9DF1-3D174438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467-E322-4CD9-83EC-A2594A8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E2A-11EA-4557-82C2-D9DB9D0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DD8-27F0-41F9-B1BD-E408FBCC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16C-DBA2-45E5-A6EA-9580D27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F51-D603-43A0-89C2-0270AC0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E36-0D9A-4338-B0EA-B082ADAA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55F-EF23-4FB1-B8EF-305301677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83664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Jois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closely spaced to carry light loa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ring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pport stai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d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pport structural members around openings in floors, roofs, and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urlin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laced horizontally to carry level roof de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aft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laced on an incline to carry sloping roof de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Gir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light horizontal members that span between columns to support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Linte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light horizontal beams that support walls at floor levels in mult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 or that carry the part of walls above openings for doors and windo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Gird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y be heavily loaded beams or horizontal members that support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s (Fig. 1.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pandre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rry exterior walls and support edges of floors and roofs in mult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russe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rve the same purposes as girders but consists of slender horizonta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vertical, and inclined components with large open spaces between them.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paces are triangular in shape. Light beams similarly formed are called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pen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jois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6_U Kyaw Naing.mp3" descr=""/>
          <p:cNvPicPr/>
          <p:nvPr/>
        </p:nvPicPr>
        <p:blipFill>
          <a:blip r:embed="rId1"/>
          <a:stretch/>
        </p:blipFill>
        <p:spPr>
          <a:xfrm>
            <a:off x="7524720" y="5732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6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63640" y="334800"/>
            <a:ext cx="4537080" cy="499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476360" y="5516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3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uctural-steel skeleton framing for a multistory bui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ourtesy of the American Institute of Steel Constructio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2:21Z</dcterms:created>
  <dc:creator>Administrator</dc:creator>
  <dc:description/>
  <dc:language>en-US</dc:language>
  <cp:lastModifiedBy>ds0929</cp:lastModifiedBy>
  <dcterms:modified xsi:type="dcterms:W3CDTF">2013-06-24T11:48:20Z</dcterms:modified>
  <cp:revision>4</cp:revision>
  <dc:subject/>
  <dc:title>PowerPoint Presentation</dc:title>
</cp:coreProperties>
</file>