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52A-0D1A-4B10-86E4-175FD268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75E-0CC1-4B9D-B6F1-4A9F78C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158-2450-49C5-BA95-A7F369E1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F36-9387-495A-BB86-EBB87F08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ACE-CF94-40CF-9364-A8A970D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562-7320-410F-80D3-8B7CBF99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4D5-5A74-412A-AEE4-9432FF93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458-1F8A-4ADF-AE2E-FCEA2122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D84-1534-4455-B702-47640F61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ACD-4FB7-4D02-B5FF-91E8309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35C-1575-41EE-9699-0048B02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B32-1D4F-4917-85FD-E99C061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B65-E60A-47AF-B65B-9BFAB834B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4360" y="54936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Systems Analysis. A group of components of a system may also be a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ch a group is called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system. It, too, may be designed as a system, but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oal must be to assist the system of which it is a component to meet its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imilarly, a group of components of a subsystem may also be a system. Tha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called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sub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116000" y="256536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does each component (or subsystem)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does the component do i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 does the component serve its f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else does the component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y does the component do the things it do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must the component reall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 it be eliminated because it is not essential or because another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 assume its tas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2_U Kyaw Naing.mp3" descr=""/>
          <p:cNvPicPr/>
          <p:nvPr/>
        </p:nvPicPr>
        <p:blipFill>
          <a:blip r:embed="rId1"/>
          <a:stretch/>
        </p:blipFill>
        <p:spPr>
          <a:xfrm>
            <a:off x="745164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3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20:31Z</dcterms:created>
  <dc:creator>ukyawnaing</dc:creator>
  <dc:description/>
  <dc:language>en-US</dc:language>
  <cp:lastModifiedBy>ds0929</cp:lastModifiedBy>
  <dcterms:modified xsi:type="dcterms:W3CDTF">2013-06-24T11:46:44Z</dcterms:modified>
  <cp:revision>2</cp:revision>
  <dc:subject/>
  <dc:title>Slide 1</dc:title>
</cp:coreProperties>
</file>