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830A-C389-4615-8CA4-62B93E267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9C4C-47FB-4BE0-A02C-19128128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FA43-1A8E-4D91-9E45-9E96728F6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2AE5-76F0-40D5-97C3-9A9A7FFC0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2DA8-DF70-42F8-AA0A-A9DCBA4A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8B28-C68E-45F3-95BC-C1300A45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C768-2C46-45D9-8FCF-4D38EE66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2D5A-62C1-4C80-B1F3-5F19DC72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A092-6D19-4F99-A273-9327401A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0C8B-FA16-4D52-A89D-B756F102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2E60-D0BB-40AD-BD1E-7EA4F295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7F6C-B6CE-4E57-85E6-8D7B476E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E5B2-B510-4711-BC58-7AE0FBF62A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50920" y="260280"/>
            <a:ext cx="8281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1. The building should be constructed to serve purposes specified by the cl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2. The design should be constructable by known techniques and with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bor and equipment, within an acceptable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3. The building should be capable of withstanding the elements and normal u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for a period of time specified by the cl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4. Both inside and outside, the building should be visually pleas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5. No part of the building should pose a hazard to the safety or health of 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ccupants under normal usage, and the building should provide for safe evac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r refuge in emergenc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6. The building should provide the degree of shelter from the elements and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ontrol of the interior environment—air, temperature, humidity, light, and acoustics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pecified by the client and not less than the minimums required for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nd health of the occup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7. The building should be constructed to minimize adverse impact on the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8. Operation of the building should consume a minimum of energy while permi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e structure to serve its purpo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9. The sum of costs of construction, operation, maintenance, repair, and anticip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future alterations should be kept within the limit specified by the cl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001_A_001_U Kyaw Naing.mp3" descr=""/>
          <p:cNvPicPr/>
          <p:nvPr/>
        </p:nvPicPr>
        <p:blipFill>
          <a:blip r:embed="rId1"/>
          <a:stretch/>
        </p:blipFill>
        <p:spPr>
          <a:xfrm>
            <a:off x="7885080" y="5805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870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2:18:21Z</dcterms:created>
  <dc:creator>ukyawnaing</dc:creator>
  <dc:description/>
  <dc:language>en-US</dc:language>
  <cp:lastModifiedBy>ds0929</cp:lastModifiedBy>
  <dcterms:modified xsi:type="dcterms:W3CDTF">2013-06-24T11:46:11Z</dcterms:modified>
  <cp:revision>2</cp:revision>
  <dc:subject/>
  <dc:title>Slide 1</dc:title>
</cp:coreProperties>
</file>