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D7D-DC1B-4C4E-8212-0B8465B0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03B-AA0D-473A-9613-BCD78021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1D6-ACD3-43B3-94A1-49CBF37A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E49-3B5E-4779-921D-44F37C7B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65E-3CBD-474B-9777-897EE8C8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251-1AE6-49F4-9380-244E952F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377-950E-4FD1-B6B9-30618FB4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988-70B4-4C3E-A5BB-81A2A1AB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403-A706-47D7-BF0A-32BFEADB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3A3-BA5A-440D-8A50-3E7B4190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A8E-0C05-4BD5-9CAA-9B46A895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6DF-1C66-4BAA-AAAD-258B9DC4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1C98-F0AC-4502-89B2-FB86541EE5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206280"/>
            <a:ext cx="8351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lthough fires in buildings can be avoided, they nevertheless occur. Some of the reasons for this are human error, arson, faulty electrical equipment, poor mainte- nance of heating equipment, and natural causes, such as lightning. Consequently, buildings should be designed to minimize the probability of a fire and to protect life and limit property damage if a fire should occur. The minimum steps that should be taken for the purpose are as follow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imit potential fire loads, with respect to both combustibility and ability  to generate smoke and toxic gas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rovide means for prompt detection of fires, with warnings to occupants who may be affected and notification of the presence of fire to fire fighte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mmunication  of  instructions  to  occupants  as  to  procedures  to  adopt  for safety, such as to staying in place, proceeding to a designated refuge area, or evacuating the buildin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4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rovide means for early extinguishment of any fire that may occur, primarily by automatic sprinklers but also by trained fire fighte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5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Make  available  also  for fire fighting an adequate  water  supply,  appropriate chemicals,  adequate-size  piping,  conveniently  located  valves  on  the  piping, hoses, pumps, and other equipment necessar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6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revent spread of fire from building to building, either through adequate sep- aration or by enclosure of the building with incombustible materi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7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artition the interior of the building with fire barriers, or divisions, to confine a fire to a limited spa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8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nclose with protective materials structural components that may be damaged by fire (fireproofing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9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rovide refuge areas for occupants and safe evacuation routes to outdoo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0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rovide means for removal of heat and smoke from the building as rapidly as possible without exposing occupants to these hazards, with the air-conditioning system, if one is present, assisting the removal by venting the building and by pressurizing smokeproof towers, elevator shafts, and other exi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1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For large buildings, install standby equipment for operation in emergencies of electrical systems and elevato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20_U Kyaw Naing.mp3" descr=""/>
          <p:cNvPicPr/>
          <p:nvPr/>
        </p:nvPicPr>
        <p:blipFill>
          <a:blip r:embed="rId1"/>
          <a:stretch/>
        </p:blipFill>
        <p:spPr>
          <a:xfrm>
            <a:off x="730872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5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10:10Z</dcterms:created>
  <dc:creator>Administrator</dc:creator>
  <dc:description/>
  <dc:language>en-US</dc:language>
  <cp:lastModifiedBy>ds0929</cp:lastModifiedBy>
  <dcterms:modified xsi:type="dcterms:W3CDTF">2013-06-24T11:53:27Z</dcterms:modified>
  <cp:revision>4</cp:revision>
  <dc:subject/>
  <dc:title>PowerPoint Presentation</dc:title>
</cp:coreProperties>
</file>