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043-05C4-4DBA-BF7D-5404850A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9EC-165A-4380-830E-C332350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475-55D5-4904-A74E-1AFEF397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4AE-8CEC-4D16-AA3A-753F0F07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189-BD69-47E4-A779-BA4F8E92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46F-9CF4-4B1C-83FC-245C550D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08B-82D7-42EA-BA2E-C10A768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801-C33A-4E23-8410-213539A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838-8FA5-408E-839F-81FA64A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2FD-C2C0-4417-A481-A136110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642-C81C-4634-87CB-E36B5D05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7A8-EE26-4658-B822-CA6C1B4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BA24-DC2D-410A-90E7-657C730E0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4000" y="692280"/>
            <a:ext cx="233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5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cing of tall building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)diagonal bracing, rigid frames, or shear walls placed in planes (bents) parallel to the lateral force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terior tube enclosing service co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erforated tube enclosing the building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tube within a tube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bundled tub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662200" y="1700280"/>
            <a:ext cx="5942160" cy="32414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6_U Kyaw Naing.mp3" descr=""/>
          <p:cNvPicPr/>
          <p:nvPr/>
        </p:nvPicPr>
        <p:blipFill>
          <a:blip r:embed="rId2"/>
          <a:stretch/>
        </p:blipFill>
        <p:spPr>
          <a:xfrm>
            <a:off x="7667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56:53Z</dcterms:created>
  <dc:creator>Administrator</dc:creator>
  <dc:description/>
  <dc:language>en-US</dc:language>
  <cp:lastModifiedBy>ds0929</cp:lastModifiedBy>
  <dcterms:modified xsi:type="dcterms:W3CDTF">2013-06-24T11:51:50Z</dcterms:modified>
  <cp:revision>4</cp:revision>
  <dc:subject/>
  <dc:title>PowerPoint Presentation</dc:title>
</cp:coreProperties>
</file>