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C010-9B5E-4F5A-B943-0CA903FD5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9E7D-5F82-41D1-996C-2D1E3A1E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C24A-A72D-4375-9584-6875CCBAF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261A-D9A1-46E5-BB9F-E743CFCE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8DDD-69C3-449F-AC42-27D5C5B5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B820-BDE7-4A05-8FF2-3246717E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A7DE-D085-46CA-A6B5-F9D75EC8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ECC3-8AA6-4865-830D-2FADDA05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11BA-0A25-41B2-A9BD-3654DEE5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1057-1485-4BE5-A046-E87A6B29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E4FE-A3C0-49F2-90BB-7BAF9566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AF54-949E-424B-BACB-2519F801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E2D4-9C18-407B-A9BF-3C63DB70FC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7848720" cy="539928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9_U Kyaw Naing.mp3" descr=""/>
          <p:cNvPicPr/>
          <p:nvPr/>
        </p:nvPicPr>
        <p:blipFill>
          <a:blip r:embed="rId2"/>
          <a:stretch/>
        </p:blipFill>
        <p:spPr>
          <a:xfrm>
            <a:off x="7956720" y="59500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209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468360" y="260280"/>
            <a:ext cx="770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eiling is suspended below a floor or roof for esthetic or other reasons. Figure 1.6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shows such a ceiling. It is formed with acoustical panels and incorporates a lighting fixture and air-conditioning inlets and outle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Metal and wood subfloors and beams require fire protection. Figure 1.6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c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how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 roof and its steel beams protected on the underside by a sprayed-on mineral fib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Figure 1.6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hows a roof and open-web steel joists protected on the underside by a continuous, suspended, fire-resistant ceiling. As an alternative to encasement in or shielding by a fire-resistant material, wood may be made fire-resistant by treatment with a fire-retardant chemic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7:02:38Z</dcterms:created>
  <dc:creator>Administrator</dc:creator>
  <dc:description/>
  <dc:language>en-US</dc:language>
  <cp:lastModifiedBy>ds0929</cp:lastModifiedBy>
  <dcterms:modified xsi:type="dcterms:W3CDTF">2013-06-24T11:49:28Z</dcterms:modified>
  <cp:revision>3</cp:revision>
  <dc:subject/>
  <dc:title>PowerPoint Presentation</dc:title>
</cp:coreProperties>
</file>