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6A7-3F92-49E2-AA42-27640A0F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AFC-2E2D-4E26-88D9-7A3CDCE5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BC4-45BE-4021-B60A-F7BF6EE1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364-30EA-46A2-B648-6325192E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6FC-D7E3-474B-BD83-7C3127B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3A4-1513-454D-85FD-07B3F90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D7D-F529-4F2F-B0D3-099FA477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228-3DC4-411F-B69A-E1EBCF2D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0B3-DEF4-48F9-ADCD-76AFF0A1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B65-64A6-4038-AFC0-93723ED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925-BD24-46EF-B548-D6A7AECE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A33-0107-43EB-8320-E27DACD5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4833-DAAB-4164-81D3-A9B7A9A5A7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03040" y="304920"/>
            <a:ext cx="87138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4.31 WINDOW GL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Various types and grades of glass are used for glazing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Clear Window Glas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is is the most extensively used type for windows in a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lasses of buildings. A range of grades, as established by Federal Govern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andard DD-G-451c, classifies quality according to defects. The more comm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used grades are A and B. A is used for the better class of buildings where appear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s important, and B is used for industrial buildings, some low-cost residence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asements, et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ith respect to thickness, clear window glass is classified as ‘‘single-strength’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bout 3⁄32 in thick; ‘‘double-strength,’’ about 1⁄8 in thick; and ‘‘heavy-sheet,’’ up 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7⁄32 in thick. Maximum sizes are as follows: single-strength, 40 _ 50 in; doublestrength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60 _ 80 in; and heavy sheet, 76 _ 120 in. Because of flexibility, sing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rength and double strength should never be used in areas exceeding 12 ft2,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or appearance’s sake areas should not exceed 7 ft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late and Float Glas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se have, in general, the same performance characteristic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y are of superior quality, more expensive, and have better appearanc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ith no distortion of vision at any angle. Showcase windows, picture windows,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posed windows in offices and commercial buildings are usually glazed with polish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late or float glass. Thicknesses range from 1⁄8 to 7⁄8 in. There are two stand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qualities,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ilvering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glazing,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 latter being employed for quality glazin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rocessed Glass and Rolled Figured Sheet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se are general classifications o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bscure glass. There are many patterns and varying characteristics. Some prov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rue obscurity with a uniform diffusion and pleasing appearance, while others m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give a maximum transmission of light or a smoother surface for greater cleanli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 more popular types include a clear, polished surface on one side with a patter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or obscurity on the other si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Obscure Wired Glas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is usually is specified for its fire-retarding propertie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lthough it is also used in doors or windows where breakage is a problem. It shou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not be used in pieces over 720 in2 in area (check local building code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2_U Kyaw Naing.mp3" descr=""/>
          <p:cNvPicPr/>
          <p:nvPr/>
        </p:nvPicPr>
        <p:blipFill>
          <a:blip r:embed="rId1"/>
          <a:stretch/>
        </p:blipFill>
        <p:spPr>
          <a:xfrm>
            <a:off x="8459640" y="5229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3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5:37Z</dcterms:created>
  <dc:creator>Administrator</dc:creator>
  <dc:description/>
  <dc:language>en-US</dc:language>
  <cp:lastModifiedBy>ds0929</cp:lastModifiedBy>
  <dcterms:modified xsi:type="dcterms:W3CDTF">2013-06-24T11:54:13Z</dcterms:modified>
  <cp:revision>3</cp:revision>
  <dc:subject/>
  <dc:title>PowerPoint Presentation</dc:title>
</cp:coreProperties>
</file>