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40E-107B-4838-8A3F-483305D2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80F-6866-47DE-9C70-5B44BB81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4C6-BA49-49B5-BF1E-A2250046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77B-BBF8-4A68-B487-DE1F1260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5C6-9909-413B-8D76-44B0DDCA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D5E-4AB3-4D70-B035-29980A2B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54B-A2FB-43D5-9A4C-01333478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B77-A594-454B-BC4B-5ADB86B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A54-1613-4872-8C45-5D3B1ED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C9F-36EA-4FBD-8C69-ECF2951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163-8EFA-4120-9CC6-B5C2401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D84-1F3A-411A-99AD-4EB23E3F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76EB-CFD1-4910-A82C-1B80621C4B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50920" y="189000"/>
            <a:ext cx="3025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Low Buildings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gure 3.4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llustrates the application of diagonal bracing to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w, industrial-type building. Bracing in the plane of the roof acts with the rafter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idge beam, and an edge roof beam as an inclined truss, which resists wind pres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n the roof. Each truss transmits the wind load to the ends of the buil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iagonals in the end walls transmit the load to the foundations. Wind pressure on the end walls is resisted by diagonal bracing in the end panels of the longitud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s. Wind pressure on the longitudinal walls, like wind on the roof, is trans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o the end wa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287880" y="765000"/>
            <a:ext cx="5532120" cy="295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486240" y="4005360"/>
            <a:ext cx="518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3.4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acing of low buildings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diagonal bracing in roofs and walls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isolated pa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shear walls in a T pattern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ervice-core enclosure used as shear walls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hear walls at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building and rigid frames in the perpendicular di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788508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1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53:27Z</dcterms:created>
  <dc:creator>Administrator</dc:creator>
  <dc:description/>
  <dc:language>en-US</dc:language>
  <cp:lastModifiedBy>ds0929</cp:lastModifiedBy>
  <dcterms:modified xsi:type="dcterms:W3CDTF">2013-06-24T11:51:28Z</dcterms:modified>
  <cp:revision>3</cp:revision>
  <dc:subject/>
  <dc:title>PowerPoint Presentation</dc:title>
</cp:coreProperties>
</file>