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8EC961-CB64-4818-A4EF-5AA3CF22F9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AC422-C5F3-470C-A9CE-2447BF382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47C18-7183-4855-B2E0-C907068883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891F2-EDA3-46C0-9EBD-2B6905CE2C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17A77-CDE4-4D67-BDEB-3C1E57E09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42817-90E0-4632-A320-F535F3B39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99ECE-8184-47C3-ADFB-9B49CE555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F064A-D50F-43AE-83D9-A7B5C7B8F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96AA0-1236-4814-A375-D8ED34F93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E8873-3D80-4E97-9986-AB6A992B7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18892-67F9-4D69-89EA-849447DD5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01D28-357A-4375-B5DD-CFB1436A1B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3BE98-322B-4CF7-B0ED-B1E8BFBD164E}"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900000" y="336600"/>
            <a:ext cx="74883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Calibri"/>
              </a:rPr>
              <a:t>.10 BUILDING COD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Many of the restrictions encountered in building design are imposed by legal regulation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hile all must be met, those in building codes are the most significa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ecause they affect almost every part of a build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uilding codes are established under the police powers of a state to protect the health, welfare, and safety of communities. A code is administered by a building official of the municipality or state that adopts it by legislation. Development of a local code may be guided by a model code, such as those promulgated by the International Conference of Building Officials, Inc.,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uilding Officials and Co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dministrators International, Inc., and Southern Building Code Congress Internationa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c.</a:t>
            </a:r>
            <a:endParaRPr b="0" lang="en-US" sz="1800" spc="-1" strike="noStrike">
              <a:solidFill>
                <a:srgbClr val="000000"/>
              </a:solidFill>
              <a:latin typeface="Calibri"/>
            </a:endParaRPr>
          </a:p>
        </p:txBody>
      </p:sp>
      <p:pic>
        <p:nvPicPr>
          <p:cNvPr id="42" name="001_A_025_U Kyaw Naing.mp3" descr=""/>
          <p:cNvPicPr/>
          <p:nvPr/>
        </p:nvPicPr>
        <p:blipFill>
          <a:blip r:embed="rId1"/>
          <a:stretch/>
        </p:blipFill>
        <p:spPr>
          <a:xfrm>
            <a:off x="831708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77824"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826920" y="333360"/>
            <a:ext cx="77774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Calibri"/>
              </a:rPr>
              <a:t>Forms of Codes. </a:t>
            </a:r>
            <a:r>
              <a:rPr b="0" lang="en-AU" sz="1800" spc="-1" strike="noStrike">
                <a:solidFill>
                  <a:srgbClr val="000000"/>
                </a:solidFill>
                <a:latin typeface="Calibri"/>
              </a:rPr>
              <a:t>Codes often are classified as specifications type or performan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yp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 specification-type code names specific materials for specific uses and specifies minimum or maximum dimensions, for example, ‘‘a brick wall may not be less than 6 in thick.’’ A performance-type code, in contrast, specifies required performance of a construction but leaves materials, methods, and dimensions for the designers to choose. Performance-type codes are generally preferred, because they give designers greater design freedom in meeting clients’ needs, while satisfying the intent of the code. Most codes, however, are neither strictly specifications nor performance type but rather a mixture of the two. The reason for this is that insufficient information is currently available for preparation of an entire enforceable performance co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4" name="001_A_026_U Kyaw Naing.mp3" descr=""/>
          <p:cNvPicPr/>
          <p:nvPr/>
        </p:nvPicPr>
        <p:blipFill>
          <a:blip r:embed="rId1"/>
          <a:stretch/>
        </p:blipFill>
        <p:spPr>
          <a:xfrm>
            <a:off x="8028000" y="5589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78176"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1"/>
          <p:cNvSpPr/>
          <p:nvPr/>
        </p:nvSpPr>
        <p:spPr>
          <a:xfrm>
            <a:off x="826920" y="260280"/>
            <a:ext cx="7632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organization of building codes varies with locality. Generally, however, the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onsist of two parts, one dealing with administration and enforcement and the other specifying requirements for design and construction in detail. specifying requirements for design and construction in detai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Part 1 usually covers licenses, permits, fees, certificates of occupancy, safet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projections beyond street lines, alterations, maintenance, applications, approval of drawings, stop-work orders, and posting of buildings to indicate permissible live loads and occupant load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Part 2 gives requirements for structural components, lighting, HVAC, plumb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gas piping and fixtures, elevators and escalators, electrical distribution, stairs, corridors, walls, doors, and windows. This part also defines and sets limits on occupancy and construction-type classifications. In addition, the second part contains provisions for safety of public and property during construction operations and for fire protection and means of egress after the building is occupied.</a:t>
            </a:r>
            <a:endParaRPr b="0" lang="en-US" sz="1800" spc="-1" strike="noStrike">
              <a:solidFill>
                <a:srgbClr val="000000"/>
              </a:solidFill>
              <a:latin typeface="Calibri"/>
            </a:endParaRPr>
          </a:p>
        </p:txBody>
      </p:sp>
      <p:pic>
        <p:nvPicPr>
          <p:cNvPr id="46" name="001_A_027_U Kyaw Naing.mp3" descr=""/>
          <p:cNvPicPr/>
          <p:nvPr/>
        </p:nvPicPr>
        <p:blipFill>
          <a:blip r:embed="rId1"/>
          <a:stretch/>
        </p:blipFill>
        <p:spPr>
          <a:xfrm>
            <a:off x="766764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68960" fill="hold"/>
                                        <p:tgtEl>
                                          <p:spTgt spid="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
          <p:cNvSpPr/>
          <p:nvPr/>
        </p:nvSpPr>
        <p:spPr>
          <a:xfrm>
            <a:off x="684360" y="189000"/>
            <a:ext cx="81356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Type of construction </a:t>
            </a:r>
            <a:r>
              <a:rPr b="0" lang="en-AU" sz="1800" spc="-1" strike="noStrike">
                <a:solidFill>
                  <a:srgbClr val="000000"/>
                </a:solidFill>
                <a:latin typeface="Calibri"/>
              </a:rPr>
              <a:t>of a building is determined, in general, by the fire rating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ssigned to its components. A code usually establishes two major categories: combustible and noncombustible construction. The combustible type may be subdivided in accordance with the fire protection afforded major structural components and the rate at which they will burn; for example, heavy timber construction is considered slow-burning. The noncombustible type may be subdivided in accordance with the fire-resistive characteristics of compone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uilding codes may set allowable floor areas for fire-protection purposes. Th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limitations depend on occupancy group and type of construction. The purpose i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o delay or prevent spread of fire over large portions of the building. For the sam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eason, building codes also may restrict building height and number of storie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 addition, to permit rapid and orderly egress in emergencies, such as fire, codes limit the occupant load, or number of persons allowed in a building or room. In accordance with permitted occupant loads, codes indicate the number of exits of adequate capacity and fire protection that must be provided.</a:t>
            </a:r>
            <a:endParaRPr b="0" lang="en-US" sz="1800" spc="-1" strike="noStrike">
              <a:solidFill>
                <a:srgbClr val="000000"/>
              </a:solidFill>
              <a:latin typeface="Calibri"/>
            </a:endParaRPr>
          </a:p>
        </p:txBody>
      </p:sp>
      <p:pic>
        <p:nvPicPr>
          <p:cNvPr id="48" name="001_A_028_U Kyaw Naing.mp3" descr=""/>
          <p:cNvPicPr/>
          <p:nvPr/>
        </p:nvPicPr>
        <p:blipFill>
          <a:blip r:embed="rId1"/>
          <a:stretch/>
        </p:blipFill>
        <p:spPr>
          <a:xfrm>
            <a:off x="781200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220160"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8T07:38:50Z</dcterms:created>
  <dc:creator>Administrator</dc:creator>
  <dc:description/>
  <dc:language>en-US</dc:language>
  <cp:lastModifiedBy>ds0929</cp:lastModifiedBy>
  <dcterms:modified xsi:type="dcterms:W3CDTF">2013-06-24T11:56:21Z</dcterms:modified>
  <cp:revision>4</cp:revision>
  <dc:subject/>
  <dc:title>PowerPoint Presentation</dc:title>
</cp:coreProperties>
</file>