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3E7-267F-4B47-ABD1-3D69C622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400-2D00-4FFB-8979-AF91F319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B78-F02B-4700-867E-A06635CF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B05-D8D4-4B2C-863C-EF6F27A4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973-6F23-433C-8858-859FE2CC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CF6-7E27-42A7-A68A-943B6535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006-D0DA-4212-B500-09F675B9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171-B0B6-4753-882B-817D217A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1B9-5E87-4C42-905D-9FD67385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40A-B2BC-4388-8747-42C9C9BE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D97-84EF-40D8-A60A-FEB7CF0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BC0-A1B6-4D5D-A3C3-1FCA7B5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33A9-B3DC-4D7F-8D71-7001CB1E5F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95280" y="404640"/>
            <a:ext cx="79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Roof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y have any of a wide variety of shapes. A specific shape may 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lected because of appearance, need for attic space under the roof,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height between roof and floor below, desire for minimum enclosed volum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ructural economy, or requirements for drainage of rainwater and shedding of sn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ile roofs are sometimes given curved surfaces, more often roofs are compo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one or more plane surfaces. Some commonly used types are shown in Fig. 1.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835200" y="2565360"/>
            <a:ext cx="6696000" cy="2376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838080" y="4941720"/>
            <a:ext cx="66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4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oofs composed of plane surfaces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flat roof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shed roof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pitched roof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hipped roof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gambrel roof; (ƒ) mansard roof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monitored roof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sawtoo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oof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eprinted with permission from F. S. Merritt and J. Ambrose, ‘‘Building Engineering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ystems Design,’’ 2d ed., Van Nostrand Reinhold, New York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817236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0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44:48Z</dcterms:created>
  <dc:creator>Administrator</dc:creator>
  <dc:description/>
  <dc:language>en-US</dc:language>
  <cp:lastModifiedBy>ds0929</cp:lastModifiedBy>
  <dcterms:modified xsi:type="dcterms:W3CDTF">2013-06-24T11:47:34Z</dcterms:modified>
  <cp:revision>4</cp:revision>
  <dc:subject/>
  <dc:title>PowerPoint Presentation</dc:title>
</cp:coreProperties>
</file>