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199-D13D-43C6-829F-87BF79C1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79A-ED62-467A-9B14-3F87427C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3EE-0E95-449A-AFF2-32F93DFB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E700-4873-4741-B345-9E4DD114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484-7537-4047-B725-829D8D4C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F04-2512-45F2-BD72-3B8B20F0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452-201B-4DB2-A361-96C87432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45A-F729-48BA-BCB7-74F7A462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913-9E59-4968-A21D-24BCEEFE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8B8-3ACB-4439-ACE5-D57FEBCD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723-4B83-444C-A79F-184A51C8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2A9-C8DC-4B9C-80BD-CEE0A51A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F5DE-58F1-4864-88FF-A83EBB48C6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47640" y="148428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annon capacity gives us the upper limit; the Nyquist formula tells us how many signal levels we ne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17_U Kyaw Naing.mp3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4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37:39Z</dcterms:created>
  <dc:creator>Administrator</dc:creator>
  <dc:description/>
  <dc:language>en-US</dc:language>
  <cp:lastModifiedBy>ds0929</cp:lastModifiedBy>
  <dcterms:modified xsi:type="dcterms:W3CDTF">2013-06-09T12:16:00Z</dcterms:modified>
  <cp:revision>5</cp:revision>
  <dc:subject/>
  <dc:title>PowerPoint Presentation</dc:title>
</cp:coreProperties>
</file>