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53A-73ED-4376-BD6F-AD17C8A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BBE-BDAB-4BB4-879E-30399E2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3CA-372C-428B-9BD2-FD8F7A82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E58-CFCA-4A77-BE6A-462738E5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F1F-4C2E-45A6-A556-24D4441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018-A316-4B4A-BAEE-056FD5A7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7DA-0C13-4C91-A77A-B488A165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883-E759-4C1C-9564-023E728B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EF0-C505-4810-A694-899E30A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532-9A06-4352-92FD-672F37E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65D-E1EB-4D3A-B2E8-B510C01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D1C-04E3-4574-904C-CA0181F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F066-D808-4E0B-9874-C58315EFE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</a:t>
            </a:r>
            <a:fld id="{6F5F70E5-B1A5-43C3-B1A1-ACE9FF55C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3760" y="3808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Figure 2.20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50880" y="1089000"/>
            <a:ext cx="6069240" cy="508320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0_U Kyaw Naing.mp3" descr=""/>
          <p:cNvPicPr/>
          <p:nvPr/>
        </p:nvPicPr>
        <p:blipFill>
          <a:blip r:embed="rId2"/>
          <a:stretch/>
        </p:blipFill>
        <p:spPr>
          <a:xfrm>
            <a:off x="810108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10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21:00Z</dcterms:created>
  <dc:creator>Administrator</dc:creator>
  <dc:description/>
  <dc:language>en-US</dc:language>
  <cp:lastModifiedBy>ds0929</cp:lastModifiedBy>
  <dcterms:modified xsi:type="dcterms:W3CDTF">2013-06-09T12:05:16Z</dcterms:modified>
  <cp:revision>4</cp:revision>
  <dc:subject/>
  <dc:title>PowerPoint Presentation</dc:title>
</cp:coreProperties>
</file>