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FD4-D0BC-40C3-9DEA-BB4DC890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D99-B730-4D0A-8DBE-C52A35B4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2C82-8C4F-4ACC-B9F6-45841D9E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AEA5-86CC-440E-B3C4-252D9B18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FAA2-D24E-4371-98DB-09CA3949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4CD-062A-4C36-A0F4-2B7BE970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44F-695E-4568-911D-CCB728ED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D5F-1BEE-4929-8431-155757D9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D17-C19C-444A-A738-5978498A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C17-B9B3-490A-82E5-48B77A19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E77A-18A2-44CF-AB82-E4313640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EAA-18AB-49CF-900A-1F3256B2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A264-8C38-4829-AAB6-F8C14842F3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734040" y="22860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Table 7.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tegories of unshielded twisted-pair c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639720" y="685800"/>
            <a:ext cx="7742160" cy="5899320"/>
          </a:xfrm>
          <a:prstGeom prst="rect">
            <a:avLst/>
          </a:prstGeom>
          <a:ln w="0">
            <a:noFill/>
          </a:ln>
        </p:spPr>
      </p:pic>
      <p:pic>
        <p:nvPicPr>
          <p:cNvPr id="45" name="001_A_026_U Kyaw Naing.mp3" descr=""/>
          <p:cNvPicPr/>
          <p:nvPr/>
        </p:nvPicPr>
        <p:blipFill>
          <a:blip r:embed="rId2"/>
          <a:stretch/>
        </p:blipFill>
        <p:spPr>
          <a:xfrm>
            <a:off x="8459640" y="558972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32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48:24Z</dcterms:created>
  <dc:creator>Administrator</dc:creator>
  <dc:description/>
  <dc:language>en-US</dc:language>
  <cp:lastModifiedBy>ds0929</cp:lastModifiedBy>
  <dcterms:modified xsi:type="dcterms:W3CDTF">2013-06-09T14:47:10Z</dcterms:modified>
  <cp:revision>4</cp:revision>
  <dc:subject/>
  <dc:title>PowerPoint Presentation</dc:title>
</cp:coreProperties>
</file>