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B31-45EB-4EED-8987-A84BD492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27D-E51A-4053-8136-EE792557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55D-1CC4-40CE-8F68-C15AE7E3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112-0FBD-4104-ACD2-5DF90E3A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1FD-707B-4E97-AAE1-E5294B65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846-8200-4EF5-9984-1450497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6A6-62FA-4CEA-90E2-B38AD96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E3D-88B4-4960-B9DF-6C213F8A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9C0-469C-4F93-B5D7-587D74F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793-9A8C-40D3-8D67-712F298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49D-53BD-4774-9436-06167D82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341-F2A2-4340-A858-D7425747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F845-5311-4E39-82CA-F28F9DEE1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260280"/>
            <a:ext cx="727236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Network Setup on Additional Compu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fter setting up the network on one computer, you can continue with the next computer. You two alternatives: you can use the same network wizard or you can use the setup disk you would have cre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 setup the network on the other computer(s) that will be part of your networ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actical Learning: Connecting Additional Compu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 the next computer, click Start -&gt; Network Pla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nder Network Tasks, click Set Up A Home Or Office Networ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the first page of the wizard, read the text and click Next</a:t>
            </a:r>
            <a:br>
              <a:rPr sz="16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networkwiz1"/>
          <p:cNvPicPr/>
          <p:nvPr/>
        </p:nvPicPr>
        <p:blipFill>
          <a:blip r:embed="rId1"/>
          <a:stretch/>
        </p:blipFill>
        <p:spPr>
          <a:xfrm>
            <a:off x="1763640" y="2711520"/>
            <a:ext cx="532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etworkwiz2"/>
          <p:cNvPicPr/>
          <p:nvPr/>
        </p:nvPicPr>
        <p:blipFill>
          <a:blip r:embed="rId1"/>
          <a:stretch/>
        </p:blipFill>
        <p:spPr>
          <a:xfrm>
            <a:off x="0" y="0"/>
            <a:ext cx="8748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etworkwiz20"/>
          <p:cNvPicPr/>
          <p:nvPr/>
        </p:nvPicPr>
        <p:blipFill>
          <a:blip r:embed="rId1"/>
          <a:stretch/>
        </p:blipFill>
        <p:spPr>
          <a:xfrm>
            <a:off x="0" y="0"/>
            <a:ext cx="87487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etworkwiz21"/>
          <p:cNvPicPr/>
          <p:nvPr/>
        </p:nvPicPr>
        <p:blipFill>
          <a:blip r:embed="rId1"/>
          <a:stretch/>
        </p:blipFill>
        <p:spPr>
          <a:xfrm>
            <a:off x="0" y="0"/>
            <a:ext cx="84596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etworkwiz22"/>
          <p:cNvPicPr/>
          <p:nvPr/>
        </p:nvPicPr>
        <p:blipFill>
          <a:blip r:embed="rId1"/>
          <a:stretch/>
        </p:blipFill>
        <p:spPr>
          <a:xfrm>
            <a:off x="0" y="0"/>
            <a:ext cx="853272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etworkwiz23"/>
          <p:cNvPicPr/>
          <p:nvPr/>
        </p:nvPicPr>
        <p:blipFill>
          <a:blip r:embed="rId1"/>
          <a:stretch/>
        </p:blipFill>
        <p:spPr>
          <a:xfrm>
            <a:off x="0" y="0"/>
            <a:ext cx="86756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etworkwiz14"/>
          <p:cNvPicPr/>
          <p:nvPr/>
        </p:nvPicPr>
        <p:blipFill>
          <a:blip r:embed="rId1"/>
          <a:stretch/>
        </p:blipFill>
        <p:spPr>
          <a:xfrm>
            <a:off x="0" y="0"/>
            <a:ext cx="86043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etworkwiz15"/>
          <p:cNvPicPr/>
          <p:nvPr/>
        </p:nvPicPr>
        <p:blipFill>
          <a:blip r:embed="rId1"/>
          <a:stretch/>
        </p:blipFill>
        <p:spPr>
          <a:xfrm>
            <a:off x="0" y="0"/>
            <a:ext cx="8748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0:59Z</dcterms:created>
  <dc:creator>ukyawnaing</dc:creator>
  <dc:description/>
  <dc:language>en-US</dc:language>
  <cp:lastModifiedBy>ukyawnaing</cp:lastModifiedBy>
  <dcterms:modified xsi:type="dcterms:W3CDTF">2012-10-11T05:34:42Z</dcterms:modified>
  <cp:revision>1</cp:revision>
  <dc:subject/>
  <dc:title>Slide 1</dc:title>
</cp:coreProperties>
</file>