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83F-C170-4491-BB03-ABCD59F8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685-280A-4812-A0CD-87FD3BF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B39-6CAC-426B-8B5D-B177F6D9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CD7-270C-46C9-9F30-72FAE6EA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5A7-13AF-4181-B806-72E72A6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D8E-168E-4944-BFCC-F8F69D4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CC8-EC87-4DB5-8F3D-05934A5C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DEC-7F71-4009-AA10-56694E77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D05-3458-439C-B182-9758654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974-A5CE-4903-B766-5CA18E28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F01-E313-4BFC-9171-D934AF1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490-2DA8-477B-B492-B2EF06F7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FC7-4EF4-459D-83D0-EF1BF0243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3DF3DC4C-931C-47DC-BB76-CD3280A55EF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5_U Kyaw Naing.mp3" descr=""/>
          <p:cNvPicPr/>
          <p:nvPr/>
        </p:nvPicPr>
        <p:blipFill>
          <a:blip r:embed="rId2"/>
          <a:stretch/>
        </p:blipFill>
        <p:spPr>
          <a:xfrm>
            <a:off x="781200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4:41Z</dcterms:created>
  <dc:creator>Administrator</dc:creator>
  <dc:description/>
  <dc:language>en-US</dc:language>
  <cp:lastModifiedBy>ds0929</cp:lastModifiedBy>
  <dcterms:modified xsi:type="dcterms:W3CDTF">2013-06-09T12:02:16Z</dcterms:modified>
  <cp:revision>4</cp:revision>
  <dc:subject/>
  <dc:title>PowerPoint Presentation</dc:title>
</cp:coreProperties>
</file>