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A00-A2BE-4A9D-9D8A-DA089B41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4FF-0922-46C2-B332-3567966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EA8-D89B-478E-907F-8A9B3E98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734-4A31-4B0F-9534-EF60F420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803-F8CC-4A1F-AD82-655B9F2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922-0F97-4164-8F51-765BBF9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483-B932-4BB5-A607-33199B3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927-6478-49D5-B5B7-35BAB5FE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87E-C246-4FF1-924C-32B07C0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5A3-3555-44C9-949C-714A36F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7CD-F6A3-40BA-8025-D5776A8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A78-C808-4275-9949-30DEC1B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7D9-AA0C-43A5-96F3-C5FF1DE34D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11E3BDE7-487A-47CE-BAC3-DB4EA828E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51360" y="7621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4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DM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584280" y="1973160"/>
            <a:ext cx="825480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9_U Kyaw Naing.mp3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B2C246B3-10C3-45B0-B245-C12E305AA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92040" y="76212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5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DM demultiplexing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82600" y="1870200"/>
            <a:ext cx="8556480" cy="3692520"/>
          </a:xfrm>
          <a:prstGeom prst="rect">
            <a:avLst/>
          </a:prstGeom>
          <a:ln w="0">
            <a:noFill/>
          </a:ln>
        </p:spPr>
      </p:pic>
      <p:pic>
        <p:nvPicPr>
          <p:cNvPr id="56" name="001_A_019_U Kyaw Naing.mp3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408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14:23Z</dcterms:created>
  <dc:creator>Administrator</dc:creator>
  <dc:description/>
  <dc:language>en-US</dc:language>
  <cp:lastModifiedBy>ds0929</cp:lastModifiedBy>
  <dcterms:modified xsi:type="dcterms:W3CDTF">2013-06-09T14:42:39Z</dcterms:modified>
  <cp:revision>3</cp:revision>
  <dc:subject/>
  <dc:title>PowerPoint Presentation</dc:title>
</cp:coreProperties>
</file>