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25E0-CEA4-4022-B81B-EA96F497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A4E-7A2D-410E-A0CB-DDA4628C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874-1903-4A71-8823-E741294D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9B4-69C7-4B6C-84D7-329399BF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C51-75B4-44E4-8364-1140D625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FE9-021C-451C-8910-E811EBD2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F4A-5990-475B-B822-EBAC670D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5FD-F2FB-4532-AE71-64225D14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8A9-09F8-4875-8C0A-663BBC7D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065-2183-4B25-B512-5CD63650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C8E-8625-487B-96C1-BD3AA9AF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6DE-EB04-45FB-A9BD-BD3E5EDC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22AF-3F0A-4135-983C-73F66D5280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9400" y="54936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Wired Network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468360" y="981000"/>
            <a:ext cx="410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 order to connect to a network, a computer must be equipped with a device called a network  card. A network card, or a network adapter, also called a network interface card, or NIC,  allows a computer to connect to the exterior. If you buy a computer from one of those popular  stores or big companies on the Internet, most of their computers have a network card tested and alread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You can reliably use it. If you go to a store that sells or manufactures comput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you can ask them to install or make sure that the computer has a network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nic1"/>
          <p:cNvPicPr/>
          <p:nvPr/>
        </p:nvPicPr>
        <p:blipFill>
          <a:blip r:embed="rId1"/>
          <a:stretch/>
        </p:blipFill>
        <p:spPr>
          <a:xfrm>
            <a:off x="4716360" y="2133720"/>
            <a:ext cx="3969000" cy="2232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611280" y="5084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 network card could also be used or installed externally. This can be done using US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usb1"/>
          <p:cNvPicPr/>
          <p:nvPr/>
        </p:nvPicPr>
        <p:blipFill>
          <a:blip r:embed="rId2"/>
          <a:stretch/>
        </p:blipFill>
        <p:spPr>
          <a:xfrm>
            <a:off x="5364000" y="4724280"/>
            <a:ext cx="1381320" cy="1225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usb2"/>
          <p:cNvPicPr/>
          <p:nvPr/>
        </p:nvPicPr>
        <p:blipFill>
          <a:blip r:embed="rId3"/>
          <a:stretch/>
        </p:blipFill>
        <p:spPr>
          <a:xfrm>
            <a:off x="7093080" y="4508640"/>
            <a:ext cx="1592280" cy="1197000"/>
          </a:xfrm>
          <a:prstGeom prst="rect">
            <a:avLst/>
          </a:prstGeom>
          <a:ln w="0">
            <a:noFill/>
          </a:ln>
        </p:spPr>
      </p:pic>
      <p:pic>
        <p:nvPicPr>
          <p:cNvPr id="47" name="001_A_007_U Kyaw Naing.mp3" descr=""/>
          <p:cNvPicPr/>
          <p:nvPr/>
        </p:nvPicPr>
        <p:blipFill>
          <a:blip r:embed="rId4"/>
          <a:stretch/>
        </p:blipFill>
        <p:spPr>
          <a:xfrm>
            <a:off x="8028000" y="602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448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45:14Z</dcterms:created>
  <dc:creator>ukyawnaing</dc:creator>
  <dc:description/>
  <dc:language>en-US</dc:language>
  <cp:lastModifiedBy>ds0929</cp:lastModifiedBy>
  <dcterms:modified xsi:type="dcterms:W3CDTF">2013-06-09T08:25:39Z</dcterms:modified>
  <cp:revision>3</cp:revision>
  <dc:subject/>
  <dc:title>Slide 1</dc:title>
</cp:coreProperties>
</file>