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EF95-4CF5-4030-8142-36D695D9E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DC52-03F5-45F5-BCC9-D49609D6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91B7-E1EE-4CA9-AF12-7AD3333B7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CC41-7E4F-4B3F-BE20-51C8D84EF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7881-43B1-4B7B-884A-C8E84D4F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1754-D221-4907-B513-BDB35D91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4920-6B7B-4D3F-8179-6EA1EA67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B69E-3D14-4B04-A1BA-50F6BD19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734E-9696-4358-80BC-3D85380F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4EB7-2448-4EB8-9B68-1FD9EFE2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BBD6-A7F0-4916-B894-7BA87882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F90D-F244-4B15-93C7-0215CBA9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E390-AF19-44FC-A16C-40EBEA537E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.</a:t>
            </a:r>
            <a:fld id="{FB1C0730-9444-41E7-823A-506AF859C1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quency Mod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e modulating signal changes the freq. f</a:t>
            </a:r>
            <a:r>
              <a:rPr b="0" lang="en-US" sz="3200" spc="-1" strike="noStrike" baseline="-25000">
                <a:solidFill>
                  <a:srgbClr val="898989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of the carrier sig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e bandwidth for FM is hi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t is approx. 10x the signal frequ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001_A_015_U Kyaw Naing.mp3" descr=""/>
          <p:cNvPicPr/>
          <p:nvPr/>
        </p:nvPicPr>
        <p:blipFill>
          <a:blip r:embed="rId1"/>
          <a:stretch/>
        </p:blipFill>
        <p:spPr>
          <a:xfrm>
            <a:off x="7308720" y="5589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649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1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.</a:t>
            </a:r>
            <a:fld id="{DCB5DE13-AA57-4335-BAA4-4290AC980A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Line 2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3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77640" y="762120"/>
            <a:ext cx="40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Figure 5.18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requency modu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76320" y="1676520"/>
            <a:ext cx="8839080" cy="4332240"/>
          </a:xfrm>
          <a:prstGeom prst="rect">
            <a:avLst/>
          </a:prstGeom>
          <a:ln w="0">
            <a:noFill/>
          </a:ln>
        </p:spPr>
      </p:pic>
      <p:pic>
        <p:nvPicPr>
          <p:cNvPr id="51" name="001_A_015_U Kyaw Naing.mp3" descr=""/>
          <p:cNvPicPr/>
          <p:nvPr/>
        </p:nvPicPr>
        <p:blipFill>
          <a:blip r:embed="rId2"/>
          <a:stretch/>
        </p:blipFill>
        <p:spPr>
          <a:xfrm>
            <a:off x="745164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6496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4:08:04Z</dcterms:created>
  <dc:creator>Administrator</dc:creator>
  <dc:description/>
  <dc:language>en-US</dc:language>
  <cp:lastModifiedBy>ds0929</cp:lastModifiedBy>
  <dcterms:modified xsi:type="dcterms:W3CDTF">2013-06-09T14:40:28Z</dcterms:modified>
  <cp:revision>3</cp:revision>
  <dc:subject/>
  <dc:title>PowerPoint Presentation</dc:title>
</cp:coreProperties>
</file>