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60A-0A10-4BD8-B116-903C3C0C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E39-F2DB-4BF0-8E4D-4BBD9DED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865-298D-45A4-8A28-6D185DFD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6E2-15AE-44A7-8949-E5C5F9FD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993-57EA-4DE1-938E-9A915BBF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EF8-96E3-43A3-B6A3-91D5BDFE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F64-93AC-481D-BE60-8DDEB73B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71A-0BDC-4492-8BD4-FF9160FC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898-9AC4-462E-83F0-06A02270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B27-652E-45B9-BEDD-C91B7F9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597-C167-4B52-96E0-1140DDB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B01-89A4-4DA5-917B-150903F9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69E0-4458-4F52-85E7-F18511DD1E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BD6E8FA-4FA3-40C9-9A9E-8FB8BEE3A16A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72880" y="3682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ponents of a data communic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782640" y="2593800"/>
            <a:ext cx="7066080" cy="1825920"/>
          </a:xfrm>
          <a:prstGeom prst="rect">
            <a:avLst/>
          </a:prstGeom>
          <a:ln w="0">
            <a:noFill/>
          </a:ln>
        </p:spPr>
      </p:pic>
      <p:pic>
        <p:nvPicPr>
          <p:cNvPr id="49" name="001_A_001_U Kyaw Naing.mp3" descr=""/>
          <p:cNvPicPr/>
          <p:nvPr/>
        </p:nvPicPr>
        <p:blipFill>
          <a:blip r:embed="rId2"/>
          <a:stretch/>
        </p:blipFill>
        <p:spPr>
          <a:xfrm>
            <a:off x="745164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329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08:39Z</dcterms:created>
  <dc:creator>Administrator</dc:creator>
  <dc:description/>
  <dc:language>en-US</dc:language>
  <cp:lastModifiedBy>ds0929</cp:lastModifiedBy>
  <dcterms:modified xsi:type="dcterms:W3CDTF">2013-06-09T11:59:58Z</dcterms:modified>
  <cp:revision>5</cp:revision>
  <dc:subject/>
  <dc:title>PowerPoint Presentation</dc:title>
</cp:coreProperties>
</file>