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D805-7DF1-414B-8272-C2B8D7348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20E0-D26B-4455-A198-CF066A29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E4F2-077E-407D-AE4C-04EFBCF58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099B-8899-4BEA-A79C-EEE987BAF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210E-EDD9-49B5-9CF3-4FA3DB69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5FFC-1E54-4779-B110-671C9EEA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99B5-7FC7-427A-BC35-BDA3855B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56F8-BE7A-4ACE-9C5E-5A117EA6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EE4A-351E-4FCB-831B-83514D4A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C164-B885-4309-8B6F-DDDB7454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FFAF-A3D4-472A-9873-7B482930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15E9-23C4-47B9-989A-A399E5FF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2B3E-652B-44FE-A73B-19BE6B0D91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Slide Number Placeholder 1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.</a:t>
            </a:r>
            <a:fld id="{46AF6B93-8A36-463A-A29F-A61B045A8C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2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ine 3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363960" y="762120"/>
            <a:ext cx="35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Figure 5.20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hase modu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63360" y="1600200"/>
            <a:ext cx="8775720" cy="4172040"/>
          </a:xfrm>
          <a:prstGeom prst="rect">
            <a:avLst/>
          </a:prstGeom>
          <a:ln w="0">
            <a:noFill/>
          </a:ln>
        </p:spPr>
      </p:pic>
      <p:pic>
        <p:nvPicPr>
          <p:cNvPr id="49" name="001_A_017_U Kyaw Naing.mp3" descr=""/>
          <p:cNvPicPr/>
          <p:nvPr/>
        </p:nvPicPr>
        <p:blipFill>
          <a:blip r:embed="rId2"/>
          <a:stretch/>
        </p:blipFill>
        <p:spPr>
          <a:xfrm>
            <a:off x="8101080" y="6381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3968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4:10:31Z</dcterms:created>
  <dc:creator>Administrator</dc:creator>
  <dc:description/>
  <dc:language>en-US</dc:language>
  <cp:lastModifiedBy>ds0929</cp:lastModifiedBy>
  <dcterms:modified xsi:type="dcterms:W3CDTF">2013-06-09T14:41:16Z</dcterms:modified>
  <cp:revision>2</cp:revision>
  <dc:subject/>
  <dc:title>PowerPoint Presentation</dc:title>
</cp:coreProperties>
</file>