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53B9-D53E-4F8E-96CE-576F9FAF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B470-87C8-4EFF-9358-9825F711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33B-29EA-403C-BED2-2FF579E1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BD4-2668-4489-AED0-70180035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0A46-8D84-4A11-9974-44D6437A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AC2-AAF3-4885-963C-98EF99D2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5837-65F6-452F-9EE7-76DAD599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75C-961A-452B-9878-0C27D046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145-0C68-4CFF-A7AA-F90F4766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7B8-3109-410A-9B04-A79650B8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D53-75FC-4B91-A434-C4E88A1D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283-A660-4F20-A165-95896CDE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F3EE-42C4-4625-BFA3-1607010464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 Co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35280" y="4292640"/>
            <a:ext cx="559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rting a string of 1’s and 0’s (digital data) into a sequence of signals that denote the 1’s and 0’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xample a high voltage level (+V) could represent a “1” and a low voltage level (0 or -V) could represent a “0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44:48Z</dcterms:created>
  <dc:creator>Administrator</dc:creator>
  <dc:description/>
  <dc:language>en-US</dc:language>
  <cp:lastModifiedBy>ds0929</cp:lastModifiedBy>
  <dcterms:modified xsi:type="dcterms:W3CDTF">2013-06-09T10:19:42Z</dcterms:modified>
  <cp:revision>2</cp:revision>
  <dc:subject/>
  <dc:title>Line Coding</dc:title>
</cp:coreProperties>
</file>