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16C-87CF-4741-AABE-87877548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A7F-8DCC-411A-B5F0-9BB818AC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C25-A347-46EC-B7A1-39C0968F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014-9C65-4D0A-977B-9F09E43F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20A-7DA3-4AF2-AB98-3DF2D8D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7A6-B18C-43FE-AEE9-4B4FBC9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F04-C682-4D25-9C50-D481FD01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2CC-0CC0-491C-999D-C6EBDDE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012-32C6-48BB-9263-A986DFA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F0C-03DD-4E33-8A41-E2FD903B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7F6-51CB-4AB0-8F1E-FD5C9DD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43E-E059-4EED-A7DE-50E25BA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F7F-415A-4C02-9596-A2DD4ADBB4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2AD05CEC-1B19-4986-BAE5-314982279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2320" y="76212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9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nary phase shift ke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28600" y="2709720"/>
            <a:ext cx="8629560" cy="231948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0_U Kyaw Naing.mp3" descr=""/>
          <p:cNvPicPr/>
          <p:nvPr/>
        </p:nvPicPr>
        <p:blipFill>
          <a:blip r:embed="rId2"/>
          <a:stretch/>
        </p:blipFill>
        <p:spPr>
          <a:xfrm>
            <a:off x="702000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78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01:59Z</dcterms:created>
  <dc:creator>Administrator</dc:creator>
  <dc:description/>
  <dc:language>en-US</dc:language>
  <cp:lastModifiedBy>ds0929</cp:lastModifiedBy>
  <dcterms:modified xsi:type="dcterms:W3CDTF">2013-06-09T14:37:19Z</dcterms:modified>
  <cp:revision>3</cp:revision>
  <dc:subject/>
  <dc:title>PowerPoint Presentation</dc:title>
</cp:coreProperties>
</file>