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2CB7A-6EBE-49C1-99AF-981397F60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D1EB-51D9-4512-A8A0-3C8DFC81E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D49A-E40B-4067-AE75-D13ECA167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9EC07-E1C4-4709-BC45-D5EF691C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9FA7-3BE6-4299-9205-34144E9A5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8A33-23B3-4942-8AA4-F97A559C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FE76-AF89-49CC-9B74-E6DAFC519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898B-A2CA-4937-AE02-D9FF41987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AA11-3479-41E0-BB67-3D3DEDB15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10CE-1D5C-46CB-9246-648C5300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9259-0F33-43A3-AD0E-27149E3D5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8DD69-3A18-495E-B9EB-68E8C19B8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37F0-D5F7-48BD-9051-C845C144238C}"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84360" y="404640"/>
            <a:ext cx="7343640" cy="230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Baseline wandering</a:t>
            </a:r>
            <a:r>
              <a:rPr b="0" lang="en-US" sz="1800" spc="-1" strike="noStrike">
                <a:solidFill>
                  <a:srgbClr val="000000"/>
                </a:solidFill>
                <a:latin typeface="Calibri"/>
              </a:rPr>
              <a:t> - a receiver will evaluate the average power of the received signal (called the baseline) and use that to determine the value of the incoming data elements. If the incoming signal does not vary over a long period of time, the baseline will drift and thus cause errors in detection of incoming data elements. </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good line encoding scheme will prevent long runs of fixed amplitu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s for choosing a good signal element referred to as line encoding</a:t>
            </a:r>
            <a:endParaRPr b="0" lang="en-US" sz="2400" spc="-1" strike="noStrike">
              <a:solidFill>
                <a:srgbClr val="000000"/>
              </a:solidFill>
              <a:latin typeface="Calibri"/>
            </a:endParaRPr>
          </a:p>
        </p:txBody>
      </p:sp>
      <p:pic>
        <p:nvPicPr>
          <p:cNvPr id="42" name="001_A_021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515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16999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alibri"/>
              </a:rPr>
              <a:t>DC components</a:t>
            </a:r>
            <a:r>
              <a:rPr b="0" lang="en-US" sz="2500" spc="-1" strike="noStrike">
                <a:solidFill>
                  <a:srgbClr val="000000"/>
                </a:solidFill>
                <a:latin typeface="Calibri"/>
              </a:rPr>
              <a:t> - when the voltage level remains constant for long periods of time, there is an increase in the low frequencies of the signal. Most channels are bandpass and may not support the low frequencies.</a:t>
            </a:r>
            <a:br>
              <a:rPr sz="2500"/>
            </a:br>
            <a:r>
              <a:rPr b="0" lang="en-US" sz="2500" spc="-1" strike="noStrike">
                <a:solidFill>
                  <a:srgbClr val="000000"/>
                </a:solidFill>
                <a:latin typeface="Calibri"/>
              </a:rPr>
              <a:t>This will require the removal of the dc component of a transmitted signal.</a:t>
            </a:r>
            <a:endParaRPr b="0" lang="en-US" sz="2500" spc="-1" strike="noStrike">
              <a:solidFill>
                <a:srgbClr val="000000"/>
              </a:solidFill>
              <a:latin typeface="Calibri"/>
            </a:endParaRPr>
          </a:p>
        </p:txBody>
      </p:sp>
      <p:sp>
        <p:nvSpPr>
          <p:cNvPr id="44" name="Rectangle 3"/>
          <p:cNvSpPr/>
          <p:nvPr/>
        </p:nvSpPr>
        <p:spPr>
          <a:xfrm>
            <a:off x="2423520" y="1052640"/>
            <a:ext cx="194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 encoding C/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3:42:41Z</dcterms:created>
  <dc:creator>Administrator</dc:creator>
  <dc:description/>
  <dc:language>en-US</dc:language>
  <cp:lastModifiedBy>ds0929</cp:lastModifiedBy>
  <dcterms:modified xsi:type="dcterms:W3CDTF">2013-06-09T12:18:23Z</dcterms:modified>
  <cp:revision>5</cp:revision>
  <dc:subject/>
  <dc:title>PowerPoint Presentation</dc:title>
</cp:coreProperties>
</file>