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D72-68D5-4C9C-8377-C09B2F3F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A4F-B279-42BD-882B-F9C60794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D43-0E3C-4991-B0C1-16FCD7E3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245-CEEB-49B6-AEFA-2E0DFB26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74D-B02D-48C8-B9B4-2E3457EF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82A-7467-46F1-96F5-F1E99B1A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E27-155A-4041-97CD-134CE61F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BF0-9990-46D8-837B-499E6D97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FA7-65E7-4D0E-AE4E-D28703FF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BC7-62BD-4DFD-8E6E-03BCAC12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026-9DD9-4593-9C3A-2423CDBF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123-60B0-4187-AA92-C0EF32B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DFA9-58D7-4F92-B091-A6BF93A022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86000" y="2274840"/>
            <a:ext cx="516564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ignal that occupies a bandwidth of B, is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sprea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ut to occupy a bandwidth of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signals are spread to occupy the same bandwidth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als are spread with different codes so that they can be separated at the receiv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als can be spread in the frequency domain or in the time dom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04280" y="1052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read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1a_U Kyaw Naing.mp3" descr=""/>
          <p:cNvPicPr/>
          <p:nvPr/>
        </p:nvPicPr>
        <p:blipFill>
          <a:blip r:embed="rId1"/>
          <a:stretch/>
        </p:blipFill>
        <p:spPr>
          <a:xfrm>
            <a:off x="702000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35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38:07Z</dcterms:created>
  <dc:creator>Administrator</dc:creator>
  <dc:description/>
  <dc:language>en-US</dc:language>
  <cp:lastModifiedBy>ds0929</cp:lastModifiedBy>
  <dcterms:modified xsi:type="dcterms:W3CDTF">2013-06-09T14:54:53Z</dcterms:modified>
  <cp:revision>5</cp:revision>
  <dc:subject/>
  <dc:title>PowerPoint Presentation</dc:title>
</cp:coreProperties>
</file>