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F886-A97E-45DF-8788-78F8F2DC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7B10-0776-4FB8-959D-8CFB47E1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6050-A3E4-4C64-B9BF-5C042AF9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54FB-2EC8-44C5-B20B-B6B39F34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26F7-239D-454A-882C-2B7C1A5B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A36C-0D10-46B8-8A7E-2322C636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D101-C8C4-4D0B-9F32-2F2A6B2E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C446-16B5-4340-9743-BFA3D723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C274-E2A2-417B-9EF5-3C9B0BF0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0EE1-DE39-4C24-B482-7D043C63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2ADA-F3C4-4CF9-BA42-146B6CBD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4D90-703C-4C87-B110-EE8A21BD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9237-8508-46BF-90FD-EA351C7FB9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.</a:t>
            </a:r>
            <a:fld id="{964490ED-FD79-402C-A1E3-D3F0A993D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plitude Shift Keying (ASK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ASK is implemented by changing the amplitude of a carrier signal to reflect amplitude levels in the digital sig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For example: a digital “1” could not affect the signal, whereas a digital “0” would, by making it zer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The line encoding will determine the values of the analog waveform to reflect the digital data being carri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001_A_003_U Kyaw Naing.mp3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083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56:33Z</dcterms:created>
  <dc:creator>Administrator</dc:creator>
  <dc:description/>
  <dc:language>en-US</dc:language>
  <cp:lastModifiedBy>ds0929</cp:lastModifiedBy>
  <dcterms:modified xsi:type="dcterms:W3CDTF">2013-06-09T14:34:07Z</dcterms:modified>
  <cp:revision>4</cp:revision>
  <dc:subject/>
  <dc:title>PowerPoint Presentation</dc:title>
</cp:coreProperties>
</file>