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63D-CE92-44C4-AE1B-732F3BC4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F5B-E4D8-46AF-8824-A0658DFF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C2D-7DAA-49F0-9544-3E258887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33B-03FC-4724-BCDC-81FEDC8D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384-7794-45CE-B361-ECD0D4E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B33-AADC-4A32-B9D6-47CAB94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94F-0953-4E13-AB90-ECD1DD88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0D6-056D-4407-81EB-B508EE1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31B-516D-447F-8A21-0B06F803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0FE-B551-45F8-BEE4-D73AFE3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BAC-807F-4E9A-A8DF-8885BA03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2D6-E9B1-44CB-9FD6-D994AF4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BE10-D84B-437A-BDEB-E8D203A270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8D20D490-5417-4052-A589-70C66F2D4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6360" y="76212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10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lementation of B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30280" y="2463840"/>
            <a:ext cx="8080200" cy="256536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1_U Kyaw Naing.mp3" descr=""/>
          <p:cNvPicPr/>
          <p:nvPr/>
        </p:nvPicPr>
        <p:blipFill>
          <a:blip r:embed="rId2"/>
          <a:stretch/>
        </p:blipFill>
        <p:spPr>
          <a:xfrm>
            <a:off x="6732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6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2:56Z</dcterms:created>
  <dc:creator>Administrator</dc:creator>
  <dc:description/>
  <dc:language>en-US</dc:language>
  <cp:lastModifiedBy>ds0929</cp:lastModifiedBy>
  <dcterms:modified xsi:type="dcterms:W3CDTF">2013-06-09T14:37:45Z</dcterms:modified>
  <cp:revision>2</cp:revision>
  <dc:subject/>
  <dc:title>PowerPoint Presentation</dc:title>
</cp:coreProperties>
</file>