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583-47C4-465A-92FD-39CB66E1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DCE-BBF1-4345-9A18-D8BE2E8C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0B2-7A36-447B-BE10-690AE6A4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A6A-E149-485E-BB8E-25E07CCB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EDD-F393-40BB-A50D-D0A299DE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8B5-94AD-464A-9F28-7F8E4399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705-E39C-49B4-8124-E2DDD44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12C-DF4A-483D-9676-8024F25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C91-2D0F-4FC4-9938-DD86BBC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467-D9BC-4D22-8213-E67B9FF1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AD7-6365-4905-8532-70A2E21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5AF-BC08-4976-9EB9-F015E990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8A7-94A0-4F81-943C-E2B7CED38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D7C27E17-81AC-4399-980F-D2A2A4161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5760" y="152280"/>
            <a:ext cx="802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3.24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ation of a digital signal for transmission on a bandpa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cha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31840" y="1633680"/>
            <a:ext cx="8683560" cy="43099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5_U Kyaw Naing.mp3" descr=""/>
          <p:cNvPicPr/>
          <p:nvPr/>
        </p:nvPicPr>
        <p:blipFill>
          <a:blip r:embed="rId2"/>
          <a:stretch/>
        </p:blipFill>
        <p:spPr>
          <a:xfrm>
            <a:off x="507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1:53Z</dcterms:created>
  <dc:creator>Administrator</dc:creator>
  <dc:description/>
  <dc:language>en-US</dc:language>
  <cp:lastModifiedBy>ds0929</cp:lastModifiedBy>
  <dcterms:modified xsi:type="dcterms:W3CDTF">2013-06-09T12:15:33Z</dcterms:modified>
  <cp:revision>4</cp:revision>
  <dc:subject/>
  <dc:title>PowerPoint Presentation</dc:title>
</cp:coreProperties>
</file>