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A3C-8099-43AE-8AAB-929E4493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B1F-E2C3-4C21-B2D8-18AE71FA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050-64A5-4547-B5C8-D8186BF6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AD6-BA09-4F3D-9AE7-870DCC20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6F1-5A35-4C23-B92A-04514D40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495-33F9-4D11-94E5-79281D7A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1CA-8B1D-4C11-A49C-A48A3020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AD1-DBE2-482F-BB5D-B71B130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9FE-1F6A-4E47-A0A4-985F9996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E09-9E6E-41F5-B847-1699A3D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AA8-1126-4268-9089-D5E0FA8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C55-8964-4933-9C06-0CEC133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D79A-31FF-44B3-8079-5084745AA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ugh redundancy is added to detect an err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ceiver knows an error occurred but does not know which bit(s) is(are) in err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less overhead than error correc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11200" y="6922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De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31_U Kyaw Naing.mp3" descr=""/>
          <p:cNvPicPr/>
          <p:nvPr/>
        </p:nvPicPr>
        <p:blipFill>
          <a:blip r:embed="rId1"/>
          <a:stretch/>
        </p:blipFill>
        <p:spPr>
          <a:xfrm>
            <a:off x="694836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99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.</a:t>
            </a:r>
            <a:fld id="{47E3B64B-5A84-4D55-BBA6-D99F0B3ED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67560" y="7621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10.6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ss of error detection in block c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89000" y="1873080"/>
            <a:ext cx="8802720" cy="3537000"/>
          </a:xfrm>
          <a:prstGeom prst="rect">
            <a:avLst/>
          </a:prstGeom>
          <a:ln w="0">
            <a:noFill/>
          </a:ln>
        </p:spPr>
      </p:pic>
      <p:pic>
        <p:nvPicPr>
          <p:cNvPr id="52" name="001_A_031_U Kyaw Naing.mp3" descr=""/>
          <p:cNvPicPr/>
          <p:nvPr/>
        </p:nvPicPr>
        <p:blipFill>
          <a:blip r:embed="rId2"/>
          <a:stretch/>
        </p:blipFill>
        <p:spPr>
          <a:xfrm>
            <a:off x="7380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99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56:32Z</dcterms:created>
  <dc:creator>Administrator</dc:creator>
  <dc:description/>
  <dc:language>en-US</dc:language>
  <cp:lastModifiedBy>ds0929</cp:lastModifiedBy>
  <dcterms:modified xsi:type="dcterms:W3CDTF">2013-06-09T14:50:35Z</dcterms:modified>
  <cp:revision>5</cp:revision>
  <dc:subject/>
  <dc:title>Enough redundancy is added to detect an error. The receiver knows an error occurred but does not know which bit(s) is(are) in error. Has less overhead than error correction.</dc:title>
</cp:coreProperties>
</file>