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FDA-0755-49E4-BF87-B342F986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512-97E2-48A9-A03B-13844554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4CE-6569-46C0-A29E-E03BC749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610-895D-4936-99EA-66ED37F2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A4D-5132-4D90-92BF-FDDA803F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E09-C621-4EE7-B609-602CE452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2E6-913A-4279-AC3C-CB84612C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2AB-D91F-42E9-85C0-B7B5594C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D46-5CB0-4D46-BBB0-12EE5A3A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245-2F5F-41F2-B5BC-1FDA0AF4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A17-6187-4CF6-949E-A46203EC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385-A4F7-4934-B3BC-55D10389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4F00-8C78-4AB4-8C90-64DB74ECC7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.</a:t>
            </a:r>
            <a:fld id="{069E9EC2-EFB0-4C4D-BC7B-B95C75DE1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48120" y="762120"/>
            <a:ext cx="37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7.1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pagation mo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749160" y="2133720"/>
            <a:ext cx="7632720" cy="3352680"/>
          </a:xfrm>
          <a:prstGeom prst="rect">
            <a:avLst/>
          </a:prstGeom>
          <a:ln w="0">
            <a:noFill/>
          </a:ln>
        </p:spPr>
      </p:pic>
      <p:pic>
        <p:nvPicPr>
          <p:cNvPr id="49" name="001_A_027_U Kyaw Naing.mp3" descr=""/>
          <p:cNvPicPr/>
          <p:nvPr/>
        </p:nvPicPr>
        <p:blipFill>
          <a:blip r:embed="rId2"/>
          <a:stretch/>
        </p:blipFill>
        <p:spPr>
          <a:xfrm>
            <a:off x="8101080" y="522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93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49:11Z</dcterms:created>
  <dc:creator>Administrator</dc:creator>
  <dc:description/>
  <dc:language>en-US</dc:language>
  <cp:lastModifiedBy>ds0929</cp:lastModifiedBy>
  <dcterms:modified xsi:type="dcterms:W3CDTF">2013-06-09T14:47:44Z</dcterms:modified>
  <cp:revision>4</cp:revision>
  <dc:subject/>
  <dc:title>PowerPoint Presentation</dc:title>
</cp:coreProperties>
</file>