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AC1-6F7F-4FE1-AD94-C5CAE485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C04-AD2A-47FD-A708-60621CC6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373-D33A-47CF-AAB4-6C119467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DEF-3BE9-4091-A783-E69D170F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C37-0CEE-4669-BB73-3EFECF0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21A-8E44-4392-AF58-2E084DC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D6C-000F-4A2C-A461-D5F5879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870-23DE-4958-BB86-E15884AF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B7C-6CB5-4BCD-98D2-4967135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AC0-A0BE-409B-B618-25C50BB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C81-7D69-4FB2-97F7-BC8C00DA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6C3-6BED-4C19-9A78-D0F496C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5126-1B37-42F6-8BF7-7B850C4F36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nnect3"/>
          <p:cNvPicPr/>
          <p:nvPr/>
        </p:nvPicPr>
        <p:blipFill>
          <a:blip r:embed="rId1"/>
          <a:stretch/>
        </p:blipFill>
        <p:spPr>
          <a:xfrm>
            <a:off x="755640" y="882720"/>
            <a:ext cx="6480360" cy="49226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03:53Z</dcterms:created>
  <dc:creator>ukyawnaing</dc:creator>
  <dc:description/>
  <dc:language>en-US</dc:language>
  <cp:lastModifiedBy>ds0929</cp:lastModifiedBy>
  <dcterms:modified xsi:type="dcterms:W3CDTF">2013-06-09T08:27:09Z</dcterms:modified>
  <cp:revision>2</cp:revision>
  <dc:subject/>
  <dc:title>Slide 1</dc:title>
</cp:coreProperties>
</file>