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208-8596-401F-9D3E-8B0EEA58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7D8-081D-4C34-837C-B1A978F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C35-F911-4E14-8700-0E2F08AB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918-ECFF-4A40-90C8-D53489B5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9FA-FB19-4E0A-89A0-D4AACB3F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133-5FDB-4072-B951-4DDB96F0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AE6-60C1-4439-958A-E62131FB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A4E-348D-4402-802A-CD28D07F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7ED-C273-43B5-A0F2-69920BA0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D62-CE66-4000-8C13-DE5A9357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389-440C-4829-9ED5-60DEF40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1D0-3B22-420F-9F68-225F123B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073-E63D-491F-BB4B-DAC00C9FD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B3243499-52B9-47A1-AE18-8B13E50A9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acity of a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e bit rate of a system increases with an increase in the number of signal levels we use to denote a symb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 symbol can consist of a single bit or “n”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e number of signal levels = 2</a:t>
            </a:r>
            <a:r>
              <a:rPr b="0" lang="en-US" sz="2800" spc="-1" strike="noStrike" baseline="30000">
                <a:solidFill>
                  <a:srgbClr val="898989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s the number of levels goes up, the spacing between level decreases -&gt; increasing the probability of an error occurring in the presence of transmission impair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286000" y="1873080"/>
            <a:ext cx="457200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yquist gives the upper bound for the bit rate of a transmission system by calculating the bit rate directly from the number of bits in a symbol (or signal levels) and the bandwidth of the system (assuming 2 symbols/per cycle and first harmoni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yquist theorem states that for a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noiseles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nn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= 2 B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= capacity in b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= bandwidth in 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yquist The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419640" y="62064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nnon’s The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00000" y="2060640"/>
            <a:ext cx="7201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nnon’s theorem gives the capacity of a system in the presence of noi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= B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 + SN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2:55Z</dcterms:created>
  <dc:creator>Administrator</dc:creator>
  <dc:description/>
  <dc:language>en-US</dc:language>
  <cp:lastModifiedBy>ds0929</cp:lastModifiedBy>
  <dcterms:modified xsi:type="dcterms:W3CDTF">2013-06-09T11:13:01Z</dcterms:modified>
  <cp:revision>4</cp:revision>
  <dc:subject/>
  <dc:title>PowerPoint Presentation</dc:title>
</cp:coreProperties>
</file>