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B31-B064-4146-ACD9-425F8744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6CC-44C7-486E-8F59-61F5D07E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4CA-60EF-49F3-899A-A5E829B1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9B5-4ABA-42DF-BD22-7EDF253D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885-8E87-4694-823F-B4798D14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331-B27C-472E-8018-6E1E74DF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177-543E-44B5-A560-62718B4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EA5-4BC5-49BA-BC65-782D2399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11E-F64F-4992-BE2B-7FB31EFF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E94-EB60-4AE3-9018-4CC0DD6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937-1B5A-4933-A0F6-4F9A5F9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03D-A637-4B75-B402-99C4679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7805-254D-497D-94C4-35053EA15E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44CE297B-93C5-47CF-9F90-17DB813F5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14360" y="762120"/>
            <a:ext cx="58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7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ndwidth of MFSK used in Example 5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84120" y="2506680"/>
            <a:ext cx="8226360" cy="24462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8_U Kyaw Naing.mp3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42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59:26Z</dcterms:created>
  <dc:creator>Administrator</dc:creator>
  <dc:description/>
  <dc:language>en-US</dc:language>
  <cp:lastModifiedBy>ds0929</cp:lastModifiedBy>
  <dcterms:modified xsi:type="dcterms:W3CDTF">2013-06-09T14:36:36Z</dcterms:modified>
  <cp:revision>2</cp:revision>
  <dc:subject/>
  <dc:title>PowerPoint Presentation</dc:title>
</cp:coreProperties>
</file>