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830-639E-483F-A60C-AE444D6E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825-3EB4-4016-B97C-E20B3AC3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E73-5404-42FA-BE58-5FF48DDA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64D-52BB-416A-8B7D-E21DB550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15B-187A-4375-8014-C766601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1D8-6AE4-471F-9136-559FA42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3D3-56EA-4D50-95CC-BA3D45D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50E-772E-46F5-924B-F424DDD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23E-BD29-4310-8699-46432B77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FB2-68D1-47E9-8AF0-3D5E248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586-127E-40C5-B850-F73FA05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A97-1FB3-44E8-B51B-F8FDBB3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68D8-4AA6-4524-9908-D57A5BB38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1600" y="33336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712440" y="768960"/>
            <a:ext cx="713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hub is rectangular box that is used as the central object on which computer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devices are connect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o make this possible, a hub is equipped with small holes called por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ere is an example of a hu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ub1"/>
          <p:cNvPicPr/>
          <p:nvPr/>
        </p:nvPicPr>
        <p:blipFill>
          <a:blip r:embed="rId1"/>
          <a:stretch/>
        </p:blipFill>
        <p:spPr>
          <a:xfrm>
            <a:off x="2195640" y="2133720"/>
            <a:ext cx="30970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8520" y="3789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Routers: Wired or 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router2"/>
          <p:cNvPicPr/>
          <p:nvPr/>
        </p:nvPicPr>
        <p:blipFill>
          <a:blip r:embed="rId2"/>
          <a:stretch/>
        </p:blipFill>
        <p:spPr>
          <a:xfrm>
            <a:off x="2268360" y="4797360"/>
            <a:ext cx="33530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70760" y="4150800"/>
            <a:ext cx="795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ike a hub, a router is another type of device that acts as the central point among compu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nd other devices that are part of a network. Here is an example of a wired rou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01_A_006_U Kyaw Naing.mp3" descr=""/>
          <p:cNvPicPr/>
          <p:nvPr/>
        </p:nvPicPr>
        <p:blipFill>
          <a:blip r:embed="rId3"/>
          <a:stretch/>
        </p:blipFill>
        <p:spPr>
          <a:xfrm>
            <a:off x="759636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3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2:00Z</dcterms:created>
  <dc:creator>ukyawnaing</dc:creator>
  <dc:description/>
  <dc:language>en-US</dc:language>
  <cp:lastModifiedBy>ds0929</cp:lastModifiedBy>
  <dcterms:modified xsi:type="dcterms:W3CDTF">2013-06-09T08:25:18Z</dcterms:modified>
  <cp:revision>2</cp:revision>
  <dc:subject/>
  <dc:title>Slide 1</dc:title>
</cp:coreProperties>
</file>