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786-4912-4556-83F9-9F14391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27E-FA73-4642-96E1-11DC4087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C73-4BC5-47B0-8602-D64521F2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C68-AE5D-49CA-956F-57AC31D2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9A5-C594-4245-AF0E-C246496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035-0438-4911-A2FD-7EB748E2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140-F749-4EE4-A7E7-5F501C07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779-7257-464F-B1EA-DE72EFFE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ABB-8F8C-48A3-A1CC-3516A61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008-E0BF-44E0-8A1B-3945C92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83B-B7A4-4F7B-A2AB-CDCCC4E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297-DFA3-42E7-BF8C-9AA92441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C780-BA0B-4EAF-BBE4-04F527E25F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.</a:t>
            </a:r>
            <a:fld id="{2ACAD73F-E134-4463-9865-6CEEA1F62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11200" y="76212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Figure 4.1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Line coding and deco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39680" y="2111400"/>
            <a:ext cx="8775720" cy="26892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22_U Kyaw Naing.mp3" descr=""/>
          <p:cNvPicPr/>
          <p:nvPr/>
        </p:nvPicPr>
        <p:blipFill>
          <a:blip r:embed="rId2"/>
          <a:stretch/>
        </p:blipFill>
        <p:spPr>
          <a:xfrm>
            <a:off x="766764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0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45:15Z</dcterms:created>
  <dc:creator>Administrator</dc:creator>
  <dc:description/>
  <dc:language>en-US</dc:language>
  <cp:lastModifiedBy>ds0929</cp:lastModifiedBy>
  <dcterms:modified xsi:type="dcterms:W3CDTF">2013-06-09T12:19:22Z</dcterms:modified>
  <cp:revision>3</cp:revision>
  <dc:subject/>
  <dc:title>PowerPoint Presentation</dc:title>
</cp:coreProperties>
</file>