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4107-CC10-422C-98DB-25464FF4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6AC6-A901-489F-BEB8-D05593F8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0834-C878-45AE-A75E-D5F713725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986A-739F-4889-BCBB-3B9197E3C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B0A2-5BE4-4BB2-A9C9-D1709DBD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E0A2-610B-4DA7-AAB3-F870D789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52DA-FBFA-478E-8C80-91C3768F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56CC-AF57-4CD2-864E-8090E4EA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59D8-547D-4574-9A41-41ECC817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4896-F305-453B-876C-06D19F68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868F-635A-4B2E-A774-EA2959CB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70BD-8620-4F9F-AFBD-0B171B91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3F50-4FCF-453F-9966-15476CE07F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.</a:t>
            </a:r>
            <a:fld id="{A09C7D6A-2A53-4EB1-9507-278434FC0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85200" y="380880"/>
            <a:ext cx="35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alibri"/>
              </a:rPr>
              <a:t>Figure 2.7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op-to-hop delive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216840" cy="4579920"/>
          </a:xfrm>
          <a:prstGeom prst="rect">
            <a:avLst/>
          </a:prstGeom>
          <a:ln w="0">
            <a:noFill/>
          </a:ln>
        </p:spPr>
      </p:pic>
      <p:pic>
        <p:nvPicPr>
          <p:cNvPr id="49" name="001_A_008_U Kyaw Naing.mp3" descr=""/>
          <p:cNvPicPr/>
          <p:nvPr/>
        </p:nvPicPr>
        <p:blipFill>
          <a:blip r:embed="rId2"/>
          <a:stretch/>
        </p:blipFill>
        <p:spPr>
          <a:xfrm>
            <a:off x="8172360" y="522936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50" name="001_A_008_U Kyaw Naing.mp3" descr=""/>
          <p:cNvPicPr/>
          <p:nvPr/>
        </p:nvPicPr>
        <p:blipFill>
          <a:blip r:embed="rId3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4928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24928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3:18:29Z</dcterms:created>
  <dc:creator>Administrator</dc:creator>
  <dc:description/>
  <dc:language>en-US</dc:language>
  <cp:lastModifiedBy>ds0929</cp:lastModifiedBy>
  <dcterms:modified xsi:type="dcterms:W3CDTF">2013-06-09T12:04:22Z</dcterms:modified>
  <cp:revision>5</cp:revision>
  <dc:subject/>
  <dc:title>PowerPoint Presentation</dc:title>
</cp:coreProperties>
</file>