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29B-3ACB-481A-A7DA-B7975B27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BDA-C94E-4E13-9308-538FA4D5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918-CD7B-4838-8E75-E8C9621B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62D-4948-4625-972F-89C1101D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581-57D2-4D6C-BB8B-8318EFC5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F51-7A8E-4EC1-9168-29066972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B70-A41A-4185-A01D-093867EB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E7D5-7B5B-42B1-A9D9-32FCAAEB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BF2-552D-49E3-830D-385A375E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D58-FBA4-4830-B26C-85E28D8A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E10-3E7D-4920-8F49-0F234EDC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A8B-F806-475E-8B66-F465E05C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2FCA-9F50-4BAE-AAD9-F13E48ED41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ough redundancy is added to detect an err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ceiver knows an error occurred but does not know which bit(s) is(are) in err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less overhead than error correctio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211200" y="6922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De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4:56:32Z</dcterms:created>
  <dc:creator>Administrator</dc:creator>
  <dc:description/>
  <dc:language>en-US</dc:language>
  <cp:lastModifiedBy>Administrator</cp:lastModifiedBy>
  <dcterms:modified xsi:type="dcterms:W3CDTF">2013-04-03T04:57:12Z</dcterms:modified>
  <cp:revision>1</cp:revision>
  <dc:subject/>
  <dc:title>Enough redundancy is added to detect an error. The receiver knows an error occurred but does not know which bit(s) is(are) in error. Has less overhead than error correction. </dc:title>
</cp:coreProperties>
</file>