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ED2-D816-426D-A7EA-611164C7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D10-C397-4C70-B674-7EF50E97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BB5-A504-40A1-A5B8-EA17273A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F57-1E3E-46C6-B919-6A3EC017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5CA-A7EE-4DCB-B226-CF6906DD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19D-2A18-4201-89B6-388325E4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E216-2460-49A7-82FC-89634167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A80-71C3-4E3F-9BCA-B52C7F28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06E-7998-4E5F-B1D3-74EB0116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737-BC84-4C4C-A31D-FB6E187D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2F1-F8D5-45C1-AAE6-21988B16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8B9-FCF1-4689-946F-45AD37A3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6F79-3A5C-44DA-A7E3-13462569DB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411280" y="24922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can be corrup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ransmissio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applications require tha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s be detected and corre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4" name="Slide Number Placeholder 1"/>
          <p:cNvSpPr/>
          <p:nvPr/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.</a:t>
            </a:r>
            <a:fld id="{B5132B4A-5359-4476-839F-1619F2F3A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51360" y="76212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10.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ngle-bit err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95360" y="2587680"/>
            <a:ext cx="815328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3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burst error means that 2 or more bits in the data unit have chang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1"/>
          <p:cNvSpPr/>
          <p:nvPr/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.</a:t>
            </a:r>
            <a:fld id="{927CBBE1-BDEB-4336-B2C2-7570F91E2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71160" y="762120"/>
            <a:ext cx="40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10.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urst error of length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987480" y="1698480"/>
            <a:ext cx="71676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51:33Z</dcterms:created>
  <dc:creator>Administrator</dc:creator>
  <dc:description/>
  <dc:language>en-US</dc:language>
  <cp:lastModifiedBy>ds0929</cp:lastModifiedBy>
  <dcterms:modified xsi:type="dcterms:W3CDTF">2013-06-09T14:16:33Z</dcterms:modified>
  <cp:revision>4</cp:revision>
  <dc:subject/>
  <dc:title>PowerPoint Presentation</dc:title>
</cp:coreProperties>
</file>