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575-4252-49C7-9F6E-5C2C14F4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B16-E37A-4CF9-B9DD-7E01A0FB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EDB-AE52-4837-949A-D42D01CB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ABF-84D5-4F4C-A19F-07D41A40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718-EF17-4718-B672-04F00EA3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6F6-2B09-4BAC-8EF2-CFB056D6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BAB-9B31-42B5-8F0D-E868F44F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4DA-0B09-4A7C-B0F2-2306CBE4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443-CA15-4698-9407-854EB5AF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1CE-F552-4E2E-8221-14AF3ED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C40-7CDF-434A-AA6C-0B8D7E29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EA1-F7FF-402E-A4FF-A2E7D62D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DED4-5999-45ED-A1D5-5EBB35DDB5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.</a:t>
            </a:r>
            <a:fld id="{5B417B45-47D7-498C-A9BF-BDFE668A0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48200" y="380880"/>
            <a:ext cx="50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Figure 3.32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ling the link with bits in cas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690480" y="1598760"/>
            <a:ext cx="73868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40:21Z</dcterms:created>
  <dc:creator>Administrator</dc:creator>
  <dc:description/>
  <dc:language>en-US</dc:language>
  <cp:lastModifiedBy>Administrator</cp:lastModifiedBy>
  <dcterms:modified xsi:type="dcterms:W3CDTF">2013-04-03T03:52:13Z</dcterms:modified>
  <cp:revision>3</cp:revision>
  <dc:subject/>
  <dc:title>PowerPoint Presentation</dc:title>
</cp:coreProperties>
</file>