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A5E-A466-4241-8491-4716F5D2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45A-C846-429D-8C6D-D90D0234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AAF-5609-4DD9-8EBF-B61A4913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2F9-1C2D-4FEF-95E6-84A1AF12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750-8C61-4C3C-AEF6-4049603E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47B-B3EA-4292-997C-2E49590F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DEF-FF4E-4B0D-AF2A-06B69473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603-3CA7-4598-B7D6-88A09401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46E-45AD-40FD-B2A1-37BC47CB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45A-C216-4B71-A15A-43791974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908-EFFA-4401-8529-FFAFEE26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CC7-E583-4F21-8EC2-797CD55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422E-6640-4E12-9979-BC21B0832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72680" y="4762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Network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14000" y="983520"/>
            <a:ext cx="85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able is used to connect computers. Although we are planning to use as much wireless as possibl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ou should always have one or more cables around. In our networ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we will use Category 5 cable RJ-45. The ends of the cable appear as fol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able1"/>
          <p:cNvPicPr/>
          <p:nvPr/>
        </p:nvPicPr>
        <p:blipFill>
          <a:blip r:embed="rId1"/>
          <a:stretch/>
        </p:blipFill>
        <p:spPr>
          <a:xfrm>
            <a:off x="900000" y="1989000"/>
            <a:ext cx="1584360" cy="87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able2"/>
          <p:cNvPicPr/>
          <p:nvPr/>
        </p:nvPicPr>
        <p:blipFill>
          <a:blip r:embed="rId2"/>
          <a:stretch/>
        </p:blipFill>
        <p:spPr>
          <a:xfrm>
            <a:off x="3851280" y="1773360"/>
            <a:ext cx="1174680" cy="122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network3"/>
          <p:cNvPicPr/>
          <p:nvPr/>
        </p:nvPicPr>
        <p:blipFill>
          <a:blip r:embed="rId3"/>
          <a:stretch/>
        </p:blipFill>
        <p:spPr>
          <a:xfrm>
            <a:off x="1619280" y="2924280"/>
            <a:ext cx="4827600" cy="3701880"/>
          </a:xfrm>
          <a:prstGeom prst="rect">
            <a:avLst/>
          </a:prstGeom>
          <a:ln w="0">
            <a:noFill/>
          </a:ln>
        </p:spPr>
      </p:pic>
      <p:pic>
        <p:nvPicPr>
          <p:cNvPr id="46" name="001_A_005_U Kyaw Naing.mp3" descr=""/>
          <p:cNvPicPr/>
          <p:nvPr/>
        </p:nvPicPr>
        <p:blipFill>
          <a:blip r:embed="rId4"/>
          <a:stretch/>
        </p:blipFill>
        <p:spPr>
          <a:xfrm>
            <a:off x="759636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36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9:18Z</dcterms:created>
  <dc:creator>ukyawnaing</dc:creator>
  <dc:description/>
  <dc:language>en-US</dc:language>
  <cp:lastModifiedBy>ds0929</cp:lastModifiedBy>
  <dcterms:modified xsi:type="dcterms:W3CDTF">2013-06-09T08:24:54Z</dcterms:modified>
  <cp:revision>2</cp:revision>
  <dc:subject/>
  <dc:title>Slide 1</dc:title>
</cp:coreProperties>
</file>