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FFDF-37B7-415C-9D1D-76B21114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4137-BF8E-4091-89F3-390BB1D6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F079-1B94-44F4-B8EC-6FBD623C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10BC-30F0-49DF-A703-B6C5A805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53F4-7FAC-450A-8C8C-7D918B21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1AE1-269C-4AA8-AC2C-9FFF84DF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251-6EA4-4939-8D3B-4AC312A9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E122-5B6D-42C5-8DBA-5C5CF3B0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2CE0-6035-4DF3-BF5A-6EAB2971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DF02-8C67-4439-98BA-FD41516B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7ECB-527E-4334-BAFA-4634B725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30D3-130A-4F79-9EC3-EBD0AC35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355E-917D-43FD-AEBE-9523AE57A0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 u="sng">
                <a:solidFill>
                  <a:srgbClr val="ff0000"/>
                </a:solidFill>
                <a:uFillTx/>
                <a:latin typeface="Calibri"/>
              </a:rPr>
              <a:t>Server Operating System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s its name implies, the role of a server is to serve. To perform this job, it must be loaded with a special operating system. On this site, we cover a network that deals with a Microsoft-based network. The company publishes a server operating system named Microsoft Windows Server 2003. </a:t>
            </a:r>
            <a:br>
              <a:rPr sz="1600"/>
            </a:b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Before acquiring the operating system, you may fit one of the following descriptions: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I will purchase a brand new computer, to use as a server, from a web site: You can purchase a server from a manufacturer on the Internet (HP, Dell, IBM, Gateway,  etc). You can also purchase a computer from an Internet-based store (http://www.tigerdirect.com, http://www.provantage.com, http://www.cdw.com, etc).</a:t>
            </a:r>
            <a:br>
              <a:rPr sz="1600"/>
            </a:b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The web sites of HP, Dell, IBM, Gateway,  etc has a link (or a section) named (or labeled) Servers or Small Business. You can shop from that section, based on your budget. If you are using this approach, look for a machine called server. When choosing the machine, make sure it meets the following requirements:</a:t>
            </a: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  </a:t>
            </a:r>
            <a:br>
              <a:rPr sz="40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133-MHz processor required; 550-MHz recommended; up to eight processors supported on one server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128 MB of RAM minimum required; 256 MB or more recommended; 32 GB maximum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1.25 to 2 GB of available hard disk space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CD-ROM or DVD-ROM drive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VGA or hardware that supports console redirection required; Super VGA supporting 800 x 600 or higher-resolution monitor recommended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001_A_017_U Kyaw Naing.mp3" descr=""/>
          <p:cNvPicPr/>
          <p:nvPr/>
        </p:nvPicPr>
        <p:blipFill>
          <a:blip r:embed="rId1"/>
          <a:stretch/>
        </p:blipFill>
        <p:spPr>
          <a:xfrm>
            <a:off x="7885080" y="5445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85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erver Operating System Insta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9280" y="2349360"/>
            <a:ext cx="82090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www.highlightcomputergroup3.zoomshare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Calibri"/>
              </a:rPr>
              <a:t>Computer_and_Networks.z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Calibri"/>
              </a:rPr>
              <a:t>Introduction to Computer Networks.do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Page 86 to1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5:40:49Z</dcterms:created>
  <dc:creator>ukyawnaing</dc:creator>
  <dc:description/>
  <dc:language>en-US</dc:language>
  <cp:lastModifiedBy>ds0929</cp:lastModifiedBy>
  <dcterms:modified xsi:type="dcterms:W3CDTF">2013-06-09T08:28:46Z</dcterms:modified>
  <cp:revision>3</cp:revision>
  <dc:subject/>
  <dc:title>Server Operating System As its name implies, the role of a server is to serve. To perform this job, it must be loaded with a special operating system. On this site, we cover a network that deals with a Microsoft-based network. The company publishes a server operating system named Microsoft Windows Server 2003.   Before acquiring the operating system, you may fit one of the following descriptions:  I will purchase a brand new computer, to use as a server, from a web site: You can purchase a server from a manufacturer on the Internet (HP, Dell, IBM, Gateway,  etc). You can also purchase a computer from an Internet-based store (http://www.tigerdirect.com, http://www.provantage.com, http://www.cdw.com, etc).  The web sites of HP, Dell, IBM, Gateway,  etc has a link (or a section) named (or labeled) Servers or Small Business. You can shop from that section, based on your budget. If you are using this approach, look for a machine called server. When choosing the machine, make sure it meets the following requirements:   133-MHz processor required; 550-MHz recommended; up to eight processors supported on one server  128 MB of RAM minimum required; 256 MB or more recommended; 32 GB maximum  1.25 to 2 GB of available hard disk space  CD-ROM or DVD-ROM drive  VGA or hardware that supports console redirection required; Super VGA supporting 800 x 600 or higher-resolution monitor recommended  </dc:title>
</cp:coreProperties>
</file>