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0AC-A298-4DB8-9FDF-7D889ADF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1EFA-9DF4-41E6-8C73-71F66407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0B8-4F0D-4D0F-98D8-F9B03CD3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02D-9252-420C-B330-167646A4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B3F-D96F-4F4C-BC4F-620F6757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A6D-4546-4F02-B071-38A69C17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EE2-6C8E-4807-99C7-A9E4DB29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F73-9B18-484D-A647-3697BECF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A97-5537-41B8-912F-791AF91E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9CC-9301-4796-AC09-A4709CF8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F5B-22B8-432C-A7A5-BEDC83E8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0F4C-9359-45FC-BB66-5D3DC533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AD95-652D-4CC3-8C8D-0681793E5B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.</a:t>
            </a:r>
            <a:fld id="{1CF1E201-B2C9-4218-A60C-14481F7FA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03280" y="3808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Figure 4.10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ultilevel: 2B1Q sc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32448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646200" y="990720"/>
            <a:ext cx="7659720" cy="5254560"/>
          </a:xfrm>
          <a:prstGeom prst="rect">
            <a:avLst/>
          </a:prstGeom>
          <a:ln w="0">
            <a:noFill/>
          </a:ln>
        </p:spPr>
      </p:pic>
      <p:pic>
        <p:nvPicPr>
          <p:cNvPr id="49" name="001_A_024_U Kyaw Naing.mp3" descr=""/>
          <p:cNvPicPr/>
          <p:nvPr/>
        </p:nvPicPr>
        <p:blipFill>
          <a:blip r:embed="rId2"/>
          <a:stretch/>
        </p:blipFill>
        <p:spPr>
          <a:xfrm>
            <a:off x="6084720" y="661356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534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50:49Z</dcterms:created>
  <dc:creator>Administrator</dc:creator>
  <dc:description/>
  <dc:language>en-US</dc:language>
  <cp:lastModifiedBy>ds0929</cp:lastModifiedBy>
  <dcterms:modified xsi:type="dcterms:W3CDTF">2013-06-09T12:20:20Z</dcterms:modified>
  <cp:revision>3</cp:revision>
  <dc:subject/>
  <dc:title>PowerPoint Presentation</dc:title>
</cp:coreProperties>
</file>