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EEB-DE95-4A59-8928-A4FC3389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501-0291-4635-A247-CC757595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7C8-33BB-4A67-ABD4-30335C0E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784-BBFD-4F5A-8D4E-833F9A0A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C3A-D5E4-41A8-A6C7-C942DAA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2B7-4E42-4B7F-81F7-62EEDE8B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593-625F-4AD4-81C5-5AA2949A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A3A-43C9-49FD-ABFC-E3EF8BC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42E-5DB8-4960-B60A-6AB5503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A3A-AC04-4D96-97FB-7B46F8D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1C8-F467-4CFD-B256-A7C8409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304-D8DD-46A6-B937-61F423D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3E94-89FE-4B28-88FE-2B2B08A9C0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.</a:t>
            </a:r>
            <a:fld id="{5D8E6C97-B3C3-4F2D-9C32-D3B5664AE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less Chan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re subject to a lot more errors than guided media cha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terference is one cause for errors, can be circumvented with high SN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higher the SNR the less capacity is available for transmission due to the broadcast nature of the chann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hannel also subject to fading and no coverage h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29_U Kyaw Naing.mp3" descr=""/>
          <p:cNvPicPr/>
          <p:nvPr/>
        </p:nvPicPr>
        <p:blipFill>
          <a:blip r:embed="rId1"/>
          <a:stretch/>
        </p:blipFill>
        <p:spPr>
          <a:xfrm>
            <a:off x="781200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9:55Z</dcterms:created>
  <dc:creator>Administrator</dc:creator>
  <dc:description/>
  <dc:language>en-US</dc:language>
  <cp:lastModifiedBy>ds0929</cp:lastModifiedBy>
  <dcterms:modified xsi:type="dcterms:W3CDTF">2013-06-09T14:48:13Z</dcterms:modified>
  <cp:revision>5</cp:revision>
  <dc:subject/>
  <dc:title>PowerPoint Presentation</dc:title>
</cp:coreProperties>
</file>