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188B4-6DDE-43AB-883E-FCBD88B2B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0B5AD-B111-4637-8BDB-BF0488698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64B5F-2E84-4A8C-9101-7C59283CA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EFCA1-A275-41D3-B299-27B9576D3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5B9F8-2555-4F1A-AF46-B1D2329CE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5E436-1BFD-4166-AC0D-63EAEE0C8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20404-5F8C-4C22-82D8-2E557569C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0CB9B-1348-4E20-A8D0-D146F4DE3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20723-6F2E-4C1C-A674-5B33C232C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0C54B-825A-4587-88BE-7CD13E873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293FF-95B0-46B0-87ED-379E659E3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4CE75-D880-428F-A25B-34C528369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11B31-124C-48BD-8D88-E93FBC00168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Calibri"/>
              </a:rPr>
              <a:t>Viewing Network Connections</a:t>
            </a:r>
            <a:br>
              <a:rPr sz="1600"/>
            </a:br>
            <a:r>
              <a:rPr b="0" lang="en-AU" sz="1600" spc="-1" strike="noStrike">
                <a:solidFill>
                  <a:srgbClr val="000000"/>
                </a:solidFill>
                <a:latin typeface="Calibri"/>
              </a:rPr>
              <a:t>  </a:t>
            </a:r>
            <a:br>
              <a:rPr sz="1600"/>
            </a:br>
            <a:r>
              <a:rPr b="1" lang="en-AU" sz="1600" spc="-1" strike="noStrike">
                <a:solidFill>
                  <a:srgbClr val="000000"/>
                </a:solidFill>
                <a:latin typeface="Calibri"/>
              </a:rPr>
              <a:t>My Network Places</a:t>
            </a:r>
            <a:br>
              <a:rPr sz="1600"/>
            </a:br>
            <a:r>
              <a:rPr b="0" lang="en-AU" sz="1600" spc="-1" strike="noStrike">
                <a:solidFill>
                  <a:srgbClr val="000000"/>
                </a:solidFill>
                <a:latin typeface="Calibri"/>
              </a:rPr>
              <a:t>Once you have built a computer network, from time to time, you will need to check what computers are available and/or what files or folders have been shared. To assist you with this, Microsoft Windows XP provides a window named My Network Places.</a:t>
            </a:r>
            <a:br>
              <a:rPr sz="1600"/>
            </a:br>
            <a:r>
              <a:rPr b="0" lang="en-AU" sz="1600" spc="-1" strike="noStrike">
                <a:solidFill>
                  <a:srgbClr val="000000"/>
                </a:solidFill>
                <a:latin typeface="Calibri"/>
              </a:rPr>
              <a:t>To view the available connected computers:</a:t>
            </a:r>
            <a:br>
              <a:rPr sz="1600"/>
            </a:br>
            <a:br>
              <a:rPr sz="1600"/>
            </a:br>
            <a:r>
              <a:rPr b="1" lang="en-AU" sz="1600" spc="-1" strike="noStrike">
                <a:solidFill>
                  <a:srgbClr val="000000"/>
                </a:solidFill>
                <a:latin typeface="Calibri"/>
              </a:rPr>
              <a:t>Practical Learning: Viewing the Connected Computers</a:t>
            </a:r>
            <a:br>
              <a:rPr sz="1600"/>
            </a:br>
            <a:r>
              <a:rPr b="0" lang="en-AU" sz="1600" spc="-1" strike="noStrike">
                <a:solidFill>
                  <a:srgbClr val="000000"/>
                </a:solidFill>
                <a:latin typeface="Calibri"/>
              </a:rPr>
              <a:t>On one of the computers, click Start -&gt; My Network Places.</a:t>
            </a:r>
            <a:br>
              <a:rPr sz="1600"/>
            </a:br>
            <a:r>
              <a:rPr b="0" lang="en-AU" sz="1600" spc="-1" strike="noStrike">
                <a:solidFill>
                  <a:srgbClr val="000000"/>
                </a:solidFill>
                <a:latin typeface="Calibri"/>
              </a:rPr>
              <a:t>If you don't see that option in the right column of the Start menu, depending of your configuration, click Start -&gt; Settings -&gt; Network Connections. Then, under Other Places, click My Network Places.</a:t>
            </a:r>
            <a:br>
              <a:rPr sz="1600"/>
            </a:br>
            <a:r>
              <a:rPr b="0" lang="en-AU" sz="1600" spc="-1" strike="noStrike">
                <a:solidFill>
                  <a:srgbClr val="000000"/>
                </a:solidFill>
                <a:latin typeface="Calibri"/>
              </a:rPr>
              <a:t>As an alternative, you can click Start -&gt; Control Panel or Start -&gt; Settings -&gt; Control Panel. Under Other Places, click My Network Places. </a:t>
            </a:r>
            <a:br>
              <a:rPr sz="1600"/>
            </a:br>
            <a:r>
              <a:rPr b="0" lang="en-AU" sz="1600" spc="-1" strike="noStrike">
                <a:solidFill>
                  <a:srgbClr val="000000"/>
                </a:solidFill>
                <a:latin typeface="Calibri"/>
              </a:rPr>
              <a:t>Under Network Tasks, click View Workgroup Computers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001_A_015_U Kyaw Naing.mp3" descr=""/>
          <p:cNvPicPr/>
          <p:nvPr/>
        </p:nvPicPr>
        <p:blipFill>
          <a:blip r:embed="rId1"/>
          <a:stretch/>
        </p:blipFill>
        <p:spPr>
          <a:xfrm>
            <a:off x="7596360" y="573264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33120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Viewing Workgroup Computers With 3 Nodes"/>
          <p:cNvPicPr/>
          <p:nvPr/>
        </p:nvPicPr>
        <p:blipFill>
          <a:blip r:embed="rId1"/>
          <a:stretch/>
        </p:blipFill>
        <p:spPr>
          <a:xfrm>
            <a:off x="0" y="0"/>
            <a:ext cx="8388360" cy="685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1T05:35:09Z</dcterms:created>
  <dc:creator>ukyawnaing</dc:creator>
  <dc:description/>
  <dc:language>en-US</dc:language>
  <cp:lastModifiedBy>ds0929</cp:lastModifiedBy>
  <dcterms:modified xsi:type="dcterms:W3CDTF">2013-06-09T08:27:58Z</dcterms:modified>
  <cp:revision>3</cp:revision>
  <dc:subject/>
  <dc:title>Viewing Network Connections    My Network Places Once you have built a computer network, from time to time, you will need to check what computers are available and/or what files or folders have been shared. To assist you with this, Microsoft Windows XP provides a window named My Network Places. To view the available connected computers:  Practical Learning: Viewing the Connected Computers On one of the computers, click Start -&gt; My Network Places. If you don't see that option in the right column of the Start menu, depending of your configuration, click Start -&gt; Settings -&gt; Network Connections. Then, under Other Places, click My Network Places. As an alternative, you can click Start -&gt; Control Panel or Start -&gt; Settings -&gt; Control Panel. Under Other Places, click My Network Places.  Under Network Tasks, click View Workgroup Computers </dc:title>
</cp:coreProperties>
</file>