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8059-07C7-4DF7-A73C-0BEA644C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1FEC-FA0A-4DDF-9EE1-07259128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1D03-EA33-468C-BE5E-4486EF64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14E2-1EC0-43B0-A617-47DFC1E0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C13A-8262-47C6-A838-5EDD3C86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1091-A365-4E9E-86DB-3366349D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F7E7-61EB-4125-95B6-E3FB794E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90B8-6BAC-4A8A-B51A-AE5AB775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4ABD-89B5-45A2-A61E-1EE9EBC0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9D28-B33D-4BD3-A6A3-CA8C2B55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C95-E3A7-4C9B-B115-6628984A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092F-430D-4AAD-9994-B344CB6F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6559-7CBC-41EF-9875-64A96F5A2E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.</a:t>
            </a:r>
            <a:fld id="{5A12D186-2D92-4307-9249-46C0B40F9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70800" y="76212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igure 6.31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ndwidth sha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228600" y="2001960"/>
            <a:ext cx="8656560" cy="3865320"/>
          </a:xfrm>
          <a:prstGeom prst="rect">
            <a:avLst/>
          </a:prstGeom>
          <a:ln w="0">
            <a:noFill/>
          </a:ln>
        </p:spPr>
      </p:pic>
      <p:pic>
        <p:nvPicPr>
          <p:cNvPr id="49" name="001_A_024_U Kyaw Naing.mp3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9632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4:43:57Z</dcterms:created>
  <dc:creator>Administrator</dc:creator>
  <dc:description/>
  <dc:language>en-US</dc:language>
  <cp:lastModifiedBy>ds0929</cp:lastModifiedBy>
  <dcterms:modified xsi:type="dcterms:W3CDTF">2013-06-09T14:46:04Z</dcterms:modified>
  <cp:revision>4</cp:revision>
  <dc:subject/>
  <dc:title>PowerPoint Presentation</dc:title>
</cp:coreProperties>
</file>