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92F-9868-4C38-85F2-D7913F2A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8C3-7B7B-46FE-8D0D-338BEB80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08A-BADE-440D-8B0C-E8BAF948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DBD-188F-4899-BAEA-B70A579D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59C-8834-4565-9DCF-1C802C97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E37-F74B-4EFE-A8E4-601CCEA2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6FC-2561-43C9-B578-90002C6A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56E-523E-4457-8810-4DFDE891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55F-B338-4E91-9799-2A0F9A85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57C-983D-4F88-B3DC-761C7000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251-0B6B-4DF5-A4A5-A5DF3EAD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43C-4E3E-4179-A010-243411A4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5C2B-42AB-4661-BC72-D6B48E20AD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.</a:t>
            </a:r>
            <a:fld id="{D748F7B8-912B-4973-A86B-823248190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wtooth Sig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app_c07"/>
          <p:cNvPicPr/>
          <p:nvPr/>
        </p:nvPicPr>
        <p:blipFill>
          <a:blip r:embed="rId1"/>
          <a:stretch/>
        </p:blipFill>
        <p:spPr>
          <a:xfrm>
            <a:off x="2057400" y="1447920"/>
            <a:ext cx="4651200" cy="4876560"/>
          </a:xfrm>
          <a:prstGeom prst="rect">
            <a:avLst/>
          </a:prstGeom>
          <a:ln w="0">
            <a:noFill/>
          </a:ln>
        </p:spPr>
      </p:pic>
      <p:pic>
        <p:nvPicPr>
          <p:cNvPr id="46" name="001_A_012_U Kyaw Naing.mp3" descr=""/>
          <p:cNvPicPr/>
          <p:nvPr/>
        </p:nvPicPr>
        <p:blipFill>
          <a:blip r:embed="rId2"/>
          <a:stretch/>
        </p:blipFill>
        <p:spPr>
          <a:xfrm>
            <a:off x="7812000" y="501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88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29:19Z</dcterms:created>
  <dc:creator>Administrator</dc:creator>
  <dc:description/>
  <dc:language>en-US</dc:language>
  <cp:lastModifiedBy>ds0929</cp:lastModifiedBy>
  <dcterms:modified xsi:type="dcterms:W3CDTF">2013-06-09T12:08:26Z</dcterms:modified>
  <cp:revision>4</cp:revision>
  <dc:subject/>
  <dc:title>PowerPoint Presentation</dc:title>
</cp:coreProperties>
</file>