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FB0-E898-4452-9AC2-2204AC36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EB5-9B33-4C4B-B068-CCB708F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9DB-B90B-40F6-AA16-8244B636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DFD-5A16-4ACB-9E74-77315335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2AE-B54D-4CBE-89B6-53A01F1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F9F-87D7-46E2-B761-31A8C173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2A0-6229-45D1-A80A-F1E07425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6B2-BA86-4971-95C2-70B735A9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74D-E846-46EB-9392-84997DE6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7CD-319A-4B3B-BA79-6870204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66A-8745-4E35-90B3-804AE05C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114-B17E-4B5E-AA08-5B6F248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286-5869-451F-B6B5-8B91DC6E93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.</a:t>
            </a:r>
            <a:fld id="{7D88181E-231F-426A-B0C8-82246742B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11200" y="76212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Figure 4.1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ine coding and deco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39680" y="2111400"/>
            <a:ext cx="8775720" cy="2689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20_U Kyaw Naing.mp3" descr=""/>
          <p:cNvPicPr/>
          <p:nvPr/>
        </p:nvPicPr>
        <p:blipFill>
          <a:blip r:embed="rId2"/>
          <a:stretch/>
        </p:blipFill>
        <p:spPr>
          <a:xfrm>
            <a:off x="6732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8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41:26Z</dcterms:created>
  <dc:creator>Administrator</dc:creator>
  <dc:description/>
  <dc:language>en-US</dc:language>
  <cp:lastModifiedBy>ds0929</cp:lastModifiedBy>
  <dcterms:modified xsi:type="dcterms:W3CDTF">2013-06-09T12:17:53Z</dcterms:modified>
  <cp:revision>4</cp:revision>
  <dc:subject/>
  <dc:title>PowerPoint Presentation</dc:title>
</cp:coreProperties>
</file>