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C97-E9F2-4A15-97FC-DC83E289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3C4-C88A-40CD-925E-7141285F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C3F-C95C-4DEE-ABF4-346A2C25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7D0-16F2-445F-B494-F3BA555C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1DF-5DE6-43F0-BBFC-14DBB7D5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7D6-2144-48D4-9BF4-D6F6EEB7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386-EA83-4257-81D3-DB0FF7B0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796-16CD-4F70-B41E-5C0D790D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4BA-B0BA-4244-A9E5-383618F7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43A-2318-47D8-8C16-A4AA29E5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867-0050-4827-A330-09CCE928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B76-E89D-40BC-AEE6-3F07C3D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E8BA-09A5-42B0-AEB7-6D935F0F12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.</a:t>
            </a:r>
            <a:fld id="{2907890A-21F6-4224-8F89-BB5DA61A9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57120" y="762120"/>
            <a:ext cx="34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6.27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read spectr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593640" y="2351160"/>
            <a:ext cx="7788240" cy="3058920"/>
          </a:xfrm>
          <a:prstGeom prst="rect">
            <a:avLst/>
          </a:prstGeom>
          <a:ln w="0">
            <a:noFill/>
          </a:ln>
        </p:spPr>
      </p:pic>
      <p:pic>
        <p:nvPicPr>
          <p:cNvPr id="49" name="001_A_022_U Kyaw Naing.mp3" descr=""/>
          <p:cNvPicPr/>
          <p:nvPr/>
        </p:nvPicPr>
        <p:blipFill>
          <a:blip r:embed="rId2"/>
          <a:stretch/>
        </p:blipFill>
        <p:spPr>
          <a:xfrm>
            <a:off x="788508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78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39:07Z</dcterms:created>
  <dc:creator>Administrator</dc:creator>
  <dc:description/>
  <dc:language>en-US</dc:language>
  <cp:lastModifiedBy>ds0929</cp:lastModifiedBy>
  <dcterms:modified xsi:type="dcterms:W3CDTF">2013-06-09T14:44:54Z</dcterms:modified>
  <cp:revision>3</cp:revision>
  <dc:subject/>
  <dc:title>PowerPoint Presentation</dc:title>
</cp:coreProperties>
</file>