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65F-1058-45CE-9C26-D06E285D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ECA-45B2-4ED6-A988-3095C0A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14B-2F1F-4249-968E-CB5D281F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2DA-1C9A-45FA-9661-C99B5364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33C-591B-47E6-9C88-05830BAF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BCF-5836-47F9-86F1-12CAD6A6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C0A-1294-448E-B546-2F328EAB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643-CCB4-49B7-BD84-8F1D71C4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C89-1793-49FA-9296-54500459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181-3B46-4361-A06D-942783F4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A2B-F7D3-4C26-A02B-73810FDC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F60-3767-4A4C-9E33-537E9DBC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90F-5764-4B80-8359-236DA6FD5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.</a:t>
            </a:r>
            <a:fld id="{BF5D4B6A-F357-4224-B2E4-C933F7D81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94560" y="762120"/>
            <a:ext cx="57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7.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medium and physical lay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185760" y="2584440"/>
            <a:ext cx="8729640" cy="2521080"/>
          </a:xfrm>
          <a:prstGeom prst="rect">
            <a:avLst/>
          </a:prstGeom>
          <a:ln w="0">
            <a:noFill/>
          </a:ln>
        </p:spPr>
      </p:pic>
      <p:pic>
        <p:nvPicPr>
          <p:cNvPr id="49" name="001_A_025_U Kyaw Naing.mp3" descr=""/>
          <p:cNvPicPr/>
          <p:nvPr/>
        </p:nvPicPr>
        <p:blipFill>
          <a:blip r:embed="rId2"/>
          <a:stretch/>
        </p:blipFill>
        <p:spPr>
          <a:xfrm>
            <a:off x="867564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7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.</a:t>
            </a:r>
            <a:fld id="{C7E595CB-AD47-4BC2-8C16-801BDF730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70080" y="762120"/>
            <a:ext cx="46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7.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asses of transmission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57200" y="2100240"/>
            <a:ext cx="7715160" cy="3157560"/>
          </a:xfrm>
          <a:prstGeom prst="rect">
            <a:avLst/>
          </a:prstGeom>
          <a:ln w="0">
            <a:noFill/>
          </a:ln>
        </p:spPr>
      </p:pic>
      <p:pic>
        <p:nvPicPr>
          <p:cNvPr id="56" name="001_A_025_U Kyaw Naing.mp3" descr=""/>
          <p:cNvPicPr/>
          <p:nvPr/>
        </p:nvPicPr>
        <p:blipFill>
          <a:blip r:embed="rId2"/>
          <a:stretch/>
        </p:blipFill>
        <p:spPr>
          <a:xfrm>
            <a:off x="795672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475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45:52Z</dcterms:created>
  <dc:creator>Administrator</dc:creator>
  <dc:description/>
  <dc:language>en-US</dc:language>
  <cp:lastModifiedBy>ds0929</cp:lastModifiedBy>
  <dcterms:modified xsi:type="dcterms:W3CDTF">2013-06-09T14:46:42Z</dcterms:modified>
  <cp:revision>4</cp:revision>
  <dc:subject/>
  <dc:title>PowerPoint Presentation</dc:title>
</cp:coreProperties>
</file>