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49D6-6A0F-420D-B444-2BD47DAD9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FECF-5728-4C69-A087-A55B25AEB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DC8A-6881-4FC8-AB9A-D90F34646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F8EA-48F1-4AB1-818D-D73B74008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6053-FBCC-4415-9656-5B8439CC6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731D-76D1-4A9D-9511-9061D28D2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5087-D076-4A89-A20A-309ADE32C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7F24-FB51-4D97-A3FF-30771A821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7E46-CD9C-446B-A475-07F20C341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B71F-A1E6-4182-93BA-672600993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16A4-4460-4699-887B-9A87515B4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FA6B-6F34-4232-A303-990CD4ED8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A7F83-83AD-4C94-9353-CCAF02E9CB8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755640" y="2421000"/>
            <a:ext cx="7561440" cy="23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ensure that the receiver correctly reads the incoming bits, i.e., knows the incoming bit boundaries to interpret a “1” and a “0”, a known bit pattern is used between the fram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receiver looks for the anticipated bit and starts counting bits till the end of the fram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n it starts over again with the reception of another known bi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se bits (or bit patterns) are called synchronization bit(s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y are part of the overhead of transmiss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nchroniz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3280680" y="134136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nchroniz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001_A_021_U Kyaw Naing.mp3" descr=""/>
          <p:cNvPicPr/>
          <p:nvPr/>
        </p:nvPicPr>
        <p:blipFill>
          <a:blip r:embed="rId1"/>
          <a:stretch/>
        </p:blipFill>
        <p:spPr>
          <a:xfrm>
            <a:off x="8028000" y="5013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5776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.</a:t>
            </a:r>
            <a:fld id="{2FF0B14C-73A9-4FC8-B5BD-BB40856B4E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Line 2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Line 3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358560" y="762120"/>
            <a:ext cx="30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Figure 6.22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raming bi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Line 5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6" descr=""/>
          <p:cNvPicPr/>
          <p:nvPr/>
        </p:nvPicPr>
        <p:blipFill>
          <a:blip r:embed="rId1"/>
          <a:stretch/>
        </p:blipFill>
        <p:spPr>
          <a:xfrm>
            <a:off x="727200" y="2438280"/>
            <a:ext cx="7578720" cy="2187720"/>
          </a:xfrm>
          <a:prstGeom prst="rect">
            <a:avLst/>
          </a:prstGeom>
          <a:ln w="0">
            <a:noFill/>
          </a:ln>
        </p:spPr>
      </p:pic>
      <p:pic>
        <p:nvPicPr>
          <p:cNvPr id="50" name="001_A_021_U Kyaw Naing.mp3" descr=""/>
          <p:cNvPicPr/>
          <p:nvPr/>
        </p:nvPicPr>
        <p:blipFill>
          <a:blip r:embed="rId2"/>
          <a:stretch/>
        </p:blipFill>
        <p:spPr>
          <a:xfrm>
            <a:off x="6875640" y="51577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75776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04:22:24Z</dcterms:created>
  <dc:creator>Administrator</dc:creator>
  <dc:description/>
  <dc:language>en-US</dc:language>
  <cp:lastModifiedBy>ds0929</cp:lastModifiedBy>
  <dcterms:modified xsi:type="dcterms:W3CDTF">2013-06-09T14:44:06Z</dcterms:modified>
  <cp:revision>6</cp:revision>
  <dc:subject/>
  <dc:title>PowerPoint Presentation</dc:title>
</cp:coreProperties>
</file>