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0B3-238B-48DE-BB06-CB6E5247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24D-F5CF-4FC6-8F81-FA42869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73A-6CEE-44C8-8B69-896DC47A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CE3-F33C-482C-85D8-6256488F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CF7-5FAA-4D5E-86A1-953AFB9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601-1ACF-4FE5-A9BD-30DC5565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397-9494-45A1-BD03-B504979E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4CA-1648-40EE-9CBB-F446BA4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B5-D5F0-496F-B415-124B3A06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57E-290D-4958-A60E-5F36643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0CD-B2D3-4AF4-84FC-DFB84E6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40C-5329-4EDC-B6AD-D0E06CE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A5A-739A-4318-93D9-264B8DD0A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</a:t>
            </a:r>
            <a:fld id="{7AB68C1D-DB83-45D0-842F-BEED2A7F1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17960" y="45720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2.2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ven layers of the OS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149560" y="1427040"/>
            <a:ext cx="4251240" cy="436428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6_U Kyaw Naing.mp3" descr=""/>
          <p:cNvPicPr/>
          <p:nvPr/>
        </p:nvPicPr>
        <p:blipFill>
          <a:blip r:embed="rId2"/>
          <a:stretch/>
        </p:blipFill>
        <p:spPr>
          <a:xfrm>
            <a:off x="774072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87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6:27Z</dcterms:created>
  <dc:creator>Administrator</dc:creator>
  <dc:description/>
  <dc:language>en-US</dc:language>
  <cp:lastModifiedBy>ds0929</cp:lastModifiedBy>
  <dcterms:modified xsi:type="dcterms:W3CDTF">2013-06-09T12:02:52Z</dcterms:modified>
  <cp:revision>4</cp:revision>
  <dc:subject/>
  <dc:title>PowerPoint Presentation</dc:title>
</cp:coreProperties>
</file>