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39F-E435-4C60-8850-82150E33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F0F-4563-4CEB-86CF-951472BC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DEE9-539A-450A-BB2B-0B6E5D6C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E51-E546-4F4E-A826-8AA9DD50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6077-D0B8-471F-BE57-A0CC1693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17CD-BEDF-4BF5-B990-612760F7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920-95A5-47E7-AFBA-F4D215B8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6D36-9FF6-4AC1-8442-D30C5C84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F051-1686-423A-B1BC-5E7395A8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33B6-DE27-493D-8DC0-9D35099D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A7D8-F56F-4FE6-818B-8CF24FBC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75F3-2CC2-4E63-A202-2CF706F9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5EE0-EA97-4AFF-AC4C-33C442D0C8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-763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.</a:t>
            </a:r>
            <a:fld id="{1A916D7C-4885-4324-850D-44EDF730F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85920" y="76212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10.7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ructure of encoder and decoder in error corr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8785440" cy="3543480"/>
          </a:xfrm>
          <a:prstGeom prst="rect">
            <a:avLst/>
          </a:prstGeom>
          <a:ln w="0">
            <a:noFill/>
          </a:ln>
        </p:spPr>
      </p:pic>
      <p:pic>
        <p:nvPicPr>
          <p:cNvPr id="49" name="001_A_032_U Kyaw Naing.mp3" descr=""/>
          <p:cNvPicPr/>
          <p:nvPr/>
        </p:nvPicPr>
        <p:blipFill>
          <a:blip r:embed="rId2"/>
          <a:stretch/>
        </p:blipFill>
        <p:spPr>
          <a:xfrm>
            <a:off x="543564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758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59:45Z</dcterms:created>
  <dc:creator>Administrator</dc:creator>
  <dc:description/>
  <dc:language>en-US</dc:language>
  <cp:lastModifiedBy>ds0929</cp:lastModifiedBy>
  <dcterms:modified xsi:type="dcterms:W3CDTF">2013-06-09T14:50:58Z</dcterms:modified>
  <cp:revision>3</cp:revision>
  <dc:subject/>
  <dc:title>PowerPoint Presentation</dc:title>
</cp:coreProperties>
</file>