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F10-830F-4BF2-8D49-D5499A2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155-9AAD-425A-8F92-6C1279A7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17E-88B0-4B53-A2BD-9FD664D8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8AF-499B-4C50-9B10-74EB101E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857-AF72-47F7-95A8-EE15D4BB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0D9-0FFD-457D-9A9B-4596FE73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BA3-1B3D-48BC-AEEF-78F9D94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4BE-2D7D-4376-8BA6-F1A3978F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ED7-487F-4E74-A326-DBEBBDF2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070-3C21-4BB9-A0AC-41FE136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796-217D-4C47-B862-A654017F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777-C773-4A8D-AB20-D3A7DB7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1E6-87DE-4FB0-A3FE-931664CA2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97CD3189-AE88-4734-ACA9-5DAFA1B4C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6720" y="762120"/>
            <a:ext cx="45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6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ary frequency shift ke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01600" y="2290680"/>
            <a:ext cx="8637480" cy="2662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6_U Kyaw Naing.mp3" descr=""/>
          <p:cNvPicPr/>
          <p:nvPr/>
        </p:nvPicPr>
        <p:blipFill>
          <a:blip r:embed="rId2"/>
          <a:stretch/>
        </p:blipFill>
        <p:spPr>
          <a:xfrm>
            <a:off x="6443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3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8:17Z</dcterms:created>
  <dc:creator>Administrator</dc:creator>
  <dc:description/>
  <dc:language>en-US</dc:language>
  <cp:lastModifiedBy>ds0929</cp:lastModifiedBy>
  <dcterms:modified xsi:type="dcterms:W3CDTF">2013-06-09T14:35:48Z</dcterms:modified>
  <cp:revision>2</cp:revision>
  <dc:subject/>
  <dc:title>PowerPoint Presentation</dc:title>
</cp:coreProperties>
</file>