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9C0-22E2-4376-A3B3-6E043626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10C-A74F-4530-B28F-9CC6D6CB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C1B-2380-4A08-8C42-137B5101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9F8-D805-438D-8C32-27A1A51C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11F-E6C6-44C3-8505-1DE2E278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26F-14C8-4727-A937-45B0AABA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17B-225B-4B19-8329-40741CCB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C6A-ABD4-4967-8072-E8289F13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B7D-1758-426B-A684-92821362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28C-F2F9-4C0D-AACD-B5E799B9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F11-BA3A-441B-B179-DFCC8BB6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2C8-ADB0-47B2-A4BD-0884C777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5B7D-1670-4DD1-B77A-3E9D84167F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B8F76AF9-407D-4392-9C86-CA0E3B42B252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99160" y="380880"/>
            <a:ext cx="64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igure 1.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fully connected mesh topology (five devi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927080" y="1652760"/>
            <a:ext cx="4854600" cy="360504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3_U Kyaw Naing.mp3" descr=""/>
          <p:cNvPicPr/>
          <p:nvPr/>
        </p:nvPicPr>
        <p:blipFill>
          <a:blip r:embed="rId2"/>
          <a:stretch/>
        </p:blipFill>
        <p:spPr>
          <a:xfrm>
            <a:off x="795672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44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19B53DBD-E62C-4CF9-88E9-DD6CC454927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99160" y="380880"/>
            <a:ext cx="58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igure 1.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star topology connecting four 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562040" y="1881360"/>
            <a:ext cx="59054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12:18Z</dcterms:created>
  <dc:creator>Administrator</dc:creator>
  <dc:description/>
  <dc:language>en-US</dc:language>
  <cp:lastModifiedBy>ds0929</cp:lastModifiedBy>
  <dcterms:modified xsi:type="dcterms:W3CDTF">2013-06-09T12:01:01Z</dcterms:modified>
  <cp:revision>3</cp:revision>
  <dc:subject/>
  <dc:title>PowerPoint Presentation</dc:title>
</cp:coreProperties>
</file>