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92E-9387-4B36-AD11-FBE5E82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C0A-F67B-487A-824E-DDC7735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FE5-D9E3-4479-B772-035F97C1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B5E-904B-4002-94DE-BE691F06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034-738C-4FF7-A34E-E917D0C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FCB-2BDF-4134-83B5-343AFE1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81F-232B-483A-A1F3-E0D042D7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892-787E-4927-82E8-56FAB59A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806-948E-4941-8312-07A3760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AAD-4655-449B-AF70-96EC9EB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402-44C2-4292-88AD-CE75F2C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CD7-DE8B-44C4-80B2-4C0F066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6EC-9E96-447F-909D-4D7E1EB2C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4D8AF86E-36BD-4D2A-A8FA-B6B54B059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agation and Transmission Del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ropagation Delay = Distance/Propagation sp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ransmission Delay = Message size/bandwidth b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Latency = Propagation delay + Transmission delay + Queueing time + Processi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8_U Kyaw Naing.mp3" descr=""/>
          <p:cNvPicPr/>
          <p:nvPr/>
        </p:nvPicPr>
        <p:blipFill>
          <a:blip r:embed="rId1"/>
          <a:stretch/>
        </p:blipFill>
        <p:spPr>
          <a:xfrm>
            <a:off x="6732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0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9:05Z</dcterms:created>
  <dc:creator>Administrator</dc:creator>
  <dc:description/>
  <dc:language>en-US</dc:language>
  <cp:lastModifiedBy>ds0929</cp:lastModifiedBy>
  <dcterms:modified xsi:type="dcterms:W3CDTF">2013-06-09T12:16:28Z</dcterms:modified>
  <cp:revision>5</cp:revision>
  <dc:subject/>
  <dc:title>PowerPoint Presentation</dc:title>
</cp:coreProperties>
</file>