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B78-1A1C-448D-AEB2-106A2BF2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133-943E-47EF-8E01-1483F8E8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D7E-23C7-4904-848E-AACBBE66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188-B0E5-4170-B366-77FE7AAD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EE7-E605-49FE-B7BB-03510981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DAF-69FB-4114-AE0E-3B69F29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05E-C85F-4DFE-A14B-01239FC0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83D-9D81-4A4F-B990-542D6E5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51C-E268-4670-8E50-38DA4AF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43D-B44A-42A2-836E-F9C9E920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3FC-423C-4F46-9B27-1444A1E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7F5-7227-4491-9372-1B21C8F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C34-0A56-4002-8DD5-462ECD75C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E80B6100-53BE-4673-B9AC-6235A1A09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533520" y="47242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95360" y="260676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n baseband transmission, the required bandwidth is proportional to the bit ra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f we need to send bits faster, we need more bandwid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457200" y="1905120"/>
            <a:ext cx="1143000" cy="566640"/>
            <a:chOff x="457200" y="1905120"/>
            <a:chExt cx="1143000" cy="566640"/>
          </a:xfrm>
        </p:grpSpPr>
        <p:pic>
          <p:nvPicPr>
            <p:cNvPr id="55" name="Picture 13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4"/>
            <p:cNvSpPr/>
            <p:nvPr/>
          </p:nvSpPr>
          <p:spPr>
            <a:xfrm>
              <a:off x="708120" y="19051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alibri"/>
                </a:rPr>
                <a:t>No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5"/>
          <p:cNvSpPr/>
          <p:nvPr/>
        </p:nvSpPr>
        <p:spPr>
          <a:xfrm>
            <a:off x="533520" y="2590920"/>
            <a:ext cx="807696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aseband transmission, the required bandwidth is proportional to the bit ra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need to send bits faster, we need more bandwid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001_A_014_U Kyaw Naing.mp3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23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1:09Z</dcterms:created>
  <dc:creator>Administrator</dc:creator>
  <dc:description/>
  <dc:language>en-US</dc:language>
  <cp:lastModifiedBy>ds0929</cp:lastModifiedBy>
  <dcterms:modified xsi:type="dcterms:W3CDTF">2013-06-09T12:15:03Z</dcterms:modified>
  <cp:revision>4</cp:revision>
  <dc:subject/>
  <dc:title>PowerPoint Presentation</dc:title>
</cp:coreProperties>
</file>