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1B66-0F7F-47F9-AD08-BD8CD4A2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702C-7140-455C-893B-99A1EF6A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C8A7-2189-49E5-8ADD-84AEE9FFC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66AE-A61A-4FF2-8C65-5F7C8E0C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1BEA-6F91-4D76-88E7-091E5B36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3B77-AF0F-40CE-9ADB-7C182ED3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9926-FD9D-4E9B-8975-713F8CC4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FA09-AFED-4A1B-9A1A-EF63EE7D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F613-3F96-40C5-99FC-CD269E12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58DD-02F1-4E69-B50B-0C843EEA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EEC3-35FF-497D-98DE-C11DDC0D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BE3F-AA8E-4A00-9AAC-4310201A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05A9-2F11-4E35-8288-A72C35ABE1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940AB2F4-F629-4EFB-899F-EDD0EB29ECB9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298440" y="380880"/>
            <a:ext cx="717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Figure 1.1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ANs: a switched WAN and a point-to-point W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1117440" y="1116000"/>
            <a:ext cx="7112160" cy="5056200"/>
          </a:xfrm>
          <a:prstGeom prst="rect">
            <a:avLst/>
          </a:prstGeom>
          <a:ln w="0">
            <a:noFill/>
          </a:ln>
        </p:spPr>
      </p:pic>
      <p:pic>
        <p:nvPicPr>
          <p:cNvPr id="49" name="001_A_004_U Kyaw Naing.mp3" descr=""/>
          <p:cNvPicPr/>
          <p:nvPr/>
        </p:nvPicPr>
        <p:blipFill>
          <a:blip r:embed="rId2"/>
          <a:stretch/>
        </p:blipFill>
        <p:spPr>
          <a:xfrm>
            <a:off x="8459640" y="3933720"/>
            <a:ext cx="24480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7632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3:13:52Z</dcterms:created>
  <dc:creator>Administrator</dc:creator>
  <dc:description/>
  <dc:language>en-US</dc:language>
  <cp:lastModifiedBy>ds0929</cp:lastModifiedBy>
  <dcterms:modified xsi:type="dcterms:W3CDTF">2013-06-09T12:01:26Z</dcterms:modified>
  <cp:revision>4</cp:revision>
  <dc:subject/>
  <dc:title>PowerPoint Presentation</dc:title>
</cp:coreProperties>
</file>