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FE1C-1BD5-476C-AA03-C55B5C32A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2E31-8E96-4FFE-B9FE-E4F3D5B27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62CB-2F6F-4460-8EBA-AC4AE060F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CA7B-D7D7-4C8C-A2A1-09A50E850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F999-ECEB-425A-B7F9-D9791FC2D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04C2-59BE-465D-9777-338AE8A4B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E290-8CB1-4B7D-9056-ED3914EBF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7AA9-297E-4DC3-84BA-2FBB2B237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A65A-F8FF-462A-891E-676FAFC2D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464A-D5CB-4669-A650-BB3F9913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777E-F401-43A6-BF49-F7B80DF6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2AAF-1AA1-4C32-8FA6-087E7B3E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1E7FE-1138-4CB5-A6EE-87F8CA1EE28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.</a:t>
            </a:r>
            <a:fld id="{7001C090-057E-4539-AA33-FEC4502F17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ulti level FS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imilarly to ASK, FSK can use multiple bits per signal ele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at means we need to provision for multiple frequencies, each one to represent a group of data bi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e bandwidth for FSK can be hig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 = (1+d)xS + (L-1)/2</a:t>
            </a:r>
            <a:r>
              <a:rPr b="0" lang="en-US" sz="3200" spc="-1" strike="noStrike">
                <a:solidFill>
                  <a:srgbClr val="898989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 = Lx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001_A_007_U Kyaw Naing.mp3" descr=""/>
          <p:cNvPicPr/>
          <p:nvPr/>
        </p:nvPicPr>
        <p:blipFill>
          <a:blip r:embed="rId1"/>
          <a:stretch/>
        </p:blipFill>
        <p:spPr>
          <a:xfrm>
            <a:off x="8172360" y="5589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68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3:58:44Z</dcterms:created>
  <dc:creator>Administrator</dc:creator>
  <dc:description/>
  <dc:language>en-US</dc:language>
  <cp:lastModifiedBy>ds0929</cp:lastModifiedBy>
  <dcterms:modified xsi:type="dcterms:W3CDTF">2013-06-09T14:36:15Z</dcterms:modified>
  <cp:revision>3</cp:revision>
  <dc:subject/>
  <dc:title>PowerPoint Presentation</dc:title>
</cp:coreProperties>
</file>