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9A2-2ECF-41CE-A2B4-9FC2BE85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82A6-58C0-441B-A33C-0F5186BB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9A2-180F-49D5-99A5-01D42397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D62-3B2F-4235-887C-DAC29EB6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778-8902-4028-BB2F-77DD9DDB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76E-63D9-4D05-AF79-61097AB4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C8F-0721-41E4-B36F-4333B158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E09-B826-4131-8C6F-D075DC16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686-03BA-4EF9-9B37-00CABDF1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8FE-488D-494C-91EA-51F6AC60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E62-7F62-4D17-AE28-E6850424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A24-9F2B-4F3B-91D1-1CE56F3A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3F8F-42DD-4DF6-8677-FAF2D9A0CC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E88FA166-F471-4A04-85EB-AFC28E3C5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66840" y="38088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5.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s of digital-to-analog conver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361800" y="1905120"/>
            <a:ext cx="8401320" cy="2887560"/>
          </a:xfrm>
          <a:prstGeom prst="rect">
            <a:avLst/>
          </a:prstGeom>
          <a:ln w="0">
            <a:noFill/>
          </a:ln>
        </p:spPr>
      </p:pic>
      <p:pic>
        <p:nvPicPr>
          <p:cNvPr id="49" name="001_A_002_U Kyaw Naing.mp3" descr=""/>
          <p:cNvPicPr/>
          <p:nvPr/>
        </p:nvPicPr>
        <p:blipFill>
          <a:blip r:embed="rId2"/>
          <a:stretch/>
        </p:blipFill>
        <p:spPr>
          <a:xfrm>
            <a:off x="7956720" y="5516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61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55:53Z</dcterms:created>
  <dc:creator>Administrator</dc:creator>
  <dc:description/>
  <dc:language>en-US</dc:language>
  <cp:lastModifiedBy>ds0929</cp:lastModifiedBy>
  <dcterms:modified xsi:type="dcterms:W3CDTF">2013-06-09T14:33:42Z</dcterms:modified>
  <cp:revision>2</cp:revision>
  <dc:subject/>
  <dc:title>PowerPoint Presentation</dc:title>
</cp:coreProperties>
</file>