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197-128E-46C8-B578-A4374B90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9D8-160C-4236-97FB-3F1F0F0D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014-71FB-4E94-AC3B-9483BFC5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764-B66C-4888-92B1-4E8D7D69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993-6A8C-4B2C-90A1-56F7B9FB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A94-E1D4-4B62-AB36-D99E1013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72B-9620-4AD9-A181-1E7938C8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C7A-D5FB-48EE-ADBC-9D534629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C82-30E9-4B80-93CD-3D08F0B4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7EB-EE89-4237-ABF0-D42E58B3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5C7-B6E7-4E8D-BD04-92DA765B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9A8-540B-4323-8DA5-E76C1C97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CCCD-9A8C-4D72-ADD0-25770BAD5F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.</a:t>
            </a:r>
            <a:fld id="{F64563CA-E114-4EEC-8373-F608F8ECE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84200" y="7621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Figure 4.4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Line coding sche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914400" y="1882800"/>
            <a:ext cx="7642080" cy="3375000"/>
          </a:xfrm>
          <a:prstGeom prst="rect">
            <a:avLst/>
          </a:prstGeom>
          <a:ln w="0">
            <a:noFill/>
          </a:ln>
        </p:spPr>
      </p:pic>
      <p:pic>
        <p:nvPicPr>
          <p:cNvPr id="49" name="001_A_023_U Kyaw Naing.mp3" descr=""/>
          <p:cNvPicPr/>
          <p:nvPr/>
        </p:nvPicPr>
        <p:blipFill>
          <a:blip r:embed="rId2"/>
          <a:stretch/>
        </p:blipFill>
        <p:spPr>
          <a:xfrm>
            <a:off x="6875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7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46:12Z</dcterms:created>
  <dc:creator>Administrator</dc:creator>
  <dc:description/>
  <dc:language>en-US</dc:language>
  <cp:lastModifiedBy>ds0929</cp:lastModifiedBy>
  <dcterms:modified xsi:type="dcterms:W3CDTF">2013-06-09T12:19:48Z</dcterms:modified>
  <cp:revision>3</cp:revision>
  <dc:subject/>
  <dc:title>PowerPoint Presentation</dc:title>
</cp:coreProperties>
</file>