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C0E3-BB6A-42BD-AB28-5ADB4627E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2507-5EF1-47EE-B716-5127B26D6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9608-1989-4868-AD47-B7CE12D17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C6EB-39A5-4483-882C-87E79C478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0B18-978A-4CD2-AA7C-FDD4CAE27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1671-5F9F-4EF1-BAF5-9D28E8B50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57BF-F7FF-4B77-834C-F715B6D71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3020-1711-486F-818C-7EB20780D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6EE1-8E7A-49CA-BDA7-D27DD5A1E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17B1-F952-400F-8CAD-A7520172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665C-90CA-4139-A743-2CED3838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7219-D38C-4EA6-A3EA-ACBF2A3D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D0132-DC79-4DC6-B210-135F965BFA1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3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fld id="{DAC95FCB-C028-4452-A8FC-A2E662208073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Line 2"/>
          <p:cNvSpPr/>
          <p:nvPr/>
        </p:nvSpPr>
        <p:spPr>
          <a:xfrm>
            <a:off x="152280" y="152280"/>
            <a:ext cx="87631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Line 3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294840" y="380880"/>
            <a:ext cx="68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Figure 1.2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ata flow (simplex, half-duplex, and full-duplex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1219320" y="1171440"/>
            <a:ext cx="6489720" cy="4924440"/>
          </a:xfrm>
          <a:prstGeom prst="rect">
            <a:avLst/>
          </a:prstGeom>
          <a:ln w="0">
            <a:noFill/>
          </a:ln>
        </p:spPr>
      </p:pic>
      <p:pic>
        <p:nvPicPr>
          <p:cNvPr id="49" name="001_A_002_U Kyaw Naing.mp3" descr=""/>
          <p:cNvPicPr/>
          <p:nvPr/>
        </p:nvPicPr>
        <p:blipFill>
          <a:blip r:embed="rId2"/>
          <a:stretch/>
        </p:blipFill>
        <p:spPr>
          <a:xfrm>
            <a:off x="8101080" y="4797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9264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3:11:27Z</dcterms:created>
  <dc:creator>Administrator</dc:creator>
  <dc:description/>
  <dc:language>en-US</dc:language>
  <cp:lastModifiedBy>ds0929</cp:lastModifiedBy>
  <dcterms:modified xsi:type="dcterms:W3CDTF">2013-06-09T12:00:30Z</dcterms:modified>
  <cp:revision>4</cp:revision>
  <dc:subject/>
  <dc:title>PowerPoint Presentation</dc:title>
</cp:coreProperties>
</file>