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FB6-C2D7-48C9-AB5B-D43DF478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82C-4DBE-4F35-B4CD-BF1DC8F9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71C-CBF0-4C41-A4F5-DA96BAFA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E6B-CECF-4897-9556-AAF7D68D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727-DA3F-496B-A6C2-8FCD3566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BAE-D90E-4E30-A03E-346047D3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6F1-A345-43B3-A2C1-C060B695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E15-35C9-4E4E-8707-C3D05AA0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235-3AD0-4671-87C6-3220C90A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F6A-8AD6-4439-AA6A-090F9174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BCE-286A-49F4-AF81-54A851B2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9C4-B909-4548-B9D9-3C346CD8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BF22-06B4-4DB3-AF3E-A7BF12E7E5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.</a:t>
            </a:r>
            <a:fld id="{7D945F14-8D89-4D32-91C2-BD342A95B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of a Fourier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app_c09"/>
          <p:cNvPicPr/>
          <p:nvPr/>
        </p:nvPicPr>
        <p:blipFill>
          <a:blip r:embed="rId1"/>
          <a:stretch/>
        </p:blipFill>
        <p:spPr>
          <a:xfrm>
            <a:off x="1514520" y="1981080"/>
            <a:ext cx="611496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001_A_013_U Kyaw Naing.mp3" descr=""/>
          <p:cNvPicPr/>
          <p:nvPr/>
        </p:nvPicPr>
        <p:blipFill>
          <a:blip r:embed="rId2"/>
          <a:stretch/>
        </p:blipFill>
        <p:spPr>
          <a:xfrm>
            <a:off x="7885080" y="45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05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29:58Z</dcterms:created>
  <dc:creator>Administrator</dc:creator>
  <dc:description/>
  <dc:language>en-US</dc:language>
  <cp:lastModifiedBy>ds0929</cp:lastModifiedBy>
  <dcterms:modified xsi:type="dcterms:W3CDTF">2013-06-09T12:14:34Z</dcterms:modified>
  <cp:revision>4</cp:revision>
  <dc:subject/>
  <dc:title>PowerPoint Presentation</dc:title>
</cp:coreProperties>
</file>