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89F-A2FD-473E-BA67-9E83E2EA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173-68FE-41C5-948B-E606E47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A65-4209-45F1-B669-C00DB427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170-BA9D-4F85-B01C-57109DF8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EEC-3286-4358-A336-EBC6A73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66D-73E8-4A8A-B4DB-4103D44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EFE-3667-4A74-972C-8C4893E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D28-D4B2-4955-A1B1-E37C9B4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185-B544-4E20-BF79-F48F06F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737-E5FB-4775-8595-8195669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DB3-6464-4636-877D-AE997DC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A27-6F69-4F80-9491-7CA8F7A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734-0EAF-4005-83DA-1D121E8501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Modulation (P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92360" y="331164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dulating signal only changes the phase of the carrier sig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hase change manifests itself as a frequency change but the instantaneous frequency change is proportional to the derivative of the amplitu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andwidth is higher than for A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 Modulation (P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6_U Kyaw Naing.mp3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9:18Z</dcterms:created>
  <dc:creator>Administrator</dc:creator>
  <dc:description/>
  <dc:language>en-US</dc:language>
  <cp:lastModifiedBy>ds0929</cp:lastModifiedBy>
  <dcterms:modified xsi:type="dcterms:W3CDTF">2013-06-09T14:40:51Z</dcterms:modified>
  <cp:revision>3</cp:revision>
  <dc:subject/>
  <dc:title>Phase Modulation (PM)</dc:title>
</cp:coreProperties>
</file>