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288F-E6BC-45E3-A529-A4A7FA2A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E1A-F41E-4671-B095-878F89FA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9BBF-FDC1-4383-A8FF-615FA10C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0BCC-6F5B-4324-92F8-CE5F12F0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065-F8E7-420D-8FD2-8CD4A3F5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0E81-2063-4FDD-989A-41EAA5E4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F12-1B17-4651-9BE7-17A4CDF4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FCE-FE56-46F1-B227-B037D915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3D7E-273D-4E8E-9FFF-0DCA002F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287-8F71-4D9F-A4C6-4F2F098E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245-D12D-45F6-86F1-F6E30C06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C32-C922-48B8-8091-DB74E3CF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E537-225A-4756-8EFB-DE71F2B903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.</a:t>
            </a:r>
            <a:fld id="{45B5DEB2-729B-43EB-B7D3-72AC76A35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06440" y="762120"/>
            <a:ext cx="63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6.28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requency hopping spread spectrum (FHS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800280" y="1693800"/>
            <a:ext cx="7277040" cy="4402080"/>
          </a:xfrm>
          <a:prstGeom prst="rect">
            <a:avLst/>
          </a:prstGeom>
          <a:ln w="0">
            <a:noFill/>
          </a:ln>
        </p:spPr>
      </p:pic>
      <p:pic>
        <p:nvPicPr>
          <p:cNvPr id="49" name="001_A_023_U Kyaw Naing.mp3" descr=""/>
          <p:cNvPicPr/>
          <p:nvPr/>
        </p:nvPicPr>
        <p:blipFill>
          <a:blip r:embed="rId2"/>
          <a:stretch/>
        </p:blipFill>
        <p:spPr>
          <a:xfrm>
            <a:off x="8172360" y="479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540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.</a:t>
            </a:r>
            <a:fld id="{87188DBE-4E06-4668-B64B-B1A0AB843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58560" y="7621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6.3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484200" y="2490840"/>
            <a:ext cx="8126280" cy="2766960"/>
          </a:xfrm>
          <a:prstGeom prst="rect">
            <a:avLst/>
          </a:prstGeom>
          <a:ln w="0">
            <a:noFill/>
          </a:ln>
        </p:spPr>
      </p:pic>
      <p:pic>
        <p:nvPicPr>
          <p:cNvPr id="56" name="001_A_023_U Kyaw Naing.mp3" descr=""/>
          <p:cNvPicPr/>
          <p:nvPr/>
        </p:nvPicPr>
        <p:blipFill>
          <a:blip r:embed="rId2"/>
          <a:stretch/>
        </p:blipFill>
        <p:spPr>
          <a:xfrm>
            <a:off x="8172360" y="5157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5408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42:01Z</dcterms:created>
  <dc:creator>Administrator</dc:creator>
  <dc:description/>
  <dc:language>en-US</dc:language>
  <cp:lastModifiedBy>ds0929</cp:lastModifiedBy>
  <dcterms:modified xsi:type="dcterms:W3CDTF">2013-06-09T14:45:34Z</dcterms:modified>
  <cp:revision>4</cp:revision>
  <dc:subject/>
  <dc:title>PowerPoint Presentation</dc:title>
</cp:coreProperties>
</file>