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D9B-2140-40FC-BE0B-19049715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E5E-F5C1-4E73-BD36-7026BDE7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18E-1E2F-4759-A54B-18B235DB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CF5-341C-424A-A7A8-A39C021E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596-2653-46FD-B503-04730120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C6F-282C-472A-9BFF-F5E51D3F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646C-0446-4C81-BB22-7B5F4EB5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7CF-C147-4784-A9CD-E6024B65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A5F-BD43-4A56-9D04-3A9CBD55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6D0-FD29-4754-A896-A898FCF0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06C-4A90-43C8-9891-AC08B16D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118-1294-4E26-A1E9-13179DDC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1012-835F-44AE-9BEC-B467830038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4D27D15F-3F16-4B87-A598-E1B7556BE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94200" y="762120"/>
            <a:ext cx="46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5.4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mplementation of binary 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8255160" cy="2392200"/>
          </a:xfrm>
          <a:prstGeom prst="rect">
            <a:avLst/>
          </a:prstGeom>
          <a:ln w="0">
            <a:noFill/>
          </a:ln>
        </p:spPr>
      </p:pic>
      <p:pic>
        <p:nvPicPr>
          <p:cNvPr id="49" name="001_A_005_U Kyaw Naing.mp3" descr=""/>
          <p:cNvPicPr/>
          <p:nvPr/>
        </p:nvPicPr>
        <p:blipFill>
          <a:blip r:embed="rId2"/>
          <a:stretch/>
        </p:blipFill>
        <p:spPr>
          <a:xfrm>
            <a:off x="5076720" y="5445000"/>
            <a:ext cx="40968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84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57:46Z</dcterms:created>
  <dc:creator>Administrator</dc:creator>
  <dc:description/>
  <dc:language>en-US</dc:language>
  <cp:lastModifiedBy>ds0929</cp:lastModifiedBy>
  <dcterms:modified xsi:type="dcterms:W3CDTF">2013-06-09T14:35:26Z</dcterms:modified>
  <cp:revision>2</cp:revision>
  <dc:subject/>
  <dc:title>PowerPoint Presentation</dc:title>
</cp:coreProperties>
</file>