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244-A85D-46DD-9ADB-3EE64284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77E-EE8B-46E7-8D50-D69182A3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6BF-2D9E-4AF2-8431-8E00734E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E16-BD1F-43C5-9BA0-1DB2955E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27E-D0E4-4863-9AE6-B75E3F6A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CA7-1F0A-4445-BA87-0A593535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015-E546-4C60-A053-D759D3A5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768-2247-4415-942C-A535C598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A68-66FC-4418-840E-C40F6302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1B7-779E-4F9E-9137-4E175BD0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D53-74F5-4D9D-B5AC-70A5319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D70-5C58-4C8A-AC47-269743F7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57D2-38E1-4416-B8EE-A87977406F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.</a:t>
            </a:r>
            <a:fld id="{224C0365-B1DC-4A17-AFA5-F5E85C165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54960" y="45720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igure 5.1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gital-to-analog conver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152280" y="2127240"/>
            <a:ext cx="8885520" cy="259704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1_U Kyaw Naing.mp3" descr=""/>
          <p:cNvPicPr/>
          <p:nvPr/>
        </p:nvPicPr>
        <p:blipFill>
          <a:blip r:embed="rId2"/>
          <a:stretch/>
        </p:blipFill>
        <p:spPr>
          <a:xfrm>
            <a:off x="810108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595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55:02Z</dcterms:created>
  <dc:creator>Administrator</dc:creator>
  <dc:description/>
  <dc:language>en-US</dc:language>
  <cp:lastModifiedBy>ds0929</cp:lastModifiedBy>
  <dcterms:modified xsi:type="dcterms:W3CDTF">2013-06-09T14:33:13Z</dcterms:modified>
  <cp:revision>2</cp:revision>
  <dc:subject/>
  <dc:title>PowerPoint Presentation</dc:title>
</cp:coreProperties>
</file>