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4E8-8D2A-4831-A74C-EB0448F0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4D3-CB84-443D-ABCD-AC763384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03C-40BA-420A-AB64-7830734F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155-C929-4888-8CE2-FB0FD96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D2E-03D2-4D7E-ADE9-23F030B7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949-F36B-483B-8929-645B56B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771-239A-45DE-B059-ED63CBB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727-BB60-409D-9090-E14F422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72C-A93B-4AB5-9087-432F8706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FDC-BA70-41C8-854F-174C66D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E80-36FE-46E8-8ABA-F399752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610-1FD4-4B62-8443-7D58426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5B0-C937-475E-82F1-57242E397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90480" y="4762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lient/Server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54280" y="1056240"/>
            <a:ext cx="559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is referred to as client/server if (at leas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ne of the computers is used to "serv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computers referred to as "clients". Besides the compute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ypes of devices can be part of the network</a:t>
            </a:r>
            <a:r>
              <a:rPr b="0" lang="en-A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www.functionx.com/illustrations/network2.gif"/>
          <p:cNvPicPr/>
          <p:nvPr/>
        </p:nvPicPr>
        <p:blipFill>
          <a:blip r:embed="rId1"/>
          <a:stretch/>
        </p:blipFill>
        <p:spPr>
          <a:xfrm>
            <a:off x="2411280" y="2205000"/>
            <a:ext cx="4048200" cy="39528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759636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2:44Z</dcterms:created>
  <dc:creator>ukyawnaing</dc:creator>
  <dc:description/>
  <dc:language>en-US</dc:language>
  <cp:lastModifiedBy>ds0929</cp:lastModifiedBy>
  <dcterms:modified xsi:type="dcterms:W3CDTF">2013-06-09T08:24:10Z</dcterms:modified>
  <cp:revision>2</cp:revision>
  <dc:subject/>
  <dc:title>Slide 1</dc:title>
</cp:coreProperties>
</file>