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2423-2BE4-40B1-95C6-5BB4448C0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4E09-1270-4AB6-9159-15397DFDC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D085-115D-4952-A2C1-F20530E6A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E0DA-38C3-4B8C-93B9-10F187477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A546-4B01-44CA-84EF-DA9EB4E49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B314-28CB-453A-9AC3-F60F55346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3D7B-E2D4-4322-AD5F-18EBD939E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88EF-63D9-4744-B551-6BAB69345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48CE-CE4A-4EBC-8877-8B91AE150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7AFD-B447-4EF2-B5A8-CFFD3779C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9653-468B-4D63-A978-0C6880ECA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3E0B-566E-48C0-BEE9-0FFAD98D1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87017-08A4-430C-BC8D-0FE592B6948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43" name="Slide Number Placeholder 1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.</a:t>
            </a:r>
            <a:fld id="{80DE9B0E-0515-456A-8379-FAF4740C92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Line 2"/>
          <p:cNvSpPr/>
          <p:nvPr/>
        </p:nvSpPr>
        <p:spPr>
          <a:xfrm>
            <a:off x="152280" y="76320"/>
            <a:ext cx="876312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Line 3"/>
          <p:cNvSpPr/>
          <p:nvPr/>
        </p:nvSpPr>
        <p:spPr>
          <a:xfrm>
            <a:off x="152280" y="914400"/>
            <a:ext cx="876312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4"/>
          <p:cNvSpPr/>
          <p:nvPr/>
        </p:nvSpPr>
        <p:spPr>
          <a:xfrm>
            <a:off x="389880" y="304920"/>
            <a:ext cx="36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Calibri"/>
              </a:rPr>
              <a:t>Figure 2.15 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ummary of lay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Line 5"/>
          <p:cNvSpPr/>
          <p:nvPr/>
        </p:nvSpPr>
        <p:spPr>
          <a:xfrm>
            <a:off x="152280" y="6248520"/>
            <a:ext cx="876312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6" descr=""/>
          <p:cNvPicPr/>
          <p:nvPr/>
        </p:nvPicPr>
        <p:blipFill>
          <a:blip r:embed="rId1"/>
          <a:stretch/>
        </p:blipFill>
        <p:spPr>
          <a:xfrm>
            <a:off x="344520" y="1644480"/>
            <a:ext cx="8190000" cy="3765600"/>
          </a:xfrm>
          <a:prstGeom prst="rect">
            <a:avLst/>
          </a:prstGeom>
          <a:ln w="0">
            <a:noFill/>
          </a:ln>
        </p:spPr>
      </p:pic>
      <p:pic>
        <p:nvPicPr>
          <p:cNvPr id="49" name="001_A_009_U Kyaw Naing.mp3" descr=""/>
          <p:cNvPicPr/>
          <p:nvPr/>
        </p:nvPicPr>
        <p:blipFill>
          <a:blip r:embed="rId2"/>
          <a:stretch/>
        </p:blipFill>
        <p:spPr>
          <a:xfrm>
            <a:off x="4211640" y="587700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59776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3T03:19:28Z</dcterms:created>
  <dc:creator>Administrator</dc:creator>
  <dc:description/>
  <dc:language>en-US</dc:language>
  <cp:lastModifiedBy>ds0929</cp:lastModifiedBy>
  <dcterms:modified xsi:type="dcterms:W3CDTF">2013-06-09T12:04:49Z</dcterms:modified>
  <cp:revision>4</cp:revision>
  <dc:subject/>
  <dc:title>PowerPoint Presentation</dc:title>
</cp:coreProperties>
</file>