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725-C619-4FBC-8BA0-352BF69E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B45-1678-4713-83C2-C9FED13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A4A-7449-488F-BCE2-D690D374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168-388A-4201-9706-F61BF280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1DE-4780-4C47-9DC4-712103A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8CA-2B21-416D-BFF6-3A9D382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5E7-87E3-47E6-90FE-F4261569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22A-0506-4F56-9882-3B0C9F7E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A86-C3DE-4FCA-B26F-0948CB46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69E-0283-4E94-AF94-1AEFDFD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750-D4B9-42CF-B43D-4360801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3FF-C794-42A8-A27E-C5EB70E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E56-96E0-4719-ADB3-A45BE7A9D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unctionx.com/networking/Lesson01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33160" y="747000"/>
            <a:ext cx="607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1"/>
              </a:rPr>
              <a:t>computer network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n be two computers conne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http://www.functionx.com/illustrations/connect2pc1.gif"/>
          <p:cNvPicPr/>
          <p:nvPr/>
        </p:nvPicPr>
        <p:blipFill>
          <a:blip r:embed="rId2"/>
          <a:stretch/>
        </p:blipFill>
        <p:spPr>
          <a:xfrm>
            <a:off x="1979640" y="1341360"/>
            <a:ext cx="376236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545480" y="2567160"/>
            <a:ext cx="63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can also consist of, and is usually made f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than two compu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functionx.com/illustrations/network1.gif"/>
          <p:cNvPicPr/>
          <p:nvPr/>
        </p:nvPicPr>
        <p:blipFill>
          <a:blip r:embed="rId3"/>
          <a:stretch/>
        </p:blipFill>
        <p:spPr>
          <a:xfrm>
            <a:off x="2411280" y="3429000"/>
            <a:ext cx="302436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001_A_001_U Kyaw Naing.mp3" descr=""/>
          <p:cNvPicPr/>
          <p:nvPr/>
        </p:nvPicPr>
        <p:blipFill>
          <a:blip r:embed="rId4"/>
          <a:stretch/>
        </p:blipFill>
        <p:spPr>
          <a:xfrm>
            <a:off x="781200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3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26:38Z</dcterms:created>
  <dc:creator>ukyawnaing</dc:creator>
  <dc:description/>
  <dc:language>en-US</dc:language>
  <cp:lastModifiedBy>ds0929</cp:lastModifiedBy>
  <dcterms:modified xsi:type="dcterms:W3CDTF">2013-06-09T08:23:24Z</dcterms:modified>
  <cp:revision>2</cp:revision>
  <dc:subject/>
  <dc:title>Slide 1</dc:title>
</cp:coreProperties>
</file>