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E1D-0C26-40BD-9978-13D87169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E09-2542-46A5-863F-485E2D8E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238-B596-4D56-A710-0CBACE16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00B-4811-4DEC-B564-9293B524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07D-1662-4F21-BC04-4571E4EE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258-E884-4875-9238-DE57083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D07-BB8D-4C21-9138-2E8CE6C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659-74D5-4850-86D1-EDFCE04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BA1-949B-4462-9BFE-7A86352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02F-9FE2-49A2-B904-9419191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9EF-AFE2-445C-8435-B8AA883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7DF-1D67-4521-BA98-F86321AB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2C5-9346-497F-8733-34B9878FBF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cessary Hardware and Softwar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Server Machin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Lesson 1, we saw that a server was another computer that can participate in a client/server network, as opposed to a peer-to-peer network. A server is used to hold resources and items that other computers would need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network4"/>
          <p:cNvPicPr/>
          <p:nvPr/>
        </p:nvPicPr>
        <p:blipFill>
          <a:blip r:embed="rId1"/>
          <a:stretch/>
        </p:blipFill>
        <p:spPr>
          <a:xfrm>
            <a:off x="900000" y="2205000"/>
            <a:ext cx="5759640" cy="441648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766764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15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A processor with 133-MHz or higher speed; 550-MHz recommended; up to eight processors supported on one server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CD-ROM or DVD-ROM drive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If necessary, you can purchase additional items to meet these requirements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7:48Z</dcterms:created>
  <dc:creator>ukyawnaing</dc:creator>
  <dc:description/>
  <dc:language>en-US</dc:language>
  <cp:lastModifiedBy>ds0929</cp:lastModifiedBy>
  <dcterms:modified xsi:type="dcterms:W3CDTF">2013-06-09T08:28:21Z</dcterms:modified>
  <cp:revision>2</cp:revision>
  <dc:subject/>
  <dc:title>Necessary Hardware and Software    Server Machines In Lesson 1, we saw that a server was another computer that can participate in a client/server network, as opposed to a peer-to-peer network. A server is used to hold resources and items that other computers would need: </dc:title>
</cp:coreProperties>
</file>