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1C9F-E14C-4559-B315-A9519ACF2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5E6C-8CCA-41E7-B376-0879541A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3BD2-2096-4F71-B2A9-F62C8E53A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28FC-A294-451D-BBFF-A8259433F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B869-4EFA-4320-9398-1B212951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5097-B862-4C4D-91E3-FC4EA2F5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CDC6-BC84-440C-8B82-8F52F5C8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4295-E962-4B5D-9182-91EEAD25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C15E-087F-4578-9B76-33854AFA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821A-7259-4C5D-98DC-79DF43A9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599A-3204-4435-ABAC-59AFE031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6A7A-3DF7-4A89-B328-BA6AC453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39C8-2881-423B-91E4-4F021959FD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Slide Number Placeholder 1"/>
          <p:cNvSpPr/>
          <p:nvPr/>
        </p:nvSpPr>
        <p:spPr>
          <a:xfrm>
            <a:off x="-7632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0.</a:t>
            </a:r>
            <a:fld id="{F030D2D8-484E-4ACA-AE5B-6FEABFF70C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2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3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80880" y="762120"/>
            <a:ext cx="55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Figure 10.3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structure of encoder and deco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130320" y="1943280"/>
            <a:ext cx="8785080" cy="3543120"/>
          </a:xfrm>
          <a:prstGeom prst="rect">
            <a:avLst/>
          </a:prstGeom>
          <a:ln w="0">
            <a:noFill/>
          </a:ln>
        </p:spPr>
      </p:pic>
      <p:pic>
        <p:nvPicPr>
          <p:cNvPr id="49" name="001_A_030_U Kyaw Naing.mp3" descr=""/>
          <p:cNvPicPr/>
          <p:nvPr/>
        </p:nvPicPr>
        <p:blipFill>
          <a:blip r:embed="rId2"/>
          <a:stretch/>
        </p:blipFill>
        <p:spPr>
          <a:xfrm>
            <a:off x="5651640" y="6381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41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4:55:51Z</dcterms:created>
  <dc:creator>Administrator</dc:creator>
  <dc:description/>
  <dc:language>en-US</dc:language>
  <cp:lastModifiedBy>ds0929</cp:lastModifiedBy>
  <dcterms:modified xsi:type="dcterms:W3CDTF">2013-06-09T14:49:57Z</dcterms:modified>
  <cp:revision>3</cp:revision>
  <dc:subject/>
  <dc:title>PowerPoint Presentation</dc:title>
</cp:coreProperties>
</file>