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0299-5136-4C80-821A-7CA8B38D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A7B5-5819-4305-A91A-B1846D20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52DB-4748-4547-B974-7212AC55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389D-E816-429C-89C6-699DCFBF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9BA8-26FA-4BFE-88D1-918FC2A1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DD7F-F117-4362-97CD-B53385B4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B65A-FA95-484E-9697-AA9C5285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7B7E-7F9E-4C26-BDCB-84A9D0A8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7BFC-BE6A-44E8-93C4-B52BEDA2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9FA9-CB99-4204-940A-8A3AEC2B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F216-A59E-4ED5-AA19-CE61A992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3178-CABF-4C7D-B7E6-39520E9E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6F6C-5C3D-4CC7-88CD-1BB3A50EB9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901440" y="40464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Peer-to-Peer 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28480" y="795600"/>
            <a:ext cx="710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Based on their layout (not the physical but the imagined layou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lso referred to as topology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here are two types of networks. A network is referred to as peer-to-p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f most computers are similar and run workstation operating system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http://www.functionx.com/illustrations/network1.gif"/>
          <p:cNvPicPr/>
          <p:nvPr/>
        </p:nvPicPr>
        <p:blipFill>
          <a:blip r:embed="rId1"/>
          <a:stretch/>
        </p:blipFill>
        <p:spPr>
          <a:xfrm>
            <a:off x="2195640" y="2133720"/>
            <a:ext cx="3943080" cy="386712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2_U Kyaw Naing.mp3" descr=""/>
          <p:cNvPicPr/>
          <p:nvPr/>
        </p:nvPicPr>
        <p:blipFill>
          <a:blip r:embed="rId2"/>
          <a:stretch/>
        </p:blipFill>
        <p:spPr>
          <a:xfrm>
            <a:off x="7380360" y="3789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529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30:16Z</dcterms:created>
  <dc:creator>ukyawnaing</dc:creator>
  <dc:description/>
  <dc:language>en-US</dc:language>
  <cp:lastModifiedBy>ds0929</cp:lastModifiedBy>
  <dcterms:modified xsi:type="dcterms:W3CDTF">2013-06-09T08:23:48Z</dcterms:modified>
  <cp:revision>2</cp:revision>
  <dc:subject/>
  <dc:title>Slide 1</dc:title>
</cp:coreProperties>
</file>