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DCF-D7B6-42B6-B13A-1855B56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056-063A-470E-B903-7EF462B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70F-845A-4330-8671-A8C40AF7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BF9-6DEF-4702-9100-7645E599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6D-CC17-4E4C-8FD8-990AE7C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075-5027-416C-A69E-80945D9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EB1-AB50-49BC-BE28-35AD601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19B-CB88-4E39-B565-53208D21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830-BDAD-486F-9C71-FD843E3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E00-BF90-4B88-9C69-3DB19AF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00F-49C2-4E81-923F-A8BF053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1AD-546D-4F63-B2D3-6EFF618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843A-B0FA-4080-AC1E-B780EE6AE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F949D4C1-60C0-45CF-8BC7-93C159EB3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plitude Mod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 carrier signal is modulated only in amplitud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modulating signal is the envelope of the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required bandwidth is 2B, where B is the bandwidth of the modulating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ince on both sides of the carrier freq. f</a:t>
            </a:r>
            <a:r>
              <a:rPr b="0" lang="en-US" sz="2800" spc="-1" strike="noStrike" baseline="-25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, the spectrum is identical, we can discard one half, thus requiring a smaller bandwidth for trans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3_U Kyaw Naing.mp3" descr=""/>
          <p:cNvPicPr/>
          <p:nvPr/>
        </p:nvPicPr>
        <p:blipFill>
          <a:blip r:embed="rId1"/>
          <a:stretch/>
        </p:blipFill>
        <p:spPr>
          <a:xfrm>
            <a:off x="795672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6:09Z</dcterms:created>
  <dc:creator>Administrator</dc:creator>
  <dc:description/>
  <dc:language>en-US</dc:language>
  <cp:lastModifiedBy>ds0929</cp:lastModifiedBy>
  <dcterms:modified xsi:type="dcterms:W3CDTF">2013-06-09T14:39:22Z</dcterms:modified>
  <cp:revision>3</cp:revision>
  <dc:subject/>
  <dc:title>PowerPoint Presentation</dc:title>
</cp:coreProperties>
</file>