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98E-C031-4919-ADA0-635E9855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314-1CD8-4820-B25E-8A123961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A04-BF54-43E7-9ED9-DDE6BB20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24F-A59B-4D1A-8290-8441D561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C16-6A9D-4700-ACA0-743FCB04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7E4-4D53-4245-B24E-5B39D78D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80F-612D-493B-A3AC-A64FB23F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36F-9111-46D1-91C4-5B2D9558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BFD-C8AA-4546-8A59-799094AA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C70-80E9-425A-A976-1257F4AC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B93-B959-4C86-AE18-E4F80719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794-2676-4B04-A8B3-A5D1ADE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E2E4-F1E4-430D-89AB-04E0662C97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345B28C3-2D92-449A-AACE-0DFB5BBFE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77640" y="762120"/>
            <a:ext cx="40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16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69920" y="1763640"/>
            <a:ext cx="8821800" cy="3951360"/>
          </a:xfrm>
          <a:prstGeom prst="rect">
            <a:avLst/>
          </a:prstGeom>
          <a:ln w="0">
            <a:noFill/>
          </a:ln>
        </p:spPr>
      </p:pic>
      <p:pic>
        <p:nvPicPr>
          <p:cNvPr id="49" name="001_A_014_U Kyaw Naing.mp3" descr=""/>
          <p:cNvPicPr/>
          <p:nvPr/>
        </p:nvPicPr>
        <p:blipFill>
          <a:blip r:embed="rId2"/>
          <a:stretch/>
        </p:blipFill>
        <p:spPr>
          <a:xfrm>
            <a:off x="65167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08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07:06Z</dcterms:created>
  <dc:creator>Administrator</dc:creator>
  <dc:description/>
  <dc:language>en-US</dc:language>
  <cp:lastModifiedBy>ds0929</cp:lastModifiedBy>
  <dcterms:modified xsi:type="dcterms:W3CDTF">2013-06-09T14:39:47Z</dcterms:modified>
  <cp:revision>2</cp:revision>
  <dc:subject/>
  <dc:title>PowerPoint Presentation</dc:title>
</cp:coreProperties>
</file>