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5D9-A795-4456-A245-77315871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7F07-5C80-47BC-A42B-7C1939E7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A8B-9354-4125-A899-1DF47526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0B2-234D-4E68-9EDD-0A965FA8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043-D589-4F99-9013-276A9879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A62-0C59-43C5-A75E-5D68F936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7F3-7DB1-44DE-B470-07E6B159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67D-C967-4E54-B0E4-555B96AA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473-02D5-4FD4-895C-27A8D91C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C67-D0DF-4C60-B3DD-8B73CD86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020-3960-4F82-B77C-6559E711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AA33-0A71-47C5-86EC-48A69BF7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B718-379E-43B6-8A3D-0B48A97F6C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.</a:t>
            </a:r>
            <a:fld id="{17D075A7-F588-4692-A143-49ACEEFE9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43160" y="457200"/>
            <a:ext cx="51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Figure 3.31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lling the link with bits for case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825480" y="2070000"/>
            <a:ext cx="7404120" cy="3416400"/>
          </a:xfrm>
          <a:prstGeom prst="rect">
            <a:avLst/>
          </a:prstGeom>
          <a:ln w="0">
            <a:noFill/>
          </a:ln>
        </p:spPr>
      </p:pic>
      <p:pic>
        <p:nvPicPr>
          <p:cNvPr id="49" name="001_A_019_U Kyaw Naing.mp3" descr=""/>
          <p:cNvPicPr/>
          <p:nvPr/>
        </p:nvPicPr>
        <p:blipFill>
          <a:blip r:embed="rId2"/>
          <a:stretch/>
        </p:blipFill>
        <p:spPr>
          <a:xfrm>
            <a:off x="838836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884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39:51Z</dcterms:created>
  <dc:creator>Administrator</dc:creator>
  <dc:description/>
  <dc:language>en-US</dc:language>
  <cp:lastModifiedBy>ds0929</cp:lastModifiedBy>
  <dcterms:modified xsi:type="dcterms:W3CDTF">2013-06-09T12:16:54Z</dcterms:modified>
  <cp:revision>4</cp:revision>
  <dc:subject/>
  <dc:title>PowerPoint Presentation</dc:title>
</cp:coreProperties>
</file>