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59A-CE49-4557-92FF-F4547B15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AB8-6905-49F2-B196-360FFD2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2DB-6843-4D27-81CA-7AC66DBE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A35-736F-40D2-B67E-D0A270BD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488-40C9-403C-8F7B-827771B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D0E-A264-4AC1-91F5-0E2F719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AA0-1D1B-4F29-9283-0B63CF1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017-A038-4EE2-92C2-D93F8F4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9B8-79E2-4E3F-B048-220BAD01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06A-0E7E-4665-BFE3-ED6FE45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0B5-7FB9-44E5-AABC-51A9AB07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814-FC66-4384-92E9-F0F8553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788-A5D1-440C-8ABE-0BCE19FFA7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.</a:t>
            </a:r>
            <a:fld id="{0023ACD6-A673-4CED-84B9-4636F797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Examples of Signals and the Fourier Series Representation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app_c06"/>
          <p:cNvPicPr/>
          <p:nvPr/>
        </p:nvPicPr>
        <p:blipFill>
          <a:blip r:embed="rId1"/>
          <a:stretch/>
        </p:blipFill>
        <p:spPr>
          <a:xfrm>
            <a:off x="1981080" y="1828800"/>
            <a:ext cx="444996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001_A_011_U Kyaw Naing.mp3" descr=""/>
          <p:cNvPicPr/>
          <p:nvPr/>
        </p:nvPicPr>
        <p:blipFill>
          <a:blip r:embed="rId2"/>
          <a:stretch/>
        </p:blipFill>
        <p:spPr>
          <a:xfrm>
            <a:off x="788508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22:52Z</dcterms:created>
  <dc:creator>Administrator</dc:creator>
  <dc:description/>
  <dc:language>en-US</dc:language>
  <cp:lastModifiedBy>ds0929</cp:lastModifiedBy>
  <dcterms:modified xsi:type="dcterms:W3CDTF">2013-06-09T12:05:52Z</dcterms:modified>
  <cp:revision>4</cp:revision>
  <dc:subject/>
  <dc:title>PowerPoint Presentation</dc:title>
</cp:coreProperties>
</file>