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B84-ED2D-4B97-81E9-8CE0B64F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3BA-754D-4BAF-8EE7-5AD744B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D1B-9CD7-4554-94AB-48CF4A8B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1F5-F644-474D-BF8E-9542BBEA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969-3BE2-4DBE-B310-97FCA2AD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7E2-4D45-4617-B898-B6251A9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A37-B352-4EA7-B300-FA287B2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96B-EF18-4596-87A9-C5A8D9C6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E42-E738-4055-B9DB-7DAB7B1F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EEF-F5E3-4937-85C8-7A2F3C0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A43-63ED-45A8-B01F-D7707C9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FD6-7E27-4C08-B620-895AAC8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B7B6-BD74-4246-831A-3718EB5E6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4360" y="126828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rewall is a security measure that consists of protecting your network from intruders. This is primarily important if you plan to connect your network to the Internet. There are two types of firewalls: hardware and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Installing Window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b0f0"/>
                </a:solidFill>
                <a:latin typeface="Calibri"/>
              </a:rPr>
              <a:t>http://highlightcomputergroup3.zoomshar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roduction to computer network 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age 37 to 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9_U Kyaw Naing.mp3" descr=""/>
          <p:cNvPicPr/>
          <p:nvPr/>
        </p:nvPicPr>
        <p:blipFill>
          <a:blip r:embed="rId1"/>
          <a:stretch/>
        </p:blipFill>
        <p:spPr>
          <a:xfrm>
            <a:off x="665964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5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51:38Z</dcterms:created>
  <dc:creator>ukyawnaing</dc:creator>
  <dc:description/>
  <dc:language>en-US</dc:language>
  <cp:lastModifiedBy>ds0929</cp:lastModifiedBy>
  <dcterms:modified xsi:type="dcterms:W3CDTF">2013-06-09T08:26:23Z</dcterms:modified>
  <cp:revision>2</cp:revision>
  <dc:subject/>
  <dc:title>Slide 1</dc:title>
</cp:coreProperties>
</file>