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D4C-B813-4D2D-9070-F0FF9BDA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059-D4F4-4098-BDF5-71B433E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9B9-7DA5-4818-84A7-D99DF77C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B97-E881-49A0-A09A-5766F32E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18A-BCB8-4192-88F7-8275C11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99C-63E0-4F3B-B8D7-D6BBF84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0D2-6A79-4DAE-A5D8-49FEDA56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E9B-C530-4D90-AADD-F9EF93C0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3A8-C986-499B-9553-2E8CB37F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B83-AE6B-447E-ABE9-7CABE4BF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7DC-2D8B-49AC-8F8C-F610E61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008-D053-4C5E-896D-A621BC6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63E9-A80B-4EBC-93D3-410D0DC91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</a:t>
            </a:r>
            <a:fld id="{C5983E58-E7C8-46A5-9F81-6B594934A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2800" y="38088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2.4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exchange using the OSI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554040" y="1200240"/>
            <a:ext cx="7523280" cy="48196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7_U Kyaw Naing.mp3" descr=""/>
          <p:cNvPicPr/>
          <p:nvPr/>
        </p:nvPicPr>
        <p:blipFill>
          <a:blip r:embed="rId2"/>
          <a:stretch/>
        </p:blipFill>
        <p:spPr>
          <a:xfrm>
            <a:off x="802800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1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7:27Z</dcterms:created>
  <dc:creator>Administrator</dc:creator>
  <dc:description/>
  <dc:language>en-US</dc:language>
  <cp:lastModifiedBy>ds0929</cp:lastModifiedBy>
  <dcterms:modified xsi:type="dcterms:W3CDTF">2013-06-09T12:03:19Z</dcterms:modified>
  <cp:revision>4</cp:revision>
  <dc:subject/>
  <dc:title>PowerPoint Presentation</dc:title>
</cp:coreProperties>
</file>