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7AF-4853-4790-9D91-1459B8ED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429-E19B-46B0-9746-CD27FCE7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F17-0CCC-4604-B373-6581005E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86D-71F5-4F0D-A5DD-BC416CB2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0C8-B214-41C2-BB4A-756E1C9C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81A-03B3-40DB-A333-3AA3F705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048-79B3-44B3-9071-3D8B360F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E63-4531-43E5-B671-EEAF74B8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271-E5FC-4682-A37A-BE845303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178-CB39-47CE-9A5B-98E7589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266-FC63-4684-8878-66795153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749-1012-4E11-B460-FECDFA79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5C23-63C4-4453-8451-E47FCD58CB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E9D818D1-140E-476F-B19F-160B21693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Shift Keye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 vary the phase shift of the carrier signal to represent digital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bandwidth requirement, B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 = (1+d)x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SK is much more robust than ASK as it is not that vulnerable to noise, which changes amplitude of the sig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09_U Kyaw Naing.mp3" descr=""/>
          <p:cNvPicPr/>
          <p:nvPr/>
        </p:nvPicPr>
        <p:blipFill>
          <a:blip r:embed="rId1"/>
          <a:stretch/>
        </p:blipFill>
        <p:spPr>
          <a:xfrm>
            <a:off x="810108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2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01:05Z</dcterms:created>
  <dc:creator>Administrator</dc:creator>
  <dc:description/>
  <dc:language>en-US</dc:language>
  <cp:lastModifiedBy>ds0929</cp:lastModifiedBy>
  <dcterms:modified xsi:type="dcterms:W3CDTF">2013-06-09T14:36:56Z</dcterms:modified>
  <cp:revision>3</cp:revision>
  <dc:subject/>
  <dc:title>PowerPoint Presentation</dc:title>
</cp:coreProperties>
</file>