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264-8678-4707-BD7D-3216E0DB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3E9-BB55-4700-B53D-B80076E9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687-9D2A-4A6C-92B2-EB2F55A7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067-313F-4B37-8707-C6CC2697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34F-40CB-46BF-B862-1634B48E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9F0-5ABE-4A79-B7C1-3782C69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776-6ECE-47E5-9B73-BABB8342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E0A-00C0-4312-808C-3A3AD07B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BA5-5FDE-4385-A4E9-9DE1105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341-A02A-4E6A-AABF-B6DE6F23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76B-9AE4-43DA-B243-6F2AA14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B1A-E2EF-4209-868D-D39A68D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1FC-CB2C-4AAC-A96D-632A56ADB1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1F8F2845-F825-43CA-AED8-65BD55B56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8080" y="762120"/>
            <a:ext cx="45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3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nary amplitude shift ke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33200" y="2754360"/>
            <a:ext cx="8629920" cy="235116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4_U Kyaw Naing.mp3" descr=""/>
          <p:cNvPicPr/>
          <p:nvPr/>
        </p:nvPicPr>
        <p:blipFill>
          <a:blip r:embed="rId2"/>
          <a:stretch/>
        </p:blipFill>
        <p:spPr>
          <a:xfrm>
            <a:off x="70930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2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7:19Z</dcterms:created>
  <dc:creator>Administrator</dc:creator>
  <dc:description/>
  <dc:language>en-US</dc:language>
  <cp:lastModifiedBy>ds0929</cp:lastModifiedBy>
  <dcterms:modified xsi:type="dcterms:W3CDTF">2013-06-09T14:34:39Z</dcterms:modified>
  <cp:revision>2</cp:revision>
  <dc:subject/>
  <dc:title>PowerPoint Presentation</dc:title>
</cp:coreProperties>
</file>