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6C9-6199-4933-8172-E28E4D74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376-50B3-4B21-B9A0-2B16022C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0D8-F5EB-4A41-ADB0-C166DD98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105-5FC8-4D9A-BE10-6FD8F4A3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AEB-9FA2-4797-9B45-4FFE8562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0C2-8178-4E93-9B4E-2CEDA78B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FD9-B021-4FA3-B793-6AECE1AE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FCB-3AC5-43D8-B568-D27474B5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C9E-53BA-4B1D-A3CE-EDEAB9AD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E7D-E21B-432D-87E8-2D30127E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439-CEBE-4651-85A3-4AC0413F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C23-AD33-443E-8B75-454CE382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8FF3-A9EF-4DAC-882F-187700B7B1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.</a:t>
            </a:r>
            <a:fld id="{B8E97301-82F2-4F91-B8FC-A4D59067C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71880" y="76212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6.2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tegories of multiplex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368280" y="2390760"/>
            <a:ext cx="8318520" cy="2409840"/>
          </a:xfrm>
          <a:prstGeom prst="rect">
            <a:avLst/>
          </a:prstGeom>
          <a:ln w="0">
            <a:noFill/>
          </a:ln>
        </p:spPr>
      </p:pic>
      <p:pic>
        <p:nvPicPr>
          <p:cNvPr id="49" name="001_A_018_U Kyaw Naing.mp3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956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.</a:t>
            </a:r>
            <a:fld id="{F88C77AB-9869-487E-805D-73C8CA0AF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04640" y="762120"/>
            <a:ext cx="56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6.3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requency-division multiplexing (FD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152280" y="2617920"/>
            <a:ext cx="8793360" cy="2259000"/>
          </a:xfrm>
          <a:prstGeom prst="rect">
            <a:avLst/>
          </a:prstGeom>
          <a:ln w="0">
            <a:noFill/>
          </a:ln>
        </p:spPr>
      </p:pic>
      <p:pic>
        <p:nvPicPr>
          <p:cNvPr id="56" name="001_A_018_U Kyaw Naing.mp3" descr=""/>
          <p:cNvPicPr/>
          <p:nvPr/>
        </p:nvPicPr>
        <p:blipFill>
          <a:blip r:embed="rId2"/>
          <a:stretch/>
        </p:blipFill>
        <p:spPr>
          <a:xfrm>
            <a:off x="752472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9568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11:39Z</dcterms:created>
  <dc:creator>Administrator</dc:creator>
  <dc:description/>
  <dc:language>en-US</dc:language>
  <cp:lastModifiedBy>ds0929</cp:lastModifiedBy>
  <dcterms:modified xsi:type="dcterms:W3CDTF">2013-06-09T14:41:57Z</dcterms:modified>
  <cp:revision>3</cp:revision>
  <dc:subject/>
  <dc:title>PowerPoint Presentation</dc:title>
</cp:coreProperties>
</file>