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1F5-2EEB-4E46-A757-A1DBCD5F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971-56DA-4DA4-82DA-454F0A6C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BB8-4239-4C52-9E45-4029C133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A0A-0EC3-4E13-99D0-00FC125E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05E-D593-4851-A614-7F4BB83F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CEC-D702-41BA-A70A-0E5B999B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01D-F735-4A16-82BF-96D66D6D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284-9DF3-4CCB-B425-8270AC1B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900-9941-43EA-B24B-5A0BF5C4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380-B9CB-4D14-9EAA-2253B537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6F3-49BF-4CB2-A2B7-2028D388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C47-AFE1-4FC8-93FA-93C4DDC2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FB82-CF12-43A7-A537-5A63E62EB3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7521E3CE-6ADE-47B7-8A72-EBAE3C3E7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drature PS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To increase the bit rate, we can code 2 or more bits onto one signal el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In QPSK, we parallelize the bit stream so that every two incoming bits are split up and PSK a carrier frequency. One carrier frequency is phase shifted 90</a:t>
            </a:r>
            <a:r>
              <a:rPr b="0" lang="en-US" sz="2800" spc="-1" strike="noStrike" baseline="30000">
                <a:solidFill>
                  <a:srgbClr val="898989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from the other - in quadra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The two PSKed signals are then added to produce one of 4 signal elements. L = 4 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6" name="Slide Number Placeholder 1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191C3A49-5D22-4524-AE3F-96F5D6138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2"/>
          <p:cNvSpPr/>
          <p:nvPr/>
        </p:nvSpPr>
        <p:spPr>
          <a:xfrm>
            <a:off x="152280" y="763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3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73680" y="304920"/>
            <a:ext cx="47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5.1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PSK and its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5"/>
          <p:cNvSpPr/>
          <p:nvPr/>
        </p:nvSpPr>
        <p:spPr>
          <a:xfrm>
            <a:off x="152280" y="632448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974880" y="1143000"/>
            <a:ext cx="72579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1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F448808B-063D-412D-BB8E-97D78676E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64320" y="762120"/>
            <a:ext cx="53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5.1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cept of a constellation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787400" y="1989000"/>
            <a:ext cx="56041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03:44Z</dcterms:created>
  <dc:creator>Administrator</dc:creator>
  <dc:description/>
  <dc:language>en-US</dc:language>
  <cp:lastModifiedBy>ds0929</cp:lastModifiedBy>
  <dcterms:modified xsi:type="dcterms:W3CDTF">2013-06-09T13:39:55Z</dcterms:modified>
  <cp:revision>3</cp:revision>
  <dc:subject/>
  <dc:title>PowerPoint Presentation</dc:title>
</cp:coreProperties>
</file>