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548-37F4-4750-82FE-ECCE881F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415-7A79-4EC0-B460-BAE4F9D5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FB7-60DF-446A-A20D-E3BBF1D6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E11-A7A4-4C2B-8BF4-74DE5E82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9A6-8093-4321-95DD-976EC5A4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68C-647B-4708-9475-E51CFF92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DD7-B80D-4F8A-B527-C8A02CC6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044-87AA-4FCD-BB29-E2992420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A98-84F5-4F82-B51D-703E27B1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35E-DF92-438E-9BE0-CAAE0877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AF5-7509-4DF1-83DD-5B276FB0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06D-4530-4EF1-AEF5-54E10E77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BECE-1F82-4F2B-87E5-DE1E9319D0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 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35280" y="4292640"/>
            <a:ext cx="55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ing a string of 1’s and 0’s (digital data) into a sequence of signals that denote the 1’s and 0’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xample a high voltage level (+V) could represent a “1” and a low voltage level (0 or -V) could represent a “0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1a_U Kyaw Naing.mp3" descr=""/>
          <p:cNvPicPr/>
          <p:nvPr/>
        </p:nvPicPr>
        <p:blipFill>
          <a:blip r:embed="rId1"/>
          <a:stretch/>
        </p:blipFill>
        <p:spPr>
          <a:xfrm>
            <a:off x="781200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84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44:48Z</dcterms:created>
  <dc:creator>Administrator</dc:creator>
  <dc:description/>
  <dc:language>en-US</dc:language>
  <cp:lastModifiedBy>ds0929</cp:lastModifiedBy>
  <dcterms:modified xsi:type="dcterms:W3CDTF">2013-06-09T12:25:00Z</dcterms:modified>
  <cp:revision>5</cp:revision>
  <dc:subject/>
  <dc:title>Line Coding</dc:title>
</cp:coreProperties>
</file>