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9DB-EE71-4E6B-B148-C5FCB32C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1D8-4627-413E-AA4D-C6F07702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6CD-8BA2-4ECA-8085-A7E220C4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239-0859-4956-83F1-6F16F0EA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CFA-24A0-48DB-9C21-625CDEC0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144-91F0-4D39-B5FA-CB8E12DD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86A-C093-470F-ADE2-0BC717A2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7FB-EE41-4425-B765-8AD50DED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493-2123-4C6A-9E17-3B50361D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BFD-0D3A-44AA-B263-B3AE97C0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384-133D-4421-B330-4EBB610F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3E1-770F-4E2A-BD2F-04B44416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9307-D548-4027-BFE2-46CC77AD3B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7960" y="62064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Wireless Network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wirelessnic1"/>
          <p:cNvPicPr/>
          <p:nvPr/>
        </p:nvPicPr>
        <p:blipFill>
          <a:blip r:embed="rId1"/>
          <a:stretch/>
        </p:blipFill>
        <p:spPr>
          <a:xfrm>
            <a:off x="1187280" y="1989000"/>
            <a:ext cx="3600720" cy="2602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wirelessnic2"/>
          <p:cNvPicPr/>
          <p:nvPr/>
        </p:nvPicPr>
        <p:blipFill>
          <a:blip r:embed="rId2"/>
          <a:stretch/>
        </p:blipFill>
        <p:spPr>
          <a:xfrm>
            <a:off x="5940360" y="2060640"/>
            <a:ext cx="2232000" cy="355284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8_U Kyaw Naing.mp3" descr=""/>
          <p:cNvPicPr/>
          <p:nvPr/>
        </p:nvPicPr>
        <p:blipFill>
          <a:blip r:embed="rId3"/>
          <a:stretch/>
        </p:blipFill>
        <p:spPr>
          <a:xfrm>
            <a:off x="4859280" y="566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6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48:53Z</dcterms:created>
  <dc:creator>ukyawnaing</dc:creator>
  <dc:description/>
  <dc:language>en-US</dc:language>
  <cp:lastModifiedBy>ds0929</cp:lastModifiedBy>
  <dcterms:modified xsi:type="dcterms:W3CDTF">2013-06-09T08:26:03Z</dcterms:modified>
  <cp:revision>2</cp:revision>
  <dc:subject/>
  <dc:title>Slide 1</dc:title>
</cp:coreProperties>
</file>