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AF1-F875-4356-9FE9-2ED8FBE0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1C1-B87A-4AAF-96D1-B0534FD6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B92-C8BF-4F73-85E3-57BDDAF6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915-82AC-47D4-9C3A-406EE06E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CD1-EF28-4CE1-B01A-3328863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245-6A71-4A7F-B3C8-47621E0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4BA-8B90-465B-80D8-C2229E97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966-27FF-4AD3-8677-D8CB666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F99-9951-4B98-B5AF-691A7F7D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049-EA78-46B5-AC41-2C917D3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901-2E04-4B1E-91E3-1E61E904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41E-0005-42C9-8D40-20E0717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C4B3-117E-4093-A488-9FD5E74314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49:17Z</dcterms:created>
  <dc:creator>ukyawnaing</dc:creator>
  <dc:description/>
  <dc:language>en-US</dc:language>
  <cp:lastModifiedBy>ukyawnaing</cp:lastModifiedBy>
  <dcterms:modified xsi:type="dcterms:W3CDTF">2013-03-26T02:49:35Z</dcterms:modified>
  <cp:revision>1</cp:revision>
  <dc:subject/>
  <dc:title>Slide 1</dc:title>
</cp:coreProperties>
</file>