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2F3-A12C-4E81-B91A-6C0DB370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E29-FCA7-43A9-86D4-F575C35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387-D08D-451D-B0A7-5B9253EE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27-57C3-4318-A5F8-A1CDE931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E1C-380C-4367-94EA-D72EF4A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BB7-1959-4EE4-88F1-301C3CF4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9C7-8357-43F8-B2FF-8F1D3DD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BF6-9196-4082-B9C2-3C17F91A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D11-CF52-4AED-8FA7-28416BCD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DA2-CAE1-4895-B937-BE668DB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3B4-437D-4FF2-8327-08B0F61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CB0-39B5-4D8B-AB2F-9659B4B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3384-0E45-4304-8074-EA235DA48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93600"/>
            <a:ext cx="57312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52:07Z</dcterms:created>
  <dc:creator>ukyawnaing</dc:creator>
  <dc:description/>
  <dc:language>en-US</dc:language>
  <cp:lastModifiedBy>ukyawnaing</cp:lastModifiedBy>
  <dcterms:modified xsi:type="dcterms:W3CDTF">2013-03-26T02:52:20Z</dcterms:modified>
  <cp:revision>1</cp:revision>
  <dc:subject/>
  <dc:title>Slide 1</dc:title>
</cp:coreProperties>
</file>