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3BB-8264-4EA0-B42E-6006F947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B0E-C302-48D7-BD0F-E2CFB45B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7A6-B549-4D2B-BB8C-C2F20239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C85-4C8B-4F43-825A-906BAFFA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185-D7B7-4189-872B-806399F5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BA8-6308-47E7-9BC6-45778E77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526-BE1A-488A-8162-564664D4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DE7-EBDD-48EB-BDA6-FDCC6389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318-2702-49B6-986E-24022A5A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864-1F92-4CBC-BF7A-1513881C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9DC-D767-4EDD-BAB1-288E438C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9DD-75F0-444D-AF54-5B250D86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01D8-ADEE-425C-AF13-59DF2CF1A5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706400" y="0"/>
            <a:ext cx="452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34:40Z</dcterms:created>
  <dc:creator>ukyawnaing</dc:creator>
  <dc:description/>
  <dc:language>en-US</dc:language>
  <cp:lastModifiedBy>ukyawnaing</cp:lastModifiedBy>
  <dcterms:modified xsi:type="dcterms:W3CDTF">2013-03-26T03:35:13Z</dcterms:modified>
  <cp:revision>1</cp:revision>
  <dc:subject/>
  <dc:title>Slide 1</dc:title>
</cp:coreProperties>
</file>