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706-813D-4764-A0D9-2EDC4698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BB7-5EA7-4ED1-93A7-F31F76A0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D42-1B2D-43BA-BCD0-8F23E615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F5F-1EBA-4278-A43C-45388B3B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0EF-A667-4A57-874F-51E9348D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A3A-E329-4A35-B81B-42F8B618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5CC-EABF-4366-9B18-5D2BE8A4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38A-A16A-42AC-8BF5-5C97E176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8C9-6365-4343-B3EB-B9D4ED0C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8BB-3CBF-428B-A90C-A10E6DC4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415-DBD7-40B4-8EF8-E05AB938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4F7-7ABE-4DF6-8228-F690BCE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7D26-8546-4608-8B86-913E0CB3F2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2:59:48Z</dcterms:created>
  <dc:creator>ukyawnaing</dc:creator>
  <dc:description/>
  <dc:language>en-US</dc:language>
  <cp:lastModifiedBy>ukyawnaing</cp:lastModifiedBy>
  <dcterms:modified xsi:type="dcterms:W3CDTF">2013-03-26T03:00:21Z</dcterms:modified>
  <cp:revision>1</cp:revision>
  <dc:subject/>
  <dc:title>Slide 1</dc:title>
</cp:coreProperties>
</file>