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CAD-CE12-424E-BC75-3C5E6EFD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9A6-E679-4A79-979A-5100F049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9E8-079F-49C4-AA39-6F471002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582-A344-4FA3-A2DF-C16B253D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C9E-451E-4DF7-9693-76EDD5E4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84A-3DF9-40B2-923D-F6817220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673-DD73-41F7-9192-A055281A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41F-3F6B-4E2A-80D6-A0B5DF9F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FE6-229F-40E4-9149-1AAA8471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B1D-288B-4ABF-B905-FD81F77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F2F-9486-4531-B196-3CDF048B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097-BA30-4A75-AD23-8232930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8D85-C6F0-4709-95AD-6313699582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26:21Z</dcterms:created>
  <dc:creator>ukyawnaing</dc:creator>
  <dc:description/>
  <dc:language>en-US</dc:language>
  <cp:lastModifiedBy>ukyawnaing</cp:lastModifiedBy>
  <dcterms:modified xsi:type="dcterms:W3CDTF">2013-03-26T03:26:53Z</dcterms:modified>
  <cp:revision>1</cp:revision>
  <dc:subject/>
  <dc:title>Slide 1</dc:title>
</cp:coreProperties>
</file>