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02C5-6833-4218-9385-CEB23966D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D5E7-E4BD-47DF-8B09-72CCBB43C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8732-53A6-40B2-B1BA-8F32E4FFA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0A94-D96B-420D-A10C-7490508F6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2C12-5E5B-4DA6-AF4C-9977B9CCA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58B2-6B69-455E-B31D-D3FB50719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438E-7BA9-4CDD-8E11-1A6E7F50A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6BED-F23A-41BA-9AC8-FC178B14C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9DB5-2318-45D7-8425-BEAC6A19E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501A-B9EB-480A-B28A-0D10A6D5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3015-2BBE-4AB9-A48B-B9E15B31A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E545-BBA9-4E1A-A8AC-97A1F8761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4C2E7-CCA9-4141-9523-F7247EA66D1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6T02:58:06Z</dcterms:created>
  <dc:creator>ukyawnaing</dc:creator>
  <dc:description/>
  <dc:language>en-US</dc:language>
  <cp:lastModifiedBy>ukyawnaing</cp:lastModifiedBy>
  <dcterms:modified xsi:type="dcterms:W3CDTF">2013-03-26T02:58:44Z</dcterms:modified>
  <cp:revision>1</cp:revision>
  <dc:subject/>
  <dc:title>Slide 1</dc:title>
</cp:coreProperties>
</file>