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159-63C0-4CA7-8A7C-5517AA2E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B42-2F35-46B7-AEEC-892EBB0B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861-4779-47BD-981D-20769DD1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392-1DF0-4635-AC42-04898EE7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B72-5AB6-4CA5-A3FC-2F6772E3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002-112A-40BD-8549-CBB5684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FDC-0075-42B4-A628-C4A9F8D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1DF-48C1-4FEA-9824-F1BB5BB9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51A-5DCF-4E46-BD54-10BB6D2D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7A0-FE7E-45EE-9F4B-FE51CE17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BE2-23C4-470C-8514-F5829BA2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C44-1EF8-44DB-9A2A-E9FBF0A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0BE6-4D08-4BA9-B797-97F39A349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7:15Z</dcterms:created>
  <dc:creator>ukyawnaing</dc:creator>
  <dc:description/>
  <dc:language>en-US</dc:language>
  <cp:lastModifiedBy>ukyawnaing</cp:lastModifiedBy>
  <dcterms:modified xsi:type="dcterms:W3CDTF">2013-03-26T03:37:31Z</dcterms:modified>
  <cp:revision>1</cp:revision>
  <dc:subject/>
  <dc:title>Slide 1</dc:title>
</cp:coreProperties>
</file>