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ED73-36C7-4215-9E67-4709D677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324-9DCA-4DC6-87CE-2A2006C9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77A-67E8-4809-97C4-22AA6EAA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237-1BA5-4321-9CCD-11361041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0E6-50AF-4871-B055-315B694A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0E49-F1B8-4622-A602-189C35CE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6E4-8F20-4CE3-9A6F-8706F2AD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C0E-71DA-46C1-BF76-60C8E132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A3E1-1F5C-4466-BE6A-0382B972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AC9-002C-4F58-8C88-C362CEB5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48C-7E88-4D15-9417-1335A3EC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810-BF90-4BEA-9FFD-C53D41C5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3BE8-800E-4FFC-95D5-70E6FB042D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706400" y="-285840"/>
            <a:ext cx="573120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2:55:36Z</dcterms:created>
  <dc:creator>ukyawnaing</dc:creator>
  <dc:description/>
  <dc:language>en-US</dc:language>
  <cp:lastModifiedBy>ukyawnaing</cp:lastModifiedBy>
  <dcterms:modified xsi:type="dcterms:W3CDTF">2013-03-26T02:55:52Z</dcterms:modified>
  <cp:revision>1</cp:revision>
  <dc:subject/>
  <dc:title>Slide 1</dc:title>
</cp:coreProperties>
</file>