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77E-BDF7-4C2C-AF60-902A425F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A82-0E7C-40A8-83C8-DD928B7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2B2-CC05-48D3-B4D0-EBB9A1F4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E2C-4846-4159-AC12-6361EB6A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A20-851B-4FCB-A3D1-8CCE84DA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6AB-8635-484C-A510-72E65D5A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56C-870E-4ABC-AAE3-A1A2DEA7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688-6384-490F-BCBB-249C7F67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CEA-EE53-4958-BAC8-42DA8C92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CA3-0D4A-47A4-9C05-DA2A608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6A1-C6B9-4C1A-8F3A-2F74FFB6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372-B05D-482A-B48A-9000F044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B2B9-7050-4509-865B-6F49EC141D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30:56Z</dcterms:created>
  <dc:creator>ukyawnaing</dc:creator>
  <dc:description/>
  <dc:language>en-US</dc:language>
  <cp:lastModifiedBy>ukyawnaing</cp:lastModifiedBy>
  <dcterms:modified xsi:type="dcterms:W3CDTF">2013-03-26T03:31:11Z</dcterms:modified>
  <cp:revision>1</cp:revision>
  <dc:subject/>
  <dc:title>Slide 1</dc:title>
</cp:coreProperties>
</file>