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6E6E-743E-4EDC-B3B3-7055D45D3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FAC8-3C7E-4947-95BB-3B429CED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4D24-8865-4A6F-A1A5-191B997B7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F2E4-8F2B-46D4-99BD-741319659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59F3-7175-45EB-B931-5D9E5982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7780-8DA7-42D5-A3D4-ACDCF6CA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DE12-452C-4A59-99E5-AA58F5D9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BA39-BD5B-4FBC-8907-F88B3A76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AAD9-6B1D-49EF-92BE-1A375FF3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CBBA-8A5A-4230-8B5B-AFAA089F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5885-5D3E-4BE2-B5B3-3028BFEF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FDB3-A01D-4D30-8BF2-0CC0AF1C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F3C0-607D-4CDC-A181-9AF5A1FE91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2:46:43Z</dcterms:created>
  <dc:creator>ukyawnaing</dc:creator>
  <dc:description/>
  <dc:language>en-US</dc:language>
  <cp:lastModifiedBy>ukyawnaing</cp:lastModifiedBy>
  <dcterms:modified xsi:type="dcterms:W3CDTF">2013-03-26T02:47:15Z</dcterms:modified>
  <cp:revision>1</cp:revision>
  <dc:subject/>
  <dc:title>Slide 1</dc:title>
</cp:coreProperties>
</file>