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13C-4F1E-4190-831C-07CA2CBF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18E-4239-42F1-B89D-6FED782B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D80-F258-4D18-B9C1-C6CB1BF2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D76-CA04-414C-A54A-BF38A456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DEB-BA85-4154-8DB4-8F876159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5E9-E356-4E73-8999-8FA2FD47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4D4-2956-4AAC-88D9-1E8459C2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2A4-A400-4083-8715-C597034A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6A7-63DF-4415-BE33-682735BA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451-2D9D-4D91-A840-0FB6EE3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7FC-0CCD-453F-B548-6F0928CB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6A1-7839-40B7-BA6D-CA797C3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75B9-3BB1-4145-86D2-754D43EA97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36:16Z</dcterms:created>
  <dc:creator>ukyawnaing</dc:creator>
  <dc:description/>
  <dc:language>en-US</dc:language>
  <cp:lastModifiedBy>ukyawnaing</cp:lastModifiedBy>
  <dcterms:modified xsi:type="dcterms:W3CDTF">2013-03-26T03:36:31Z</dcterms:modified>
  <cp:revision>1</cp:revision>
  <dc:subject/>
  <dc:title>Slide 1</dc:title>
</cp:coreProperties>
</file>