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DF7-3117-4152-AEEE-89879109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51B-0C6B-4FF1-A3FA-41E5774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88E-229F-47A3-901A-1733241F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687-FC96-4202-B136-FABA0602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24D-FE78-47B8-BAB9-3246429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256-F17E-41DA-A570-96159ED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84B-840A-4E9C-8EBA-6270BF5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BA6-B22A-4CEA-808E-9F56CC4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0FA-BD85-416B-9E90-55639589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01E-B7AD-435C-BA3E-CDC0E25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16F-C19C-4A0F-A53F-BFF78B3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BE7-7753-49CB-98F8-341F8F7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689-ACF2-4961-BA1A-881DECACFA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1:49Z</dcterms:created>
  <dc:creator>ukyawnaing</dc:creator>
  <dc:description/>
  <dc:language>en-US</dc:language>
  <cp:lastModifiedBy>ukyawnaing</cp:lastModifiedBy>
  <dcterms:modified xsi:type="dcterms:W3CDTF">2013-03-26T03:32:02Z</dcterms:modified>
  <cp:revision>1</cp:revision>
  <dc:subject/>
  <dc:title>Slide 1</dc:title>
</cp:coreProperties>
</file>