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633-4186-4FDC-8FF2-E3227132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AF2-9F0E-465F-A095-5859B68A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9FE-1F09-43D4-BA13-50BC6A93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1E7-B375-4D06-9272-F359AD86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5EE-D25C-4EB5-8470-7B9E7B3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3B2-1162-456B-9838-B2AA715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F56-64C0-471B-9528-8F1BAF1B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45F-242A-4523-9D79-69CF2F2A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D1C-5634-4439-BB99-97FDDDB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8BA-7179-4C2D-9B72-B2BBEC7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55C-08BE-428F-BC2A-C52AAB8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E1E-F0B9-43BD-84CB-EB0D654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929-90ED-4486-8C0B-AF0B97EF87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-450720"/>
            <a:ext cx="4953240" cy="73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20:58Z</dcterms:created>
  <dc:creator>ukyawnaing</dc:creator>
  <dc:description/>
  <dc:language>en-US</dc:language>
  <cp:lastModifiedBy>ukyawnaing</cp:lastModifiedBy>
  <dcterms:modified xsi:type="dcterms:W3CDTF">2013-03-26T03:21:33Z</dcterms:modified>
  <cp:revision>1</cp:revision>
  <dc:subject/>
  <dc:title>Slide 1</dc:title>
</cp:coreProperties>
</file>