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2AC-2D05-44A3-8466-F5087535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5AD-1A72-4F7A-9EBB-F9D6D6B4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302-55B7-41C4-A951-C70A49A5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175-2ABA-43AD-A527-DC09FEAE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6B0-1CE5-4F49-8298-44A403D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3F0-7852-4B04-BA78-F92D2A1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AD0-0A5F-4FE0-947A-3A3C5DF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1D9-8EA7-44F5-A73D-2C15D8FD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E3F-2693-47DF-87AD-395E06B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90E-AAA8-426B-9323-CD7E954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397-1653-42E8-B28A-78DA2BA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71D-B7C5-44E4-8770-2226083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EA4A-2EC5-4CA6-9C6A-7193101297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3:01:31Z</dcterms:created>
  <dc:creator>ukyawnaing</dc:creator>
  <dc:description/>
  <dc:language>en-US</dc:language>
  <cp:lastModifiedBy>ukyawnaing</cp:lastModifiedBy>
  <dcterms:modified xsi:type="dcterms:W3CDTF">2013-03-26T03:02:07Z</dcterms:modified>
  <cp:revision>1</cp:revision>
  <dc:subject/>
  <dc:title>Slide 1</dc:title>
</cp:coreProperties>
</file>