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C778-8836-4C7B-B32A-B8C31709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512-7E48-42E9-BE36-E1683C72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080-04CF-47E5-92EF-FE606BB2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62D9-B3F9-4065-90CB-4394718D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3DD-5510-4775-BDE1-E43F9753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537-4DE2-4331-987D-805CB456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D0B-D507-494D-822A-AFEB1CEA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D07-048F-45F5-8147-A85B4B8B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8AA-B55C-480D-8F4C-15D5D2ED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CB5-7E11-4BD1-AAF4-8E7FCDB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B86-7650-4939-ACA5-D8FCB0A5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234-A43B-43CB-8598-451D55E4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8111-23C1-4A44-AB35-0933A5E790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2:50:37Z</dcterms:created>
  <dc:creator>ukyawnaing</dc:creator>
  <dc:description/>
  <dc:language>en-US</dc:language>
  <cp:lastModifiedBy>ukyawnaing</cp:lastModifiedBy>
  <dcterms:modified xsi:type="dcterms:W3CDTF">2013-03-26T02:51:11Z</dcterms:modified>
  <cp:revision>1</cp:revision>
  <dc:subject/>
  <dc:title>Slide 1</dc:title>
</cp:coreProperties>
</file>