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B9F-2D4B-4AB0-A7A7-DFF5DDF0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45E-416F-4742-B2CC-DA77B03D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FDD-EA4F-4618-84F9-1CF25B6D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727-72F0-488F-BF21-BDC8CA21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564-1E52-4170-A940-984FE7B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C34-FC9C-4D92-8F73-91742B4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81D-4A55-4EB2-8625-8B6788A3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5B-0584-4350-BC93-745F9199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B17-1C3A-4B6F-AA5A-B21E17C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EEA-8F6D-40AB-965F-F77CD3F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A7-2AE7-4E9B-888F-9195084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67A-AE60-4626-83CA-BA78B61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6B7D-F904-4816-89A1-03B92E3AA0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13:40Z</dcterms:created>
  <dc:creator>ukyawnaing</dc:creator>
  <dc:description/>
  <dc:language>en-US</dc:language>
  <cp:lastModifiedBy>ukyawnaing</cp:lastModifiedBy>
  <dcterms:modified xsi:type="dcterms:W3CDTF">2013-03-26T03:14:03Z</dcterms:modified>
  <cp:revision>1</cp:revision>
  <dc:subject/>
  <dc:title>Slide 1</dc:title>
</cp:coreProperties>
</file>