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32C8-729B-4B45-8EB8-DD35B729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897E-F50E-4CA3-86F6-1267C829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5AEE-026C-44DE-8ADD-DB837A54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7C91-5EB1-4F7D-935F-C61EB908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5A85-BFAB-4660-AEC0-09F0F94C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25E2-E9F8-4BB5-B796-3CD8DC9C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53C7-5632-40C3-AA93-CA67CC2A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FEC7-3734-490F-B870-8E7B5EC4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C2E5-5228-4DF1-9D80-A6373F99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FEC7-B71F-4D52-8F61-78CF4FEA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AC4E-A35D-44D3-B159-C5366B32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7419-4FD7-4C45-86FF-4A6A8292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FE1B-E8B3-4562-8087-FB062CDA50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3:12:25Z</dcterms:created>
  <dc:creator>ukyawnaing</dc:creator>
  <dc:description/>
  <dc:language>en-US</dc:language>
  <cp:lastModifiedBy>ukyawnaing</cp:lastModifiedBy>
  <dcterms:modified xsi:type="dcterms:W3CDTF">2013-03-26T03:12:45Z</dcterms:modified>
  <cp:revision>1</cp:revision>
  <dc:subject/>
  <dc:title>Slide 1</dc:title>
</cp:coreProperties>
</file>