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5B571-AD40-417C-9A16-AA4B54784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CD8A3-C159-4DB8-98BE-EABCF5305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A4374-5DBC-467E-A701-75DA6D0E9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3B32F-4676-4B45-A3BA-2C791DFA1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7761D-6754-4EB0-8C01-54C3A71DA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1CEB6-3C53-4358-A643-4E2F61DB3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05BF2-D7DC-405D-87EA-E668758A2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D6565-6CF3-4623-9CF8-AE70EF4E7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32332-4453-48C4-B552-47B684DA7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F5C8E-B9EE-494F-9EA4-CD06085E4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16293-0EBB-44F7-AC0A-A59EA7180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EBD9E-DA66-4610-BE11-B39909143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5869E-BF41-48DD-AF69-6DEB7AC87FC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8642160" cy="66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6" name="Picture 3" descr=""/>
          <p:cNvPicPr/>
          <p:nvPr/>
        </p:nvPicPr>
        <p:blipFill>
          <a:blip r:embed="rId1"/>
          <a:stretch/>
        </p:blipFill>
        <p:spPr>
          <a:xfrm>
            <a:off x="539640" y="0"/>
            <a:ext cx="7704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26T02:43:42Z</dcterms:created>
  <dc:creator>ukyawnaing</dc:creator>
  <dc:description/>
  <dc:language>en-US</dc:language>
  <cp:lastModifiedBy>ukyawnaing</cp:lastModifiedBy>
  <dcterms:modified xsi:type="dcterms:W3CDTF">2013-03-26T02:45:48Z</dcterms:modified>
  <cp:revision>1</cp:revision>
  <dc:subject/>
  <dc:title>Slide 1</dc:title>
</cp:coreProperties>
</file>