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4F9-46F7-4443-B3A3-910EB6F7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DCB-A250-4F89-AFEF-E38C0796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937-D4C9-4E0C-B53A-81097A4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A11-BC33-4314-AE8F-08904BCA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63B-C531-4FBA-AC29-702E2B24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B64-2B23-4468-BB82-ABD39A2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C2A-810B-4D28-BA1C-5129FFD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FD1-C980-47DC-A712-72FE1A5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460-C8FA-4C0C-84DD-DB92BE7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1AB-CFB2-4CEF-AAD7-CCCE8776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AD9-59B4-45D0-ACDA-33073EB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4CA-68A6-462A-8619-A71E2BE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C3F-328C-4CA8-85C5-2EDF4E5C5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8:21Z</dcterms:created>
  <dc:creator>ukyawnaing</dc:creator>
  <dc:description/>
  <dc:language>en-US</dc:language>
  <cp:lastModifiedBy>ukyawnaing</cp:lastModifiedBy>
  <dcterms:modified xsi:type="dcterms:W3CDTF">2013-03-26T03:38:45Z</dcterms:modified>
  <cp:revision>1</cp:revision>
  <dc:subject/>
  <dc:title>Slide 1</dc:title>
</cp:coreProperties>
</file>