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B95-7318-4266-8989-4C9D8ABB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92B-CC64-45B0-8112-83635C2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EB8-70A7-48AD-AAB2-346D7020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FA4-A06E-4D43-917C-A7A6DA9A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91C-A47B-4993-B525-FA347492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FC0-DA33-4DD7-936F-D02403BC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56C-BB6D-4D29-9422-EBCB0C10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E28-2593-432A-A992-9940C743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D37-285B-45D7-B9C8-90C9893B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436-1D7A-444D-A64D-F927D0B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8C0-A2BF-46DB-9709-BFD3CCA9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EEF-6872-4A36-94E0-46907F1D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DF39-BC54-490C-9089-05EF3C6EF1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06400" y="127080"/>
            <a:ext cx="57312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15:12Z</dcterms:created>
  <dc:creator>ukyawnaing</dc:creator>
  <dc:description/>
  <dc:language>en-US</dc:language>
  <cp:lastModifiedBy>ukyawnaing</cp:lastModifiedBy>
  <dcterms:modified xsi:type="dcterms:W3CDTF">2013-03-26T03:15:25Z</dcterms:modified>
  <cp:revision>1</cp:revision>
  <dc:subject/>
  <dc:title>Slide 1</dc:title>
</cp:coreProperties>
</file>