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BFC-B863-47D7-8A10-8D5142FB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717-F0F3-466D-8C4A-7C713BDD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444-38E9-4DA7-A9FC-0162E26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B12-8139-4A45-A218-02A215FA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C3B-C9C7-492E-83EE-B32F10E7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C07-5C9D-4289-86EF-FCD8157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9C8-D9B2-4FFA-9A01-58FF79D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5D2-BE9A-41A9-B730-D78417CC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141-61E6-4E7F-8D26-9C19B8C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2B2-D764-4DED-8F12-7480F59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936-A8A8-4554-8BBF-91413F9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A25-842A-4BB9-9BCF-91DB303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A68-6F86-4D89-A930-49D812896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-507960"/>
            <a:ext cx="5169240" cy="73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2:48Z</dcterms:created>
  <dc:creator>ukyawnaing</dc:creator>
  <dc:description/>
  <dc:language>en-US</dc:language>
  <cp:lastModifiedBy>ukyawnaing</cp:lastModifiedBy>
  <dcterms:modified xsi:type="dcterms:W3CDTF">2013-03-26T03:33:28Z</dcterms:modified>
  <cp:revision>1</cp:revision>
  <dc:subject/>
  <dc:title>Slide 1</dc:title>
</cp:coreProperties>
</file>