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2702-CC91-49E6-8FE4-7D419A6F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3C40-C398-46DA-84BC-693E4FB0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53AE-1267-4ED9-B38E-38BD5C82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CBDC-6E51-4578-ACEB-028BBE75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BA47-EC2F-4904-9A15-F2483C03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969-1DBF-4A70-A254-7949FB0A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57B-DFD7-4EA4-B36B-9BBB2EF7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928-BFDD-4F3C-BE0A-DE8F75B7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5235-1526-43BA-B5B0-A575ED56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315-89C7-4351-BB18-3140D81D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144-3977-4D95-8CA5-FABFC801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B55-AEB7-429E-BFD2-FA2E1C93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E899-4B00-4128-AA26-6EC943E493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18" descr=""/>
          <p:cNvPicPr/>
          <p:nvPr/>
        </p:nvPicPr>
        <p:blipFill>
          <a:blip r:embed="rId1"/>
          <a:stretch/>
        </p:blipFill>
        <p:spPr>
          <a:xfrm>
            <a:off x="1908000" y="0"/>
            <a:ext cx="5734080" cy="4124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"/>
          <p:cNvPicPr/>
          <p:nvPr/>
        </p:nvPicPr>
        <p:blipFill>
          <a:blip r:embed="rId2"/>
          <a:stretch/>
        </p:blipFill>
        <p:spPr>
          <a:xfrm>
            <a:off x="1835280" y="4149720"/>
            <a:ext cx="6121440" cy="25923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45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3:29:33Z</dcterms:created>
  <dc:creator>ukyawnaing</dc:creator>
  <dc:description/>
  <dc:language>en-US</dc:language>
  <cp:lastModifiedBy>ukyawnaing</cp:lastModifiedBy>
  <dcterms:modified xsi:type="dcterms:W3CDTF">2013-03-26T03:30:07Z</dcterms:modified>
  <cp:revision>1</cp:revision>
  <dc:subject/>
  <dc:title>Slide 1</dc:title>
</cp:coreProperties>
</file>