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13E-2D8E-4118-80C4-7AB1A69A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349-A31D-45CD-A66B-A7859984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6C2-DE4C-49DD-B5AE-3C2DFC48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82B-05ED-4B06-8C63-7E8E668A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293-C3A2-4C7A-8CDE-FC5A882A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102-42B5-4F71-B36F-AA627DA5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3F9-67A5-4058-8342-824E134F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B5B-6E09-4F99-9A0B-7941FB15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FF6C-B242-4C2F-BE80-F8F1A7D0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C2F-F112-49E4-B53B-51E1397F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6503-E827-40F2-8F7C-4C4C4EEE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CED-2EF3-42AC-83ED-938208FE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E3CC-10D2-419F-AF49-BC6C2E3954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-171360"/>
            <a:ext cx="860436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3:23:05Z</dcterms:created>
  <dc:creator>ukyawnaing</dc:creator>
  <dc:description/>
  <dc:language>en-US</dc:language>
  <cp:lastModifiedBy>ukyawnaing</cp:lastModifiedBy>
  <dcterms:modified xsi:type="dcterms:W3CDTF">2013-03-26T03:23:26Z</dcterms:modified>
  <cp:revision>1</cp:revision>
  <dc:subject/>
  <dc:title>Slide 1</dc:title>
</cp:coreProperties>
</file>