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B18-04FB-4C6E-BC02-6CF45098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314-9A1A-4ED2-AC41-AD0C8732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E74-5EBF-4922-9C96-1C617CB6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3B0-6890-49A1-AE63-92582ABE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6EF-437D-4ABF-8DE5-B88FA391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4C2E-A321-433F-B331-F7DEED8D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BC8-FBF9-4DB4-9DCE-41AC5289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0AB-AFDD-41F5-A40F-499ADA84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4B7-8CC0-4EF0-AF77-D1183246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82A-F14A-476B-BAA2-398D1C40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EA3-3BF2-433D-AD08-4B0278A6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823-5652-4DCE-9C59-4005E2D8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A4F3-3248-454E-B65E-FB76A7C871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706400" y="55440"/>
            <a:ext cx="5731200" cy="674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24:15Z</dcterms:created>
  <dc:creator>ukyawnaing</dc:creator>
  <dc:description/>
  <dc:language>en-US</dc:language>
  <cp:lastModifiedBy>ukyawnaing</cp:lastModifiedBy>
  <dcterms:modified xsi:type="dcterms:W3CDTF">2013-03-26T03:24:27Z</dcterms:modified>
  <cp:revision>1</cp:revision>
  <dc:subject/>
  <dc:title>Slide 1</dc:title>
</cp:coreProperties>
</file>