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3B07-9640-4AAF-8634-58336C007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3E1A-8FAC-4F6A-9C78-82757534A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0E69-7EEE-421E-A8F8-298CA96C8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7C3B-3DDD-48B1-ABC3-5FE208685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0A66-A04C-404F-98C5-008108FEF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9445-4B4E-4B5F-97FF-2B61B9CED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CE4A-5B49-4BE2-A849-B5B1ECADD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CC52-D0CB-4E74-9C79-C60937176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5892-8299-4C30-8022-5BEEB43F7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CB6B-4448-4ED5-B584-D256398E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6D03-F793-4D08-830F-4D805A01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596D-F66F-471D-8B8E-933B85E0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42766-1D1A-4C9D-834B-81A79B19EA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6T03:28:02Z</dcterms:created>
  <dc:creator>ukyawnaing</dc:creator>
  <dc:description/>
  <dc:language>en-US</dc:language>
  <cp:lastModifiedBy>ukyawnaing</cp:lastModifiedBy>
  <dcterms:modified xsi:type="dcterms:W3CDTF">2013-03-26T03:28:35Z</dcterms:modified>
  <cp:revision>1</cp:revision>
  <dc:subject/>
  <dc:title>Slide 1</dc:title>
</cp:coreProperties>
</file>