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386-6AF6-4512-873F-FE1BFC49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9D4-D58F-48DE-B50F-297B314A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F40-EEE8-4452-8A88-8F9FB3BD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7E3-BAC7-44AF-9D25-3095429B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2B9-1B47-401F-88F1-F232BC9F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218-9172-47E0-AC91-7EF41E2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56F-DCBC-4103-B872-415ED16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E5C-F9AC-4F55-8D02-8EDF08D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622-CD4A-47CC-91DE-DE8F4C36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17D-DC44-4C17-981B-C2D6FA3C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788-3440-4960-BF8A-59B684F7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D81-0935-445A-866E-B677C95B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9A5-4110-4B16-B375-840ED13273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25:04Z</dcterms:created>
  <dc:creator>ukyawnaing</dc:creator>
  <dc:description/>
  <dc:language>en-US</dc:language>
  <cp:lastModifiedBy>ukyawnaing</cp:lastModifiedBy>
  <dcterms:modified xsi:type="dcterms:W3CDTF">2013-03-26T03:25:18Z</dcterms:modified>
  <cp:revision>1</cp:revision>
  <dc:subject/>
  <dc:title>Slide 1</dc:title>
</cp:coreProperties>
</file>