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19D-71F1-455A-A622-563E7DF9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CB0-4E1B-4F6A-9B67-6A7EE311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74EB-CBBD-4879-B25D-C0FF3690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9B44-DE13-4F37-B67E-583979E3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2D2-6915-44F9-ACDE-37DE6B23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D15B-64F0-4608-ACF3-B5D2BBF7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04EC-BE62-4698-99BC-87559CB1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3E71-169A-4248-88A7-93DB6799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5261-4170-413F-BA46-08F508A0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9418-F299-4329-A0EA-DC96ECEA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AA95-200A-4E26-839D-5121B3CB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DFF-DEA8-40D0-A37F-D19AF3B6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64F7-4824-4C45-8352-5C6F08EF28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79280" y="0"/>
            <a:ext cx="856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3:02:51Z</dcterms:created>
  <dc:creator>ukyawnaing</dc:creator>
  <dc:description/>
  <dc:language>en-US</dc:language>
  <cp:lastModifiedBy>ukyawnaing</cp:lastModifiedBy>
  <dcterms:modified xsi:type="dcterms:W3CDTF">2013-03-26T03:03:14Z</dcterms:modified>
  <cp:revision>1</cp:revision>
  <dc:subject/>
  <dc:title>Slide 1</dc:title>
</cp:coreProperties>
</file>