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2C5-8ECF-4FAA-810B-2FE05443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409-0995-4CEA-9833-88044244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025-C7F9-484F-9D04-1A93D3EC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D82-777E-4C2E-AC08-7A3DB7D6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DF3-F572-4CF7-897E-189906EA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300-F0D8-4D53-8758-B325E383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BB0-169E-4BDB-A62E-2AF275BA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493-6BC2-43EE-923E-C133054C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EC7-C6A7-4C1E-AF06-A4142C9D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D94-ED20-443E-A6A6-7E253654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890-F940-4F6D-8434-2D0FAAD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F9D-8C72-4681-9BC3-931D6E9A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D937-B99B-4639-A34D-61BC9C6FDB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1_U Kyaw Naing.mp3" descr=""/>
          <p:cNvPicPr/>
          <p:nvPr/>
        </p:nvPicPr>
        <p:blipFill>
          <a:blip r:embed="rId2"/>
          <a:stretch/>
        </p:blipFill>
        <p:spPr>
          <a:xfrm>
            <a:off x="5724360" y="530064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36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4:01:52Z</dcterms:created>
  <dc:creator>ds0929</dc:creator>
  <dc:description/>
  <dc:language>en-US</dc:language>
  <cp:lastModifiedBy>ds0929</cp:lastModifiedBy>
  <dcterms:modified xsi:type="dcterms:W3CDTF">2013-04-25T04:02:30Z</dcterms:modified>
  <cp:revision>1</cp:revision>
  <dc:subject/>
  <dc:title>Slide 1</dc:title>
</cp:coreProperties>
</file>