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E8C-DE9D-45A2-BCFF-CE5E94C9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617-7738-4263-9629-D9C954A8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FC8-7B6D-4776-A733-9E0F903B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04A-B6E2-46CB-9AD4-09A84D42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B52-A847-406A-A321-791C3541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DCA-72E8-4E23-8E6F-2ABF016E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5F3-ADD1-403B-B5E9-09B0CDB3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3E1-8E00-4EF0-920C-45CB6FA1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474-4938-4DEC-9C59-C4411413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89B-45F4-4228-94A5-8BE48E2D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7BA-7C66-4947-A094-A88839BB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1AA-68B2-4F6E-9B2F-FE3F4DC8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1A05-AE26-4218-B8DC-16FCB19A74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5_U Kyaw Naing.mp3" descr=""/>
          <p:cNvPicPr/>
          <p:nvPr/>
        </p:nvPicPr>
        <p:blipFill>
          <a:blip r:embed="rId2"/>
          <a:stretch/>
        </p:blipFill>
        <p:spPr>
          <a:xfrm>
            <a:off x="341964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4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45:00Z</dcterms:created>
  <dc:creator>ds0929</dc:creator>
  <dc:description/>
  <dc:language>en-US</dc:language>
  <cp:lastModifiedBy>ds0929</cp:lastModifiedBy>
  <dcterms:modified xsi:type="dcterms:W3CDTF">2013-04-25T03:45:32Z</dcterms:modified>
  <cp:revision>1</cp:revision>
  <dc:subject/>
  <dc:title>Slide 1</dc:title>
</cp:coreProperties>
</file>