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F457-3392-4938-B024-242CBAA20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5AF5-6950-4906-8B76-CEE196B0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CA5B-E6F0-4C99-8AC4-5EFDA3232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B4D6-A287-48CD-AFF4-FD6770903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3A05-3AC0-42C1-9DE7-CE1A5526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A0D8-FEF2-4A67-AFD6-A92E4DD3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AC4D-4082-4A68-A1A2-CA278E82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C966-869B-4CD8-BDD6-7EA36DF3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1672-D432-46A7-A363-075BBF00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947B-707A-429F-87DE-FD1B97D1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D64E-467E-497E-9B5C-AD09A80D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BF18-95BC-42C2-9CDB-414EBA9B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0308-E353-4F70-959A-32613D5971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4004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2_U Kyaw Naing.mp3" descr=""/>
          <p:cNvPicPr/>
          <p:nvPr/>
        </p:nvPicPr>
        <p:blipFill>
          <a:blip r:embed="rId2"/>
          <a:stretch/>
        </p:blipFill>
        <p:spPr>
          <a:xfrm>
            <a:off x="147636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124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03:42:55Z</dcterms:created>
  <dc:creator>ds0929</dc:creator>
  <dc:description/>
  <dc:language>en-US</dc:language>
  <cp:lastModifiedBy>ds0929</cp:lastModifiedBy>
  <dcterms:modified xsi:type="dcterms:W3CDTF">2013-04-25T03:43:28Z</dcterms:modified>
  <cp:revision>1</cp:revision>
  <dc:subject/>
  <dc:title>Slide 1</dc:title>
</cp:coreProperties>
</file>