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F59-9A28-4B25-ABEB-6B54B98D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E006-C244-4BC3-B520-8E9A5FAE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50BC-542A-4BA2-84CE-6B7D26DE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45D-BCE2-42F3-969B-E92EE74E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48E1-D37B-48A4-BECE-4ADEE0E0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3615-16FC-4271-ADA9-8DAC4D3C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F34-8D48-4C13-AE7B-94D91D56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F4C-D8B8-4B83-A215-DD3511B3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948-D1AE-416B-AC95-B79B610E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12A-8379-4F12-97A0-3E79E588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17E-9F75-42F6-8730-D0043A95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B99-DA08-4D13-AB64-B3525977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8D6C-6479-4501-908F-F4227DD63D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9_U Kyaw Naing.mp3" descr=""/>
          <p:cNvPicPr/>
          <p:nvPr/>
        </p:nvPicPr>
        <p:blipFill>
          <a:blip r:embed="rId2"/>
          <a:stretch/>
        </p:blipFill>
        <p:spPr>
          <a:xfrm>
            <a:off x="305928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190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5:02:58Z</dcterms:created>
  <dc:creator>ds0929</dc:creator>
  <dc:description/>
  <dc:language>en-US</dc:language>
  <cp:lastModifiedBy>ds0929</cp:lastModifiedBy>
  <dcterms:modified xsi:type="dcterms:W3CDTF">2013-04-27T05:03:35Z</dcterms:modified>
  <cp:revision>1</cp:revision>
  <dc:subject/>
  <dc:title>Slide 1</dc:title>
</cp:coreProperties>
</file>