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54C-968B-4068-AE00-EEA39481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495-CC8E-43E0-9D1A-9115370A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E5B2-7A92-45FC-B68F-C0A15FC0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637-EE0E-4850-AE1F-F67F2EC7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186-7302-40DE-90BF-4C4E31C5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74F-8875-440E-A151-3ADBBA56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7DF-EC61-47E2-86E1-7B79DAEB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8DE-0416-45CE-ACC7-A58E27C3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934-5701-46D9-BE79-4B512E81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39C-89D5-421D-994A-95106291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14DC-F612-4078-8462-89498FC5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D75-CE5E-49C9-A49B-9A0C35FD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9F1F-AE49-4690-BB9D-7A23DD92A6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9_U Kyaw Naing.mp3" descr=""/>
          <p:cNvPicPr/>
          <p:nvPr/>
        </p:nvPicPr>
        <p:blipFill>
          <a:blip r:embed="rId2"/>
          <a:stretch/>
        </p:blipFill>
        <p:spPr>
          <a:xfrm>
            <a:off x="1476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304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47:28Z</dcterms:created>
  <dc:creator>ds0929</dc:creator>
  <dc:description/>
  <dc:language>en-US</dc:language>
  <cp:lastModifiedBy>ds0929</cp:lastModifiedBy>
  <dcterms:modified xsi:type="dcterms:W3CDTF">2013-04-25T03:47:59Z</dcterms:modified>
  <cp:revision>1</cp:revision>
  <dc:subject/>
  <dc:title>Slide 1</dc:title>
</cp:coreProperties>
</file>