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728-CC6F-4938-8541-9CE43915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165-F77C-48AB-BCCA-A54A784C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2EE-E2E3-40AD-AC8A-ACBFBA0C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436-8D30-4D2D-B63C-E2ED9E43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749-258A-4D00-B094-A848F50C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C19-21E3-4557-B5B7-75801F82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4EE-36A7-4406-9DBB-3CB2CF49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A35-63C8-40C0-999C-1A850CA9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AD4-ACEA-4CAF-9A96-49C368A5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88F-85F1-45C6-95E1-1ED91F25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DB7-C7DE-4FED-8E71-40C2CCEC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CA9-4DE8-4311-9EAB-3D787CDA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8E16-7620-4E8B-A8EB-9A86A2F2F6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291636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11:17Z</dcterms:created>
  <dc:creator>Administrator</dc:creator>
  <dc:description/>
  <dc:language>en-US</dc:language>
  <cp:lastModifiedBy>Administrator</cp:lastModifiedBy>
  <dcterms:modified xsi:type="dcterms:W3CDTF">2013-05-02T05:44:52Z</dcterms:modified>
  <cp:revision>3</cp:revision>
  <dc:subject/>
  <dc:title>PowerPoint Presentation</dc:title>
</cp:coreProperties>
</file>