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87A-2C82-40C9-9A59-F2920B9D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253-23C1-4D1A-95BD-C1A7A8C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EDC-53CB-4E3C-9A48-5CAF5F1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2F4-2AF5-474C-B6A0-DBEADD46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0D9-7588-4AB1-9063-BB9DC62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D64-EBF6-4B3C-961A-C09E818E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5CB-6AF9-4739-BB61-05C2FDD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123-7638-4880-B29B-B94C86E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A96-BCBF-4F12-BE2E-25B99584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9AB-E28E-4C1C-913E-A7B9172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646-5A7E-493F-82E5-38E05E7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1E-6F34-4899-9574-262241E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C22-085B-4F52-BEFF-44EBFC10E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1187280" y="6735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8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7:46Z</dcterms:created>
  <dc:creator>ds0929</dc:creator>
  <dc:description/>
  <dc:language>en-US</dc:language>
  <cp:lastModifiedBy>ds0929</cp:lastModifiedBy>
  <dcterms:modified xsi:type="dcterms:W3CDTF">2013-04-27T05:08:18Z</dcterms:modified>
  <cp:revision>1</cp:revision>
  <dc:subject/>
  <dc:title>Slide 1</dc:title>
</cp:coreProperties>
</file>