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541-64BE-4AAE-93BD-0B2A8106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136-E002-4BDD-B937-32CBE010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EED-3DC2-46E2-9CC0-03053B06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838-D1DB-4098-9B82-18E788A6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BBB-117C-4B54-A3D6-7C52F984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19B-36ED-4C17-9652-AC062BB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568-83BE-4817-9BC3-3B5D00D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85B-5537-4F4B-AF7B-4FA6F170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E52-E970-4624-BFB4-78CDBAAF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B42-8F71-446A-9ED7-445042B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711-1BCC-4F11-8510-02F76D3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B53-DCB6-4A55-A242-5BC0A80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394-AFDE-49D2-A2FE-8A1DB227A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900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9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41:11Z</dcterms:created>
  <dc:creator>ds0929</dc:creator>
  <dc:description/>
  <dc:language>en-US</dc:language>
  <cp:lastModifiedBy>ds0929</cp:lastModifiedBy>
  <dcterms:modified xsi:type="dcterms:W3CDTF">2013-04-25T03:42:49Z</dcterms:modified>
  <cp:revision>1</cp:revision>
  <dc:subject/>
  <dc:title>Slide 1</dc:title>
</cp:coreProperties>
</file>