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6B1-76BC-4D75-9217-2E1497BE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086-CD77-4D4D-9358-4C1397B7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E1D3-71FA-464D-86C1-1356E572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B70-BA7C-4A6E-BCAE-6FD7D758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35E3-F0E1-4FC3-A3BE-3287DFE7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3CA-0624-4A4A-9410-94140845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655-CD53-4F50-BEF6-22F029E6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EA1-2FA8-43D9-8132-EF1EB230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3D68-3F43-4D7A-A300-A773493C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FCAC-09C9-4479-9FA5-04281159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AC6C-5902-45DF-99DF-153FA88D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54C-D306-4E5A-AFE3-D8D7B10C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37B7-F006-4165-8E9A-E2FF076EDC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P427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2_U Kyaw Naing.mp3" descr=""/>
          <p:cNvPicPr/>
          <p:nvPr/>
        </p:nvPicPr>
        <p:blipFill>
          <a:blip r:embed="rId2"/>
          <a:stretch/>
        </p:blipFill>
        <p:spPr>
          <a:xfrm>
            <a:off x="8675640" y="476280"/>
            <a:ext cx="2667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227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5:04:54Z</dcterms:created>
  <dc:creator>ds0929</dc:creator>
  <dc:description/>
  <dc:language>en-US</dc:language>
  <cp:lastModifiedBy>ds0929</cp:lastModifiedBy>
  <dcterms:modified xsi:type="dcterms:W3CDTF">2013-04-27T05:06:01Z</dcterms:modified>
  <cp:revision>1</cp:revision>
  <dc:subject/>
  <dc:title>Slide 1</dc:title>
</cp:coreProperties>
</file>