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B66-9728-4FE4-97AC-CFFB571E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177-159F-4BBE-82DD-41A51E82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6E7-251C-41F3-B016-06DFAFBC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E5E-3787-4BF7-AE0D-6154B4CA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061-55F7-440C-A774-B8CAE984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0EE-2CC9-45FB-8175-8CBDF6E1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877-C624-406D-82FB-47E8B01E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783-1C5D-4A3C-9A64-73B19435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D40-623E-4AB4-878F-BF1D89EF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DBC-D886-481F-A48C-E81D51FB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5AC7-3DF2-427F-99CF-96706C53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319-E5D4-4AB2-A6CF-DB0DDDD4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8B7D-FD56-4003-A73D-B945FC7B73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4_U Kyaw Naing (2).mp3" descr=""/>
          <p:cNvPicPr/>
          <p:nvPr/>
        </p:nvPicPr>
        <p:blipFill>
          <a:blip r:embed="rId2"/>
          <a:stretch/>
        </p:blipFill>
        <p:spPr>
          <a:xfrm>
            <a:off x="1979640" y="5732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25:22Z</dcterms:created>
  <dc:creator>Administrator</dc:creator>
  <dc:description/>
  <dc:language>en-US</dc:language>
  <cp:lastModifiedBy>Administrator</cp:lastModifiedBy>
  <dcterms:modified xsi:type="dcterms:W3CDTF">2013-05-02T05:44:03Z</dcterms:modified>
  <cp:revision>3</cp:revision>
  <dc:subject/>
  <dc:title>PowerPoint Presentation</dc:title>
</cp:coreProperties>
</file>