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0FC-0FFA-4151-AB42-DF974548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9A6-E7D9-44E2-BCD1-BA0DE38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862-0312-49AD-9BB2-FB868112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405-8F6B-4179-8C62-9535563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0C7-E708-4596-B9E6-9E6B4648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7A4-DED0-48C1-A888-17CEF414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F2C-F317-4C6C-BB1C-F7E4FE22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5CB-08D8-4CB4-863F-6321AC2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D43-50A5-4FAE-83FC-FCAFD2EE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1C4-F584-4E57-80CA-DD87661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321-1B97-49B1-AD11-3D5465F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61C-9355-4CA4-8AFA-C2DBF7A2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2C8-6427-4180-9BE7-7C0FC89B2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262728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4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9:04Z</dcterms:created>
  <dc:creator>ds0929</dc:creator>
  <dc:description/>
  <dc:language>en-US</dc:language>
  <cp:lastModifiedBy>ds0929</cp:lastModifiedBy>
  <dcterms:modified xsi:type="dcterms:W3CDTF">2013-04-27T05:09:35Z</dcterms:modified>
  <cp:revision>1</cp:revision>
  <dc:subject/>
  <dc:title>Slide 1</dc:title>
</cp:coreProperties>
</file>