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A86-D8AB-4129-B7F2-9AC87D49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9B2-E1DA-46B1-AFB1-F80E4E5E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3F5-1772-4883-AEAF-60BF3C86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1E2-BA23-469E-B149-7845BFA0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159-6EFE-478E-9B9D-F77EFF2C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7E0-C20D-4630-BC2F-D89431B8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22A-BE6F-469B-8260-D4A3706E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8CF-4634-462E-88E8-C843F7FD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534-78FC-4A84-A7CA-0E36B9A4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8A9-A2EF-4E65-AD6F-7FF71460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3E8-545D-4815-845A-EF16CFB4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802-7D60-49B3-B13A-EFE0F1B5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0E11-084E-4944-A457-880D48C28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183528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27:45Z</dcterms:created>
  <dc:creator>Administrator</dc:creator>
  <dc:description/>
  <dc:language>en-US</dc:language>
  <cp:lastModifiedBy>Administrator</cp:lastModifiedBy>
  <dcterms:modified xsi:type="dcterms:W3CDTF">2013-05-02T05:29:12Z</dcterms:modified>
  <cp:revision>2</cp:revision>
  <dc:subject/>
  <dc:title>PowerPoint Presentation</dc:title>
</cp:coreProperties>
</file>