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53E-C282-43B3-8FEB-8639A03D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526-B9E6-48C8-8239-C6FCA84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F35-8830-4E0A-80AD-ADC095D3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6CD-29CD-4806-AA92-F8E8E903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D60-DAA7-44CB-A444-79D4249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3AD-3D53-433A-BD71-EEFE49F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ECF-CF1C-4FB1-9549-D5879B3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A48-BAA6-45E8-8DA6-8E186E5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F5D-CD99-4277-93F9-7DF71C7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EA8-97A4-4F95-8A8B-960C2E0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CD5-668A-4601-8EBB-7B47F18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C13-91BB-413E-AAB5-C214F31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44F-44EF-490C-916F-B2B4EA258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320364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19:25Z</dcterms:created>
  <dc:creator>Administrator</dc:creator>
  <dc:description/>
  <dc:language>en-US</dc:language>
  <cp:lastModifiedBy>Administrator</cp:lastModifiedBy>
  <dcterms:modified xsi:type="dcterms:W3CDTF">2013-05-02T05:44:17Z</dcterms:modified>
  <cp:revision>3</cp:revision>
  <dc:subject/>
  <dc:title>PowerPoint Presentation</dc:title>
</cp:coreProperties>
</file>