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E1F-A221-4B10-8497-4E479C58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293-5578-4B9A-987A-75F62419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360-5928-4170-8D37-50900E4A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F36-D2E8-471E-A8C2-6DF67849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206-01F6-4BAB-8D4F-46BC08CB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0FB-CFA1-49CF-A9E7-DC647D40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999-41EF-40AC-888C-AF21EDB9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20E-BAC3-4C86-92AA-29338B7E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421-DF9B-4EC1-811C-E41DF577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DFD-A918-40F9-B865-D0BF38C5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A29-6D45-43E5-885D-3E6C1749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C5A-071B-44B5-B724-52C041C6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73F2-3418-4F55-A5AB-BD6D3E2EEE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4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1_U Kyaw Naing.mp3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73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52:31Z</dcterms:created>
  <dc:creator>ds0929</dc:creator>
  <dc:description/>
  <dc:language>en-US</dc:language>
  <cp:lastModifiedBy>ds0929</cp:lastModifiedBy>
  <dcterms:modified xsi:type="dcterms:W3CDTF">2013-04-27T04:55:22Z</dcterms:modified>
  <cp:revision>1</cp:revision>
  <dc:subject/>
  <dc:title>Slide 1</dc:title>
</cp:coreProperties>
</file>