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088-E1CA-469B-A27A-EDDA3857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205-D260-4CEA-8866-376294F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891-3E9D-44E2-8928-C8E007B1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7AE-D7BD-472C-9EFB-68BFFF1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E0A-DB3B-4CEF-A718-255885A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F38-0A31-46B1-87F2-842A460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AC5-F8BA-4B10-B770-66ABA383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F79-584B-4E22-B0CA-F88617B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9ED-4742-4377-8FB0-BD37A423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A22-CF74-449B-9D6A-CB36887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00C-A536-4119-9202-42663F0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E1E-031C-4214-BB45-117F68B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CC0E-74A4-4D2A-8914-972E80483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54144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414036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40:29Z</dcterms:created>
  <dc:creator>Administrator</dc:creator>
  <dc:description/>
  <dc:language>en-US</dc:language>
  <cp:lastModifiedBy>Administrator</cp:lastModifiedBy>
  <dcterms:modified xsi:type="dcterms:W3CDTF">2013-05-02T05:42:16Z</dcterms:modified>
  <cp:revision>2</cp:revision>
  <dc:subject/>
  <dc:title>PowerPoint Presentation</dc:title>
</cp:coreProperties>
</file>