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B1B-1F33-4B46-8CC7-BA3C9CD1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3EF-F5DE-47A4-8FA3-77F4647C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672-66D9-4B21-A9E6-B03752E5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6B6-6BAE-4ECC-857F-5879E1FF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CA4-37C9-40CF-8EDA-053E082F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7D8-25B1-4D99-A66A-19EF8C93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360-3E12-4F54-8C65-F4C16D08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504-4EB9-4B5B-8180-670D5C0C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1B3-388E-4047-98EF-F3E27C10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658-2850-4237-9F04-67B5B7FC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690C-8529-4FD8-9607-5D762E2E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BF5-81AB-47D2-B301-D1710FD0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6B28-E3D4-4E86-81D0-ABE21E6F78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1_U Kyaw Naing.mp3" descr=""/>
          <p:cNvPicPr/>
          <p:nvPr/>
        </p:nvPicPr>
        <p:blipFill>
          <a:blip r:embed="rId2"/>
          <a:stretch/>
        </p:blipFill>
        <p:spPr>
          <a:xfrm>
            <a:off x="2050920" y="6165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35:14Z</dcterms:created>
  <dc:creator>Administrator</dc:creator>
  <dc:description/>
  <dc:language>en-US</dc:language>
  <cp:lastModifiedBy>Administrator</cp:lastModifiedBy>
  <dcterms:modified xsi:type="dcterms:W3CDTF">2013-05-02T05:36:08Z</dcterms:modified>
  <cp:revision>2</cp:revision>
  <dc:subject/>
  <dc:title>PowerPoint Presentation</dc:title>
</cp:coreProperties>
</file>