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5825-CFEC-480B-A7E5-F27619D9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ED99-89FD-46AB-B766-EBAE5C52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A5B-92E1-4966-ADCB-0CA7EC22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F38-9415-424B-BCCB-999EB0F8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5E2B-4A34-4000-A2A8-C5737CFC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269-D1A6-4E61-9721-8808DFB4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BD20-0D7C-4DB7-93D1-B3473302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949E-D0EB-429D-A9C9-2CE84B0C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0D2B-E657-4FD7-A4EB-5DFAFCC8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CF5-9EF5-4929-A5C5-262FD71F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1760-EF84-422B-9E58-B6A673F1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242-1D82-4573-B58D-FFFCBA2C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5BAD-4ACA-42F2-B697-8685D67BCA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8_U Kyaw Naing.mp3" descr=""/>
          <p:cNvPicPr/>
          <p:nvPr/>
        </p:nvPicPr>
        <p:blipFill>
          <a:blip r:embed="rId2"/>
          <a:stretch/>
        </p:blipFill>
        <p:spPr>
          <a:xfrm>
            <a:off x="255600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872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5:09:39Z</dcterms:created>
  <dc:creator>ds0929</dc:creator>
  <dc:description/>
  <dc:language>en-US</dc:language>
  <cp:lastModifiedBy>ds0929</cp:lastModifiedBy>
  <dcterms:modified xsi:type="dcterms:W3CDTF">2013-04-27T05:10:16Z</dcterms:modified>
  <cp:revision>1</cp:revision>
  <dc:subject/>
  <dc:title>Slide 1</dc:title>
</cp:coreProperties>
</file>