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E2B3-A5C8-404A-8EE3-910C6BD0B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5392-5C4F-46D1-B869-CA52574D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F899-7592-4317-8FCB-77DDA9E01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0962-BC4D-4893-A9BF-F34B6C223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72C6-9FA0-42FE-9C9B-1710AB30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5D3C-BD51-441F-B414-8F393366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ACF3-28C6-4F88-B210-C7817827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5F61-C3D9-43D6-BD7C-6771E393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6E5B-EBB3-44D0-9CB2-C16367F4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360A-A0D0-4FAF-B0C9-89AC30CC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CC64-1E7F-4220-9A6D-9AED3513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A42A-7F87-4129-9F2B-225AD5EF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D7F9-A455-4277-9292-9C2E25D6D1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400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4_U Kyaw Naing.mp3" descr=""/>
          <p:cNvPicPr/>
          <p:nvPr/>
        </p:nvPicPr>
        <p:blipFill>
          <a:blip r:embed="rId2"/>
          <a:stretch/>
        </p:blipFill>
        <p:spPr>
          <a:xfrm>
            <a:off x="262728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305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7T05:07:10Z</dcterms:created>
  <dc:creator>ds0929</dc:creator>
  <dc:description/>
  <dc:language>en-US</dc:language>
  <cp:lastModifiedBy>ds0929</cp:lastModifiedBy>
  <dcterms:modified xsi:type="dcterms:W3CDTF">2013-04-27T05:07:41Z</dcterms:modified>
  <cp:revision>1</cp:revision>
  <dc:subject/>
  <dc:title>Slide 1</dc:title>
</cp:coreProperties>
</file>