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1F0C-F7C7-4C8F-868F-C0D34736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0300-B272-4A3C-B2D6-7E323690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EC98-977D-4A71-B402-C7D2B163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1994-6A93-4917-86B6-F0D938FB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8AEE-0C75-4FC1-96B5-98F3C878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78B0-3E6B-4BD7-A8E7-A8C2F968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A0AB-704A-40BA-97D8-CD34BEC3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092B-386E-4474-84DA-6DE2D06B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CFB7-DE7C-482F-B214-4CC93BD8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8CD0-3516-45DE-B4D1-D15E1F1F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A128-7BDB-4BD2-977E-A7F6CF4A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E8E0-0FAD-47F0-A29F-260B76C8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3F43-47D1-42BF-BD1C-796ECBA283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9_U Kyaw Naing.mp3" descr=""/>
          <p:cNvPicPr/>
          <p:nvPr/>
        </p:nvPicPr>
        <p:blipFill>
          <a:blip r:embed="rId2"/>
          <a:stretch/>
        </p:blipFill>
        <p:spPr>
          <a:xfrm>
            <a:off x="356400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89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5:10:21Z</dcterms:created>
  <dc:creator>ds0929</dc:creator>
  <dc:description/>
  <dc:language>en-US</dc:language>
  <cp:lastModifiedBy>ds0929</cp:lastModifiedBy>
  <dcterms:modified xsi:type="dcterms:W3CDTF">2013-04-27T05:10:55Z</dcterms:modified>
  <cp:revision>1</cp:revision>
  <dc:subject/>
  <dc:title>Slide 1</dc:title>
</cp:coreProperties>
</file>