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2CB-E9BF-4D11-BD64-F2641FD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9C5-FFD4-43D0-97E5-B9B70DA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4B9-AFCE-473B-93F1-9EC7706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A99-2AFC-40C8-9A61-7BEC269A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DC3-53A8-4143-BC72-C375148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A1F-F5FF-4524-9E0D-0F5F01DE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EC4-5422-44E4-8514-91AB6B0E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B6C-4DF2-4C71-8B95-86F3DC0C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37B-6F03-439D-B210-DE2B4790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C54-C9C3-48B8-A2EE-E387082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0C0-C26C-436A-BFEE-80093FE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732-1ACD-4E65-81C4-15DD5D7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1F4-BD86-4BDD-B121-479AE70A9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2843280" y="6226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29:18Z</dcterms:created>
  <dc:creator>Administrator</dc:creator>
  <dc:description/>
  <dc:language>en-US</dc:language>
  <cp:lastModifiedBy>Administrator</cp:lastModifiedBy>
  <dcterms:modified xsi:type="dcterms:W3CDTF">2013-05-02T05:30:18Z</dcterms:modified>
  <cp:revision>2</cp:revision>
  <dc:subject/>
  <dc:title>PowerPoint Presentation</dc:title>
</cp:coreProperties>
</file>