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F19-E64B-4517-BA18-551B28E8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127-B6D2-470D-AB41-5ECB6018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66D-F45A-49C2-8D45-71CC29F8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253-5D60-4064-A3FD-2B4BF41B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D79-BEE6-44B0-9EAB-C1149630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98C-2C17-481C-B557-8FC8C4A9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7A0-7468-44B7-971D-54941703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17C-1FE3-4A7B-AF84-F8A65F0E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E27-780C-400E-8F64-8E01FB80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334-0361-4FEC-8A32-59D9F978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DC4-D657-4E52-9FFA-C7FC1A14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6FB-5DA6-42F0-A6D6-B30D250C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4D93-4BE8-4FEB-AFB2-1A57BB16C1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5940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8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9:56Z</dcterms:created>
  <dc:creator>ds0929</dc:creator>
  <dc:description/>
  <dc:language>en-US</dc:language>
  <cp:lastModifiedBy>ds0929</cp:lastModifiedBy>
  <dcterms:modified xsi:type="dcterms:W3CDTF">2013-04-25T03:53:41Z</dcterms:modified>
  <cp:revision>1</cp:revision>
  <dc:subject/>
  <dc:title>Slide 1</dc:title>
</cp:coreProperties>
</file>