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7C9-87C4-41C3-8F02-4749FC0F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AA6-5E95-4AFB-9809-7DCE01BE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1A4-FDAA-4F7E-BE28-7E9C1301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FF7-2ECB-40B4-9F3D-D2ACB461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815-14B3-4910-A6FA-E9C67B9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4CA-20D2-45D6-AAE1-FF51621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7AA-5227-4DA0-AA54-789A848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E01-CD1B-4A44-9A82-6B1088A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F2D-6925-49CB-8015-FBE58D4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BE2-F1AE-4B32-A67B-C195FA9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5CD-98F0-43E9-9981-38283382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F4F-6575-45BA-B70F-1D475C9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20D-B80F-4CCB-B300-B8B75D1110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270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3:46Z</dcterms:created>
  <dc:creator>ds0929</dc:creator>
  <dc:description/>
  <dc:language>en-US</dc:language>
  <cp:lastModifiedBy>ds0929</cp:lastModifiedBy>
  <dcterms:modified xsi:type="dcterms:W3CDTF">2013-04-25T03:59:41Z</dcterms:modified>
  <cp:revision>1</cp:revision>
  <dc:subject/>
  <dc:title>Slide 1</dc:title>
</cp:coreProperties>
</file>