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057-1AFC-45C3-BB8C-7EFF9EA1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605-DEB0-4EFF-B0B4-522E600D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22A-E39C-470A-B194-6B174183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3B7-0BF8-4308-961B-22AB4C53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EBB-C019-4519-998E-A70BED5D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C52-0518-4EEC-B316-C1F7727F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E6F-D4F4-4AC9-BF01-EA90758D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CB8-2598-4FD0-8876-66ADD41C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B9C-75D3-44AB-9C83-64F07629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2B0-B08F-4AB5-B74E-B2DFB937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367-7FB0-4CDA-8EBC-52627FE4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22E-B7D9-4675-96EE-B03E6CF5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2508-67D0-4A62-AC31-AA14369A06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6_U Kyaw Naing.mp3" descr=""/>
          <p:cNvPicPr/>
          <p:nvPr/>
        </p:nvPicPr>
        <p:blipFill>
          <a:blip r:embed="rId2"/>
          <a:stretch/>
        </p:blipFill>
        <p:spPr>
          <a:xfrm>
            <a:off x="7885080" y="573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14:29Z</dcterms:created>
  <dc:creator>Administrator</dc:creator>
  <dc:description/>
  <dc:language>en-US</dc:language>
  <cp:lastModifiedBy>Administrator</cp:lastModifiedBy>
  <dcterms:modified xsi:type="dcterms:W3CDTF">2013-05-02T05:15:31Z</dcterms:modified>
  <cp:revision>2</cp:revision>
  <dc:subject/>
  <dc:title>PowerPoint Presentation</dc:title>
</cp:coreProperties>
</file>