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969-0C10-498A-91A0-897D1A19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75C-9E1F-4596-8E66-67FC534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FAB-3E76-42F5-83C3-5C52AB54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6BF-627D-4E11-8B22-2ED05FD6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6B2-D6A5-4E2D-BC73-34A74D67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B98-5CF2-4824-810B-3E6AAA9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0CC-31ED-42BB-A168-C169CBA5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116-70E4-42BF-A88F-A8884564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9DA-A764-49C9-9C5E-4BB4096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8C8-9844-4BB0-A3E9-D0B02A4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434-2A6A-4A6A-B8AB-47C62C13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1D4-260B-43FD-9E17-2A008D1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F10-CA0C-4A78-AC78-204F2663E5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4932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3:10Z</dcterms:created>
  <dc:creator>ds0929</dc:creator>
  <dc:description/>
  <dc:language>en-US</dc:language>
  <cp:lastModifiedBy>ds0929</cp:lastModifiedBy>
  <dcterms:modified xsi:type="dcterms:W3CDTF">2013-04-25T04:04:57Z</dcterms:modified>
  <cp:revision>2</cp:revision>
  <dc:subject/>
  <dc:title>Slide 1</dc:title>
</cp:coreProperties>
</file>