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A34-BD76-431A-85AD-03A67C11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AFB-C64C-4F66-B037-544FE61F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7F9-E065-4E41-81CC-722E4B7B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22B-A639-4DAD-B2AF-9B69BE39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DFB-17B6-418E-9613-C2182F58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CF7-8EC5-4049-AFB7-D4CD727D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58F-C756-4FB0-A9CF-CEC0B027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D16-6A01-4EFF-A28F-BD3D20D3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450-6653-4317-BA66-5B1BDA32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F40-4E84-4BE1-86D7-65F3FBB3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25D-3047-4E39-9FF7-81571BBD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A9E-6E99-45C5-94B8-5F813D61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BAA5-8CC3-4489-B144-C536195A83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4140360" y="5805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36:13Z</dcterms:created>
  <dc:creator>Administrator</dc:creator>
  <dc:description/>
  <dc:language>en-US</dc:language>
  <cp:lastModifiedBy>Administrator</cp:lastModifiedBy>
  <dcterms:modified xsi:type="dcterms:W3CDTF">2013-05-02T05:43:30Z</dcterms:modified>
  <cp:revision>2</cp:revision>
  <dc:subject/>
  <dc:title>PowerPoint Presentation</dc:title>
</cp:coreProperties>
</file>