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E7F-EE8A-487E-B624-E7776AD3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D8A-75D5-4294-B866-9B0E20B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DED-99B5-49A7-929C-CB73673E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72E-0D7B-49CD-8639-A35BC8F6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8C9-2FFA-484C-A381-5D478930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0E5-B49B-4B43-A4EA-8CDB4599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433-8F34-4F8B-9428-DA73E84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A0D-F513-4968-981E-F06D504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CE1-8B2B-4EA6-92FD-CD2375B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0D8-71BD-4C97-BF3D-2733E3F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5BD-3706-4287-8865-4710D25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E08-D19E-46AA-A37B-E41A3D6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890-A658-4B63-AB38-BB32A99B1B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320364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6:06Z</dcterms:created>
  <dc:creator>ds0929</dc:creator>
  <dc:description/>
  <dc:language>en-US</dc:language>
  <cp:lastModifiedBy>ds0929</cp:lastModifiedBy>
  <dcterms:modified xsi:type="dcterms:W3CDTF">2013-04-27T05:06:54Z</dcterms:modified>
  <cp:revision>1</cp:revision>
  <dc:subject/>
  <dc:title>Slide 1</dc:title>
</cp:coreProperties>
</file>