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98FF-A9C5-42D6-BFD4-E19D53122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320F-0A66-4AB9-839B-A789D37E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7A14-1E9B-47AB-8BFC-34B50546C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1734-DA20-4CA5-9FBA-8C78DC9BE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BE9D-1FFD-4BE2-B17C-2C86BA54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6752-D746-4B17-92DD-00674C53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5C4A-DC9B-490C-84A5-580EF799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53DB-B2FF-43D9-B92D-F914FB13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A28E-DC81-4799-A6AC-F1A68EB4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0929-6C04-432E-AE63-86C6855F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269A-3F9D-4794-BB37-40D9313B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2250-5AD7-4694-BE96-2525AB91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05AB-30E7-4FAE-8540-5340F53B8C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8_U Kyaw Naing.mp3" descr=""/>
          <p:cNvPicPr/>
          <p:nvPr/>
        </p:nvPicPr>
        <p:blipFill>
          <a:blip r:embed="rId2"/>
          <a:stretch/>
        </p:blipFill>
        <p:spPr>
          <a:xfrm>
            <a:off x="8388360" y="57326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2T05:15:36Z</dcterms:created>
  <dc:creator>Administrator</dc:creator>
  <dc:description/>
  <dc:language>en-US</dc:language>
  <cp:lastModifiedBy>Administrator</cp:lastModifiedBy>
  <dcterms:modified xsi:type="dcterms:W3CDTF">2013-05-02T05:44:33Z</dcterms:modified>
  <cp:revision>3</cp:revision>
  <dc:subject/>
  <dc:title>PowerPoint Presentation</dc:title>
</cp:coreProperties>
</file>