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ABD-A1C2-4A9D-8B28-D0A318AA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88C-E55E-449D-BDA1-BB30470E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8F0-3117-47B5-B462-6F9A40A4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E6-6680-4F69-BFB3-B307A695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294-48DC-41FD-B4D3-8E91B4A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F7D-CE20-4DCD-958A-79B4D7F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B00-7BAB-4CCE-ADC3-A3A8595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B39-F04C-48C5-A5AD-3BAED44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B85-6427-465E-B76D-58B6F09E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CC5-8627-4775-8FA8-0BE5284E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FC4-2508-48CB-8AA7-FF06D05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E39-D7E4-4658-A29F-33DBE89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B13B-B4B7-4B27-87D6-BDA62D44B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4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4:48Z</dcterms:created>
  <dc:creator>ds0929</dc:creator>
  <dc:description/>
  <dc:language>en-US</dc:language>
  <cp:lastModifiedBy>ds0929</cp:lastModifiedBy>
  <dcterms:modified xsi:type="dcterms:W3CDTF">2013-04-25T03:55:21Z</dcterms:modified>
  <cp:revision>1</cp:revision>
  <dc:subject/>
  <dc:title>Slide 1</dc:title>
</cp:coreProperties>
</file>