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563-0155-4F58-9BC3-81246C0C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2EC-03EF-4B9F-A074-61485FE9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E89-178C-46B8-B378-05B47F90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B62-8E27-4704-8422-5F0E2291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8AE-6743-422E-8507-3F6961F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C0F-6570-4481-A655-3C0DAAE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D41-1A76-4056-811F-3689DD5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ECD-6472-45CC-A010-9541383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149-61C0-4C3F-8695-B24AD8D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9B6-EC28-4C24-B536-A17B21B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38F-4EDF-4EBE-8BAD-E41E13E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F06-407F-43D9-BE76-BCDAD95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824-7225-4EA9-A6EF-0B6CAC133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1908000" y="6381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4:15Z</dcterms:created>
  <dc:creator>ds0929</dc:creator>
  <dc:description/>
  <dc:language>en-US</dc:language>
  <cp:lastModifiedBy>ds0929</cp:lastModifiedBy>
  <dcterms:modified xsi:type="dcterms:W3CDTF">2013-04-27T05:04:50Z</dcterms:modified>
  <cp:revision>1</cp:revision>
  <dc:subject/>
  <dc:title>Slide 1</dc:title>
</cp:coreProperties>
</file>