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A1F7C-5789-4C32-A30A-2C6207E73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E0755-F9DD-4A06-B219-A28841D78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542E1-6ECA-4991-BAAA-80645C06C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20EBD-335C-4316-8A7B-CA3EE7B54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B11F0-5A84-4977-B457-9BB633BE3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E2E67-A8FF-4B93-B345-356CBDB6B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5FC51-EA23-4130-8599-2D689B450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92E11-383E-4970-BC71-CB41BF600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E29D7-2A27-4ACC-A53F-542D45528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EFF60-4C93-4F7E-9AC0-386F5846A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A6610-F31A-4E18-B31A-8ACBD37F2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D828C-3E8B-4506-996E-557848F9E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7009C-6B7B-477F-AA92-7420B8E60ED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3" descr="P424001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001_A_016_U Kyaw Naing.mp3" descr=""/>
          <p:cNvPicPr/>
          <p:nvPr/>
        </p:nvPicPr>
        <p:blipFill>
          <a:blip r:embed="rId2"/>
          <a:stretch/>
        </p:blipFill>
        <p:spPr>
          <a:xfrm>
            <a:off x="6875640" y="6591240"/>
            <a:ext cx="266400" cy="26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52576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7T05:08:23Z</dcterms:created>
  <dc:creator>ds0929</dc:creator>
  <dc:description/>
  <dc:language>en-US</dc:language>
  <cp:lastModifiedBy>ds0929</cp:lastModifiedBy>
  <dcterms:modified xsi:type="dcterms:W3CDTF">2013-04-27T05:09:01Z</dcterms:modified>
  <cp:revision>1</cp:revision>
  <dc:subject/>
  <dc:title>Slide 1</dc:title>
</cp:coreProperties>
</file>