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45A-A156-4853-849F-8CFD75C3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E22-C3DC-4DA0-912A-51BC9C5B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26DC-A91F-455F-9C6F-C957837C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268-856D-44D9-B16F-0BCDFC19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4D2-DFEA-4767-AE47-6FD17F18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E1B5-53AC-484E-AC2E-09F06FED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8CE-61EF-4274-9F8C-60648C1C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553-DC20-4BAF-800C-B4AF5E51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0F2-C237-4628-AB02-DB357D75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A255-DA8F-4F05-B15A-4D0958C0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D7D-1B24-4CF7-93C5-6DFDD9D2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F81-9A65-4046-9404-6BCC4CC4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3DEF-25A7-4690-8A79-4182875D0B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5_U Kyaw Naing.mp3" descr=""/>
          <p:cNvPicPr/>
          <p:nvPr/>
        </p:nvPicPr>
        <p:blipFill>
          <a:blip r:embed="rId2"/>
          <a:stretch/>
        </p:blipFill>
        <p:spPr>
          <a:xfrm>
            <a:off x="7885080" y="61657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13:03Z</dcterms:created>
  <dc:creator>Administrator</dc:creator>
  <dc:description/>
  <dc:language>en-US</dc:language>
  <cp:lastModifiedBy>Administrator</cp:lastModifiedBy>
  <dcterms:modified xsi:type="dcterms:W3CDTF">2013-05-02T05:44:41Z</dcterms:modified>
  <cp:revision>3</cp:revision>
  <dc:subject/>
  <dc:title>PowerPoint Presentation</dc:title>
</cp:coreProperties>
</file>