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F9B-C733-4BE2-AFF8-17EBC107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2AC-49FA-4106-8F57-5CDC92A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64A-7329-454C-9058-69D6B2ED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81F-3354-4D95-89E3-F8C7C965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28D-AF96-442D-AA5F-6C508A7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D8A-3FEB-46E1-A70D-B342BED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7BD-1794-47E7-A0CB-820D004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C84-9DEF-454A-9059-C417434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1A5-3EDF-42BC-8CAC-37CC12C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3B3-FD96-4BB3-BEEE-2B592CD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95B-EB21-49A1-AC79-39D711D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56-55A6-4177-A391-7BDB91E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151-21F7-46B5-A5AA-54D536D14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6372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7:58Z</dcterms:created>
  <dc:creator>ds0929</dc:creator>
  <dc:description/>
  <dc:language>en-US</dc:language>
  <cp:lastModifiedBy>ds0929</cp:lastModifiedBy>
  <dcterms:modified xsi:type="dcterms:W3CDTF">2013-04-25T04:07:41Z</dcterms:modified>
  <cp:revision>2</cp:revision>
  <dc:subject/>
  <dc:title>Slide 1</dc:title>
</cp:coreProperties>
</file>