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A90-7ECE-4431-B7E2-80939A76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56E-3317-47D0-867D-FB3BEDC4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863-70B3-4167-B266-0563A6D8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DEB-AB33-44FD-B742-8D8094A9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C22-ED36-4D5B-BCB9-8A58F1E6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BB6-3E67-45BE-A777-B81C718B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DE5-FE04-48FF-960F-33A8F33B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60C-7A5A-4BE9-8DA6-9B8AA160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7DF-05B8-4F19-A851-63237984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0D6-735B-44A2-9E59-0957A4E3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F5E-51DC-4E93-964B-6089BDCC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70B-89CD-4CF4-BD31-C880F387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BB83-4BD3-4646-B17E-9DE9DCE076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2_U Kyaw Naing.mp3" descr=""/>
          <p:cNvPicPr/>
          <p:nvPr/>
        </p:nvPicPr>
        <p:blipFill>
          <a:blip r:embed="rId2"/>
          <a:stretch/>
        </p:blipFill>
        <p:spPr>
          <a:xfrm>
            <a:off x="125892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47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49:18Z</dcterms:created>
  <dc:creator>ds0929</dc:creator>
  <dc:description/>
  <dc:language>en-US</dc:language>
  <cp:lastModifiedBy>ds0929</cp:lastModifiedBy>
  <dcterms:modified xsi:type="dcterms:W3CDTF">2013-04-25T03:49:51Z</dcterms:modified>
  <cp:revision>1</cp:revision>
  <dc:subject/>
  <dc:title>Slide 1</dc:title>
</cp:coreProperties>
</file>