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AB8-DCB0-48E5-A137-CFE8D1A1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FD8-306A-4D2D-8FCB-DADBE5F8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3D3-AB42-4A0E-9D4C-15FF588D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F66-F904-4340-A28F-8210E0E7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29E-EE58-4268-8DAD-2D42641B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B2E-EDA1-4333-97DB-D7A3451B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656-450B-470F-B312-AF6C9129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296-FA98-495A-B950-462216D6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75D-D0BE-4D05-9658-BB3D1CD2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074-4B7D-4BF8-9D1B-F2BD6FE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3AB-837E-48A4-8343-00E8535A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432-722E-441A-B2C3-B0CF2560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A040-8889-43FC-893C-CF44FFB7D9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7_U Kyaw Naing.mp3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022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55:25Z</dcterms:created>
  <dc:creator>ds0929</dc:creator>
  <dc:description/>
  <dc:language>en-US</dc:language>
  <cp:lastModifiedBy>ds0929</cp:lastModifiedBy>
  <dcterms:modified xsi:type="dcterms:W3CDTF">2013-04-25T03:55:59Z</dcterms:modified>
  <cp:revision>1</cp:revision>
  <dc:subject/>
  <dc:title>Slide 1</dc:title>
</cp:coreProperties>
</file>