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602-3A86-4B4A-BD52-3682F472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73B-AF1B-4A70-B5FC-923CB90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41E-ED58-4251-B8C5-8EE87891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0BD-2C25-458E-8562-B2EE2BE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E66-2C8E-46E6-AA9D-E0E2EDD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2B6-3064-441B-B3AD-6E1E87F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115-2044-4848-89AC-DC5E9E5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C4A-6C55-4B7E-84D4-2574409C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DAD-ACA6-4EE3-B382-1EED6DD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FFD-7430-4CDF-A726-1B551A3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D0F-2B65-4D72-A438-59ACB29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AB0-85FC-48B2-9C5A-8291846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3DB3-6AD3-4D07-A2C7-C950992DB4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U Kyaw Naing.mp3" descr=""/>
          <p:cNvPicPr/>
          <p:nvPr/>
        </p:nvPicPr>
        <p:blipFill>
          <a:blip r:embed="rId2"/>
          <a:stretch/>
        </p:blipFill>
        <p:spPr>
          <a:xfrm>
            <a:off x="2411280" y="6381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4:18Z</dcterms:created>
  <dc:creator>Administrator</dc:creator>
  <dc:description/>
  <dc:language>en-US</dc:language>
  <cp:lastModifiedBy>Administrator</cp:lastModifiedBy>
  <dcterms:modified xsi:type="dcterms:W3CDTF">2013-05-02T05:43:47Z</dcterms:modified>
  <cp:revision>2</cp:revision>
  <dc:subject/>
  <dc:title>PowerPoint Presentation</dc:title>
</cp:coreProperties>
</file>