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CE62-C402-4133-BCA9-763A228B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6FD8-F3D3-4C3B-A087-A0431786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F0CF-C428-4185-B5E0-8B88418DE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26F3-F63A-4CF6-854D-3CD6F422F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B622-E693-4D27-AD21-3270CF71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C696-BA81-4F2D-AF6E-3BA9C50B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48EB-C1F4-48F6-A1CC-75BE7453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0710-F5EC-44DA-B9CD-6E08C182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8241-B256-4E95-AA76-D35CDF69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464D-FD82-425B-A16D-14125B77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1AEC-F9DE-40DC-B032-E38D8A52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CFFD-92E1-4CFE-AD9C-020AD97C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6B63-E313-4589-A7D1-7CA913A534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400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8_U Kyaw Naing.mp3" descr=""/>
          <p:cNvPicPr/>
          <p:nvPr/>
        </p:nvPicPr>
        <p:blipFill>
          <a:blip r:embed="rId2"/>
          <a:stretch/>
        </p:blipFill>
        <p:spPr>
          <a:xfrm>
            <a:off x="97164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492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03:56:03Z</dcterms:created>
  <dc:creator>ds0929</dc:creator>
  <dc:description/>
  <dc:language>en-US</dc:language>
  <cp:lastModifiedBy>ds0929</cp:lastModifiedBy>
  <dcterms:modified xsi:type="dcterms:W3CDTF">2013-04-25T03:56:37Z</dcterms:modified>
  <cp:revision>1</cp:revision>
  <dc:subject/>
  <dc:title>Slide 1</dc:title>
</cp:coreProperties>
</file>