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A5E7-50B9-4461-8DF7-2BD5FC275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3EC0-C4CD-4406-8D92-E33FEDE4C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CF5D-10D8-4005-A185-5910E09AF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3803-1D41-479A-8CE4-5EAD5D294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7577-BEAF-4310-A679-8600D6EBD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85B2-62CE-48CA-B0C1-7FF078A99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154A-E15F-4ACE-B5F1-A130311E7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58B7-8A5C-4525-844B-AB015A08D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B8A4-D537-46A5-88FC-F198DF34B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895F-D696-4DC9-BACC-AF277C7E0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10CF-B054-4D69-8C9A-B86527DDC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B01A-5681-4CCA-A425-AF3FBC25D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ABA45-CCE2-40FB-B52B-6E13445976F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P424005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001_A_011_U Kyaw Naing.mp3" descr=""/>
          <p:cNvPicPr/>
          <p:nvPr/>
        </p:nvPicPr>
        <p:blipFill>
          <a:blip r:embed="rId2"/>
          <a:stretch/>
        </p:blipFill>
        <p:spPr>
          <a:xfrm>
            <a:off x="2700360" y="661356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2016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5T03:48:40Z</dcterms:created>
  <dc:creator>ds0929</dc:creator>
  <dc:description/>
  <dc:language>en-US</dc:language>
  <cp:lastModifiedBy>ds0929</cp:lastModifiedBy>
  <dcterms:modified xsi:type="dcterms:W3CDTF">2013-04-25T03:49:12Z</dcterms:modified>
  <cp:revision>1</cp:revision>
  <dc:subject/>
  <dc:title>Slide 1</dc:title>
</cp:coreProperties>
</file>