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844-B1EC-4EB7-AA46-177E5CE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E2F-0322-4B5A-8374-D1EB4615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057-9DD1-4B33-A3A7-54F42791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A4-98B6-443E-9B97-189033AB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653-4D80-4D46-A227-C9F63C25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2B3-3D6D-46B5-96DB-00AF5C8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370-2A59-4B1B-88E2-348DC50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6D2-EDCC-4EBF-AA6A-545B434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5F9-E82E-45D6-AB91-9109527E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0BD-9272-4C3C-905E-F6040A1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5D1-AB1E-4CE8-9FE8-3FD8A50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53A-8901-44EC-ACB5-5888CB4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242A-FAA9-4045-A9B1-83786A7E5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0" y="260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6:41Z</dcterms:created>
  <dc:creator>ds0929</dc:creator>
  <dc:description/>
  <dc:language>en-US</dc:language>
  <cp:lastModifiedBy>ds0929</cp:lastModifiedBy>
  <dcterms:modified xsi:type="dcterms:W3CDTF">2013-04-25T03:57:12Z</dcterms:modified>
  <cp:revision>1</cp:revision>
  <dc:subject/>
  <dc:title>Slide 1</dc:title>
</cp:coreProperties>
</file>