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2FF-E9BF-45F1-BB28-476341BA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0B9-C81A-45D0-A7C8-E02B3D6D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B15-3428-4E7F-9FFF-7E3363BC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BEE-B817-4351-B292-32350DB8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9A9-8015-4C64-9544-2C2661F4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2D5-A7BE-48E3-B311-27589833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440-C4A6-4014-A7D9-CE46D471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5B6-BDAF-4C99-BABC-E31329B3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993-75FE-447D-A41B-F6E87936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80B-25E9-4910-AA5C-DEC675BF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234-D415-49A0-8865-B253BF57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4BC-C12B-413E-AB14-F77A7671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6A01-5EE1-4E40-A28E-FCDA7CC745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0_U Kyaw Naing.mp3" descr=""/>
          <p:cNvPicPr/>
          <p:nvPr/>
        </p:nvPicPr>
        <p:blipFill>
          <a:blip r:embed="rId2"/>
          <a:stretch/>
        </p:blipFill>
        <p:spPr>
          <a:xfrm>
            <a:off x="8244000" y="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7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57:17Z</dcterms:created>
  <dc:creator>ds0929</dc:creator>
  <dc:description/>
  <dc:language>en-US</dc:language>
  <cp:lastModifiedBy>ds0929</cp:lastModifiedBy>
  <dcterms:modified xsi:type="dcterms:W3CDTF">2013-04-25T03:57:54Z</dcterms:modified>
  <cp:revision>1</cp:revision>
  <dc:subject/>
  <dc:title>Slide 1</dc:title>
</cp:coreProperties>
</file>