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C78-9808-4E65-8F97-C8165414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BCD-1C04-4985-ABD6-4F08C02A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ABE-E1D2-42A2-8BC5-5CDE6F51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79F-F834-4396-A3ED-9FAF6FB1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BD6-E787-4B8F-B497-41780F48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F00-6F15-4580-B19C-40D0E7EC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036-8F58-4D94-91AB-9933B48C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081-9DE8-4A27-A974-B50E821C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5B7-28F5-4CE0-A1D9-29D98B01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6EF-63A7-4CE2-A109-62F7970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C8E-F5BF-4EEE-A125-650BA3B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02F-AD2C-49F1-9C2F-31081E6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11DB-01A7-430D-803C-4DBB43F50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26272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0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1:17Z</dcterms:created>
  <dc:creator>ds0929</dc:creator>
  <dc:description/>
  <dc:language>en-US</dc:language>
  <cp:lastModifiedBy>ds0929</cp:lastModifiedBy>
  <dcterms:modified xsi:type="dcterms:W3CDTF">2013-04-27T05:02:03Z</dcterms:modified>
  <cp:revision>1</cp:revision>
  <dc:subject/>
  <dc:title>Slide 1</dc:title>
</cp:coreProperties>
</file>