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0CF-FF83-4265-9B6E-71966D27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EB7-02F3-42F6-8281-12251DB7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0E8-8FAC-45F0-B498-253011B8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870A-043A-4875-9399-B06378CA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EF8A-4802-470B-AA73-5D2CCF17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E98F-A696-4B69-B843-5EF41F2D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297B-BF26-4BB8-932A-57BAA505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A77C-548D-458E-8DD4-A1FC2435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54F-A2BA-4348-942F-3E7C78E7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B88-D27B-4A9E-91E8-B1357CF8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3CD-AC89-42D4-8527-D0CE5E18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A12D-EF8C-4E7B-87EF-C14C56AB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428E-3994-44C5-AB91-0B11B8A088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70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3_U Kyaw Naing.mp3" descr=""/>
          <p:cNvPicPr/>
          <p:nvPr/>
        </p:nvPicPr>
        <p:blipFill>
          <a:blip r:embed="rId2"/>
          <a:stretch/>
        </p:blipFill>
        <p:spPr>
          <a:xfrm>
            <a:off x="284328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388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4:57:38Z</dcterms:created>
  <dc:creator>ds0929</dc:creator>
  <dc:description/>
  <dc:language>en-US</dc:language>
  <cp:lastModifiedBy>ds0929</cp:lastModifiedBy>
  <dcterms:modified xsi:type="dcterms:W3CDTF">2013-04-27T04:58:15Z</dcterms:modified>
  <cp:revision>1</cp:revision>
  <dc:subject/>
  <dc:title>Slide 1</dc:title>
</cp:coreProperties>
</file>