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4E0-6941-4A6C-A475-8B125558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6AF-2CB8-44F5-8A1A-DDAA236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359-0E1B-441A-B07C-48F2F076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762-97C9-495A-88BA-5295DF5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5B7-BD79-411D-B68D-0CE10E2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59B-B26C-4AC1-9360-661826F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833-B115-426C-ACF3-227CEEC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4A5-0F9D-4C97-979C-EB4D5AB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B6A-2226-45E3-B51C-23A23DF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FAB-AA2C-4DC6-B604-5B3402C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A97-0454-482D-B496-DC551D0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F18-E309-4BEA-A555-5C088CC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85A9-C734-42DE-A74A-875BAE7CC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 (2).mp3" descr=""/>
          <p:cNvPicPr/>
          <p:nvPr/>
        </p:nvPicPr>
        <p:blipFill>
          <a:blip r:embed="rId2"/>
          <a:stretch/>
        </p:blipFill>
        <p:spPr>
          <a:xfrm>
            <a:off x="5219640" y="629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22:27Z</dcterms:created>
  <dc:creator>Administrator</dc:creator>
  <dc:description/>
  <dc:language>en-US</dc:language>
  <cp:lastModifiedBy>Administrator</cp:lastModifiedBy>
  <dcterms:modified xsi:type="dcterms:W3CDTF">2013-05-02T05:44:10Z</dcterms:modified>
  <cp:revision>3</cp:revision>
  <dc:subject/>
  <dc:title>PowerPoint Presentation</dc:title>
</cp:coreProperties>
</file>