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3ED-49A4-4A23-A65D-7F5557E6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F6E-5E77-406B-B0B5-69F9B52B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A94-F08A-4C36-8462-25505B4B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176-E248-4B28-A6A2-F10BF6DB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EEC-96CF-4A9E-95BF-E508CDA7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FA3-3A14-4FD3-A833-8864C562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085-9AB4-4D53-BD01-1874A128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E9E-1E23-41FC-8C04-C51286B0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C4C-08E6-46B2-9F0D-591620A5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47A-6425-4D56-B592-56EFBC8F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43F-8E62-40AB-86C7-80E1228A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BDC-0A6E-452E-92F4-FE3E3783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F02E-4361-4F04-8862-4C7B656E74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4_U Kyaw Naing.mp3" descr=""/>
          <p:cNvPicPr/>
          <p:nvPr/>
        </p:nvPicPr>
        <p:blipFill>
          <a:blip r:embed="rId2"/>
          <a:stretch/>
        </p:blipFill>
        <p:spPr>
          <a:xfrm>
            <a:off x="838836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12:13Z</dcterms:created>
  <dc:creator>Administrator</dc:creator>
  <dc:description/>
  <dc:language>en-US</dc:language>
  <cp:lastModifiedBy>Administrator</cp:lastModifiedBy>
  <dcterms:modified xsi:type="dcterms:W3CDTF">2013-05-02T05:44:47Z</dcterms:modified>
  <cp:revision>3</cp:revision>
  <dc:subject/>
  <dc:title>PowerPoint Presentation</dc:title>
</cp:coreProperties>
</file>