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2B2-1F27-45BD-A0A0-47AF14B9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D17-B770-46B9-9B5A-067607B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BDF-80F7-4EEF-82D9-51BB1438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416-FCFE-4F78-B0C8-DAB1C7A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F80-2085-4A7A-B57D-1EC9097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C53-97FA-43F6-BB28-4A0988D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E27-8575-470B-8F32-C8FBEBF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D5E-E574-4618-9F11-53E8D8D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E1F-52E2-4DDC-8493-023BA83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03A-1043-4172-847A-11EC072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547-2F2F-47E5-AA3B-45A09E3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DA4-928B-45F0-BACF-6BCC729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AE3-A698-4763-8E34-9120DEF55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601200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6:49Z</dcterms:created>
  <dc:creator>Administrator</dc:creator>
  <dc:description/>
  <dc:language>en-US</dc:language>
  <cp:lastModifiedBy>Administrator</cp:lastModifiedBy>
  <dcterms:modified xsi:type="dcterms:W3CDTF">2013-05-02T05:44:27Z</dcterms:modified>
  <cp:revision>3</cp:revision>
  <dc:subject/>
  <dc:title>PowerPoint Presentation</dc:title>
</cp:coreProperties>
</file>