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9E3-0EB9-4489-B845-5223CD00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D5E-CB69-4FC6-81CB-3652B67D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E75-BCC3-4AE0-A762-905B6F42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99E-D27A-4163-98E9-3D9D466D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FA0-9D5E-4D59-BAB4-C397D6A3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EF4-5BB8-4085-9CED-49876012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1CE-2086-4033-A19B-4EA25833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396-B686-4065-95CE-B2E27AA6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F66-0C40-473C-A66B-8C5FC7C8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F1F-6158-4340-9FB1-E2F0539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30D-CD18-4012-90F4-90B64F2A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70D-47EE-404A-8922-315CFE3B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118-9061-4A5D-87D9-AAD9FB5886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2627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6:53Z</dcterms:created>
  <dc:creator>ds0929</dc:creator>
  <dc:description/>
  <dc:language>en-US</dc:language>
  <cp:lastModifiedBy>ds0929</cp:lastModifiedBy>
  <dcterms:modified xsi:type="dcterms:W3CDTF">2013-04-25T03:47:22Z</dcterms:modified>
  <cp:revision>1</cp:revision>
  <dc:subject/>
  <dc:title>Slide 1</dc:title>
</cp:coreProperties>
</file>