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EC5E-0D9B-4791-972C-22D1A7F24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9DFC-BC33-4D3B-80C4-4D66438A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B54A-EA8A-45E1-B3D2-004F91F5E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75E7-CDE0-47DF-90F4-A4C94A08A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B96E-E901-44AD-828D-6E966D46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A9F9-CD67-463B-B5ED-ED23E440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34C1-5B93-464E-AADC-5E5ECBD7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4071-F785-4E9B-AEB1-3767D4F5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8095-1F7E-4AFA-BEF8-941D0642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F8F7-E8E9-443B-B06A-531E3C86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CEDF-AFDC-4194-9027-7E2E842F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45D3-0459-41AD-B10A-E84A0F06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32BA-FD83-4DB0-B592-4D7D4A74BE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400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6_U Kyaw Naing.mp3" descr=""/>
          <p:cNvPicPr/>
          <p:nvPr/>
        </p:nvPicPr>
        <p:blipFill>
          <a:blip r:embed="rId2"/>
          <a:stretch/>
        </p:blipFill>
        <p:spPr>
          <a:xfrm>
            <a:off x="1476360" y="6620040"/>
            <a:ext cx="23652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612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7T05:00:27Z</dcterms:created>
  <dc:creator>ds0929</dc:creator>
  <dc:description/>
  <dc:language>en-US</dc:language>
  <cp:lastModifiedBy>ds0929</cp:lastModifiedBy>
  <dcterms:modified xsi:type="dcterms:W3CDTF">2013-04-27T05:01:11Z</dcterms:modified>
  <cp:revision>1</cp:revision>
  <dc:subject/>
  <dc:title>Slide 1</dc:title>
</cp:coreProperties>
</file>