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B147-F2A5-4843-84FB-89309E362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197B-7E0B-4914-A70B-E3F7D4520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85A7-25BC-4FCB-BE7F-DE6B52F86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64D4-E9FD-4523-AF0D-83532F050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A4C0-7F45-4C1E-8955-6F54FF399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37B7-4ACC-49F0-AFA6-970568E72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BFA2-6CFB-40B1-B6BA-53250E772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42ED-C371-4533-98D8-6E7C0727F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34E8-0EE8-4917-9E83-A65532DE9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3814-63E9-4F09-80AE-44987648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1E31-322A-4E04-A094-5679D219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F978-31DB-49FA-9740-FC81FD21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A925F-DDC0-44C0-81D9-1AB79A1573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2400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8_U Kyaw Naing.mp3" descr=""/>
          <p:cNvPicPr/>
          <p:nvPr/>
        </p:nvPicPr>
        <p:blipFill>
          <a:blip r:embed="rId2"/>
          <a:stretch/>
        </p:blipFill>
        <p:spPr>
          <a:xfrm>
            <a:off x="2700360" y="66135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865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7T05:02:20Z</dcterms:created>
  <dc:creator>ds0929</dc:creator>
  <dc:description/>
  <dc:language>en-US</dc:language>
  <cp:lastModifiedBy>ds0929</cp:lastModifiedBy>
  <dcterms:modified xsi:type="dcterms:W3CDTF">2013-04-27T05:02:53Z</dcterms:modified>
  <cp:revision>1</cp:revision>
  <dc:subject/>
  <dc:title>Slide 1</dc:title>
</cp:coreProperties>
</file>