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7F5-3DC7-44A5-AE94-3D8DAF3F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E91-5129-44B6-AFCB-9FA455E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034-4EB2-4A29-BD86-CCDFB104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2F0-9651-4FDA-88B5-31D5B0E3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9B7-F9A5-4A71-B90C-CBE5352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85E-29E5-48EB-BDF0-26BAA45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417-5613-42BF-9806-6474B5F2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E2D-0AE5-4A80-B856-3FF8AAF1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3A6-088F-47C7-885D-40550A5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712-3525-49F5-B4AA-E8072AA3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2D0-73F8-4696-87C2-6B21020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AD9-5E8F-44C2-96F2-9C1957F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D69-61A0-4F1C-BEDF-73C1AB7ED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212400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30:23Z</dcterms:created>
  <dc:creator>Administrator</dc:creator>
  <dc:description/>
  <dc:language>en-US</dc:language>
  <cp:lastModifiedBy>Administrator</cp:lastModifiedBy>
  <dcterms:modified xsi:type="dcterms:W3CDTF">2013-05-02T05:31:23Z</dcterms:modified>
  <cp:revision>2</cp:revision>
  <dc:subject/>
  <dc:title>PowerPoint Presentation</dc:title>
</cp:coreProperties>
</file>