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B32-89BB-4797-940E-27DE2EDB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ACC-14F7-4648-8E67-FC51042B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5E9-14C8-4115-8BD4-FE63B84A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68A-BF53-4E0E-AE3E-07BF608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134-68A0-4796-9402-1E081508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6C7-7C4E-42CD-9EB6-147311E8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202-3F32-43D4-844C-7BFD616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2FD-0ED4-470B-9988-0BEFF050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B1C-A463-46FF-A823-EA30256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EBB-E2A9-43D6-B223-D76A904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AA9-006E-408B-BE33-0D1C580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BC3-4730-482A-B325-725C7AF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E43-9A45-42F6-A9E7-2400CABA35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396252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8:22Z</dcterms:created>
  <dc:creator>Administrator</dc:creator>
  <dc:description/>
  <dc:language>en-US</dc:language>
  <cp:lastModifiedBy>Administrator</cp:lastModifiedBy>
  <dcterms:modified xsi:type="dcterms:W3CDTF">2013-05-02T05:43:22Z</dcterms:modified>
  <cp:revision>2</cp:revision>
  <dc:subject/>
  <dc:title>PowerPoint Presentation</dc:title>
</cp:coreProperties>
</file>