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4C44-3DC9-4296-8629-941376BF0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A546-402C-44C3-B957-D3900EBE9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2B87-6DCD-41EB-B131-3EBD83DED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F105-3AF2-4E10-B920-C9315CEE4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B943-F2F4-4BBF-B72B-36ABCCB16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A88F-4C2E-4A94-88D4-B6B0C911D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C173-6201-44F8-9BAF-8855184AD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D372-FF09-4E4C-B371-C7822A688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1B5C-F95F-432B-AA8B-878A38A2A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806D-6DA9-4EF8-832A-8D7734060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387D-6158-4845-9DB4-DF0840723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BB7C-90C5-4F89-BF16-AB06D2E17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B75D6-61AC-4CB7-9906-C6C94BE9C88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0" y="-4586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02_U Kyaw Naing.mp3" descr=""/>
          <p:cNvPicPr/>
          <p:nvPr/>
        </p:nvPicPr>
        <p:blipFill>
          <a:blip r:embed="rId2"/>
          <a:stretch/>
        </p:blipFill>
        <p:spPr>
          <a:xfrm>
            <a:off x="5651640" y="573264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2T05:09:22Z</dcterms:created>
  <dc:creator>Administrator</dc:creator>
  <dc:description/>
  <dc:language>en-US</dc:language>
  <cp:lastModifiedBy>Administrator</cp:lastModifiedBy>
  <dcterms:modified xsi:type="dcterms:W3CDTF">2013-05-02T05:52:27Z</dcterms:modified>
  <cp:revision>6</cp:revision>
  <dc:subject/>
  <dc:title>PowerPoint Presentation</dc:title>
</cp:coreProperties>
</file>