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9C5-71D7-4FDC-B615-AD212288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244-B5CC-41BE-8642-BF10C91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CCB-5816-4BAB-9872-68382B60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587-D220-4557-93DD-43865B14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A5-EDF7-4831-8B5F-1EDF5541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061-54B2-4470-AD34-E7CCDFF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547-426D-4610-8899-C78F9460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452-2BD7-430A-937C-1D44876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DDD-51B9-4381-A95D-71E9E6A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8AB-D5C9-442A-963E-F063278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12B-80E3-466C-AED0-FD4D106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750-E33E-4CFC-B53D-293BE4C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FF4-1756-49F8-929D-7FEB9C65B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1403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2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11:36Z</dcterms:created>
  <dc:creator>ds0929</dc:creator>
  <dc:description/>
  <dc:language>en-US</dc:language>
  <cp:lastModifiedBy>ds0929</cp:lastModifiedBy>
  <dcterms:modified xsi:type="dcterms:W3CDTF">2013-04-27T05:12:11Z</dcterms:modified>
  <cp:revision>1</cp:revision>
  <dc:subject/>
  <dc:title>Slide 1</dc:title>
</cp:coreProperties>
</file>