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74A0-CBD2-4E8E-9A72-A9F84EBD8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CD43-94A1-4FB0-B34E-8937BD49D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6721-CE59-477A-9142-B1640276F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372C-D504-444E-B1A8-EF6FCB2B4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54BC-5E6F-4911-9B4D-EBA8DB3B3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B3C5-E1BE-4190-948A-2182E62B7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F44D-EB22-48B0-9671-757F0076E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87D1-869F-457C-913D-B7F80E383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B92E-0042-4198-9B06-5FD9F24CC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5A83-26C2-4618-8FED-E3AF91D52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D8B3-476C-4928-99CD-7423ADB72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6050-6F86-4450-9EC0-FFF308814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AC31E-81F2-4CBD-845E-8813CAE95AC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24004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03_U Kyaw Naing.mp3" descr=""/>
          <p:cNvPicPr/>
          <p:nvPr/>
        </p:nvPicPr>
        <p:blipFill>
          <a:blip r:embed="rId2"/>
          <a:stretch/>
        </p:blipFill>
        <p:spPr>
          <a:xfrm>
            <a:off x="5364000" y="6613560"/>
            <a:ext cx="24480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67936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5T03:43:35Z</dcterms:created>
  <dc:creator>ds0929</dc:creator>
  <dc:description/>
  <dc:language>en-US</dc:language>
  <cp:lastModifiedBy>ds0929</cp:lastModifiedBy>
  <dcterms:modified xsi:type="dcterms:W3CDTF">2013-04-25T03:44:16Z</dcterms:modified>
  <cp:revision>1</cp:revision>
  <dc:subject/>
  <dc:title>Slide 1</dc:title>
</cp:coreProperties>
</file>