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D8E-4830-4CC8-A9CD-5CCAD599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DFE-8CAC-45CF-9591-EC742829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3BD-40FD-4415-A114-7B22723C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32C-E06D-40A1-9539-40BF40ED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8F2-F624-4FD7-8D12-2B17792D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820-C0B1-4582-B229-C5BFC810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C83-17E3-4E97-A0E6-4D317BA5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6AE-E9BF-4563-A7E8-570F856E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1EB-9B6D-4058-9A2B-9EAC40A8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DAB-EA11-49FB-AB3B-83A4C2C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694-A839-48A9-9718-D1637BD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183-8E42-40DA-9CE1-04BF018A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C0D-47F2-41C7-98AD-8A4C364FAF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2916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2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10:59Z</dcterms:created>
  <dc:creator>ds0929</dc:creator>
  <dc:description/>
  <dc:language>en-US</dc:language>
  <cp:lastModifiedBy>ds0929</cp:lastModifiedBy>
  <dcterms:modified xsi:type="dcterms:W3CDTF">2013-04-27T05:11:32Z</dcterms:modified>
  <cp:revision>1</cp:revision>
  <dc:subject/>
  <dc:title>Slide 1</dc:title>
</cp:coreProperties>
</file>