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152-7B57-4A69-867E-70A8264C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679-829D-405E-B6F0-79FEA7F5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C22-B8AF-4F2B-8538-42292281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FF5-826A-4CB4-AA5E-CA872D51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658-B5E8-4DFF-80A0-B792C20C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52C-F990-4D66-9A84-1FAC7868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F68-D0D0-4B8C-8A44-FBD6A037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A23-4D83-4E75-8668-8FC55111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205-E2EB-4E65-BEEC-38A52CF2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3B4-D653-439C-8D9A-80AAADF2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06E-687F-4D16-BCE2-2D21874B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95C-5D25-41A2-9176-5C402209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3D9B-D33C-4236-8426-5A16FACC1E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9_U Kyaw Naing.mp3" descr=""/>
          <p:cNvPicPr/>
          <p:nvPr/>
        </p:nvPicPr>
        <p:blipFill>
          <a:blip r:embed="rId2"/>
          <a:stretch/>
        </p:blipFill>
        <p:spPr>
          <a:xfrm>
            <a:off x="2700360" y="61657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32:59Z</dcterms:created>
  <dc:creator>Administrator</dc:creator>
  <dc:description/>
  <dc:language>en-US</dc:language>
  <cp:lastModifiedBy>Administrator</cp:lastModifiedBy>
  <dcterms:modified xsi:type="dcterms:W3CDTF">2013-05-02T05:34:13Z</dcterms:modified>
  <cp:revision>2</cp:revision>
  <dc:subject/>
  <dc:title>PowerPoint Presentation</dc:title>
</cp:coreProperties>
</file>