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53B-236B-4819-8629-052EDDDD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D7C-3090-4EA3-B9EA-75E48AA7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53F-832D-43EE-B4F4-600D9039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72C-28AC-418C-808B-9EA19796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497-5304-4634-9424-12ACBA85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2DC-3B1E-409A-ADA7-E8A61D67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938-BEC5-4C0A-AC0F-24767C9A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86B-B3D8-4CCA-9ABE-A376AA13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FBC-7CB5-4A3E-B80D-1E00F884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631-2DE3-4DC8-A5EE-764C48A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CD9-57E0-44BF-861C-2310D93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BF9-3400-42A6-9312-FED56D3C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E0DB-51A4-4D77-95FC-062476B4B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0_U Kyaw Naing.mp3" descr=""/>
          <p:cNvPicPr/>
          <p:nvPr/>
        </p:nvPicPr>
        <p:blipFill>
          <a:blip r:embed="rId2"/>
          <a:stretch/>
        </p:blipFill>
        <p:spPr>
          <a:xfrm>
            <a:off x="2627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88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3:39Z</dcterms:created>
  <dc:creator>ds0929</dc:creator>
  <dc:description/>
  <dc:language>en-US</dc:language>
  <cp:lastModifiedBy>ds0929</cp:lastModifiedBy>
  <dcterms:modified xsi:type="dcterms:W3CDTF">2013-04-27T05:04:10Z</dcterms:modified>
  <cp:revision>1</cp:revision>
  <dc:subject/>
  <dc:title>Slide 1</dc:title>
</cp:coreProperties>
</file>