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823-E392-4D17-90F8-C4607B45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EC5-2C49-485D-97D9-83561B3F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A55-D2B0-4A8A-94C8-DF441938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C8E-9B55-4B1E-A513-880399F9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16D-CE4B-4ECC-B849-97E1CD82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370-625F-47BD-9B43-AC92C55F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D26-54CA-41FD-AFDC-62A0039B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8AE-3BD1-439D-9872-23611B1F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9A9-A15C-462F-9252-62E2775B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1CE-FEE1-4E6C-ADBE-DF80F7E5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230-CCDD-4C7B-A505-010500F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D6F-6BCB-4769-A4C0-343F9341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1843-9FB9-4AFD-9050-A495B0A9C1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3203640" y="6308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5:05:17Z</dcterms:created>
  <dc:creator>Administrator</dc:creator>
  <dc:description/>
  <dc:language>en-US</dc:language>
  <cp:lastModifiedBy>Administrator</cp:lastModifiedBy>
  <dcterms:modified xsi:type="dcterms:W3CDTF">2013-05-02T05:49:20Z</dcterms:modified>
  <cp:revision>8</cp:revision>
  <dc:subject/>
  <dc:title>PowerPoint Presentation</dc:title>
</cp:coreProperties>
</file>