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B24-3F2E-4394-8C6C-6598149A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C4D-EE80-4D3D-A143-C0AC39A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727-61A3-4FB1-876B-B5EEEE39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E50-8FF7-4E21-ADBA-9A5078E6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11A-B7B8-456A-9999-160743C1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CB-697E-42AC-82B3-5DD2372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AEA-1339-40BA-A125-569680E0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B15-F966-4F01-873C-9E8948E2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F61-4EE6-4159-AB1A-30922CF5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679-68E2-4CED-A9AD-D72013F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555-385F-4407-9D88-AB5D557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93F-0382-428F-9EB0-C5E1A227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6502-CB3B-43A3-91DB-1BE603613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5219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9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6:24Z</dcterms:created>
  <dc:creator>ds0929</dc:creator>
  <dc:description/>
  <dc:language>en-US</dc:language>
  <cp:lastModifiedBy>ds0929</cp:lastModifiedBy>
  <dcterms:modified xsi:type="dcterms:W3CDTF">2013-04-27T04:57:31Z</dcterms:modified>
  <cp:revision>1</cp:revision>
  <dc:subject/>
  <dc:title>Slide 1</dc:title>
</cp:coreProperties>
</file>