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9190-C82D-43E1-BDD8-75D002A8A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6F77-F14E-4716-8A78-CE33F3AD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A7AE-B299-4B2B-8171-63D90509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3A7D-CEAF-4D79-96DC-1192BA90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1C1C-61E3-4044-AF49-9C683CCF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3044-5701-443D-8DE4-DB2C3D22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AB04-A5BD-4C22-8A77-63119709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41F0-042B-40B1-9FA4-F8D96760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8C80-C792-4774-BC37-6C7561CB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AE8D-10B2-4B56-916A-7130268A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E468-32C4-4A46-B3A4-1C5EEB2F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3744-FF02-415E-9E68-FE3C23A6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521F-9543-4329-A562-1FEBF05C53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400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0_U Kyaw Naing.mp3" descr=""/>
          <p:cNvPicPr/>
          <p:nvPr/>
        </p:nvPicPr>
        <p:blipFill>
          <a:blip r:embed="rId2"/>
          <a:stretch/>
        </p:blipFill>
        <p:spPr>
          <a:xfrm>
            <a:off x="234000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467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03:48:04Z</dcterms:created>
  <dc:creator>ds0929</dc:creator>
  <dc:description/>
  <dc:language>en-US</dc:language>
  <cp:lastModifiedBy>ds0929</cp:lastModifiedBy>
  <dcterms:modified xsi:type="dcterms:W3CDTF">2013-04-25T03:48:35Z</dcterms:modified>
  <cp:revision>1</cp:revision>
  <dc:subject/>
  <dc:title>Slide 1</dc:title>
</cp:coreProperties>
</file>