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257-ADA0-4D16-85CF-68A0F04E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137-ACDC-4787-BCCD-BB008A8D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D23-12CC-4D37-9066-A4091D46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EE5-8CC6-4376-B96A-DC8D98ED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C88-6D7C-482A-BE4E-1DCCA787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880-7326-4479-90E6-900A1FE2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EDE-D246-42C8-9158-43B5FD4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0B0-69E2-4F5C-8856-B204DC62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772-2EF9-499F-9ABC-4A0E4689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922-B43C-4A3B-BBD2-9C73107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EC3-1DC6-4564-8745-1FE4856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B23-1D54-4E51-B7C6-ABD9226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2432-6A8A-4376-9D6F-F1BBB943A7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68436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1981080" y="60768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31:27Z</dcterms:created>
  <dc:creator>Administrator</dc:creator>
  <dc:description/>
  <dc:language>en-US</dc:language>
  <cp:lastModifiedBy>Administrator</cp:lastModifiedBy>
  <dcterms:modified xsi:type="dcterms:W3CDTF">2013-05-02T05:32:53Z</dcterms:modified>
  <cp:revision>2</cp:revision>
  <dc:subject/>
  <dc:title>PowerPoint Presentation</dc:title>
</cp:coreProperties>
</file>