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24E-2B6E-433E-BEC1-CF936455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10A-88B6-428C-9A9C-A6C70BCD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772-B2F7-4171-AE20-1BC0EB93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0C6-93F8-4277-AA88-B8F819A1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4C9-6861-4B59-942F-C5195DE4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86C-3A17-44FF-99FD-EA18BBE0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DDB-66BF-4EAD-B50D-455E9BAB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B9B-E3C9-4987-B960-14C5066A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C76-8D44-481F-BBE5-D64F20D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60E-6FE9-4622-9127-359ED05C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9C3-F548-434B-B56F-E234C080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A62-73B8-479D-AE1D-974C601D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4F50-210C-4066-81FD-4FF814489E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.mp3" descr=""/>
          <p:cNvPicPr/>
          <p:nvPr/>
        </p:nvPicPr>
        <p:blipFill>
          <a:blip r:embed="rId2"/>
          <a:stretch/>
        </p:blipFill>
        <p:spPr>
          <a:xfrm>
            <a:off x="3657600" y="6165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42:20Z</dcterms:created>
  <dc:creator>Administrator</dc:creator>
  <dc:description/>
  <dc:language>en-US</dc:language>
  <cp:lastModifiedBy>Administrator</cp:lastModifiedBy>
  <dcterms:modified xsi:type="dcterms:W3CDTF">2013-05-02T05:43:15Z</dcterms:modified>
  <cp:revision>2</cp:revision>
  <dc:subject/>
  <dc:title>PowerPoint Presentation</dc:title>
</cp:coreProperties>
</file>