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BE89-28C3-4285-80D5-7770A02D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1A6A-D77D-46CF-8A07-FA34B790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6904-9535-4567-96BB-04FE5264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C8CF-8272-4F62-BDD7-A69C78A5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1E2-A023-4B6C-B79D-24813F97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B75A-5347-4767-AEA0-884002D5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DA44-027F-400D-B4AE-F39FED39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C95D-2465-4898-A03E-6275A402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937-A0DE-45BC-A299-94315A4A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7BB5-14E0-49D5-B5B4-E4BC57D4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A320-5193-41CC-8A49-12AA2C15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0FD7-FC96-4BDD-9D3F-5252E7B2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20DA-6D3F-448E-A9DD-36B971C21B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7_U Kyaw Naing.mp3" descr=""/>
          <p:cNvPicPr/>
          <p:nvPr/>
        </p:nvPicPr>
        <p:blipFill>
          <a:blip r:embed="rId2"/>
          <a:stretch/>
        </p:blipFill>
        <p:spPr>
          <a:xfrm>
            <a:off x="277164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323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3:46:11Z</dcterms:created>
  <dc:creator>ds0929</dc:creator>
  <dc:description/>
  <dc:language>en-US</dc:language>
  <cp:lastModifiedBy>ds0929</cp:lastModifiedBy>
  <dcterms:modified xsi:type="dcterms:W3CDTF">2013-04-25T03:46:48Z</dcterms:modified>
  <cp:revision>1</cp:revision>
  <dc:subject/>
  <dc:title>Slide 1</dc:title>
</cp:coreProperties>
</file>