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1BE-D80A-45CA-A38C-F05E9692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F57-1B67-43A1-968F-F5969552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84B-361B-4D8D-8FFA-18D97839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A6F-8635-475B-9387-98609ADE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F6-D8E5-4733-B16F-6348EF33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4C5-7488-4F88-BA05-9A79DDE5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BC5-BA0C-45C8-909D-4C558D5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4AE-5DBA-4FDD-811F-9847DFD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A84-F6B2-4272-B7C5-36389250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5BB-C0F1-4D10-8D4F-88D15CA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46A-2442-4896-A319-755A53D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A79-2A81-4288-9641-CCFA08A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E005-F45A-41D1-B742-4DB3479DCF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2195640" y="6308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8:30Z</dcterms:created>
  <dc:creator>Administrator</dc:creator>
  <dc:description/>
  <dc:language>en-US</dc:language>
  <cp:lastModifiedBy>Administrator</cp:lastModifiedBy>
  <dcterms:modified xsi:type="dcterms:W3CDTF">2013-05-02T05:21:05Z</dcterms:modified>
  <cp:revision>2</cp:revision>
  <dc:subject/>
  <dc:title>PowerPoint Presentation</dc:title>
</cp:coreProperties>
</file>