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6B3-BDFE-49BD-968E-84A52A5E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45C-8A59-4C1C-A097-33D04D3F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7A8-EE41-464B-99F6-92E2CBF6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7F8-499B-41B3-8A59-D41872A0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EBD-52EB-4F36-BE1A-2407749A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251-D416-4AD1-8221-E1E66029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F26-28A3-45B7-A794-ECC3F36B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F44-4981-4002-909F-54B914E4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3F5-F167-4CD8-94D3-2358928D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927-9D0B-4A5E-9AA3-515E385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13C-FBE1-4FBB-A234-44C1B04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E84-6C65-44D9-906E-7F43E19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A5FE-AF19-4637-8497-720B97016E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2700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4:21Z</dcterms:created>
  <dc:creator>ds0929</dc:creator>
  <dc:description/>
  <dc:language>en-US</dc:language>
  <cp:lastModifiedBy>ds0929</cp:lastModifiedBy>
  <dcterms:modified xsi:type="dcterms:W3CDTF">2013-04-25T03:44:55Z</dcterms:modified>
  <cp:revision>1</cp:revision>
  <dc:subject/>
  <dc:title>Slide 1</dc:title>
</cp:coreProperties>
</file>