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B65-7DD4-4244-A004-47336F5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8A5-6329-4776-82CA-1FC6F75C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6D0-0453-4A7F-BE77-F5C023B4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58A-84E4-41E5-8623-C9131664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BCE-AFE9-44A8-AD71-ACCAB88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9A4-2DF5-42CE-9057-70E5410E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638-8C8C-4D54-A547-784BA85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33F-AF7F-442D-B192-9FC9B65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507-88C9-4F31-872B-9D605ED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361-53D9-49B5-9A7A-BE3A2DEF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D8D-C8DE-410A-9ED2-3B03727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207-126D-43B0-A9B0-1A0B861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70E-B97E-424C-BF68-D58FBB4DA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3_U Kyaw Naing.mp3" descr=""/>
          <p:cNvPicPr/>
          <p:nvPr/>
        </p:nvPicPr>
        <p:blipFill>
          <a:blip r:embed="rId2"/>
          <a:stretch/>
        </p:blipFill>
        <p:spPr>
          <a:xfrm>
            <a:off x="8317080" y="350028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9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4:02:35Z</dcterms:created>
  <dc:creator>ds0929</dc:creator>
  <dc:description/>
  <dc:language>en-US</dc:language>
  <cp:lastModifiedBy>ds0929</cp:lastModifiedBy>
  <dcterms:modified xsi:type="dcterms:W3CDTF">2013-04-25T04:03:05Z</dcterms:modified>
  <cp:revision>1</cp:revision>
  <dc:subject/>
  <dc:title>Slide 1</dc:title>
</cp:coreProperties>
</file>