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1F43-BA3B-4AA5-963D-ACA2C9FB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158-1277-4BFF-87E1-B23DFD14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EDB-B9F0-427F-8B39-CA1A936A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F99-00AD-4C8B-B62A-83B17F80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577-BD76-450A-854C-72DB48F3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22E-FC89-4A6F-91ED-D0B868C7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EEC-EEBC-4501-AD51-D68193A6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C70-6E9B-4026-BC0A-1C3E3F3D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4C4-AB00-4023-90B6-E063D361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889-E415-4E8C-BE2F-B69247A9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5A8-4D76-47D8-8A83-97857C1A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291-AC16-41BD-9794-9388D6C2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BD07-2153-476A-B7E0-F129DD218E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4_U Kyaw Naing.mp3" descr=""/>
          <p:cNvPicPr/>
          <p:nvPr/>
        </p:nvPicPr>
        <p:blipFill>
          <a:blip r:embed="rId2"/>
          <a:stretch/>
        </p:blipFill>
        <p:spPr>
          <a:xfrm>
            <a:off x="450072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32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58:21Z</dcterms:created>
  <dc:creator>ds0929</dc:creator>
  <dc:description/>
  <dc:language>en-US</dc:language>
  <cp:lastModifiedBy>ds0929</cp:lastModifiedBy>
  <dcterms:modified xsi:type="dcterms:W3CDTF">2013-04-27T04:59:14Z</dcterms:modified>
  <cp:revision>1</cp:revision>
  <dc:subject/>
  <dc:title>Slide 1</dc:title>
</cp:coreProperties>
</file>