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8EE-E56E-4D5C-BEC0-2F284052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897-2631-41CB-B24F-B9B4D72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20F-52A1-483A-878F-83140E4C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96E-4AB0-4537-8156-4980C5E3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919-4A28-4428-A0A8-67E2179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0AD-B488-487B-8124-662CDD0F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8D9-0C99-4F06-831D-61EFC20B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876-8595-4B92-ADA8-A7604828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698-CB02-4F76-A261-D7EDC11C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117-F06B-409E-B5BF-A27FC3BA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619-FD32-47FC-A873-25313B6D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67A-4DC0-49E6-A40B-4B2E05B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AA04-89B8-400A-BD48-5786F8033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3924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2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59:20Z</dcterms:created>
  <dc:creator>ds0929</dc:creator>
  <dc:description/>
  <dc:language>en-US</dc:language>
  <cp:lastModifiedBy>ds0929</cp:lastModifiedBy>
  <dcterms:modified xsi:type="dcterms:W3CDTF">2013-04-27T05:00:22Z</dcterms:modified>
  <cp:revision>1</cp:revision>
  <dc:subject/>
  <dc:title>Slide 1</dc:title>
</cp:coreProperties>
</file>