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3AB-51FE-4A10-B50F-65585A2C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BC5-E78F-4DF3-B64F-5FC6EB1F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987F-DBF2-4BA2-91D4-488A3528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E65-6309-4430-9152-9ACD643E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009-568D-43C5-9BB6-BF712319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66C3-FB55-4827-96FC-19C84DC9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297F-27A0-47BD-AE9F-2A66B8CC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43EB-C095-4FCF-BF5C-CF8539AA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2716-5C8F-466C-B57C-E412F320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241-EA81-44E1-9095-FA60CADF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2A4-C0E5-4D4B-A3E9-1AB33415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CBD-7BE2-4E78-A972-138E63E0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28F1-B3DA-40A2-9CC8-730A65CF5D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6_U Kyaw Naing.mp3" descr=""/>
          <p:cNvPicPr/>
          <p:nvPr/>
        </p:nvPicPr>
        <p:blipFill>
          <a:blip r:embed="rId2"/>
          <a:stretch/>
        </p:blipFill>
        <p:spPr>
          <a:xfrm>
            <a:off x="2987640" y="645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37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45:37Z</dcterms:created>
  <dc:creator>ds0929</dc:creator>
  <dc:description/>
  <dc:language>en-US</dc:language>
  <cp:lastModifiedBy>ds0929</cp:lastModifiedBy>
  <dcterms:modified xsi:type="dcterms:W3CDTF">2013-04-25T03:46:07Z</dcterms:modified>
  <cp:revision>1</cp:revision>
  <dc:subject/>
  <dc:title>Slide 1</dc:title>
</cp:coreProperties>
</file>