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CC79-DF2A-492E-A21B-F27887C98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EC9E-5502-4D3B-A3AB-A2F8D382C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0319-43F4-4FFA-9559-7AC36C614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2D05-1222-432E-BD62-3AD4B245F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818A-E56D-4A7C-AAD2-E520BC906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48D7-8577-4087-851D-8B898B55F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9C7D-8792-4E74-A41A-F6B706863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85A5-37E2-4415-B271-DD3DF2E39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DC4E-B0AC-4061-A2C4-0BEF4F129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6174-68AF-4EA9-A932-EA161634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645E-242A-4590-B5F2-BFCE0F22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19E4-F5FA-48E4-83E5-BC6ABF25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12BA3-FCEC-497F-890C-63BC1B19E8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2000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1_U Kyaw Naing.mp3" descr=""/>
          <p:cNvPicPr/>
          <p:nvPr/>
        </p:nvPicPr>
        <p:blipFill>
          <a:blip r:embed="rId2"/>
          <a:stretch/>
        </p:blipFill>
        <p:spPr>
          <a:xfrm>
            <a:off x="4572000" y="6453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3104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0T05:27:43Z</dcterms:created>
  <dc:creator>ds0929</dc:creator>
  <dc:description/>
  <dc:language>en-US</dc:language>
  <cp:lastModifiedBy>ds0929</cp:lastModifiedBy>
  <dcterms:modified xsi:type="dcterms:W3CDTF">2013-04-20T05:28:20Z</dcterms:modified>
  <cp:revision>1</cp:revision>
  <dc:subject/>
  <dc:title>Slide 1</dc:title>
</cp:coreProperties>
</file>