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7886-F2A3-47B5-94C2-DA4F43D90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6AF0-1B43-40BE-93F5-05C37354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CF51-91B3-4E83-AF69-D87AFB96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BF54-1FEC-40F2-AB28-746705011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8CAA-02A5-42DC-AD24-456AA755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730A-F1C5-4D97-AB32-9BE454F4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962E-5899-4BD9-8E87-2E07762C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3D6A-3A57-482C-9B2A-753BEE18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67B2-DE20-46B2-AA0B-92FAA67A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BE14-9BD8-42FF-A179-85E0E606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ED1B-BB93-47AF-B6C7-6F530ECF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0BD9-F425-4C2A-ABEB-4CB54F0B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08E2-0224-4F84-8A93-8DB070BA67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90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9_U Kyaw Naing.mp3" descr=""/>
          <p:cNvPicPr/>
          <p:nvPr/>
        </p:nvPicPr>
        <p:blipFill>
          <a:blip r:embed="rId2"/>
          <a:stretch/>
        </p:blipFill>
        <p:spPr>
          <a:xfrm>
            <a:off x="7236000" y="6165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804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4:39:56Z</dcterms:created>
  <dc:creator>ds0929</dc:creator>
  <dc:description/>
  <dc:language>en-US</dc:language>
  <cp:lastModifiedBy>ds0929</cp:lastModifiedBy>
  <dcterms:modified xsi:type="dcterms:W3CDTF">2013-04-19T04:40:30Z</dcterms:modified>
  <cp:revision>1</cp:revision>
  <dc:subject/>
  <dc:title>Slide 1</dc:title>
</cp:coreProperties>
</file>