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73DA-3EFF-4ABC-9711-4093340D7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C7F4-3A25-432F-98BD-3C610CC2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5682-E702-47FA-8825-71874B97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5BCB-297C-4E84-A8AA-E7BA359B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A199-6D9B-45CB-8DB0-4E580F34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C5F7-EC2E-4B5A-8398-FBA3CB3C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F164-AF59-4BBD-AB63-E2E93294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085A-2D25-41B5-98A0-8DA03394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248B-70B9-4080-A2AA-30121B73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4085-AFB9-4582-A95A-0D267EA3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F25E-79C7-4770-AFCA-6837098A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0319-4DB1-4028-98F8-EE2F03DE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B20B-D21E-4D31-B3E6-E022897695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00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7_U Kyaw Naing.mp3" descr=""/>
          <p:cNvPicPr/>
          <p:nvPr/>
        </p:nvPicPr>
        <p:blipFill>
          <a:blip r:embed="rId2"/>
          <a:stretch/>
        </p:blipFill>
        <p:spPr>
          <a:xfrm>
            <a:off x="1908000" y="6613560"/>
            <a:ext cx="24480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968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0T05:24:55Z</dcterms:created>
  <dc:creator>ds0929</dc:creator>
  <dc:description/>
  <dc:language>en-US</dc:language>
  <cp:lastModifiedBy>ds0929</cp:lastModifiedBy>
  <dcterms:modified xsi:type="dcterms:W3CDTF">2013-04-20T05:25:33Z</dcterms:modified>
  <cp:revision>1</cp:revision>
  <dc:subject/>
  <dc:title>Slide 1</dc:title>
</cp:coreProperties>
</file>