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EE24-BB66-4C24-B9B7-C227187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0A6-BEE3-4592-986C-D08DCAA2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D5F-8860-48E1-A78F-EB668071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F89-D39A-4A9D-B77F-11BC9090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11E-7B63-43F5-8544-B3B042BB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FD7-5EC5-4A00-9818-7923B64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716-58A5-4C32-8B98-8282DA2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084-FCAE-48B8-9AAE-5674C645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6A3E-D89D-48D1-990C-488E589F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377-CC93-45C6-8A18-08DE2E5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FBC-96A2-477B-9553-5FC1F23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FC3-B4D8-40EA-B0F8-D6CFD7E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D1B9-0351-4659-BA22-01C37BB6A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3851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5:38Z</dcterms:created>
  <dc:creator>ds0929</dc:creator>
  <dc:description/>
  <dc:language>en-US</dc:language>
  <cp:lastModifiedBy>ds0929</cp:lastModifiedBy>
  <dcterms:modified xsi:type="dcterms:W3CDTF">2013-04-20T05:26:24Z</dcterms:modified>
  <cp:revision>1</cp:revision>
  <dc:subject/>
  <dc:title>Slide 1</dc:title>
</cp:coreProperties>
</file>