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253-914B-4A4D-BF9E-B1EF1D8F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9C2-79E5-40F9-AAD3-82D8996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04A-4CC0-42AD-9E5C-853A1260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FA3-A40C-47B0-82EA-25CB7407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FA6-E742-4E03-8994-96B3EE6F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134-17F5-4D95-93F2-350020B6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41E-501B-44FC-9612-C87BE152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DDC-A39B-41EF-8E51-ED5DB1D0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1F9-C9FB-4E56-A60D-9F44021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AF9-A854-4CE8-A503-9E497058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6D4-09AD-4351-A735-E0C0187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77E-9780-46F2-80DA-F58FA9E7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6BA-252F-4118-B0FF-4F1254B216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7:44Z</dcterms:created>
  <dc:creator>ds0929</dc:creator>
  <dc:description/>
  <dc:language>en-US</dc:language>
  <cp:lastModifiedBy>ds0929</cp:lastModifiedBy>
  <dcterms:modified xsi:type="dcterms:W3CDTF">2013-04-21T07:51:13Z</dcterms:modified>
  <cp:revision>1</cp:revision>
  <dc:subject/>
  <dc:title>Slide 1</dc:title>
</cp:coreProperties>
</file>