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BA5-C9B0-43A0-A1A1-6DFCC141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88F-6657-48ED-BC64-A76372F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004-8975-44E6-B394-6F22E734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9C2-C2A8-4AFB-BD95-6DF3DFA6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C65-EC3C-44EA-A4B2-8D4A0316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725-324E-4117-9D3A-9BF698E8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705-A317-432A-887E-36CC026B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3C5-7235-4C54-8166-058D22A8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FD3-3DF6-4D69-BF9B-A85CD5D6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43F-733C-4326-A070-FBEF0CA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FFD-86BC-423D-AAA0-496B0F8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C78-79FB-4DF1-8EA2-733A8BA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8B78-4367-42A8-826B-FBE73A8806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20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33:58Z</dcterms:created>
  <dc:creator>ds0929</dc:creator>
  <dc:description/>
  <dc:language>en-US</dc:language>
  <cp:lastModifiedBy>ds0929</cp:lastModifiedBy>
  <dcterms:modified xsi:type="dcterms:W3CDTF">2013-04-20T05:47:01Z</dcterms:modified>
  <cp:revision>2</cp:revision>
  <dc:subject/>
  <dc:title>Slide 1</dc:title>
</cp:coreProperties>
</file>