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26F-BA70-4243-BB31-3A5BA0F9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FD1-8208-46E1-B8F4-1B24ECB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194-4A1A-42DB-9C37-FAB24A49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6A6-25B2-4070-AFB7-457313CD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333-1718-47D7-A3F2-4AE6B792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E95-EE6F-440A-A321-E2C3E71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878-8CF5-407A-BA17-3FC644F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E49-43A7-4F72-A220-B26AE0F6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DAE-E8FC-4873-824D-93BFE719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096-D4FE-4F0E-B135-DFD82DF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660-5278-48DC-AA64-8E479E87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076-5411-4F8F-AAE8-1CA8221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6B2-7515-4D87-95B3-BA58AC0FDC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6516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7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4:20Z</dcterms:created>
  <dc:creator>ds0929</dc:creator>
  <dc:description/>
  <dc:language>en-US</dc:language>
  <cp:lastModifiedBy>ds0929</cp:lastModifiedBy>
  <dcterms:modified xsi:type="dcterms:W3CDTF">2013-04-19T04:44:52Z</dcterms:modified>
  <cp:revision>1</cp:revision>
  <dc:subject/>
  <dc:title>Slide 1</dc:title>
</cp:coreProperties>
</file>