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7CF-883E-42A8-A8ED-182550D5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B3F6-62B2-4685-9D30-0667583F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A265-0749-4A45-AD2F-FE481BC9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076-94E1-4CB2-A591-6708B490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E15E-1723-4258-AE87-90206C27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093F-2D13-4CD1-932C-5C6BB710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ECD-D41E-413B-8A7E-856E5CC8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EBF-D58D-4421-8A0E-A0085D9C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5DBF-D2A2-4656-97EB-C1E434FE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27CD-A9EA-4CB8-A769-75D690F8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C108-15FC-431F-9291-962103DD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2A47-B80E-4108-A947-60A9EEE0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E0A4-C4DE-4322-9739-0F815D490E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2_U Kyaw Naing.mp3" descr=""/>
          <p:cNvPicPr/>
          <p:nvPr/>
        </p:nvPicPr>
        <p:blipFill>
          <a:blip r:embed="rId2"/>
          <a:stretch/>
        </p:blipFill>
        <p:spPr>
          <a:xfrm>
            <a:off x="442764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473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28:24Z</dcterms:created>
  <dc:creator>ds0929</dc:creator>
  <dc:description/>
  <dc:language>en-US</dc:language>
  <cp:lastModifiedBy>ds0929</cp:lastModifiedBy>
  <dcterms:modified xsi:type="dcterms:W3CDTF">2013-04-20T05:29:07Z</dcterms:modified>
  <cp:revision>1</cp:revision>
  <dc:subject/>
  <dc:title>Slide 1</dc:title>
</cp:coreProperties>
</file>