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2C04-D950-4F90-9F46-54AFEFCB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92D2-68CD-4B54-B5EA-8DDEFB9E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659-8E8D-4995-A322-4319F640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EB0-6E86-4278-8ED4-C8FD772C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78CD-32DF-4E0C-95E5-080BA8D5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379D-56BB-46F5-92AF-342D72C2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118C-37F2-49B3-B0F4-20D8E068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CE7E-42EC-419B-90D0-345EF6B5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B735-0895-411A-AB4C-3495C6C8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AEA7-C074-4F90-878A-741CB5B4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3852-74B0-4BF4-9293-C6B19716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6EB5-C231-4A25-B193-54D08C3F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B55C-B62F-46D4-8810-45DF35E909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10008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6_U Kyaw Naing.mp3" descr=""/>
          <p:cNvPicPr/>
          <p:nvPr/>
        </p:nvPicPr>
        <p:blipFill>
          <a:blip r:embed="rId2"/>
          <a:stretch/>
        </p:blipFill>
        <p:spPr>
          <a:xfrm>
            <a:off x="622764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468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23:48Z</dcterms:created>
  <dc:creator>ds0929</dc:creator>
  <dc:description/>
  <dc:language>en-US</dc:language>
  <cp:lastModifiedBy>ds0929</cp:lastModifiedBy>
  <dcterms:modified xsi:type="dcterms:W3CDTF">2013-04-21T07:25:33Z</dcterms:modified>
  <cp:revision>1</cp:revision>
  <dc:subject/>
  <dc:title>Slide 1</dc:title>
</cp:coreProperties>
</file>