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1208-969B-49EA-88E3-832E9655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79E-8003-403E-ABFB-1CD0EF37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029F-D2FF-4C92-ABB6-9B2AA129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B5A-6B19-4F5A-9601-FC20E713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AF6-76A3-41A0-8411-52B8B0F4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747-ACAA-41F6-9230-EFED12A8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24B-8292-4591-BC98-0B0CB582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76F-7C46-4D8E-8EF4-B4D945E6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D9B9-C225-4CB5-A645-0FF77122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B42-8B8E-4844-BE25-9E9447D0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B0F6-F7EC-40C2-BA59-038283B4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A96-884B-4DC5-8D0E-BCA857EC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0162-22C0-4E9B-B512-AAFC625150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1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8_U Kyaw Naing.mp3" descr=""/>
          <p:cNvPicPr/>
          <p:nvPr/>
        </p:nvPicPr>
        <p:blipFill>
          <a:blip r:embed="rId2"/>
          <a:stretch/>
        </p:blipFill>
        <p:spPr>
          <a:xfrm>
            <a:off x="6300720" y="5229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148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31:14Z</dcterms:created>
  <dc:creator>ds0929</dc:creator>
  <dc:description/>
  <dc:language>en-US</dc:language>
  <cp:lastModifiedBy>ds0929</cp:lastModifiedBy>
  <dcterms:modified xsi:type="dcterms:W3CDTF">2013-04-21T07:32:41Z</dcterms:modified>
  <cp:revision>1</cp:revision>
  <dc:subject/>
  <dc:title>Slide 1</dc:title>
</cp:coreProperties>
</file>