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925-EC44-4042-9439-E06CA7CA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951-4521-4B65-8BD9-A38BD9AC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E73-31A4-46C5-8673-3334E3E8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F1F-CF6B-480B-BEC8-5FE7A493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061-89EB-4294-9212-062900FA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FA1-61ED-48D3-B0BC-F3C1906A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98C-63D5-4275-9782-248B7026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F26-B655-4047-9DFC-8C813478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0B9-F86C-4910-890E-4E40FEE6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2EF-8EBB-4FC7-A964-722A3E48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3EF-B6E6-4160-ABB8-927D7FA0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AE0-169F-4C26-809E-4DFED42C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8BA9-CC80-452F-ABEB-1F2FECF226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702000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7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40:36Z</dcterms:created>
  <dc:creator>ds0929</dc:creator>
  <dc:description/>
  <dc:language>en-US</dc:language>
  <cp:lastModifiedBy>ds0929</cp:lastModifiedBy>
  <dcterms:modified xsi:type="dcterms:W3CDTF">2013-04-19T04:41:12Z</dcterms:modified>
  <cp:revision>1</cp:revision>
  <dc:subject/>
  <dc:title>Slide 1</dc:title>
</cp:coreProperties>
</file>