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DFB-B567-45CB-AD24-0ABC04E2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69E-23C8-4978-8D05-E88FAB29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769-4AF0-46A0-AC90-4362B5CB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550-7D48-4FA1-9B76-57E84F28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BAA-666E-4C02-B2E0-140F5AE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D3E-69A1-4B38-B428-20D0B64B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115-A59A-4FDA-8D45-80758AD9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4DB-8A4E-472E-9639-2E7B8E51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D4F-E393-4C6C-BB65-AD06035D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ED6-1DBF-4D72-8912-E681AB1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ADC-8DAD-4A5A-8338-34E71003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F62-A993-4BF8-A8EC-ACF2DC19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2C28-26AB-4853-9741-16818CED4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414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9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7:58Z</dcterms:created>
  <dc:creator>ds0929</dc:creator>
  <dc:description/>
  <dc:language>en-US</dc:language>
  <cp:lastModifiedBy>ds0929</cp:lastModifiedBy>
  <dcterms:modified xsi:type="dcterms:W3CDTF">2013-04-20T05:38:36Z</dcterms:modified>
  <cp:revision>1</cp:revision>
  <dc:subject/>
  <dc:title>Slide 1</dc:title>
</cp:coreProperties>
</file>