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4B1-91C1-497E-9552-321AF6D1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B09-2E77-4CB0-98CA-D97EA7A8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E6A-94BC-4701-8C23-7BD3FC76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BB0-2AA9-4E43-A196-5FF0DCFA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4A2-18D3-4EC1-8004-359E2578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A78-AE79-459B-B512-A31F20F7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CB1-7249-420F-9D04-5A1F0BFD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583-F002-46C0-B0F8-5AE02C82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BF9-0881-401F-9BE6-4B29851B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588-40E3-4511-813A-AA06A027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2A8-40C8-4D41-B026-0C5EEFCB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F43-412B-4AE8-A8F8-A6E3B589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F9C2-2B48-4537-9C63-8136A73F1D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6_U Kyaw Naing.mp3" descr=""/>
          <p:cNvPicPr/>
          <p:nvPr/>
        </p:nvPicPr>
        <p:blipFill>
          <a:blip r:embed="rId2"/>
          <a:stretch/>
        </p:blipFill>
        <p:spPr>
          <a:xfrm>
            <a:off x="385128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6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24:14Z</dcterms:created>
  <dc:creator>ds0929</dc:creator>
  <dc:description/>
  <dc:language>en-US</dc:language>
  <cp:lastModifiedBy>ds0929</cp:lastModifiedBy>
  <dcterms:modified xsi:type="dcterms:W3CDTF">2013-04-20T05:24:51Z</dcterms:modified>
  <cp:revision>1</cp:revision>
  <dc:subject/>
  <dc:title>Slide 1</dc:title>
</cp:coreProperties>
</file>