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2E54-7535-49C6-BE79-346315C9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5658-5342-4CD1-B57E-B3405401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FF1D-9876-414F-A7F1-EC7DCB6B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E879-7474-42D8-B44E-033D9988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FBEB-FA26-476E-AE39-ACD29F3A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0374-FC4C-4389-AE18-8AF68D72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C783-D1D1-4EF9-8A99-8F2139BA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1655-94DF-41CA-82FF-FB14DD6A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212D-127B-4E72-8F99-C03EB7D3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90B3-3D59-4B71-9CFE-7AF7AE7F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3718-00C4-45D7-B96E-FEF131F3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C84C-28BB-4D50-9CB9-94CA0290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69E6-EA75-4A52-92FB-7A4DECC99B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10031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5_U Kyaw Naing.mp3" descr=""/>
          <p:cNvPicPr/>
          <p:nvPr/>
        </p:nvPicPr>
        <p:blipFill>
          <a:blip r:embed="rId2"/>
          <a:stretch/>
        </p:blipFill>
        <p:spPr>
          <a:xfrm>
            <a:off x="5364000" y="3068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926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7:53:52Z</dcterms:created>
  <dc:creator>ds0929</dc:creator>
  <dc:description/>
  <dc:language>en-US</dc:language>
  <cp:lastModifiedBy>ds0929</cp:lastModifiedBy>
  <dcterms:modified xsi:type="dcterms:W3CDTF">2013-04-21T07:54:46Z</dcterms:modified>
  <cp:revision>1</cp:revision>
  <dc:subject/>
  <dc:title>Slide 1</dc:title>
</cp:coreProperties>
</file>