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783-CBCA-4543-822E-3786A15C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9248-B378-47AE-9A75-64DC1289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AE87-CD70-4A19-B2AE-47E74A25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4495-A3A8-4795-A9C2-846997B9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D60F-22DB-4FC7-B42D-6A48BC07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288-3D68-437D-B09C-51AEC98C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71C-0BF2-46A5-A190-8C853114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9600-A0B7-4D2B-9804-E3E5E6A8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9AEA-BA93-4E66-9693-CB5E78AB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885E-7B27-4197-8CD7-218AC840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D728-7EC5-4834-85B8-B7962756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DC52-1A39-4A17-AF7C-21973296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8D85-6984-4C29-B670-E316D2F965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41900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0_U Kyaw Naing.mp3" descr=""/>
          <p:cNvPicPr/>
          <p:nvPr/>
        </p:nvPicPr>
        <p:blipFill>
          <a:blip r:embed="rId2"/>
          <a:stretch/>
        </p:blipFill>
        <p:spPr>
          <a:xfrm>
            <a:off x="867564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85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41900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4:46:07Z</dcterms:created>
  <dc:creator>ds0929</dc:creator>
  <dc:description/>
  <dc:language>en-US</dc:language>
  <cp:lastModifiedBy>ds0929</cp:lastModifiedBy>
  <dcterms:modified xsi:type="dcterms:W3CDTF">2013-04-19T04:47:08Z</dcterms:modified>
  <cp:revision>1</cp:revision>
  <dc:subject/>
  <dc:title>Slide 1</dc:title>
</cp:coreProperties>
</file>