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342-27EE-495B-99C5-935EA13C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956-D04E-40D6-9FB9-0A1FF227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C5E-CEED-421D-81DB-2616D4E9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692-0D97-4937-A913-62EFF2D2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ED4B-8273-4CDB-B216-8D710C4F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B6E-D009-49DB-AAD2-ED0CE4FD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A62-C616-4CED-A610-4B0A9AE9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BA4D-9700-4E75-BAF5-5E5F2A61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E56-D1A9-4B10-89A9-4AC0D038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D1D-B24E-4859-899C-CEBEE267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E2A-A320-43D1-B918-69EBBA67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268-A223-4B28-AEED-94656F89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EB88-7E1A-40AB-8668-CA08FDA7A8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5_U Kyaw Naing.mp3" descr=""/>
          <p:cNvPicPr/>
          <p:nvPr/>
        </p:nvPicPr>
        <p:blipFill>
          <a:blip r:embed="rId2"/>
          <a:stretch/>
        </p:blipFill>
        <p:spPr>
          <a:xfrm>
            <a:off x="622764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51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35:19Z</dcterms:created>
  <dc:creator>ds0929</dc:creator>
  <dc:description/>
  <dc:language>en-US</dc:language>
  <cp:lastModifiedBy>ds0929</cp:lastModifiedBy>
  <dcterms:modified xsi:type="dcterms:W3CDTF">2013-04-20T05:35:59Z</dcterms:modified>
  <cp:revision>1</cp:revision>
  <dc:subject/>
  <dc:title>Slide 1</dc:title>
</cp:coreProperties>
</file>