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3A9-FF81-4BB4-85E4-8E1A747F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C59-6232-4585-A7B1-7C26045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A33-3617-46ED-AE99-58A43562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3CC-07AD-4145-BE26-6BA31C28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92E-E2A7-4731-982B-DB81E32C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716-09B4-4F19-910A-19F41A99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5FA-667E-41C1-9D29-D30F77E3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EB8-9602-4E53-B707-44E87F4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07B-5647-4F6D-A9E8-435F97C0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0EF-9F50-499C-AC40-88ACD203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795-FCDD-4E67-8B5D-53B5A2E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831-6D33-48A6-A1EA-35F904C8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D06E-DB38-4C5B-A693-E5FC3EA45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27:34Z</dcterms:created>
  <dc:creator>ds0929</dc:creator>
  <dc:description/>
  <dc:language>en-US</dc:language>
  <cp:lastModifiedBy>ds0929</cp:lastModifiedBy>
  <dcterms:modified xsi:type="dcterms:W3CDTF">2013-04-21T07:32:51Z</dcterms:modified>
  <cp:revision>1</cp:revision>
  <dc:subject/>
  <dc:title>Slide 1</dc:title>
</cp:coreProperties>
</file>