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BCA-2700-4641-96F6-1D3D42FB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22C-6023-4668-B4AB-B47361A7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5E2-5165-49C9-943D-22C4257F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A93-9F11-4B6A-9A38-0B70EDB9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1C5-0B46-46F4-96A9-264D407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A89-4654-49A6-9A98-F04570C3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7F8-10A4-4B6C-AE9F-7D473146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FF-1F1B-4503-A823-CAE3BC0A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AAA-729E-445A-AF66-5D9D590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B11-1EAC-497D-9BF6-9B610FF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3DC-C24E-431D-998B-9D8885E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AFC-3430-4260-861A-B5BB7B0F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59E-2A52-4E27-B087-DE82A1E42B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7020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2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1:54Z</dcterms:created>
  <dc:creator>ds0929</dc:creator>
  <dc:description/>
  <dc:language>en-US</dc:language>
  <cp:lastModifiedBy>ds0929</cp:lastModifiedBy>
  <dcterms:modified xsi:type="dcterms:W3CDTF">2013-04-19T04:42:26Z</dcterms:modified>
  <cp:revision>1</cp:revision>
  <dc:subject/>
  <dc:title>Slide 1</dc:title>
</cp:coreProperties>
</file>