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6431-389C-4068-B0AC-67C32CED5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E1A7-3333-464F-8D6B-839CF8BA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4DFC-B747-44AA-BDA0-82073BE3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A17C-6075-4C3B-BC82-38E315A73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B04A-0883-4240-B06E-25DBD1E0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0829-02AE-42F3-8958-65C8F271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2272-1FEE-4037-9EDA-C74D82C8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BEDA-9911-4483-B3FF-E8883CBD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EC5E-F2FD-4761-AD93-8249C3B9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464E-C9E9-4867-A6BA-9C3DC5F0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28CC-6545-4662-B577-403B601A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6C96-84F3-4ED9-9B1E-2244F737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76D6-3664-44AA-A88A-08188C37D5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10001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1_U Kyaw Naing.mp3" descr=""/>
          <p:cNvPicPr/>
          <p:nvPr/>
        </p:nvPicPr>
        <p:blipFill>
          <a:blip r:embed="rId2"/>
          <a:stretch/>
        </p:blipFill>
        <p:spPr>
          <a:xfrm>
            <a:off x="2627280" y="6308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456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07:09:34Z</dcterms:created>
  <dc:creator>ds0929</dc:creator>
  <dc:description/>
  <dc:language>en-US</dc:language>
  <cp:lastModifiedBy>ds0929</cp:lastModifiedBy>
  <dcterms:modified xsi:type="dcterms:W3CDTF">2013-04-21T07:14:06Z</dcterms:modified>
  <cp:revision>2</cp:revision>
  <dc:subject/>
  <dc:title>Slide 1</dc:title>
</cp:coreProperties>
</file>