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AF2-34B4-4E87-8DA1-F6DB017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BE0-FEDD-492B-80C8-DB3B158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9B4-4F45-43B3-A83E-1414B924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90F-0472-4E3B-847E-BC4F7410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DE5-01A9-44E3-A401-AAF80FA9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DD1-8C20-4F32-BE48-E88D8A02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85A-68DF-41C8-8BAB-22066C9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7A2-0E06-4107-83C3-ED750126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EBC-6D82-40C4-9905-B0309E47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21F-A272-4857-9492-CCF75D2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5DD-DBD0-4765-9A1C-70DB76A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219-79DC-4BE0-8846-A6FF403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3EB-4749-4726-B35D-0ECE159B2D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43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5:58Z</dcterms:created>
  <dc:creator>ds0929</dc:creator>
  <dc:description/>
  <dc:language>en-US</dc:language>
  <cp:lastModifiedBy>ds0929</cp:lastModifiedBy>
  <dcterms:modified xsi:type="dcterms:W3CDTF">2013-04-19T04:36:34Z</dcterms:modified>
  <cp:revision>1</cp:revision>
  <dc:subject/>
  <dc:title>Slide 1</dc:title>
</cp:coreProperties>
</file>