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CC8-5AEA-400F-AEA5-1F85CA51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E8F-36BE-48F8-9706-DD3FF367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BC7-9397-4054-AA82-CD976EDA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3FA-D389-42E3-9D2E-964D8611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065-D3CF-402B-9658-6B2D6CC9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E816-3E36-4C37-9EE8-BDB58E3D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A0C-E129-403A-9BB9-A085BD73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185-5611-4772-927A-9E6BD7A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7FD-B0FF-4D04-88C0-D30DE8F6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4F3-1C3A-4D92-9F30-DFCE6D8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609-0BC5-41C3-B203-FC69AF5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3F3-AD47-44AC-9B77-46004E9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542-5C8B-4E54-B5D6-8614505364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579600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5:35Z</dcterms:created>
  <dc:creator>ds0929</dc:creator>
  <dc:description/>
  <dc:language>en-US</dc:language>
  <cp:lastModifiedBy>ds0929</cp:lastModifiedBy>
  <dcterms:modified xsi:type="dcterms:W3CDTF">2013-04-19T04:46:02Z</dcterms:modified>
  <cp:revision>1</cp:revision>
  <dc:subject/>
  <dc:title>Slide 1</dc:title>
</cp:coreProperties>
</file>