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E8A-E4CB-4003-A45A-C2AE2ACC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608-465E-4DB9-88C1-8DE542EA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0A9-69DB-41F7-9FAA-908367F3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FB4-B8E6-4C93-A03F-2F150FA0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694-6A6C-43FA-B699-616165EE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3F5-72E8-4AD8-A21A-B2C4356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7E1-8123-43AC-8C0E-E336663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A9A-B209-4CDF-8BB5-88476E9B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211-2AD6-4755-8FAF-E30F58AB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585-768A-4BB3-943C-B5C5EA3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02A-37CA-417D-9247-B0CFD57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586-395E-4686-9F8D-85A00B2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7C9-76EE-4E3E-995D-CC505C11D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795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38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7:22Z</dcterms:created>
  <dc:creator>ds0929</dc:creator>
  <dc:description/>
  <dc:language>en-US</dc:language>
  <cp:lastModifiedBy>ds0929</cp:lastModifiedBy>
  <dcterms:modified xsi:type="dcterms:W3CDTF">2013-04-19T04:38:00Z</dcterms:modified>
  <cp:revision>1</cp:revision>
  <dc:subject/>
  <dc:title>Slide 1</dc:title>
</cp:coreProperties>
</file>