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EB6E-220E-4B8F-BF4B-68D31981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550-20D6-404B-904D-C0A353A5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678-A07E-43B1-9FD8-8A5A1C39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9FB1-94A6-4C74-A6BB-E61403ED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E59-4A62-414E-B493-E96AC33B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E9C-01A3-4D05-BB03-30B92B7D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E47-F124-4792-A751-39146610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6C2-03CB-40B5-A21D-DCDDE593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E22F-4B60-458A-8DC8-58DCBCF5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F4D9-C9F7-4F68-9900-2F83DF09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B05-BC54-4118-99F1-82DA1E63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62C-E423-464B-9523-004E2FBF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0EAB-BC31-4CC6-B55B-8E94145AF2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90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4_U Kyaw Naing.mp3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81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4:42:30Z</dcterms:created>
  <dc:creator>ds0929</dc:creator>
  <dc:description/>
  <dc:language>en-US</dc:language>
  <cp:lastModifiedBy>ds0929</cp:lastModifiedBy>
  <dcterms:modified xsi:type="dcterms:W3CDTF">2013-04-19T04:43:01Z</dcterms:modified>
  <cp:revision>1</cp:revision>
  <dc:subject/>
  <dc:title>Slide 1</dc:title>
</cp:coreProperties>
</file>