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2FF-A298-4EB1-BEEE-7B05DA74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9BE-A185-4117-AB0D-8AF278E6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010-3BF3-494C-A3B1-215DA7B9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F31-9A4B-4D6F-9E6E-307EEF17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26E-8788-4044-8BF5-397E1B93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191-4939-4F53-9D19-A2D99EC1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662-CDC6-40CF-942C-CBE89A13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57C-F64E-4067-9CAE-A6EC6004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343-49E1-4A0C-A521-10B53418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EC3-884A-45A2-BBDF-B6A383F6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7E6-FDAE-4564-AE0A-7B540C2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ABC-C329-4643-8490-504A0BCB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3BCB-BA3A-4FD3-8386-FA53C1A7E7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817236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7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36:38Z</dcterms:created>
  <dc:creator>ds0929</dc:creator>
  <dc:description/>
  <dc:language>en-US</dc:language>
  <cp:lastModifiedBy>ds0929</cp:lastModifiedBy>
  <dcterms:modified xsi:type="dcterms:W3CDTF">2013-04-19T04:37:18Z</dcterms:modified>
  <cp:revision>1</cp:revision>
  <dc:subject/>
  <dc:title>Slide 1</dc:title>
</cp:coreProperties>
</file>