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FE5-1F07-4364-8ECA-E1A51C2C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E5B-7D97-423E-8E72-3FA6377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B4A-1C1C-461C-95AD-B9983734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E02-FAB8-4918-877C-F32BC1A1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5D53-0A90-4984-BB61-51BA3CE3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910-AD4D-48C5-9A6B-E4FC1A56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585-7763-4DB1-A321-AE490BB2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C6D-28C0-4167-9C33-DE45F69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DD8-5A49-434A-B151-EDDCD61C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C51-CCEE-4834-BDE4-B56145D5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FCB-7651-4EA2-AB88-DCD52DE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467-0263-497E-91F1-3BA6A75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74FD-C2AF-4F5A-8DEF-29D0074A3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4_U Kyaw Naing.mp3" descr=""/>
          <p:cNvPicPr/>
          <p:nvPr/>
        </p:nvPicPr>
        <p:blipFill>
          <a:blip r:embed="rId2"/>
          <a:stretch/>
        </p:blipFill>
        <p:spPr>
          <a:xfrm>
            <a:off x="572436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2:45Z</dcterms:created>
  <dc:creator>ds0929</dc:creator>
  <dc:description/>
  <dc:language>en-US</dc:language>
  <cp:lastModifiedBy>ds0929</cp:lastModifiedBy>
  <dcterms:modified xsi:type="dcterms:W3CDTF">2013-04-20T05:43:22Z</dcterms:modified>
  <cp:revision>1</cp:revision>
  <dc:subject/>
  <dc:title>Slide 1</dc:title>
</cp:coreProperties>
</file>