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9725-8E04-4934-A06E-139A92487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9698-4A22-48C1-BABD-E211CA05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BB1F-2D97-446E-9F76-D5FB98E90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5AFC-38F5-46F9-8295-6155AF0A6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0DD7-307D-453D-9F97-AE2C22C3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1AE1-BB25-401C-98B0-5CA625BB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7EF6-6424-484B-B454-A2613198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342F-4810-477C-BF9A-EB20686A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E6DA-2649-4932-B9ED-17C50C66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C689-2220-49B4-BDC5-5F775F49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1DD0-56BA-4FCE-8825-19775A1F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9988-90E0-43FD-B1EF-5882616D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46A6-834B-46BF-8A9A-8BAAEE5416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10022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8_U Kyaw Naing.mp3" descr=""/>
          <p:cNvPicPr/>
          <p:nvPr/>
        </p:nvPicPr>
        <p:blipFill>
          <a:blip r:embed="rId2"/>
          <a:stretch/>
        </p:blipFill>
        <p:spPr>
          <a:xfrm>
            <a:off x="248436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366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07:43:53Z</dcterms:created>
  <dc:creator>ds0929</dc:creator>
  <dc:description/>
  <dc:language>en-US</dc:language>
  <cp:lastModifiedBy>ds0929</cp:lastModifiedBy>
  <dcterms:modified xsi:type="dcterms:W3CDTF">2013-04-21T07:44:31Z</dcterms:modified>
  <cp:revision>1</cp:revision>
  <dc:subject/>
  <dc:title>Slide 1</dc:title>
</cp:coreProperties>
</file>