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694-E9F9-451D-99B6-BEC3CA40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4EC-F123-4E66-9B01-753D1393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CFE-1814-4BFC-A6CB-67E28B02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74B-6A44-4CB4-9C78-A296B1C6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9CF-BE7C-4BE3-8E36-4FC33399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CAF-3299-4FFC-8E74-79158B57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C71-B6F1-4112-BA80-6842F95F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677-BBFA-4F81-B908-5322287E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F7F-CCF1-47C0-9FDD-3A923C9D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F93-2C5A-46C2-A105-95A0B89D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C28-FEC4-417A-BEE4-F80E5776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91B-F10D-49E4-8C3E-622204E2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378F-3BCB-40E3-B168-4352383C57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2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46:55Z</dcterms:created>
  <dc:creator>ds0929</dc:creator>
  <dc:description/>
  <dc:language>en-US</dc:language>
  <cp:lastModifiedBy>ds0929</cp:lastModifiedBy>
  <dcterms:modified xsi:type="dcterms:W3CDTF">2013-04-21T07:49:44Z</dcterms:modified>
  <cp:revision>1</cp:revision>
  <dc:subject/>
  <dc:title>Slide 1</dc:title>
</cp:coreProperties>
</file>