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67A-E1EC-44A5-89ED-30AA721F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D27-08C5-4E3B-A04B-CC2579F1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F9A-9BC8-43EB-B154-081798EC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155-8135-4667-A8DA-AE8B5789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EF6-B39B-431A-9BA3-10FE4F49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68C-A3BE-4454-BBC8-FD9DA314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1C2-93CE-4458-9F60-313F53D3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D0F-8601-4FE9-8333-F7222931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891-8E87-4A65-90D6-FFBC7CEB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AD4-8B74-4B35-A593-BB211656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206-CB88-4245-92E0-5B8B6E88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63E-D700-4143-BADA-2D2D055F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394-6781-4BFB-A155-741D966DDC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3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6_U Kyaw Naing.mp3" descr=""/>
          <p:cNvPicPr/>
          <p:nvPr/>
        </p:nvPicPr>
        <p:blipFill>
          <a:blip r:embed="rId2"/>
          <a:stretch/>
        </p:blipFill>
        <p:spPr>
          <a:xfrm>
            <a:off x="5940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5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54:50Z</dcterms:created>
  <dc:creator>ds0929</dc:creator>
  <dc:description/>
  <dc:language>en-US</dc:language>
  <cp:lastModifiedBy>ds0929</cp:lastModifiedBy>
  <dcterms:modified xsi:type="dcterms:W3CDTF">2013-04-21T07:55:18Z</dcterms:modified>
  <cp:revision>1</cp:revision>
  <dc:subject/>
  <dc:title>Slide 1</dc:title>
</cp:coreProperties>
</file>