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C8A-7AAC-4D29-9E57-8C387DFC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FEE-2390-4DC0-A4DB-8F0014C8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848-AB4E-4838-86F8-2BEC9E86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DAB-DE8E-44F5-BDD8-B0494F69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29B-773A-4C11-A702-37CDDF19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E62-6759-43D1-A319-00D87990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159-DAA9-474A-8F81-D22C9A90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849-A46D-4262-948E-FC2A85A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FB2-2ED2-4D3B-92B3-708BB8A4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EA3-DE27-4160-8085-E930CB9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1B5-5955-4C8E-AF75-BD011DAD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235-ADE7-44AA-B595-EC138AB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FF6-CB5F-4E7B-9408-2C4E9A2DCE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435600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4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7:06Z</dcterms:created>
  <dc:creator>ds0929</dc:creator>
  <dc:description/>
  <dc:language>en-US</dc:language>
  <cp:lastModifiedBy>ds0929</cp:lastModifiedBy>
  <dcterms:modified xsi:type="dcterms:W3CDTF">2013-04-20T05:27:39Z</dcterms:modified>
  <cp:revision>1</cp:revision>
  <dc:subject/>
  <dc:title>Slide 1</dc:title>
</cp:coreProperties>
</file>