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E6B-198F-4D01-BAAB-F767E47C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5BA-BE64-469B-B5E6-A3DAE15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925-12F7-4DC9-B26C-6D22A7B2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5B4-7967-4B21-8BA3-FC1A89EF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89A-21CC-4D6F-AD18-233FFB58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6D0-6001-4EDF-B3F1-C03E6DF7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E47-AB59-4C3A-A6CB-808AD005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C68-2C0F-4689-87FE-9BDDBDD7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0F1-2D30-4FF9-A078-7410FC06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941-7372-4258-AF9D-311E082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3EB-3011-445C-8022-90BB050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850-AE14-45E7-ACFC-F597EA1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7DB9-135D-4963-BE57-8959E76818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334800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7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9:30Z</dcterms:created>
  <dc:creator>ds0929</dc:creator>
  <dc:description/>
  <dc:language>en-US</dc:language>
  <cp:lastModifiedBy>ds0929</cp:lastModifiedBy>
  <dcterms:modified xsi:type="dcterms:W3CDTF">2013-04-20T05:40:08Z</dcterms:modified>
  <cp:revision>1</cp:revision>
  <dc:subject/>
  <dc:title>Slide 1</dc:title>
</cp:coreProperties>
</file>