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6C6-A2F5-46EE-81EC-6CDB8D92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4853-CB33-41FA-8BB5-15B0F75C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D2F-9E9D-405A-A4BA-6AE5087C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F6C-AC38-443B-9580-400FA836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081-8F33-474D-A661-DBB74FE0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C82-881D-4C88-81C8-0AE43FAB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BC0-C164-429D-92BE-D6D9ADCD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E3F-01C2-44F7-865D-9A715DA1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A95-C036-4F2C-A3FF-90307E11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A1D-47E3-425B-96C1-DB23E12F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9D0-C666-4035-818F-C9E03C9E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963-D862-465C-9F6F-23180451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E407-B9FD-41E0-A1FD-1F4E7E7BA3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001_A_013_U Kyaw Naing.mp3" descr=""/>
          <p:cNvPicPr/>
          <p:nvPr/>
        </p:nvPicPr>
        <p:blipFill>
          <a:blip r:embed="rId1"/>
          <a:stretch/>
        </p:blipFill>
        <p:spPr>
          <a:xfrm>
            <a:off x="3276720" y="63817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42000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001_A_014_U Kyaw Naing.mp3" descr=""/>
          <p:cNvPicPr/>
          <p:nvPr/>
        </p:nvPicPr>
        <p:blipFill>
          <a:blip r:embed="rId3"/>
          <a:stretch/>
        </p:blipFill>
        <p:spPr>
          <a:xfrm>
            <a:off x="428472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136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7136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763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9:13Z</dcterms:created>
  <dc:creator>ds0929</dc:creator>
  <dc:description/>
  <dc:language>en-US</dc:language>
  <cp:lastModifiedBy>ds0929</cp:lastModifiedBy>
  <dcterms:modified xsi:type="dcterms:W3CDTF">2013-04-20T05:31:41Z</dcterms:modified>
  <cp:revision>2</cp:revision>
  <dc:subject/>
  <dc:title>Slide 1</dc:title>
</cp:coreProperties>
</file>