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86E-47C9-444D-B929-B7731892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1B0-AAE9-407D-A022-15D8E9F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E2D-BD86-4E91-82F0-756BCC17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38C-7C90-43F9-9590-113E346E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29B-CE64-4492-826B-6DE87694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635-88F1-452D-9654-4C8B55D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826-BC95-4DDB-9BBB-F3085246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8C1-6560-4F94-BC27-72EA95F0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F35-5458-424F-B040-EDE9CBD9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A07-8069-4E74-8464-C6CAD3A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4D6-DEE7-47EF-A5F3-96B2B3F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3D1-77E6-4E11-9ECF-24BAEB1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3D6-B221-4D8D-A2F0-ECBA30481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001_A_005_U Kyaw Naing.mp3" descr=""/>
          <p:cNvPicPr/>
          <p:nvPr/>
        </p:nvPicPr>
        <p:blipFill>
          <a:blip r:embed="rId1"/>
          <a:stretch/>
        </p:blipFill>
        <p:spPr>
          <a:xfrm>
            <a:off x="3348000" y="5950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4210007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0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18:37Z</dcterms:created>
  <dc:creator>ds0929</dc:creator>
  <dc:description/>
  <dc:language>en-US</dc:language>
  <cp:lastModifiedBy>ds0929</cp:lastModifiedBy>
  <dcterms:modified xsi:type="dcterms:W3CDTF">2013-04-21T07:23:44Z</dcterms:modified>
  <cp:revision>2</cp:revision>
  <dc:subject/>
  <dc:title>Slide 1</dc:title>
</cp:coreProperties>
</file>