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56B-7DCB-430A-AA1F-62F498E5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64E4-D6B6-418C-B3BD-88B4669F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285-00CF-41DF-BB2B-2538A33E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532-5D24-418C-85C7-F1DA3A9E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9C8-7E79-4DC9-8F7F-719BEFB8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1DC-C7C1-480F-93DF-526D6F20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2F5-1676-453B-90AD-9B9D0963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BDE-D293-4054-B6E0-C53369BD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3EF-ECDA-4C91-8048-620DBADB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259-6DE5-46E4-8AA2-569BCEA2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280-6207-4CDC-A387-1A94D453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7C4-9B5E-4DF2-8CB2-CB349D89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BE3F-81A9-4D4B-8E13-CFC7428CCC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3_U Kyaw Naing.mp3" descr=""/>
          <p:cNvPicPr/>
          <p:nvPr/>
        </p:nvPicPr>
        <p:blipFill>
          <a:blip r:embed="rId2"/>
          <a:stretch/>
        </p:blipFill>
        <p:spPr>
          <a:xfrm>
            <a:off x="3492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8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42:02Z</dcterms:created>
  <dc:creator>ds0929</dc:creator>
  <dc:description/>
  <dc:language>en-US</dc:language>
  <cp:lastModifiedBy>ds0929</cp:lastModifiedBy>
  <dcterms:modified xsi:type="dcterms:W3CDTF">2013-04-20T05:42:37Z</dcterms:modified>
  <cp:revision>1</cp:revision>
  <dc:subject/>
  <dc:title>Slide 1</dc:title>
</cp:coreProperties>
</file>