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C4B-33E4-49D2-9EEF-66205E98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930-A225-4150-8938-14CB4312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1EF-0E6E-4702-B492-AC97B767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35E-10A6-4BF9-86B0-1CC46D8A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99C-714D-4417-BCAA-43BAA07E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1DD-B427-41BA-8763-89959D03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08B-7E54-40A1-BC72-86BC7122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76A-C9E3-4EF2-B0DB-B8D8B9A5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C2B-5F82-423D-AA1D-7FBABE16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2FD-4BDC-4379-AF38-2B378938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15B-0FA9-426C-9615-1A73F6F2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9B1-C1AC-4017-967C-335EA3D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981F-5EC2-432B-9880-52EE49C436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630072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0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1:16Z</dcterms:created>
  <dc:creator>ds0929</dc:creator>
  <dc:description/>
  <dc:language>en-US</dc:language>
  <cp:lastModifiedBy>ds0929</cp:lastModifiedBy>
  <dcterms:modified xsi:type="dcterms:W3CDTF">2013-04-19T04:41:50Z</dcterms:modified>
  <cp:revision>1</cp:revision>
  <dc:subject/>
  <dc:title>Slide 1</dc:title>
</cp:coreProperties>
</file>