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4437-C025-41FF-B451-78906395C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616C-A852-4A14-BA2F-C414EED27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3682-67EC-4DB4-9EA4-2D7D7FDEA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2C0A-5F84-4265-BA49-2125F073F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6415-A0F5-4E1D-9958-5D816E466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F9FD-67C2-47AF-919D-F404E8F96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ECF5-F057-45F7-A286-2C103C8C6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5A1A-78CE-4689-9B26-CFB580109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FFC8-5099-40C9-9DEA-7BC6478C3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924E-B7FB-4415-A67B-CF1D7E74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98FF-CFAC-4C81-984A-E3BFAA8A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7EF9-4503-45A3-A978-45243D5F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9A481-DD4D-43B5-AF61-584D594DC37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20002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22_U Kyaw Naing.mp3" descr=""/>
          <p:cNvPicPr/>
          <p:nvPr/>
        </p:nvPicPr>
        <p:blipFill>
          <a:blip r:embed="rId2"/>
          <a:stretch/>
        </p:blipFill>
        <p:spPr>
          <a:xfrm>
            <a:off x="5148360" y="66135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3056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0T05:41:09Z</dcterms:created>
  <dc:creator>ds0929</dc:creator>
  <dc:description/>
  <dc:language>en-US</dc:language>
  <cp:lastModifiedBy>ds0929</cp:lastModifiedBy>
  <dcterms:modified xsi:type="dcterms:W3CDTF">2013-04-20T05:41:54Z</dcterms:modified>
  <cp:revision>1</cp:revision>
  <dc:subject/>
  <dc:title>Slide 1</dc:title>
</cp:coreProperties>
</file>