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BB62-2F10-42A8-9A76-982F343E7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D967-0EAD-441D-91D7-7BB937E9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A08F-DE67-4F03-AC40-0C0B2AFFC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0A6F-F8BC-45A4-BD20-B83C59C12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2C13-9C74-4DB3-BD51-F568299E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E0E9-EF4B-4AE1-9C88-50C11AFF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79CE-18BE-4449-83BD-4E19F6D4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B371-F336-4BBA-8014-9F38982E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9540-04C0-44DA-8A5E-2BFBA5FF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0A0E-70A4-45DC-BAD4-57AA8648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CEE3-8235-4912-A8E2-368B3FED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208A-1A7E-44E5-8E55-E1D68337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4874-35EB-44FF-B54A-3ED144574E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100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9_U Kyaw Naing.mp3" descr=""/>
          <p:cNvPicPr/>
          <p:nvPr/>
        </p:nvPicPr>
        <p:blipFill>
          <a:blip r:embed="rId2"/>
          <a:stretch/>
        </p:blipFill>
        <p:spPr>
          <a:xfrm>
            <a:off x="2411280" y="5661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553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1T07:45:30Z</dcterms:created>
  <dc:creator>ds0929</dc:creator>
  <dc:description/>
  <dc:language>en-US</dc:language>
  <cp:lastModifiedBy>ds0929</cp:lastModifiedBy>
  <dcterms:modified xsi:type="dcterms:W3CDTF">2013-04-21T07:46:06Z</dcterms:modified>
  <cp:revision>1</cp:revision>
  <dc:subject/>
  <dc:title>Slide 1</dc:title>
</cp:coreProperties>
</file>