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BEA-4F50-43ED-BFA7-517E6F58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48C-7203-4543-9402-D5882E4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D7D-DF27-4734-B81C-D5A4E9D8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C59-EAB0-4FC6-A242-7B98FECA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928-F71C-47F9-8567-0051C7F1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891-63C6-4149-88EF-056FBAB8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2F4-03C1-42EF-9B6C-E8B0704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72C-7009-4BEC-A25D-40CB80E0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BA7-72EA-4D35-9F2A-AD415C07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4D4-356C-4959-9AB8-AFF18F30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3F0-3A01-4C14-B5FB-83F03812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2BA-9D41-4CF2-8EB3-DCA28DC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0036-F447-46E4-ACB6-BEC5CA923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4643280" y="638172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23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7:15Z</dcterms:created>
  <dc:creator>ds0929</dc:creator>
  <dc:description/>
  <dc:language>en-US</dc:language>
  <cp:lastModifiedBy>ds0929</cp:lastModifiedBy>
  <dcterms:modified xsi:type="dcterms:W3CDTF">2013-04-20T05:37:51Z</dcterms:modified>
  <cp:revision>1</cp:revision>
  <dc:subject/>
  <dc:title>Slide 1</dc:title>
</cp:coreProperties>
</file>