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11CA9-94F4-42C4-B25B-C5FEB025B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0D083-87D3-47C1-BE37-F39FC88EB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42291-8757-4E0F-97C4-6EEB46D54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ED5D7-4CFE-4198-B30F-1F745B563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10E60-46BB-47D4-842C-0E0B21D82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62493-6BA8-4812-AF40-118BF0C6E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37CD5-0008-49C1-82C1-ADFEFF0B3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C9305-3FEF-411F-BB5A-CF1116564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BFDB1-7E17-41F1-A5C3-9CA304016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FCB7A-4855-4C1C-AF04-4CC843934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86EB1-9129-4999-B5D2-4EE5EBF1F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B135B-350D-4487-876F-3BC8EADB5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08BE6-4D4F-46AB-A2B8-630C46C5143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3" descr="P419001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001_A_018_U Kyaw Naing.mp3" descr=""/>
          <p:cNvPicPr/>
          <p:nvPr/>
        </p:nvPicPr>
        <p:blipFill>
          <a:blip r:embed="rId2"/>
          <a:stretch/>
        </p:blipFill>
        <p:spPr>
          <a:xfrm>
            <a:off x="7093080" y="623736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08896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9T04:44:56Z</dcterms:created>
  <dc:creator>ds0929</dc:creator>
  <dc:description/>
  <dc:language>en-US</dc:language>
  <cp:lastModifiedBy>ds0929</cp:lastModifiedBy>
  <dcterms:modified xsi:type="dcterms:W3CDTF">2013-04-19T04:45:32Z</dcterms:modified>
  <cp:revision>1</cp:revision>
  <dc:subject/>
  <dc:title>Slide 1</dc:title>
</cp:coreProperties>
</file>