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327-A6B0-426A-8759-0110D022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79D-191C-4019-BDC3-774755BE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41D-6882-4CF2-985C-C7553FEB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BDF-4482-4E2C-A5D7-5C7A1677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E5C-3C1A-44B4-BA66-FBD07F58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FAF-E928-47CA-A747-9E3BD890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BF9-FFC4-4300-A223-2C6F7E2B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3CA-0629-47E9-AA76-C3C97AE9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594-17F1-48C8-9936-ACE4BF46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D4B-45A0-4C38-9C76-9F1F9638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B3D-9772-4F52-8EAF-D4297F85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36D-EFBC-4306-9837-A9F7F23A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AE8E-563F-4750-911C-133D57434D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3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4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52:41Z</dcterms:created>
  <dc:creator>ds0929</dc:creator>
  <dc:description/>
  <dc:language>en-US</dc:language>
  <cp:lastModifiedBy>ds0929</cp:lastModifiedBy>
  <dcterms:modified xsi:type="dcterms:W3CDTF">2013-04-21T07:53:12Z</dcterms:modified>
  <cp:revision>1</cp:revision>
  <dc:subject/>
  <dc:title>Slide 1</dc:title>
</cp:coreProperties>
</file>