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2F23-856F-45DC-9415-C9A6380BF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8D20-4977-429D-B18D-98CADF6D4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FD59-C356-4C7C-A753-57ECE6B2E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7B5D-BFDC-464A-A97B-77805B955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86E4-3573-47FE-AD07-E899C648E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7F52-3E54-47D3-8051-6731868CD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EE2E-DB7D-4945-908E-F52D1069D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49FD-E8B1-4DA8-8D7B-BA8776CCE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7286-B16E-424F-B5F5-18D0526FA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8B5F-89FC-4B29-86ED-74FE1FCD0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62AE-3A1F-4F83-BAB9-D03C95C66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E078-F24B-4BD2-B7B7-49D731909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69C7F-9E5D-4AFE-83F0-70E71F04395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210026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1T07:49:55Z</dcterms:created>
  <dc:creator>ds0929</dc:creator>
  <dc:description/>
  <dc:language>en-US</dc:language>
  <cp:lastModifiedBy>ds0929</cp:lastModifiedBy>
  <dcterms:modified xsi:type="dcterms:W3CDTF">2013-04-21T07:51:54Z</dcterms:modified>
  <cp:revision>1</cp:revision>
  <dc:subject/>
  <dc:title>Slide 1</dc:title>
</cp:coreProperties>
</file>