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F4C-ACE9-4131-BD00-70FEE4C1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B24-1267-4CFD-A7FC-1C0D6953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87B-9D6A-4B0F-9B02-5C7E004E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691-E077-461E-AF00-F86AA80D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240-ABC3-456F-BC80-3057BE27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5C1-746B-406F-8DF7-3FAF7E39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9E43-D783-4CEA-9CAE-57565702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4AC-4850-4DD9-96B5-EDC0CDBC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491-CF4B-47E3-91D2-09198290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E5E-F0CE-4232-800F-514204CD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BE3-4DC8-4FCE-86C8-732CA51C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D5F-6A66-4149-AF53-FF546C05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1D16-A4DD-4E00-87BB-C1E518B077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1_U Kyaw Naing.mp3" descr=""/>
          <p:cNvPicPr/>
          <p:nvPr/>
        </p:nvPicPr>
        <p:blipFill>
          <a:blip r:embed="rId2"/>
          <a:stretch/>
        </p:blipFill>
        <p:spPr>
          <a:xfrm>
            <a:off x="277164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292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40:16Z</dcterms:created>
  <dc:creator>ds0929</dc:creator>
  <dc:description/>
  <dc:language>en-US</dc:language>
  <cp:lastModifiedBy>ds0929</cp:lastModifiedBy>
  <dcterms:modified xsi:type="dcterms:W3CDTF">2013-04-20T05:41:04Z</dcterms:modified>
  <cp:revision>1</cp:revision>
  <dc:subject/>
  <dc:title>Slide 1</dc:title>
</cp:coreProperties>
</file>