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117-0907-449C-BCF4-5DF76B44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4B9-33A1-4921-B842-1F5206E0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9DB-CF1A-437C-99D8-0212260A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B72-167C-442E-9E77-578191B4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896-0AF0-4033-AC62-076256FC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9FE-14D6-46E7-9AF1-581CECA6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1DA-A09A-470E-A373-202B0CF5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906-786D-4E79-9389-D361156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0D1-E9D2-40A1-9B73-259A1DB4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590-6924-4BDA-A4A8-BB3FA34D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ACE5-E408-4467-9894-919B7CE3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E49-711A-49DE-9B00-BC54B460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76DF-F66E-46F2-AD72-2F5126B3DF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2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7_U Kyaw Naing.mp3" descr=""/>
          <p:cNvPicPr/>
          <p:nvPr/>
        </p:nvPicPr>
        <p:blipFill>
          <a:blip r:embed="rId2"/>
          <a:stretch/>
        </p:blipFill>
        <p:spPr>
          <a:xfrm>
            <a:off x="5724360" y="66135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0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43:10Z</dcterms:created>
  <dc:creator>ds0929</dc:creator>
  <dc:description/>
  <dc:language>en-US</dc:language>
  <cp:lastModifiedBy>ds0929</cp:lastModifiedBy>
  <dcterms:modified xsi:type="dcterms:W3CDTF">2013-04-21T07:43:47Z</dcterms:modified>
  <cp:revision>1</cp:revision>
  <dc:subject/>
  <dc:title>Slide 1</dc:title>
</cp:coreProperties>
</file>