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06A-5D74-4F73-B1FD-60E63CB5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994-2E3A-44D2-A509-CF71B5BA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A4A-4CA6-4A1F-9048-84F28C25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284-3417-410B-80D0-54247B70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942-A897-4C79-8C61-11AA87BF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17F-8E2C-4DC3-9660-DC31AABA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163-2630-4799-9C1A-482655A7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9F4-E189-4E44-8EDF-9ACF0907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FEC-BA01-406B-9F8A-73A37A99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2F0-C3DE-411D-AF6A-A1F4628C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5C8-C19D-4AC8-929A-59024FC1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F9F-19D1-452E-8B57-6F5CB068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7BA4-F0F8-4404-A025-2EB76F307F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9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1_U Kyaw Naing.mp3" descr=""/>
          <p:cNvPicPr/>
          <p:nvPr/>
        </p:nvPicPr>
        <p:blipFill>
          <a:blip r:embed="rId2"/>
          <a:stretch/>
        </p:blipFill>
        <p:spPr>
          <a:xfrm>
            <a:off x="7885080" y="3429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8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4:33:25Z</dcterms:created>
  <dc:creator>ds0929</dc:creator>
  <dc:description/>
  <dc:language>en-US</dc:language>
  <cp:lastModifiedBy>ds0929</cp:lastModifiedBy>
  <dcterms:modified xsi:type="dcterms:W3CDTF">2013-04-19T04:35:06Z</dcterms:modified>
  <cp:revision>1</cp:revision>
  <dc:subject/>
  <dc:title>Slide 1</dc:title>
</cp:coreProperties>
</file>