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616-2AAA-412A-AB8B-5706746A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DED-C955-43E2-8C4A-E506AB6F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684-B5A0-47C8-AAC1-D8374FE7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AB5-CA9F-4C3E-AEA2-C204C6BC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0E9-F5AF-4E47-BD09-0B945784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068-56B8-464E-BB81-C9135F21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80F-6593-4F03-823B-60B33914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0A8-2E8E-4765-A95D-2040D115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592-6C01-4F46-9359-1302B729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7F3-EF37-448F-89EE-E1E0C926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470-0CCD-4B3D-BBA2-3F8EEBFE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DD8-A3BA-4C0B-8524-DBABE9CF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F1F8-DABB-473B-ADF6-2D001F3946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0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2_U Kyaw Naing.mp3" descr=""/>
          <p:cNvPicPr/>
          <p:nvPr/>
        </p:nvPicPr>
        <p:blipFill>
          <a:blip r:embed="rId2"/>
          <a:stretch/>
        </p:blipFill>
        <p:spPr>
          <a:xfrm>
            <a:off x="341964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6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14:10Z</dcterms:created>
  <dc:creator>ds0929</dc:creator>
  <dc:description/>
  <dc:language>en-US</dc:language>
  <cp:lastModifiedBy>ds0929</cp:lastModifiedBy>
  <dcterms:modified xsi:type="dcterms:W3CDTF">2013-04-21T07:15:04Z</dcterms:modified>
  <cp:revision>1</cp:revision>
  <dc:subject/>
  <dc:title>Slide 1</dc:title>
</cp:coreProperties>
</file>