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2BCA-5AD9-410A-8711-D8087E7A3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9A0B-E345-4DA7-B4F3-FC1D3738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687D-3EB4-4180-8913-757513A3F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3745-F504-4A05-AFEC-3A03BC6A2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F60F-28CB-4F4D-B028-65211B6D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AC86-8ACB-42FB-B897-BE251BE4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CE07-C1B5-4500-9888-3138B565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8A67-A01C-4311-9386-FCA83552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14C7-6C7F-4CEC-AFEF-C0DC6084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C36E-3352-410F-AB5D-94006D72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B498-3FA4-4E98-90F6-E4B17038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C1DC-1917-4D9E-BB6A-86368364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C229-B1F3-4EFA-87BE-360B21F3BC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900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6_U Kyaw Naing.mp3" descr=""/>
          <p:cNvPicPr/>
          <p:nvPr/>
        </p:nvPicPr>
        <p:blipFill>
          <a:blip r:embed="rId2"/>
          <a:stretch/>
        </p:blipFill>
        <p:spPr>
          <a:xfrm>
            <a:off x="8604360" y="6237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974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4:43:43Z</dcterms:created>
  <dc:creator>ds0929</dc:creator>
  <dc:description/>
  <dc:language>en-US</dc:language>
  <cp:lastModifiedBy>ds0929</cp:lastModifiedBy>
  <dcterms:modified xsi:type="dcterms:W3CDTF">2013-04-19T04:44:15Z</dcterms:modified>
  <cp:revision>1</cp:revision>
  <dc:subject/>
  <dc:title>Slide 1</dc:title>
</cp:coreProperties>
</file>