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0CD-CD2E-456F-A87B-1928FF56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D96-9C1D-4366-BAA4-8A26A457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E35F-5939-4C38-8201-3069D33F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274-CD05-423F-A2F3-C7C4F431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7FE-AD61-44E6-AE4A-32DDF3CD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1A6-FC7F-49BA-8729-241D760F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9F2D-0CD8-4123-94A5-5E894152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DD6F-BF2B-4BF1-8ED9-B7C43215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D71-B7EF-498A-B73F-7F3AA48D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058-4027-43EB-B06B-C68E31F6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84B6-1C50-4A86-9016-95045B3B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BD5-87EF-40A3-BC0F-9796A917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DBC3-B18C-4C0D-B2E5-C487CF137B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90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6_U Kyaw Naing.mp3" descr=""/>
          <p:cNvPicPr/>
          <p:nvPr/>
        </p:nvPicPr>
        <p:blipFill>
          <a:blip r:embed="rId2"/>
          <a:stretch/>
        </p:blipFill>
        <p:spPr>
          <a:xfrm>
            <a:off x="7164360" y="63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545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4:38:04Z</dcterms:created>
  <dc:creator>ds0929</dc:creator>
  <dc:description/>
  <dc:language>en-US</dc:language>
  <cp:lastModifiedBy>ds0929</cp:lastModifiedBy>
  <dcterms:modified xsi:type="dcterms:W3CDTF">2013-04-19T04:38:37Z</dcterms:modified>
  <cp:revision>1</cp:revision>
  <dc:subject/>
  <dc:title>Slide 1</dc:title>
</cp:coreProperties>
</file>