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CCBF-17D0-48DF-B650-BF94614F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196-B4FB-4712-8DFE-2BC22FCF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16C-927A-4D71-B7E7-79306435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714-9A85-4B1D-BA96-C54DB8A1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B64-597F-43FB-8370-132BF707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DC5-6FAE-4CB0-920D-35A48812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65F-190E-4BF5-8CFB-BE7B4331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B2D-7EA6-458B-B8CA-32BD4AD4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575-799F-4713-B59F-33F69D1F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6DF-06DC-4A93-8CA2-172972EA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C94-46D2-430A-A5FC-710DCAC5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B6D-AC1E-47A6-87FD-9FA52CBE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25E1-D773-40AE-BD1C-4B41FC2324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7_U Kyaw Naing.mp3" descr=""/>
          <p:cNvPicPr/>
          <p:nvPr/>
        </p:nvPicPr>
        <p:blipFill>
          <a:blip r:embed="rId2"/>
          <a:stretch/>
        </p:blipFill>
        <p:spPr>
          <a:xfrm>
            <a:off x="838836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02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38:41Z</dcterms:created>
  <dc:creator>ds0929</dc:creator>
  <dc:description/>
  <dc:language>en-US</dc:language>
  <cp:lastModifiedBy>ds0929</cp:lastModifiedBy>
  <dcterms:modified xsi:type="dcterms:W3CDTF">2013-04-19T04:39:11Z</dcterms:modified>
  <cp:revision>1</cp:revision>
  <dc:subject/>
  <dc:title>Slide 1</dc:title>
</cp:coreProperties>
</file>