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E05-8AFC-4688-8DC2-76E2677F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1AF-E49F-4425-BC1B-9370F24A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E48-A753-43AA-B268-4E46EA20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CFB-84BD-48A4-8842-0D64BC40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4AD-A2C3-4371-BA7B-FF93E85A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6FE-DBA5-462B-99E0-209B467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D33-4CCE-4F12-87B1-BCB85241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81E-C591-4DD5-8887-A79C3563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1BB-46BC-4AC8-B5C5-BC5E7570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10E-88E1-46F7-A7DA-BB875534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339-E38A-49E0-9E85-004B35C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F68-5F49-411C-A02C-B1E71897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4808-4EBF-4E62-9492-1EF6D2C8A2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P421001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493236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1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36:44Z</dcterms:created>
  <dc:creator>ds0929</dc:creator>
  <dc:description/>
  <dc:language>en-US</dc:language>
  <cp:lastModifiedBy>ds0929</cp:lastModifiedBy>
  <dcterms:modified xsi:type="dcterms:W3CDTF">2013-04-21T07:38:56Z</dcterms:modified>
  <cp:revision>2</cp:revision>
  <dc:subject/>
  <dc:title>Slide 1</dc:title>
</cp:coreProperties>
</file>