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575-5E2F-40E8-9C1E-F1EFDB05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9FD-6902-438B-9486-1473E092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6AC-B432-4AA1-B4CE-ED9175D2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8CD-25EB-40CF-A2B5-C38DABFD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172-0297-4600-A16D-42ADAAD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5C8-F90D-436F-A9E5-53530D51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3E1-4F6B-432A-85DA-B033A2DB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DD8-0917-429F-AFB7-6FAC812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D56-254C-4699-83D4-E99DDAF5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C10-73E4-49E5-8E2E-12A4ABA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CA6-7CA7-4315-9F72-093D4A3E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248-030B-4751-A30D-51B98A3C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9BFB-8AAC-4ABC-9A4E-6359B6D495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20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3924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12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5:18:39Z</dcterms:created>
  <dc:creator>ds0929</dc:creator>
  <dc:description/>
  <dc:language>en-US</dc:language>
  <cp:lastModifiedBy>ds0929</cp:lastModifiedBy>
  <dcterms:modified xsi:type="dcterms:W3CDTF">2013-04-20T05:21:44Z</dcterms:modified>
  <cp:revision>2</cp:revision>
  <dc:subject/>
  <dc:title>Slide 1</dc:title>
</cp:coreProperties>
</file>