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343-0A75-4B86-9373-704263DA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348-4461-4928-BA33-E7CF2717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473-614D-463B-BD46-DD5535F3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79D-BA42-419E-A640-4C11FD33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5BE-9FE0-4F52-A539-A81AD67B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E5A-8698-49C6-8FF8-52EDF684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A59-CA5A-4B62-BEE9-61BCC9DF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D08-561E-4F81-89A2-8CBB74E3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4FB-F978-4812-9D31-B68E7D68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EA1-0687-44A0-ABC8-44E29015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6FE-BBE7-4100-9757-959699ED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98C-C6F7-4F1D-BFAC-D4837FA0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DE77-971B-40D5-8E59-060B274A92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4_U Kyaw Naing.mp3" descr=""/>
          <p:cNvPicPr/>
          <p:nvPr/>
        </p:nvPicPr>
        <p:blipFill>
          <a:blip r:embed="rId2"/>
          <a:stretch/>
        </p:blipFill>
        <p:spPr>
          <a:xfrm>
            <a:off x="30592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92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22:38Z</dcterms:created>
  <dc:creator>ds0929</dc:creator>
  <dc:description/>
  <dc:language>en-US</dc:language>
  <cp:lastModifiedBy>ds0929</cp:lastModifiedBy>
  <dcterms:modified xsi:type="dcterms:W3CDTF">2013-04-20T05:23:16Z</dcterms:modified>
  <cp:revision>1</cp:revision>
  <dc:subject/>
  <dc:title>Slide 1</dc:title>
</cp:coreProperties>
</file>