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B53-B612-4D19-82DD-BE99ABDA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90D-9C5E-4612-877B-13A8B988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387-6124-4F0A-9255-30C19281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25E-27EE-427A-86AB-C35C41C9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808-BF1A-4616-A623-9BE04BA7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BFE-EA44-41DB-A112-136207BB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20F-CF9F-4460-86BF-37D4BD53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B04-F823-4034-8153-7FFDB605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021-6E0F-43CA-BE2D-462AFDDD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339-008B-4058-901B-BAFBC543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CCC-2441-4E9A-A412-A833F683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EE6-7AB7-44EB-B529-B05A6905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6937-2EBC-4007-9FBF-8A211EB90C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3_U Kyaw Naing.mp3" descr=""/>
          <p:cNvPicPr/>
          <p:nvPr/>
        </p:nvPicPr>
        <p:blipFill>
          <a:blip r:embed="rId2"/>
          <a:stretch/>
        </p:blipFill>
        <p:spPr>
          <a:xfrm>
            <a:off x="4356000" y="6165720"/>
            <a:ext cx="30960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779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21:49Z</dcterms:created>
  <dc:creator>ds0929</dc:creator>
  <dc:description/>
  <dc:language>en-US</dc:language>
  <cp:lastModifiedBy>ds0929</cp:lastModifiedBy>
  <dcterms:modified xsi:type="dcterms:W3CDTF">2013-04-20T05:22:34Z</dcterms:modified>
  <cp:revision>1</cp:revision>
  <dc:subject/>
  <dc:title>Slide 1</dc:title>
</cp:coreProperties>
</file>