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2AE-4482-4395-A889-10214AD0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41B-247F-42BA-956B-A22C3F1F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7B1-AA2A-45B3-ACB6-6EE5D0C3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16B-6F22-4250-A69E-CFA73F5C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B65-A136-44DD-9AF2-03817F58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9FC-7F3F-456F-8C0F-FA389C53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9B0-811D-4C79-A5F9-3D8BF138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CE2-C67A-4A3F-A04C-F00D366C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28A-7405-4A51-A710-2BC85A3C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0AF-2C52-43EE-BC90-A763CCF9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B38-E2D1-4B9E-A78C-DA632DB6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65E-AE3F-4704-A6E5-91472D8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E579-27AC-4712-B364-C804641CDA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2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52:01Z</dcterms:created>
  <dc:creator>ds0929</dc:creator>
  <dc:description/>
  <dc:language>en-US</dc:language>
  <cp:lastModifiedBy>ds0929</cp:lastModifiedBy>
  <dcterms:modified xsi:type="dcterms:W3CDTF">2013-04-21T07:52:36Z</dcterms:modified>
  <cp:revision>1</cp:revision>
  <dc:subject/>
  <dc:title>Slide 1</dc:title>
</cp:coreProperties>
</file>