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C38-2468-4372-B43D-130AEEE3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854-E247-43C4-877F-6CF7A37B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059-1FA8-465D-ADC8-8D368AF2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3A2-0352-4C80-9F1E-B7800D65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E50-9F6D-4216-B505-18CD03D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27E-2585-4A4C-8075-6250768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B80-7E84-4BB1-997B-23CABE27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75C-554C-4181-B515-555535A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63B-DD91-4DCC-A88F-0168A586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1C6-A2BC-4128-A596-990300C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27A-0C80-41DD-BBED-0165AF9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3A8-2E99-4B5A-B814-E1E9B57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FDC-728A-45D9-9CCE-4BF944D7BA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248436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67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6:15Z</dcterms:created>
  <dc:creator>ds0929</dc:creator>
  <dc:description/>
  <dc:language>en-US</dc:language>
  <cp:lastModifiedBy>ds0929</cp:lastModifiedBy>
  <dcterms:modified xsi:type="dcterms:W3CDTF">2013-04-21T07:46:51Z</dcterms:modified>
  <cp:revision>1</cp:revision>
  <dc:subject/>
  <dc:title>Slide 1</dc:title>
</cp:coreProperties>
</file>