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391-F84A-439C-8395-B8ED3E41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D2C-AF4A-479E-A208-93562562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87E-28B6-48C0-A89D-47B4E9BA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5CA-0500-4AD4-8BCC-BC0DEDBF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795-9564-46DE-A9B0-2FC9083C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8AF-0693-42ED-A3F7-7FEFF9D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037-D8E1-4233-B53F-515087F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888-D5AC-4879-9F45-68BD1358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650-D36E-4B85-B361-0124744A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D3F-A43C-4EE4-AFAC-A466932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E90-1507-495A-9229-86BC535D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280-F3E1-43DB-A28D-4AAAD9B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A0D-408F-4C9C-A4C6-9D4C6FEFB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3059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2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6:28Z</dcterms:created>
  <dc:creator>ds0929</dc:creator>
  <dc:description/>
  <dc:language>en-US</dc:language>
  <cp:lastModifiedBy>ds0929</cp:lastModifiedBy>
  <dcterms:modified xsi:type="dcterms:W3CDTF">2013-04-20T05:27:02Z</dcterms:modified>
  <cp:revision>1</cp:revision>
  <dc:subject/>
  <dc:title>Slide 1</dc:title>
</cp:coreProperties>
</file>