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BCBB-2054-46FA-A96F-2E319F98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1D3C-BD30-43F1-BE7A-2D7783E2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D4DE-6F6D-4C54-A329-B8DFA930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8497-3C14-4996-9957-AC01E77A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5E8D-82F4-4AD9-A672-C34118C2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A492-CFBE-453C-979C-97F32695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B06-C9EF-4621-9126-9D1388E9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1AA2-F371-44E0-8BDE-1EAC20FB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D2C6-053E-4D97-BD55-55AB1AF7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16B-7788-47E7-A545-914E3759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244-0983-4E7F-9371-5F06548A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3FB7-BBFF-4468-AFD6-30E32191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8867-8F16-452C-B84D-CC112B8F37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90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2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352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4:35:11Z</dcterms:created>
  <dc:creator>ds0929</dc:creator>
  <dc:description/>
  <dc:language>en-US</dc:language>
  <cp:lastModifiedBy>ds0929</cp:lastModifiedBy>
  <dcterms:modified xsi:type="dcterms:W3CDTF">2013-04-19T04:35:54Z</dcterms:modified>
  <cp:revision>1</cp:revision>
  <dc:subject/>
  <dc:title>Slide 1</dc:title>
</cp:coreProperties>
</file>