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D05-3C45-4BF3-A94C-C9F8D250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1A9-4B15-4AFE-A2A8-9BF606D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BB2-F785-41B6-8ABB-E9566DD3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BF1-9B8D-41C5-AEE2-2FE1A10B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E2F-4BBE-48E8-A31C-5D807B4F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B4E-79E4-48C2-B6A1-44E9CCEE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E3F-78F2-4D73-B143-86DCCAA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606-E49F-4D2C-A4FB-F82C2F6E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504-8D1D-4624-94DF-E094EAB7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B40-0820-4455-B4E2-C62EBFA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A43-E20F-486A-B3DD-6EF84B63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606-077D-4FE8-8C98-9DFF76B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C43-A27F-41CC-99AE-7B8FEF4275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4:34Z</dcterms:created>
  <dc:creator>ds0929</dc:creator>
  <dc:description/>
  <dc:language>en-US</dc:language>
  <cp:lastModifiedBy>ds0929</cp:lastModifiedBy>
  <dcterms:modified xsi:type="dcterms:W3CDTF">2013-04-21T07:45:24Z</dcterms:modified>
  <cp:revision>1</cp:revision>
  <dc:subject/>
  <dc:title>Slide 1</dc:title>
</cp:coreProperties>
</file>