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CA5-CF4C-44E9-90EA-02774289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AF3-DD89-4878-823A-B9DAA9A2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1A5-F50C-46F2-9854-D4A60901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305-6BC9-4D84-879F-B23E832C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3F1-E0E8-4C42-BE31-DCDBDEA1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997-9AC4-4281-9C06-8314C18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774-C9D0-4483-A183-8A7735B5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938-2A2E-45FA-A646-D33FF5A6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71B-9148-4DB5-BDDC-84113CED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36C-F5BF-43E8-8AD6-5A57C6E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8F7-EBB2-476D-AD77-BF9F2AA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BEF-F439-4F3E-9DD4-A9410099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B59-B176-407E-973A-3936B5CC73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673272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08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9:16Z</dcterms:created>
  <dc:creator>ds0929</dc:creator>
  <dc:description/>
  <dc:language>en-US</dc:language>
  <cp:lastModifiedBy>ds0929</cp:lastModifiedBy>
  <dcterms:modified xsi:type="dcterms:W3CDTF">2013-04-19T04:39:53Z</dcterms:modified>
  <cp:revision>1</cp:revision>
  <dc:subject/>
  <dc:title>Slide 1</dc:title>
</cp:coreProperties>
</file>