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B36-8038-4D6A-8EFE-C4FEB0F7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42A-D954-4A34-B4A5-5F53A5E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CF9-00E6-4A72-ACBD-226A78D4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2E1-99F7-4A09-858F-E0FC1E61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5CE-4E30-49B7-8537-AE1C71AA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4BB-33BB-484C-A965-68C4896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D8A-BB05-455E-9C62-64E6F79E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6CF-FF15-4EF5-BA42-FE0311CD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733-CA1A-4D69-A9C2-69AFD870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E6A-5A91-45D9-9FE4-CCAC1C7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366-F7B9-4A3B-8042-B11F725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2C0-6C09-49D4-AD10-170C168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BF02-C94C-4660-AC01-8F3CAF9BD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971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1:12Z</dcterms:created>
  <dc:creator>ds0929</dc:creator>
  <dc:description/>
  <dc:language>en-US</dc:language>
  <cp:lastModifiedBy>ds0929</cp:lastModifiedBy>
  <dcterms:modified xsi:type="dcterms:W3CDTF">2013-04-21T07:43:06Z</dcterms:modified>
  <cp:revision>1</cp:revision>
  <dc:subject/>
  <dc:title>Slide 1</dc:title>
</cp:coreProperties>
</file>