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A7E-F79D-4E7F-BF3D-4BB83627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21E-E8B8-44EA-A934-7ADC81D6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E1C-9DE3-4C7E-A4F9-3A72B906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1AB-A93D-4B8A-8DB8-8FD27E06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5AEA-BE80-4A2A-9228-24AA99A2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A5F-E36F-4DEB-AFAD-33D5D32A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22A-883D-4550-9867-4ADF8D7D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870-9190-41F9-9A3A-878FE3E8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AE5D-8B68-4122-AD97-E05ED2CE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6C5-364C-4FD1-9932-769B3C47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5B8-4CB8-419E-A275-F71EEF3F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3EA-9416-4476-B5A4-697E4D1E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A53C-7334-4471-A11C-854A20E60B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0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4_U Kyaw Naing.mp3" descr=""/>
          <p:cNvPicPr/>
          <p:nvPr/>
        </p:nvPicPr>
        <p:blipFill>
          <a:blip r:embed="rId2"/>
          <a:stretch/>
        </p:blipFill>
        <p:spPr>
          <a:xfrm>
            <a:off x="262728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696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421000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17:41Z</dcterms:created>
  <dc:creator>ds0929</dc:creator>
  <dc:description/>
  <dc:language>en-US</dc:language>
  <cp:lastModifiedBy>ds0929</cp:lastModifiedBy>
  <dcterms:modified xsi:type="dcterms:W3CDTF">2013-04-21T07:21:54Z</dcterms:modified>
  <cp:revision>2</cp:revision>
  <dc:subject/>
  <dc:title>Slide 1</dc:title>
</cp:coreProperties>
</file>