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B28-887B-4068-99C9-B67AB7BB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728-7839-46C8-A50F-6BD3F63F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48F-EA91-4232-8BD1-3607F996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CC72-77E1-449F-9233-63BE1128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449-8C7C-4E0D-98DF-DEF2726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F43-CA3A-4210-891A-FEA968D9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731-7A9D-4692-B4C1-6F3A1CC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631-7036-4ABA-9CA6-3C8993A3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80C-3001-4938-A01D-C2A0857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057-8489-43A0-99B8-D6C3F971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7BA-0D85-462C-9D35-5C865EF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BCA-AB3E-42A2-8BCD-2BCFC49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4002-DED7-4B83-8DBC-F75A35ACFF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11" descr="P420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4284720" y="67356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6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9:54Z</dcterms:created>
  <dc:creator>ds0929</dc:creator>
  <dc:description/>
  <dc:language>en-US</dc:language>
  <cp:lastModifiedBy>ds0929</cp:lastModifiedBy>
  <dcterms:modified xsi:type="dcterms:W3CDTF">2013-04-20T05:35:11Z</dcterms:modified>
  <cp:revision>2</cp:revision>
  <dc:subject/>
  <dc:title>Slide 1</dc:title>
</cp:coreProperties>
</file>