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38E8-877D-4893-B0FB-28DC04496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F228-4443-4B28-8092-B8D174FF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DD63-FC20-4F38-8BB7-CF78624B1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7C2C-2483-48FB-ABBA-1FD044E4B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5F73-B483-4A8F-9776-6E7A9C64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5D7F-CB61-43DB-BD42-985EBFE3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C11F-F744-458A-A2E7-4CE351AC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D19F-71D6-4388-A7C6-69366C24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111F-BB9C-4690-BCE5-04DDB370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A252-BBBF-4B4D-B5AE-3E4C4AEC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945E-A64A-4A43-B1AA-0822F87A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431A-4D8A-442B-BF38-B334277A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5175-8E80-47AC-8444-14683EB4D6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10009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7_U Kyaw Naing.mp3" descr=""/>
          <p:cNvPicPr/>
          <p:nvPr/>
        </p:nvPicPr>
        <p:blipFill>
          <a:blip r:embed="rId2"/>
          <a:stretch/>
        </p:blipFill>
        <p:spPr>
          <a:xfrm>
            <a:off x="6659640" y="5013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961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07:25:40Z</dcterms:created>
  <dc:creator>ds0929</dc:creator>
  <dc:description/>
  <dc:language>en-US</dc:language>
  <cp:lastModifiedBy>ds0929</cp:lastModifiedBy>
  <dcterms:modified xsi:type="dcterms:W3CDTF">2013-04-21T07:27:23Z</dcterms:modified>
  <cp:revision>1</cp:revision>
  <dc:subject/>
  <dc:title>Slide 1</dc:title>
</cp:coreProperties>
</file>