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333-3956-4233-94CA-4928664E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975-1EEA-48C3-864C-D6095DC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80A-E812-4F54-946B-35B7F355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FA7-2F43-4245-908B-2DEF63D5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39A-CFF0-4728-AEDB-98171638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44C-4F7C-4A89-BA02-A5A95FE2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585-7CDE-4A21-89C7-14184F22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830-6E43-41CE-A138-F002155D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7A6-3C31-4BA4-9F0E-4F6599E3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4F1-4966-4C04-BC9D-5C59EC6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BE2-2DC9-4BEA-8549-CAF5B90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046-B56D-4B89-821F-2AAC5E5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D581-7228-47AD-A964-CB54E7C9D9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1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6372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5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39:01Z</dcterms:created>
  <dc:creator>ds0929</dc:creator>
  <dc:description/>
  <dc:language>en-US</dc:language>
  <cp:lastModifiedBy>ds0929</cp:lastModifiedBy>
  <dcterms:modified xsi:type="dcterms:W3CDTF">2013-04-21T07:40:06Z</dcterms:modified>
  <cp:revision>1</cp:revision>
  <dc:subject/>
  <dc:title>Slide 1</dc:title>
</cp:coreProperties>
</file>