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A1CA-9DE9-450D-B4ED-3568394F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918-ED99-429D-A765-8A9E6674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0F9-F18A-4410-9A75-D963327B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96E-191A-4523-BE58-641B5042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A5E3-C93A-43DA-B3D9-1FFBD601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92AD-BC51-4136-AD70-2F5022FE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25A-9E29-4903-BE4D-40C74313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D08-40D2-427C-9414-FDA7FA20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7FA-3476-4806-9A8A-71C729BE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F64-BCB9-40AB-8F6A-3C442589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610-F94A-4F4C-A0A0-1330682D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5AC-F1AE-4C2F-8675-D2BE8CD4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0FDB-CE85-46EE-B29B-7E1F3043A6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3_U Kyaw Naing.mp3" descr=""/>
          <p:cNvPicPr/>
          <p:nvPr/>
        </p:nvPicPr>
        <p:blipFill>
          <a:blip r:embed="rId2"/>
          <a:stretch/>
        </p:blipFill>
        <p:spPr>
          <a:xfrm>
            <a:off x="4356000" y="558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11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421000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001_A_003_U Kyaw Naing.mp3" descr=""/>
          <p:cNvPicPr/>
          <p:nvPr/>
        </p:nvPicPr>
        <p:blipFill>
          <a:blip r:embed="rId2"/>
          <a:stretch/>
        </p:blipFill>
        <p:spPr>
          <a:xfrm>
            <a:off x="457200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811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15:08Z</dcterms:created>
  <dc:creator>ds0929</dc:creator>
  <dc:description/>
  <dc:language>en-US</dc:language>
  <cp:lastModifiedBy>ds0929</cp:lastModifiedBy>
  <dcterms:modified xsi:type="dcterms:W3CDTF">2013-04-21T07:17:37Z</dcterms:modified>
  <cp:revision>1</cp:revision>
  <dc:subject/>
  <dc:title>Slide 1</dc:title>
</cp:coreProperties>
</file>