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348-77F1-430D-B425-6F897C42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AF7-570B-42E6-B7B3-E8B72BA4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0EF-FA46-4413-AA7A-7A0F4FAC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454-8524-4A95-9E96-D42812FF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CCD4-1B5B-48F4-988E-FD71A6CC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2325-405E-4C9C-B9A6-CF7D34B2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088-2B8D-4262-AB97-18177167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2C3B-522F-4E1B-B342-0DF4F273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A26F-22AE-4BB4-AE9C-103F4A0D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D72-101D-46EF-A93C-EB4D0960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2D4-E5A6-44B1-8263-488D8886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B93-E975-4241-8609-CB7B71F2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F172-880F-4D18-ADBB-47107356E9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5_U Kyaw Naing.mp3" descr=""/>
          <p:cNvPicPr/>
          <p:nvPr/>
        </p:nvPicPr>
        <p:blipFill>
          <a:blip r:embed="rId2"/>
          <a:stretch/>
        </p:blipFill>
        <p:spPr>
          <a:xfrm>
            <a:off x="406728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918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23:21Z</dcterms:created>
  <dc:creator>ds0929</dc:creator>
  <dc:description/>
  <dc:language>en-US</dc:language>
  <cp:lastModifiedBy>ds0929</cp:lastModifiedBy>
  <dcterms:modified xsi:type="dcterms:W3CDTF">2013-04-20T05:24:11Z</dcterms:modified>
  <cp:revision>1</cp:revision>
  <dc:subject/>
  <dc:title>Slide 1</dc:title>
</cp:coreProperties>
</file>