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574-AF77-4478-B72B-5EA87AC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5E2-4BDB-45A0-8636-830E18C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FED-9CC6-48BF-BCAF-AABB64BE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63F-3AD9-4638-9731-A6BB912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D4C-308A-46B1-8B62-DDFB5D4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C0A-AAFD-47BC-9C53-524EF16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4C1C-036A-43FF-BBDE-2879F1D2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3D7-5C4A-4287-B694-AE66E28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F43F-78A6-4E12-B6C7-7E145CB4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C75-26AD-4506-A59A-C2E858A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95D-26D0-48BF-B2F5-E6FD844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DCC-49DD-40FC-98A4-17ABB2A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BD16-0368-42B7-846D-A3B1192231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5_U Kyaw Naing.mp3" descr=""/>
          <p:cNvPicPr/>
          <p:nvPr/>
        </p:nvPicPr>
        <p:blipFill>
          <a:blip r:embed="rId2"/>
          <a:stretch/>
        </p:blipFill>
        <p:spPr>
          <a:xfrm>
            <a:off x="4788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8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3:32Z</dcterms:created>
  <dc:creator>ds0929</dc:creator>
  <dc:description/>
  <dc:language>en-US</dc:language>
  <cp:lastModifiedBy>ds0929</cp:lastModifiedBy>
  <dcterms:modified xsi:type="dcterms:W3CDTF">2013-04-20T05:44:11Z</dcterms:modified>
  <cp:revision>1</cp:revision>
  <dc:subject/>
  <dc:title>Slide 1</dc:title>
</cp:coreProperties>
</file>