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DF7-ECA2-4D43-936A-E8FA7039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993-FB55-488E-8287-C28B7ADD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77F-015F-4196-AC1D-2F8DD547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C9E-20A4-45B4-9CB5-522732AD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FE4-460D-45EF-B44F-1D47329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5C9-0C19-48DB-A296-C169AC7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8CD-EC22-4819-82C4-9C85CD04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A0C-505F-430B-9052-2E816639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6B8-7840-4F0C-9392-01B4E3B1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208-83CA-42BA-9F01-3EC2EC4F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949-CA7F-433A-9D75-22C67C0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6F2-987F-4742-8E60-1924D75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B16-38B3-4C85-84BE-50E0D7BC08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7_U Kyaw Naing.mp3" descr=""/>
          <p:cNvPicPr/>
          <p:nvPr/>
        </p:nvPicPr>
        <p:blipFill>
          <a:blip r:embed="rId2"/>
          <a:stretch/>
        </p:blipFill>
        <p:spPr>
          <a:xfrm>
            <a:off x="630072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075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4200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45:20Z</dcterms:created>
  <dc:creator>ds0929</dc:creator>
  <dc:description/>
  <dc:language>en-US</dc:language>
  <cp:lastModifiedBy>ds0929</cp:lastModifiedBy>
  <dcterms:modified xsi:type="dcterms:W3CDTF">2013-04-20T05:46:32Z</dcterms:modified>
  <cp:revision>1</cp:revision>
  <dc:subject/>
  <dc:title>Slide 1</dc:title>
</cp:coreProperties>
</file>