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707-DD62-4283-9CFB-45AB736E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4C4-8B6C-4EB4-8D3B-2ACAA0B3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11D-A00C-4979-A7AC-269DA424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416-B1B6-444B-B812-10AA089C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17A-99D3-4239-9414-70D3FC9B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EBE-63F4-4918-B900-158D92D6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947-A242-41DF-BC1F-C0338304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D68D-8978-42B1-9C51-DC34B1BF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5E7-6D50-49DA-A7EA-5EBFC983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C79-4B2B-4541-BCCC-EE6C91AC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EA7-385F-48B3-9416-6979B7F4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DF4-2482-4E18-8DFB-9DB41E20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C4E1-19C8-456C-874D-EAC260C034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1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1_U Kyaw Naing.mp3" descr=""/>
          <p:cNvPicPr/>
          <p:nvPr/>
        </p:nvPicPr>
        <p:blipFill>
          <a:blip r:embed="rId2"/>
          <a:stretch/>
        </p:blipFill>
        <p:spPr>
          <a:xfrm>
            <a:off x="6084720" y="450864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59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4210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34:19Z</dcterms:created>
  <dc:creator>ds0929</dc:creator>
  <dc:description/>
  <dc:language>en-US</dc:language>
  <cp:lastModifiedBy>ds0929</cp:lastModifiedBy>
  <dcterms:modified xsi:type="dcterms:W3CDTF">2013-04-21T07:38:05Z</dcterms:modified>
  <cp:revision>2</cp:revision>
  <dc:subject/>
  <dc:title>Slide 1</dc:title>
</cp:coreProperties>
</file>