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CF6-4DE7-4380-9D37-3979659E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B2E-CB2B-41A2-B9E8-3C8D6780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EAC-AD5F-4F8E-8CE0-942D6F9A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F25-0C9A-4A17-8B63-3CAB05A1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DE3-945E-4582-83FC-5F18F777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A51-FD3C-4794-8C66-6460DE1D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F48-108E-435D-B47B-49FC03EA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A5D-1623-4A7B-9537-3450D4F7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5FD-61D8-4C57-B639-88153A74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35C-A1B5-481D-92DF-8459DEF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010-5D49-48EB-A6C2-CA37E80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F3C-FFDE-4094-85F9-456EB55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CD5-1B2B-4F2B-8B90-BEB38858C3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1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334800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40:26Z</dcterms:created>
  <dc:creator>ds0929</dc:creator>
  <dc:description/>
  <dc:language>en-US</dc:language>
  <cp:lastModifiedBy>ds0929</cp:lastModifiedBy>
  <dcterms:modified xsi:type="dcterms:W3CDTF">2013-04-21T07:41:08Z</dcterms:modified>
  <cp:revision>1</cp:revision>
  <dc:subject/>
  <dc:title>Slide 1</dc:title>
</cp:coreProperties>
</file>