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6D27-C5E2-4199-BFFA-EE89F880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3B7-2270-47DD-B1A5-C29739AF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AE5-0301-46B8-ABCE-AA897A58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514-AEEC-4773-8514-3939F425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6DB2-2AC8-468E-8876-BEAD43B4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E65D-84DF-467F-AF3E-61066FBE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88DE-6EBD-4F9B-905A-B53DB757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733-9902-4029-84BC-4EE7A8DA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E6B5-D080-4240-94E1-22FC3034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3E0-CE03-4F00-A447-3762C394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0605-B21D-4419-8F7D-9F082546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619-C5AB-41F2-B555-19AB5366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051F-8982-41ED-B148-F8DE044FE9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4_U Kyaw Naing.mp3" descr=""/>
          <p:cNvPicPr/>
          <p:nvPr/>
        </p:nvPicPr>
        <p:blipFill>
          <a:blip r:embed="rId2"/>
          <a:stretch/>
        </p:blipFill>
        <p:spPr>
          <a:xfrm>
            <a:off x="2195640" y="544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294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53:15Z</dcterms:created>
  <dc:creator>ds0929</dc:creator>
  <dc:description/>
  <dc:language>en-US</dc:language>
  <cp:lastModifiedBy>ds0929</cp:lastModifiedBy>
  <dcterms:modified xsi:type="dcterms:W3CDTF">2013-04-21T07:53:48Z</dcterms:modified>
  <cp:revision>1</cp:revision>
  <dc:subject/>
  <dc:title>Slide 1</dc:title>
</cp:coreProperties>
</file>