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8E3A-B331-4A17-A58D-FBD983B57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DA0E-BCBF-43ED-B145-E55ED2C48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952F-01CA-4AFE-9907-43A8C69D5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B965-9874-45D8-BCF8-19077823A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EF51-4DD5-48D8-846D-C3DA8AF66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1DF7-FF1A-44E0-A71D-DB0096450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65BE-F7F6-4844-A076-AC9906CD6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F380-C817-4799-86CB-8B9880DF1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4AC8-C496-4B4B-9947-1C9C89295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56AF-ABEE-443F-A797-30CFDBAC4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CA9E-26C7-4DC9-BA4B-6C13DBE15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CCE7-F361-4716-A17C-38ACF31C6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63CD6-0B49-4273-A4CD-93446BD3F1C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P421001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001_A_009_U Kyaw Naing.mp3" descr=""/>
          <p:cNvPicPr/>
          <p:nvPr/>
        </p:nvPicPr>
        <p:blipFill>
          <a:blip r:embed="rId2"/>
          <a:stretch/>
        </p:blipFill>
        <p:spPr>
          <a:xfrm>
            <a:off x="7451640" y="595008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728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1T07:33:09Z</dcterms:created>
  <dc:creator>ds0929</dc:creator>
  <dc:description/>
  <dc:language>en-US</dc:language>
  <cp:lastModifiedBy>ds0929</cp:lastModifiedBy>
  <dcterms:modified xsi:type="dcterms:W3CDTF">2013-04-21T07:34:06Z</dcterms:modified>
  <cp:revision>1</cp:revision>
  <dc:subject/>
  <dc:title>Slide 1</dc:title>
</cp:coreProperties>
</file>