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8E8-A72D-4566-8BD0-E84476B3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28B-EDB6-41B1-B3DC-273F8AE2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FF4-C7DA-447B-AA87-2244EF0E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F8C-2815-4015-88E4-595DF2E6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D13-F96C-4C91-A086-6195738B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C98-2E6C-4CF0-9D02-5DB0763D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B24-462E-4B40-BAFF-72635378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70F-CA59-4C39-88AE-29BB9B87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76D-3853-4B55-A502-02C7ADA5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665-E640-46FA-B756-4CDCF956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93D-BA7C-420F-A3ED-D7B70491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FE0-0AFA-4E6C-B49C-4B21368C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DF0-4489-4D2A-90A4-AA790897AD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529272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48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38:45Z</dcterms:created>
  <dc:creator>ds0929</dc:creator>
  <dc:description/>
  <dc:language>en-US</dc:language>
  <cp:lastModifiedBy>ds0929</cp:lastModifiedBy>
  <dcterms:modified xsi:type="dcterms:W3CDTF">2013-04-20T05:39:25Z</dcterms:modified>
  <cp:revision>1</cp:revision>
  <dc:subject/>
  <dc:title>Slide 1</dc:title>
</cp:coreProperties>
</file>