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AE3-A9B7-42DB-8057-82459349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3FC-A002-44F8-88E8-32204172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355D-476E-402F-AA1E-4E56130F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4C6-CBBC-41A7-816C-9E1D7379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F69-2CF0-4846-932C-B94A3308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8F6-5EE1-42E5-8815-94D803E5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B94-0D50-434A-BA3E-54561FE7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BD9-EC93-46DA-B6B4-EC2AD768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8B1-7A27-485C-A7C5-5D673FBB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290-B1AF-4C03-93B5-ADCD4552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55B-1FD4-40E0-BEFC-1D678425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F7F-1EAD-4348-BF29-FF3C25DA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9A1F-7EC1-42C0-BB75-BE2A2CB291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4356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184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36:10Z</dcterms:created>
  <dc:creator>ds0929</dc:creator>
  <dc:description/>
  <dc:language>en-US</dc:language>
  <cp:lastModifiedBy>ds0929</cp:lastModifiedBy>
  <dcterms:modified xsi:type="dcterms:W3CDTF">2013-04-20T05:37:04Z</dcterms:modified>
  <cp:revision>1</cp:revision>
  <dc:subject/>
  <dc:title>Slide 1</dc:title>
</cp:coreProperties>
</file>