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E50-6358-47F8-88C8-FD3DEB13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EBD-8D9F-458C-B1CE-F26693B5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40C-07EA-49B1-99CA-1A338E54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FBC-0608-4E6F-AE56-2FFA67D5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A63-962A-47A3-945C-627EA9CB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F69-9601-43F6-8E8C-AE1DB6E6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1A0-6BCC-4188-B7A5-C46681E1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603-2DFB-48C0-AD1A-D932CCE2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A24-A5FB-4D03-8C4C-243ADE63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8EE-330E-4AC0-83E9-ED59D9FE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0C0-036A-4628-A1E5-77EC4681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DEC-0A2E-42A5-8757-3891BB44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9708-E2C4-402A-91B9-F84EB96E5B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6_U Kyaw Naing.mp3" descr=""/>
          <p:cNvPicPr/>
          <p:nvPr/>
        </p:nvPicPr>
        <p:blipFill>
          <a:blip r:embed="rId2"/>
          <a:stretch/>
        </p:blipFill>
        <p:spPr>
          <a:xfrm>
            <a:off x="507672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97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44:19Z</dcterms:created>
  <dc:creator>ds0929</dc:creator>
  <dc:description/>
  <dc:language>en-US</dc:language>
  <cp:lastModifiedBy>ds0929</cp:lastModifiedBy>
  <dcterms:modified xsi:type="dcterms:W3CDTF">2013-04-20T05:45:13Z</dcterms:modified>
  <cp:revision>1</cp:revision>
  <dc:subject/>
  <dc:title>Slide 1</dc:title>
</cp:coreProperties>
</file>