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FEC-0808-44B7-A7FF-4E2C1DC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5D3-B7CD-4B6C-98FF-564748A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7C1-A55F-4189-BFD7-4F95FA9D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55E-F1A7-437D-AA99-C1E6F72E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CBD-5A1C-4D2A-9308-FC63C17E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381-4344-4594-AEF4-69D1770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4BD-4F87-4FD4-8643-F38C753E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DB8-F58B-43CE-B91B-858846A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935-E77A-4398-8570-ADC8F2B7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1BD-5EC4-4D04-A0CA-65E2155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23F-AF43-46EE-91AD-0D492DC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931-6042-4FA9-A568-C48CCB02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525-1C81-46B0-81A7-CB19E70215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637236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3:04Z</dcterms:created>
  <dc:creator>ds0929</dc:creator>
  <dc:description/>
  <dc:language>en-US</dc:language>
  <cp:lastModifiedBy>ds0929</cp:lastModifiedBy>
  <dcterms:modified xsi:type="dcterms:W3CDTF">2013-04-19T04:43:37Z</dcterms:modified>
  <cp:revision>1</cp:revision>
  <dc:subject/>
  <dc:title>Slide 1</dc:title>
</cp:coreProperties>
</file>