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6FD-3D6F-44D8-9448-03AB8101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F1F-D4A5-4EFC-AE9D-18326D46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22F3-AC42-4E1D-A016-FBE4847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EEA-B26A-4DBF-A680-C88093FF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57F-3840-4F05-AB3E-4B9C107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A90-B384-4C24-A209-7D0A6C1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558-B6A4-4FC6-9F46-8B0BC409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B98-EE9F-4D39-8359-D414DCB1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A29-17A0-409A-890E-9092C0A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086-78F4-4C35-B071-AD5AB15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A01-0D4B-4F7F-BBA1-DAD37CA8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B55-E657-48F8-9CAF-549BEF1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E208-6B78-4445-B3FE-C9E2A7ECB4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3_U Kyaw Naing.mp3" descr=""/>
          <p:cNvPicPr/>
          <p:nvPr/>
        </p:nvPicPr>
        <p:blipFill>
          <a:blip r:embed="rId2"/>
          <a:stretch/>
        </p:blipFill>
        <p:spPr>
          <a:xfrm>
            <a:off x="305928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44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3:06Z</dcterms:created>
  <dc:creator>ds0929</dc:creator>
  <dc:description/>
  <dc:language>en-US</dc:language>
  <cp:lastModifiedBy>ds0929</cp:lastModifiedBy>
  <dcterms:modified xsi:type="dcterms:W3CDTF">2013-04-16T06:24:02Z</dcterms:modified>
  <cp:revision>1</cp:revision>
  <dc:subject/>
  <dc:title>Slide 1</dc:title>
</cp:coreProperties>
</file>