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FCF-8C1B-4FAB-A76F-EC11DCDA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BF0-5F72-4B91-AD12-B65A9D77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E63-FF1F-4253-ACBD-95F590B5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567-C1DB-4093-8CBF-8FBFE27D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E15-050E-4C80-A3D4-9CBFB6CA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8D8-62CE-4039-A109-06665BEC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8F9-A8D8-4069-802F-717DCA09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A81-5606-4599-8A15-49C41623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A69-F128-449E-864C-F498D53D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2B3-D5BF-44F7-885F-520713B0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F93-55FF-45F3-9072-BC6DCB5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0BB-C7E2-4B7E-A016-6A0D1AC4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1A25-641B-4EA2-B7FC-8598B11B71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4_U Kyaw Naing.mp3" descr=""/>
          <p:cNvPicPr/>
          <p:nvPr/>
        </p:nvPicPr>
        <p:blipFill>
          <a:blip r:embed="rId2"/>
          <a:stretch/>
        </p:blipFill>
        <p:spPr>
          <a:xfrm>
            <a:off x="3564000" y="5300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3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40:23Z</dcterms:created>
  <dc:creator>ds0929</dc:creator>
  <dc:description/>
  <dc:language>en-US</dc:language>
  <cp:lastModifiedBy>ds0929</cp:lastModifiedBy>
  <dcterms:modified xsi:type="dcterms:W3CDTF">2013-04-18T05:41:14Z</dcterms:modified>
  <cp:revision>1</cp:revision>
  <dc:subject/>
  <dc:title>Slide 1</dc:title>
</cp:coreProperties>
</file>