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BCC0-FF75-4A7E-A9C3-1AA76560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A84-F516-4011-B600-E64ADA75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B02-EBF2-4617-9922-2C420AD0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1B5-000F-4BAE-8E8A-534A94B5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5E5-0D52-4679-9B0A-7DAB0A0F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541-AE9C-457C-9FEF-1472FC56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B9E5-5A23-46F9-B669-9F504B49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1F8-6A2D-4742-85C5-F729324F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5FA-C390-4C09-8687-6FCD9290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B99-7B04-4C6D-A086-E658B718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25F-F9C3-4578-9B7E-8B698734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D48-7C2E-4A2F-889F-B7EDF85C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6913-3E50-4173-B248-9B9FD874D2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9_U Kyaw Naing.mp3" descr=""/>
          <p:cNvPicPr/>
          <p:nvPr/>
        </p:nvPicPr>
        <p:blipFill>
          <a:blip r:embed="rId2"/>
          <a:stretch/>
        </p:blipFill>
        <p:spPr>
          <a:xfrm>
            <a:off x="1908000" y="661356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77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34:21Z</dcterms:created>
  <dc:creator>ds0929</dc:creator>
  <dc:description/>
  <dc:language>en-US</dc:language>
  <cp:lastModifiedBy>ds0929</cp:lastModifiedBy>
  <dcterms:modified xsi:type="dcterms:W3CDTF">2013-04-17T05:35:02Z</dcterms:modified>
  <cp:revision>1</cp:revision>
  <dc:subject/>
  <dc:title>Slide 1</dc:title>
</cp:coreProperties>
</file>