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710A-EB74-4844-8590-FAD17952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0B6-AE25-4478-A583-9BAC422D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F232-6F97-451C-A4B8-905CF5BB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5218-5966-4F9F-9866-46E207EE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07A1-1692-4F0B-9F6D-9458FC07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961-A4CE-4A80-8D25-81059DAA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4FBD-E7E2-4A89-A939-FC3B2E9E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B53C-484D-4996-A486-14FB46F5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9349-A535-4E91-8D8B-5AFACD0C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C25A-E55C-42C1-9CD4-EAB16D97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FC96-6EF8-4180-A11D-35A1EB73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585C-5CD3-45E6-850D-C26C6D06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A252-47F3-4BCF-A1DB-9ECE723765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60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2_U Kyaw Naing.mp3" descr=""/>
          <p:cNvPicPr/>
          <p:nvPr/>
        </p:nvPicPr>
        <p:blipFill>
          <a:blip r:embed="rId2"/>
          <a:stretch/>
        </p:blipFill>
        <p:spPr>
          <a:xfrm>
            <a:off x="3708360" y="6664320"/>
            <a:ext cx="193680" cy="1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153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6:21:59Z</dcterms:created>
  <dc:creator>ds0929</dc:creator>
  <dc:description/>
  <dc:language>en-US</dc:language>
  <cp:lastModifiedBy>ds0929</cp:lastModifiedBy>
  <dcterms:modified xsi:type="dcterms:W3CDTF">2013-04-16T06:22:59Z</dcterms:modified>
  <cp:revision>1</cp:revision>
  <dc:subject/>
  <dc:title>Slide 1</dc:title>
</cp:coreProperties>
</file>