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06C-97A6-4BD1-A608-781EB024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C3A-9F1E-4AB0-870F-93321E40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A2E-2E8D-4F4B-BE50-6368BD92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3D1-D945-432F-9ECF-4618BEAD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2D3-FC68-4EA9-A876-689712EE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067-A3B7-49FB-A444-CB43DD80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3A3-AFE5-4A21-9389-9DAF8FAF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C44-8333-437C-B02A-3253E83C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A64-EB7A-436C-8FC0-FC0CBAF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AF2-3803-4FD4-9E88-BF8B44C1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2A9-A9CF-4AE4-8C7D-5D5B6E05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2EE-3484-476F-9F5F-3301D6E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C7A-FE51-4A72-8A32-AA191482B2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5:13:02Z</dcterms:created>
  <dc:creator>ds0929</dc:creator>
  <dc:description/>
  <dc:language>en-US</dc:language>
  <cp:lastModifiedBy>ds0929</cp:lastModifiedBy>
  <dcterms:modified xsi:type="dcterms:W3CDTF">2013-04-18T05:17:11Z</dcterms:modified>
  <cp:revision>1</cp:revision>
  <dc:subject/>
  <dc:title>Slide 1</dc:title>
</cp:coreProperties>
</file>