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254-3A0A-4D03-ADAD-30A97035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7DB-6CD1-4FC8-846B-AFADB8C6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23B-6B1C-4641-A1D0-4228E431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583-68EA-4AB4-A2B5-EA126909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A94-8547-4BDE-923C-2776A5CE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858-4C49-4D1E-BDE4-128CF5BB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182-99D7-4BA2-BCEA-0A2C00D7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B0B-1990-4B8D-B1B8-3C58BAFE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7E2-938D-4A12-8510-5902F3E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E18-A771-4917-8150-116BFDC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35D-60ED-4420-9B64-114A466C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3F9-B584-47D2-84BF-EC1B37D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470-5DD0-4D07-A379-57F0E1D5D1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6227640" y="1125360"/>
            <a:ext cx="24444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38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7:26Z</dcterms:created>
  <dc:creator>ds0929</dc:creator>
  <dc:description/>
  <dc:language>en-US</dc:language>
  <cp:lastModifiedBy>ds0929</cp:lastModifiedBy>
  <dcterms:modified xsi:type="dcterms:W3CDTF">2013-04-17T05:37:57Z</dcterms:modified>
  <cp:revision>1</cp:revision>
  <dc:subject/>
  <dc:title>Slide 1</dc:title>
</cp:coreProperties>
</file>