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F8A-03FA-43E8-93C5-04833D55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74C-11FB-4F7C-AFC9-69F7660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D72-58E0-4C1E-8D28-6C9F004C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9B1-9BB0-4FFF-BA59-8F43ED11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859-331F-475C-A21F-2BF6EF55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40D-DD17-47D5-BEDD-4175CEA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D8E-467E-4AAF-8724-1EEF7C9F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E19-8716-4F38-BD8F-6C3BB584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9A1-5900-4558-9BB3-73206289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D46-549C-4742-84D1-4400FC4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910-DA8E-4096-AF7A-8F880A0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97C-4318-43EA-94AB-328019D2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A682-060F-45B1-A3FC-51815D539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2_U Kyaw Naing.mp3" descr=""/>
          <p:cNvPicPr/>
          <p:nvPr/>
        </p:nvPicPr>
        <p:blipFill>
          <a:blip r:embed="rId2"/>
          <a:stretch/>
        </p:blipFill>
        <p:spPr>
          <a:xfrm>
            <a:off x="1763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14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6:42Z</dcterms:created>
  <dc:creator>ds0929</dc:creator>
  <dc:description/>
  <dc:language>en-US</dc:language>
  <cp:lastModifiedBy>ds0929</cp:lastModifiedBy>
  <dcterms:modified xsi:type="dcterms:W3CDTF">2013-04-17T05:37:22Z</dcterms:modified>
  <cp:revision>1</cp:revision>
  <dc:subject/>
  <dc:title>Slide 1</dc:title>
</cp:coreProperties>
</file>