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FAAC-82C8-4950-9D32-7E1B6311A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9A41-E809-42B3-8811-6CC40C91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F3A0-0C9F-41CA-8F6C-08BFFA267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2308-A89D-460C-9C8F-A03465004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0F5A-8622-4FB5-8C14-C66330A2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04B3-DBB8-4708-8BA6-C632FF49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5AD4-40CD-4E16-B7DA-6A693879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D204-4F01-499B-9DF6-12BE445C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AC1E-BF4D-4B7D-BDAF-C6F48A2D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A8B3-94FC-4338-BC57-F185FDE2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BB22-8DFE-4D68-9BB4-E2097263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82C7-CCD7-4B6E-9AA8-FDC27C6F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9D12-4908-4AF1-BB0C-73049FF091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600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6_U Kyaw Naing.mp3" descr=""/>
          <p:cNvPicPr/>
          <p:nvPr/>
        </p:nvPicPr>
        <p:blipFill>
          <a:blip r:embed="rId2"/>
          <a:stretch/>
        </p:blipFill>
        <p:spPr>
          <a:xfrm>
            <a:off x="7740720" y="3789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107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06:36:40Z</dcterms:created>
  <dc:creator>ds0929</dc:creator>
  <dc:description/>
  <dc:language>en-US</dc:language>
  <cp:lastModifiedBy>ds0929</cp:lastModifiedBy>
  <dcterms:modified xsi:type="dcterms:W3CDTF">2013-04-16T06:37:54Z</dcterms:modified>
  <cp:revision>1</cp:revision>
  <dc:subject/>
  <dc:title>Slide 1</dc:title>
</cp:coreProperties>
</file>