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8FAC-640C-4A94-A835-7B3EA2A1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C313-1E65-4A04-BF47-5398A055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EAE-0FCF-4253-9F01-E9E7BC34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8347-54BE-4FA3-B660-EB5B2473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1E67-1EC1-411A-AA8A-5DD0B4CD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E8A-916A-483E-9396-DED25C1A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CC5-9C7A-42EC-B56C-54D62975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B7DD-5D28-4617-8EF3-EEDB3883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DB8-0DB0-4D3B-8513-FBAC1360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5BA-8BC4-4ACC-A1A2-9B393B84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9908-87F3-4FB5-84DE-5D0C4F25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878-4465-4A75-AD30-7885A8DA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ED73-36A4-4D09-8013-EB93A29A20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70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1_U Kyaw Naing.mp3" descr=""/>
          <p:cNvPicPr/>
          <p:nvPr/>
        </p:nvPicPr>
        <p:blipFill>
          <a:blip r:embed="rId2"/>
          <a:stretch/>
        </p:blipFill>
        <p:spPr>
          <a:xfrm>
            <a:off x="212400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772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5:24:02Z</dcterms:created>
  <dc:creator>ds0929</dc:creator>
  <dc:description/>
  <dc:language>en-US</dc:language>
  <cp:lastModifiedBy>ds0929</cp:lastModifiedBy>
  <dcterms:modified xsi:type="dcterms:W3CDTF">2013-04-17T05:25:38Z</dcterms:modified>
  <cp:revision>2</cp:revision>
  <dc:subject/>
  <dc:title>Slide 1</dc:title>
</cp:coreProperties>
</file>