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276-4FB6-4D46-A5A5-3169F55D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DF9-8AEB-45C7-862F-AEF6C244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12D-F97D-47F5-997A-AE445190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F19-B458-4836-A737-00C5BD31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95A-46E1-4215-8467-9A712AFF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9D6-E6A3-4EEC-8733-62B849DE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F77-5482-4E7D-83FC-6817092F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10E-9CF5-4795-91D2-F2B2EA07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599-AB14-47A3-9E22-B376A7BE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517-2E68-4EB3-9A11-D53D4B2D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ADC-D334-4F5E-8666-CCE5CD03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ACE-095E-4B6A-9DEF-A854A034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B59-4265-481D-BF5C-34BF2B5A97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3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6_U Kyaw Naing.mp3" descr=""/>
          <p:cNvPicPr/>
          <p:nvPr/>
        </p:nvPicPr>
        <p:blipFill>
          <a:blip r:embed="rId2"/>
          <a:stretch/>
        </p:blipFill>
        <p:spPr>
          <a:xfrm>
            <a:off x="1908000" y="4653000"/>
            <a:ext cx="28764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1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42:00Z</dcterms:created>
  <dc:creator>ds0929</dc:creator>
  <dc:description/>
  <dc:language>en-US</dc:language>
  <cp:lastModifiedBy>ds0929</cp:lastModifiedBy>
  <dcterms:modified xsi:type="dcterms:W3CDTF">2013-04-18T05:42:45Z</dcterms:modified>
  <cp:revision>1</cp:revision>
  <dc:subject/>
  <dc:title>Slide 1</dc:title>
</cp:coreProperties>
</file>