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D228-F50E-4B30-9232-AB4D874D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275A-891B-4D2D-8170-EA212C28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A056-659E-48D5-B455-3DABC7BC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7BB8-4926-4714-A142-7F6B4718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BD44-2D82-41A1-A5A1-D37202D6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B963-C530-45EE-8F01-B681BA3C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BFB9-5138-4D83-96FA-1391DFA9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F895-AB00-4D69-BC5F-E1A0159D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18E3-7137-46B6-9A53-11271D89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12B6-A005-48BC-B4DC-D1DDFAE4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8030-CD44-465C-8C1E-BBED38AC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E1C1-5BE7-43EC-BEAB-1A23C4E2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2CA4-D173-468B-8882-42AEF08772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29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5_U Kyaw Naing.mp3" descr=""/>
          <p:cNvPicPr/>
          <p:nvPr/>
        </p:nvPicPr>
        <p:blipFill>
          <a:blip r:embed="rId2"/>
          <a:stretch/>
        </p:blipFill>
        <p:spPr>
          <a:xfrm>
            <a:off x="2411280" y="501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270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41:19Z</dcterms:created>
  <dc:creator>ds0929</dc:creator>
  <dc:description/>
  <dc:language>en-US</dc:language>
  <cp:lastModifiedBy>ds0929</cp:lastModifiedBy>
  <dcterms:modified xsi:type="dcterms:W3CDTF">2013-04-18T05:41:57Z</dcterms:modified>
  <cp:revision>1</cp:revision>
  <dc:subject/>
  <dc:title>Slide 1</dc:title>
</cp:coreProperties>
</file>