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13D-F3E3-4B4C-81CA-C74685BB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0BFD-60AA-401C-B852-6ABB8911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9BB-EE5E-4558-B296-DF1306B7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6B73-CDEF-4779-88D3-BE4D2893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15B-70E2-4F89-B8F1-DA27222C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43B-5E7E-4F55-9584-382A4455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0BB2-8EF6-494E-977D-D51D4A9E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A73C-CAE2-4C92-8636-D721409F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D9CF-BBF6-4443-AF51-B4240EB8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4C7F-80DE-4ED2-860B-E19F8207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CDAE-DEFD-45FE-AC9F-F872D7EF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988B-FD55-4FCA-8EFF-A3F77394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14EA-7F38-4AC0-A004-B5017C9816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60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4_U Kyaw Naing.mp3" descr=""/>
          <p:cNvPicPr/>
          <p:nvPr/>
        </p:nvPicPr>
        <p:blipFill>
          <a:blip r:embed="rId2"/>
          <a:stretch/>
        </p:blipFill>
        <p:spPr>
          <a:xfrm>
            <a:off x="558000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508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6:24:06Z</dcterms:created>
  <dc:creator>ds0929</dc:creator>
  <dc:description/>
  <dc:language>en-US</dc:language>
  <cp:lastModifiedBy>ds0929</cp:lastModifiedBy>
  <dcterms:modified xsi:type="dcterms:W3CDTF">2013-04-16T06:25:00Z</dcterms:modified>
  <cp:revision>1</cp:revision>
  <dc:subject/>
  <dc:title>Slide 1</dc:title>
</cp:coreProperties>
</file>