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B65-BE5E-46F8-8556-1B42A297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E41-7499-4544-BC6B-50798143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099-CB61-477C-AFAD-1D236139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C7B-BC55-458B-9A1A-32B29EA2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39A-5BCB-4960-A263-02EC70C7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043-F53C-4CD7-9802-A943A9FB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5F9-09EA-4939-9944-484C3028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9DA-698F-45E5-B54D-28C47A7A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A27-2EBC-4239-BCF2-E3A84784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0C5-3757-4D7F-886D-D59BFED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A87-6FDC-42C7-BB23-A6FEA87B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DE2-61AE-4AF0-8F19-023570FB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38E7-9202-41F7-92D6-50DC5F2509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3995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315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2:55Z</dcterms:created>
  <dc:creator>ds0929</dc:creator>
  <dc:description/>
  <dc:language>en-US</dc:language>
  <cp:lastModifiedBy>ds0929</cp:lastModifiedBy>
  <dcterms:modified xsi:type="dcterms:W3CDTF">2013-04-17T05:33:31Z</dcterms:modified>
  <cp:revision>1</cp:revision>
  <dc:subject/>
  <dc:title>Slide 1</dc:title>
</cp:coreProperties>
</file>