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A62-920B-41DB-912A-ECFD2540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EAD-3B53-4682-8953-11B2AC18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9D5-5BFD-4C44-9C75-B2596FEF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921-1346-4BDB-A520-58802620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F9F-873F-45A8-A224-AA5E5B05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EBA-FA54-4E1B-AA8B-9FFC0F4C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7B2-8F06-448D-BDA0-5565DEE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6C4-E699-40A0-902F-DFE2DD5F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ED1-8114-463F-A1D7-570BECF7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1E6-32FF-4545-9764-5E2F421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229-4929-47FD-9330-46B8C0F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E5F-050F-42F5-888D-6353A94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511B-BBD5-4DDC-BA95-4C5F5BBE27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1692360" y="5084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75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0:16Z</dcterms:created>
  <dc:creator>ds0929</dc:creator>
  <dc:description/>
  <dc:language>en-US</dc:language>
  <cp:lastModifiedBy>ds0929</cp:lastModifiedBy>
  <dcterms:modified xsi:type="dcterms:W3CDTF">2013-04-17T05:40:54Z</dcterms:modified>
  <cp:revision>1</cp:revision>
  <dc:subject/>
  <dc:title>Slide 1</dc:title>
</cp:coreProperties>
</file>