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0E1-64FC-4906-BE08-89D3DC42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DC1-37AC-4696-A6E4-B522B2C3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ACB-58E4-411C-BF91-44BBD8F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0A6-5AEE-439C-971C-14D16F4A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317-B983-433A-ACFF-DA84788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EE98-5F47-4EC9-9461-3E79280C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D50-ACCA-4FB0-AB56-E65EF61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22C4-5DE6-45DF-97D3-B80FB1B2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F88-D2D1-44FC-89A1-1600EE0E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F37-6AFF-4A3E-8E8B-AB6B338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3F5-6B78-4CE6-9785-FD485F2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C34-8B95-4F39-BD77-1415E015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E514-1137-4218-BFBD-B68941758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18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5:33Z</dcterms:created>
  <dc:creator>ds0929</dc:creator>
  <dc:description/>
  <dc:language>en-US</dc:language>
  <cp:lastModifiedBy>ds0929</cp:lastModifiedBy>
  <dcterms:modified xsi:type="dcterms:W3CDTF">2013-04-16T06:36:35Z</dcterms:modified>
  <cp:revision>1</cp:revision>
  <dc:subject/>
  <dc:title>Slide 1</dc:title>
</cp:coreProperties>
</file>