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DC4C-2DAF-4330-B2A8-3D82927C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5B2C-91B2-439E-AFE7-25DC625F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3040-76A3-4213-9362-55B484F36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F753-24DC-499A-933C-C0E6B7AE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68FB-6B62-4389-8EC5-72ADE737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33AD-0A1A-4C32-AA73-7322DD06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422E-0D6B-4624-A9B1-36CA68C1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22DD-7057-4227-A8C6-48B48FB4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F048-A57F-453C-A168-6D2AA12E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20BB-778A-41A6-8646-7F9CA9E6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E209-1B2B-49BE-BDA9-19F2D6A8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44BA-AE89-4DF2-8818-E723D8A0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7CC2-9C8F-40F1-AC28-5600BE9358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6" descr="P4170011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1_U Kyaw Naing.mp3" descr=""/>
          <p:cNvPicPr/>
          <p:nvPr/>
        </p:nvPicPr>
        <p:blipFill>
          <a:blip r:embed="rId2"/>
          <a:stretch/>
        </p:blipFill>
        <p:spPr>
          <a:xfrm>
            <a:off x="6372360" y="6093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854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05:17:22Z</dcterms:created>
  <dc:creator>ds0929</dc:creator>
  <dc:description/>
  <dc:language>en-US</dc:language>
  <cp:lastModifiedBy>ds0929</cp:lastModifiedBy>
  <dcterms:modified xsi:type="dcterms:W3CDTF">2013-04-18T05:19:43Z</dcterms:modified>
  <cp:revision>1</cp:revision>
  <dc:subject/>
  <dc:title>Slide 1</dc:title>
</cp:coreProperties>
</file>