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76A-99EE-4192-857C-E1F52A48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CA3-8AB2-44D7-BEB5-A6F42293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A6E-B011-466E-9FCF-60179F78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9AB-17F5-4D6F-92AC-C7C5B2AD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260-FD0C-46CF-850E-4E641690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560-140A-45C5-8BE3-BF41C65B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0B6-1C57-428E-A34C-A7D8CCCD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21F-5CA7-49D7-B838-7D5ABA4A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E43-06E4-45C2-ACD0-76CB0268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C85-6271-4754-9F5F-F83A8D70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242-84AD-4485-9D33-A2C8DAAD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2A5-EA2D-4723-9AEB-6DFE8A7D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F59C-5997-4D87-B9EF-EBC618AD14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4_U Kyaw Naing.mp3" descr=""/>
          <p:cNvPicPr/>
          <p:nvPr/>
        </p:nvPicPr>
        <p:blipFill>
          <a:blip r:embed="rId2"/>
          <a:stretch/>
        </p:blipFill>
        <p:spPr>
          <a:xfrm>
            <a:off x="7596360" y="2492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184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38:01Z</dcterms:created>
  <dc:creator>ds0929</dc:creator>
  <dc:description/>
  <dc:language>en-US</dc:language>
  <cp:lastModifiedBy>ds0929</cp:lastModifiedBy>
  <dcterms:modified xsi:type="dcterms:W3CDTF">2013-04-17T05:38:37Z</dcterms:modified>
  <cp:revision>1</cp:revision>
  <dc:subject/>
  <dc:title>Slide 1</dc:title>
</cp:coreProperties>
</file>