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94D-2ADB-4BA5-AC78-326BE156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AF1-E63E-4ED3-9035-8F104B43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BB8-73A0-4B9A-ABA1-D8012B02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B6B-3329-44AE-8E81-A9E3383F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8EF-19DE-4C35-8E2F-EFB63890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BC5-77A7-408C-A720-98C65199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22F-6FD8-4C6E-933A-142A2A09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7E3-3265-4669-AFA6-9EC27D55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DF2-C2DD-4882-87F3-2F0A4F6B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5B2-99AF-458A-A560-D09AB0AC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2E1-E46A-4B3F-8CE5-79A60DB5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0B2-245F-4DA4-BAAB-64F3BAB7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A7D5-00B1-49E0-B765-321A512D8C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8_U Kyaw Naing.mp3" descr=""/>
          <p:cNvPicPr/>
          <p:nvPr/>
        </p:nvPicPr>
        <p:blipFill>
          <a:blip r:embed="rId2"/>
          <a:stretch/>
        </p:blipFill>
        <p:spPr>
          <a:xfrm>
            <a:off x="2050920" y="443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728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12:15Z</dcterms:created>
  <dc:creator>ds0929</dc:creator>
  <dc:description/>
  <dc:language>en-US</dc:language>
  <cp:lastModifiedBy>ds0929</cp:lastModifiedBy>
  <dcterms:modified xsi:type="dcterms:W3CDTF">2013-04-18T05:12:52Z</dcterms:modified>
  <cp:revision>1</cp:revision>
  <dc:subject/>
  <dc:title>Slide 1</dc:title>
</cp:coreProperties>
</file>