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3B1-5600-4F0C-B949-29826502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EC1-A4AE-463E-93AD-4EF01A0F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A2E-15AC-4790-8576-42C40A69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916-543B-4580-8B36-DF2179492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C33-5D43-4946-89BA-B0634DDB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208-C3A5-4E57-B186-ABA49F58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7C5-2265-499D-B469-B9C819B1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2D8-D0C9-4249-A264-FE482CFB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EE5-8A71-4171-9B24-0793160C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F8A-1EE5-43C0-ACE3-EAD43DB2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690-F823-4B72-91E2-5D164A0E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D12-54DD-4808-9D06-B0603E4C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9BBC-0DCE-4289-A938-9B16B28539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41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4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35:29Z</dcterms:created>
  <dc:creator>ds0929</dc:creator>
  <dc:description/>
  <dc:language>en-US</dc:language>
  <cp:lastModifiedBy>ds0929</cp:lastModifiedBy>
  <dcterms:modified xsi:type="dcterms:W3CDTF">2013-04-18T05:36:14Z</dcterms:modified>
  <cp:revision>1</cp:revision>
  <dc:subject/>
  <dc:title>Slide 1</dc:title>
</cp:coreProperties>
</file>