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D0A-9305-452F-BCD7-42BB2509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F1E-A848-4AF9-AB11-258AF619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71D-1CC3-4283-8B3C-E38F1950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3FF-D811-45C0-A316-45B254FF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264-FED8-4BE9-91C9-B7E34E87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164-7358-488D-81CA-7C4F23A6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1AA-F735-4CD3-8FBA-7B45BDC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227-42A1-4ADD-AEE0-6B829E7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B2B-5421-4C59-A7D9-8B0176BE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658-9BC9-433D-96C4-9AE15B8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814D-CAC9-44B2-93CF-70C239A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1B0-AFA7-4929-AA25-48077334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145-D320-4B5D-A4D5-49685A2F99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5867280" y="587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9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40:59Z</dcterms:created>
  <dc:creator>ds0929</dc:creator>
  <dc:description/>
  <dc:language>en-US</dc:language>
  <cp:lastModifiedBy>ds0929</cp:lastModifiedBy>
  <dcterms:modified xsi:type="dcterms:W3CDTF">2013-04-17T05:41:36Z</dcterms:modified>
  <cp:revision>1</cp:revision>
  <dc:subject/>
  <dc:title>Slide 1</dc:title>
</cp:coreProperties>
</file>