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A51-B5B9-4AA3-8C76-C8E355AA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9F22-37AF-4819-89DA-35F4F6FF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5D6F-8E5B-4B83-804A-C91151D0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7321-C667-41FA-A17C-B28BCD24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EACA-6A2F-4D72-A965-E7D23038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86F2-DD58-41E2-83B3-E7CA4592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0CAC-3293-44D3-8146-898D0ED4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4963-534A-4EBD-A400-43AD04D2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E47-C694-4ECE-9B8F-A4667D06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75F-692B-4822-B315-9C8155CA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8651-E27F-45F3-A545-7D66C4B3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1FD8-DE09-4C18-B9B1-2D172302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9F5B-16B4-4677-B2D0-CB325841F0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07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6_U Kyaw Naing.mp3" descr=""/>
          <p:cNvPicPr/>
          <p:nvPr/>
        </p:nvPicPr>
        <p:blipFill>
          <a:blip r:embed="rId2"/>
          <a:stretch/>
        </p:blipFill>
        <p:spPr>
          <a:xfrm>
            <a:off x="5867280" y="609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676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10:25Z</dcterms:created>
  <dc:creator>ds0929</dc:creator>
  <dc:description/>
  <dc:language>en-US</dc:language>
  <cp:lastModifiedBy>ds0929</cp:lastModifiedBy>
  <dcterms:modified xsi:type="dcterms:W3CDTF">2013-04-18T05:11:12Z</dcterms:modified>
  <cp:revision>1</cp:revision>
  <dc:subject/>
  <dc:title>Slide 1</dc:title>
</cp:coreProperties>
</file>