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031-D432-4DDA-9E31-1145D22E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B4E-607B-4418-9E5B-1E505E0A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6E2-8C89-4B54-BEB5-B89B19C4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F91-CCCF-496C-B277-145BD622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379-A4E0-49FD-B653-F279EEC7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1C8-C08C-414F-86D8-CE9AABD0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F3B-2DCF-4090-A7CC-2D5FBB3E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759-6474-42F2-B8C4-09387219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718-204B-487D-9A25-5855417F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47B-9E42-42CE-92DE-756F83C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005-4804-40DC-BD12-996F9C35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97B-AAAB-4162-9F7C-64ACCC4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864F-D41F-41DB-A909-22C4956549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248436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0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11:18Z</dcterms:created>
  <dc:creator>ds0929</dc:creator>
  <dc:description/>
  <dc:language>en-US</dc:language>
  <cp:lastModifiedBy>ds0929</cp:lastModifiedBy>
  <dcterms:modified xsi:type="dcterms:W3CDTF">2013-04-18T05:12:02Z</dcterms:modified>
  <cp:revision>1</cp:revision>
  <dc:subject/>
  <dc:title>Slide 1</dc:title>
</cp:coreProperties>
</file>