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A2E6-A2F9-4C6A-A20B-6144D5F7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30C9-A701-4B39-B9B5-3E8CD57C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9E37-260D-4A9B-84A9-79D52509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C55E-F00D-473F-9512-2B21423D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A0FA-65C6-4B38-B5A6-C1C1D42A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B072-44DA-42EB-A069-37072A34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4D16-9896-46DA-A214-121BAE55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5938-59F2-4D6C-8B2D-F714EF49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EFA-F4B5-456E-951B-D3BCEBEE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8DC8-F9B2-4789-BB9B-E77640A8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32FF-F6C0-4EFA-95C0-08B6C98D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2DB6-48F3-45B5-BB35-E3049FFD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C87D-5F80-4ED7-9458-A0AF2B22BE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600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20_U Kyaw Naing.mp3" descr=""/>
          <p:cNvPicPr/>
          <p:nvPr/>
        </p:nvPicPr>
        <p:blipFill>
          <a:blip r:embed="rId2"/>
          <a:stretch/>
        </p:blipFill>
        <p:spPr>
          <a:xfrm>
            <a:off x="7524720" y="3716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136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6:40:41Z</dcterms:created>
  <dc:creator>ds0929</dc:creator>
  <dc:description/>
  <dc:language>en-US</dc:language>
  <cp:lastModifiedBy>ds0929</cp:lastModifiedBy>
  <dcterms:modified xsi:type="dcterms:W3CDTF">2013-04-16T06:41:24Z</dcterms:modified>
  <cp:revision>1</cp:revision>
  <dc:subject/>
  <dc:title>Slide 1</dc:title>
</cp:coreProperties>
</file>