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1C4-99CD-4700-9130-26665D26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A6A-C3E4-408F-8896-E0454107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23C-805A-4008-9039-D5B8160B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CFF-5F9B-46A4-8C4A-8A122C99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F65-EC78-4F9D-8D56-F5412E62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80A-F6B7-4C02-9594-910FE694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A97-D3A0-4418-B841-DDE86AA3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8DC-9961-4EF4-AE01-1A6011D1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256-43B3-4F82-9D90-0B9A2CC9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784-60AF-4DDD-B98A-801DC33F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A9D-E4BA-4CED-8850-46E52632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6F3-76F7-4265-AF54-EAE75094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D994-3B7D-4445-88DA-D4700D4E91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10_U Kyaw Naing.mp3" descr=""/>
          <p:cNvPicPr/>
          <p:nvPr/>
        </p:nvPicPr>
        <p:blipFill>
          <a:blip r:embed="rId2"/>
          <a:stretch/>
        </p:blipFill>
        <p:spPr>
          <a:xfrm>
            <a:off x="2268360" y="616572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1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31:51Z</dcterms:created>
  <dc:creator>ds0929</dc:creator>
  <dc:description/>
  <dc:language>en-US</dc:language>
  <cp:lastModifiedBy>ds0929</cp:lastModifiedBy>
  <dcterms:modified xsi:type="dcterms:W3CDTF">2013-04-16T06:32:40Z</dcterms:modified>
  <cp:revision>1</cp:revision>
  <dc:subject/>
  <dc:title>Slide 1</dc:title>
</cp:coreProperties>
</file>