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5A9-4B86-4E94-A7CD-8449A731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171-E573-430D-B838-666A2173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6258-A4CA-4967-834E-2474B4C4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A7A-954B-475A-AD72-011B7186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66A-0971-4ACB-BB5C-D53C60B7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2FC-5158-42E7-8577-9D9B01A2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2EF-2D9C-417F-8273-66040C75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617-DC4A-4CA5-A270-12479202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24C5-3AFB-4145-8FFE-01CB01AA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CF6-3A97-493F-8059-CE5B0109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74F-E7FE-4831-8034-72247B6C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75F-29A3-4509-A2FD-BA972D33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4380-47F2-49DD-BFE1-7FC7DF1660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32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43:48Z</dcterms:created>
  <dc:creator>ds0929</dc:creator>
  <dc:description/>
  <dc:language>en-US</dc:language>
  <cp:lastModifiedBy>ds0929</cp:lastModifiedBy>
  <dcterms:modified xsi:type="dcterms:W3CDTF">2013-04-18T05:44:44Z</dcterms:modified>
  <cp:revision>1</cp:revision>
  <dc:subject/>
  <dc:title>Slide 1</dc:title>
</cp:coreProperties>
</file>