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5B3-15D3-4A39-B92E-69CDB5E8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55A-E9EB-48D6-A13E-00AE7CC6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3A8-A438-4776-932D-76A33E80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308-AC73-4A03-BD74-F2C30CB1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0DC-D25A-4AA6-958A-26FC790F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CC0-B425-44BB-A59D-1A3B4DDE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2A8-FB24-488C-B1E7-1390B568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124-BB04-4B83-BD79-732D40AA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A60-FC70-47FC-9BB2-6D41D64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CCF-C3F3-4361-9B81-F09AAE5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397-FF31-4942-B91A-B9E4C3DE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059-B24F-4266-936C-2460F37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A0F-659A-4350-B391-7BC9C849B3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0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9:04Z</dcterms:created>
  <dc:creator>ds0929</dc:creator>
  <dc:description/>
  <dc:language>en-US</dc:language>
  <cp:lastModifiedBy>ds0929</cp:lastModifiedBy>
  <dcterms:modified xsi:type="dcterms:W3CDTF">2013-04-18T05:34:48Z</dcterms:modified>
  <cp:revision>1</cp:revision>
  <dc:subject/>
  <dc:title>Slide 1</dc:title>
</cp:coreProperties>
</file>