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B8C-1C3D-411D-87CE-F513128D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758-8CB1-4560-B5E0-39F9EA7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188-3BCD-4C69-8A76-FA0C1C27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CCD-3698-4D0C-9BB2-014EC38C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AFA-85A1-4352-B432-F08A8930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473-73F4-4285-8792-115E70B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DD5-F8F1-403B-BF02-4C2C1CF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E44-C732-4B42-96F5-DDD169A3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86EE-08F5-4FC6-A2ED-E0067B7F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BBA-E7D7-447A-AE98-FA51B0C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75C-A296-4B3A-99F7-15671C7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F9E-3A14-4FF0-9D96-08C4F1F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7B9-A7D3-45BC-84F8-6464F4BEE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1_U Kyaw Naing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9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41:29Z</dcterms:created>
  <dc:creator>ds0929</dc:creator>
  <dc:description/>
  <dc:language>en-US</dc:language>
  <cp:lastModifiedBy>ds0929</cp:lastModifiedBy>
  <dcterms:modified xsi:type="dcterms:W3CDTF">2013-04-16T06:42:00Z</dcterms:modified>
  <cp:revision>1</cp:revision>
  <dc:subject/>
  <dc:title>Slide 1</dc:title>
</cp:coreProperties>
</file>