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A53-AE03-48F9-B050-160CBE7D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707-A1D0-43CB-9212-33F47785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320-6E87-4678-BE0E-5F88A2A9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8CD-8A40-41BC-BBD1-AE541B86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B6C-2106-41DC-BD90-29EC6E5D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297-0484-4B3A-95BD-7F7E3E71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4DF-07E4-428C-9788-13790B19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EB6-E5D8-455B-AFA0-A45826E6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EAA-D0F8-40CB-92C1-9F7A565B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F98-13F0-4710-ACD8-07ACD07F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46B-BFF6-48C4-A5C4-1FC825C7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2B6-467F-43F7-A7E3-E4A5BD4C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7FFA-4BA2-4DC8-B26A-A46B9D177E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6_U Kyaw Naing.mp3" descr=""/>
          <p:cNvPicPr/>
          <p:nvPr/>
        </p:nvPicPr>
        <p:blipFill>
          <a:blip r:embed="rId2"/>
          <a:stretch/>
        </p:blipFill>
        <p:spPr>
          <a:xfrm>
            <a:off x="2124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64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32:09Z</dcterms:created>
  <dc:creator>ds0929</dc:creator>
  <dc:description/>
  <dc:language>en-US</dc:language>
  <cp:lastModifiedBy>ds0929</cp:lastModifiedBy>
  <dcterms:modified xsi:type="dcterms:W3CDTF">2013-04-17T05:32:47Z</dcterms:modified>
  <cp:revision>1</cp:revision>
  <dc:subject/>
  <dc:title>Slide 1</dc:title>
</cp:coreProperties>
</file>