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E9D2-2474-416B-B061-FF77B60AE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38A6-43D0-4A7C-BBBF-429513FDA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D1C7-2423-4628-8984-2FBE688DA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BD7F-A509-4650-8CE0-E650FC770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05D0-B9C9-453A-896C-32524FEB3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9E14-5CBD-471F-9872-478800CA9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D699-A81C-49C1-8FFA-FBBAA305D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A6AA-A9EA-4C20-B1BB-A3D05C1CD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43A1-4FFD-4387-B4B8-83B1A2F5B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A60E-2A1D-4816-ADF6-8C79E4642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B0C1-D565-401A-9873-E6B0F7608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80BA-53A5-4D82-8BF2-6999E1DD6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9365B-00E8-4D49-8C09-F1BE1A42EE2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4" descr="P417001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001_A_012_U Kyaw Naing.mp3" descr=""/>
          <p:cNvPicPr/>
          <p:nvPr/>
        </p:nvPicPr>
        <p:blipFill>
          <a:blip r:embed="rId2"/>
          <a:stretch/>
        </p:blipFill>
        <p:spPr>
          <a:xfrm>
            <a:off x="1116000" y="414972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24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8T05:19:47Z</dcterms:created>
  <dc:creator>ds0929</dc:creator>
  <dc:description/>
  <dc:language>en-US</dc:language>
  <cp:lastModifiedBy>ds0929</cp:lastModifiedBy>
  <dcterms:modified xsi:type="dcterms:W3CDTF">2013-04-18T05:20:44Z</dcterms:modified>
  <cp:revision>1</cp:revision>
  <dc:subject/>
  <dc:title>Slide 1</dc:title>
</cp:coreProperties>
</file>