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CBC-22E6-47B1-A88A-074CFD87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6CD-C0E2-4C9B-9E57-201168DA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206-4ADF-43A0-A920-65505B14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45F-E111-491E-8232-B9F5D01D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8AA-3594-4CAC-BB99-A921FD67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F628-1F79-4A18-AEE1-3DCFC1B9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BC9-50CF-422F-868F-29DB4FB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6F9-AB40-4973-AB68-5E93C408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DAFE-858F-42C9-8AF4-500BAD7F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F1D-3491-48F2-A34C-842A4337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230-C7E0-4348-95F1-7C92FC9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E43-B350-4148-92AE-FCDBCD2F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3F6-8E72-4BC5-B1EC-5AF005ED98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1_U Kyaw Naing.mp3" descr=""/>
          <p:cNvPicPr/>
          <p:nvPr/>
        </p:nvPicPr>
        <p:blipFill>
          <a:blip r:embed="rId2"/>
          <a:stretch/>
        </p:blipFill>
        <p:spPr>
          <a:xfrm>
            <a:off x="32767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16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2:47Z</dcterms:created>
  <dc:creator>ds0929</dc:creator>
  <dc:description/>
  <dc:language>en-US</dc:language>
  <cp:lastModifiedBy>ds0929</cp:lastModifiedBy>
  <dcterms:modified xsi:type="dcterms:W3CDTF">2013-04-16T06:33:48Z</dcterms:modified>
  <cp:revision>1</cp:revision>
  <dc:subject/>
  <dc:title>Slide 1</dc:title>
</cp:coreProperties>
</file>