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176-9A6F-4D9A-ABD3-D7FD4D4A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2EC-B834-465E-B5A6-772DCE6B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0C1-BAAE-4411-B0DA-2244D08C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0CD-5B20-49BA-8A75-2F3AA597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EC9-A62A-4E53-9B0E-F0BEB70E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B63-BB07-4386-8108-CB374F44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8C0-829B-4502-B00F-A9B58E8B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F4B-32DB-4390-A5B3-5D80FAF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13A-3B19-4CB9-A70F-33C87865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5E4-EFEA-4C45-A741-0345AFF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8EC-2A5F-4A4D-9D67-E398EE7B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4D8-93C0-47EA-9910-4D3C8E1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9CDC-8362-422D-8034-8A262FA39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001_A_010_U Kyaw Naing.mp3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4170011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5:34Z</dcterms:created>
  <dc:creator>ds0929</dc:creator>
  <dc:description/>
  <dc:language>en-US</dc:language>
  <cp:lastModifiedBy>ds0929</cp:lastModifiedBy>
  <dcterms:modified xsi:type="dcterms:W3CDTF">2013-04-18T05:16:51Z</dcterms:modified>
  <cp:revision>1</cp:revision>
  <dc:subject/>
  <dc:title>Slide 1</dc:title>
</cp:coreProperties>
</file>