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9E7-3DA5-46B8-8C54-C75DF91F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52D-BAE4-4A98-A2B2-8C089C8A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437-B074-4141-BD4A-0ACFBBBA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6DE-E7B5-4F49-96E3-F08459FC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370-C907-4AC1-8C71-10B116EB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686-8A25-47E3-B4F8-CF3611FD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808-65F8-4715-B197-376E0CCE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5D7-E8EC-4E47-A0D0-603DB8BA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0A9-1D1A-458F-AC8D-3F123DE3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FCD-2135-47C6-A2A5-FDA2D011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1F2D-2BF6-400D-8C07-D3648D99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A9F-2913-4720-8877-3F4C70F2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CA75-DE05-4153-ABA4-C760012BDC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4170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44:05Z</dcterms:created>
  <dc:creator>ds0929</dc:creator>
  <dc:description/>
  <dc:language>en-US</dc:language>
  <cp:lastModifiedBy>ds0929</cp:lastModifiedBy>
  <dcterms:modified xsi:type="dcterms:W3CDTF">2013-04-17T05:45:36Z</dcterms:modified>
  <cp:revision>1</cp:revision>
  <dc:subject/>
  <dc:title>Slide 1</dc:title>
</cp:coreProperties>
</file>