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02F-DD4A-4D74-BFC4-8228A413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D95-C3EA-4BBE-BE23-54CBDA8D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AE69-0082-4E67-81B6-14EA5DC3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DEA-5C46-449C-8062-E01AF568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F0A-1385-40BC-9EB5-136CB05F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EC9-CE32-48DB-A6A7-926E328F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A51-3554-473F-BA90-BF64923A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210-C089-40FC-A259-D4A3E216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CA6-D5D0-4DD1-B02E-09CD8D19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B70-3E99-45D2-826A-53ED98F3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64D-DD78-424A-B1C7-83E54238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C9C-82FF-437A-9C9A-AFE4747A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6F54-6CA7-4F71-90A8-73BBEAFB22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702000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84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21:37Z</dcterms:created>
  <dc:creator>ds0929</dc:creator>
  <dc:description/>
  <dc:language>en-US</dc:language>
  <cp:lastModifiedBy>ds0929</cp:lastModifiedBy>
  <dcterms:modified xsi:type="dcterms:W3CDTF">2013-04-18T05:22:10Z</dcterms:modified>
  <cp:revision>1</cp:revision>
  <dc:subject/>
  <dc:title>Slide 1</dc:title>
</cp:coreProperties>
</file>