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E3AC-6589-4254-8B57-8C979266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803B-0D3D-4A74-91B6-43A2191D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D602-3449-405F-93C5-407870256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CB43-18A7-45C3-B04A-0ECFE2417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7DDF-B8FB-47E0-BF4F-33A276A5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67D8-E752-4032-AF7C-6DD84FFA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7A53-5DF6-4E3B-9F32-F0D54F07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73CF-9236-4F2C-B65E-D50800A9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19FC-3062-444F-9DB6-EF4B4946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E5CD-98C4-45AE-99BE-B68CC5EC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6816-192C-47CD-9418-D2D7FF78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A609-BAEB-4236-AAB4-02BDB7CE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DD3C-B5C9-4A23-8887-26A2D933CE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70019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8T05:27:56Z</dcterms:created>
  <dc:creator>ds0929</dc:creator>
  <dc:description/>
  <dc:language>en-US</dc:language>
  <cp:lastModifiedBy>ds0929</cp:lastModifiedBy>
  <dcterms:modified xsi:type="dcterms:W3CDTF">2013-04-18T05:34:33Z</dcterms:modified>
  <cp:revision>2</cp:revision>
  <dc:subject/>
  <dc:title>Slide 1</dc:title>
</cp:coreProperties>
</file>