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FA3-0364-4F0B-A76E-BBD2BFFA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417-3164-47B9-A6A6-5A3DDC30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A9A-A360-42EE-950A-02A77D1F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6B7-5FCE-4067-AE7C-5AA4B240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530-494D-47CB-B277-7406A7E8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A3A-9500-47BD-A0FE-9BC8693B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8C9-D823-44AC-AA76-150B0181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C1A-147A-44BC-A608-CE4B2CA1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0FC-5E2B-4EE3-93F9-3700468B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D8C-9D4E-4A83-90C1-11C87845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B1DA-C2DD-4AAC-9655-710021DA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609-8DD8-45AE-943E-93ECBAA3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80DE-D581-4BDA-A81E-B9B1810AD4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24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0_U Kyaw Naing.mp3" descr=""/>
          <p:cNvPicPr/>
          <p:nvPr/>
        </p:nvPicPr>
        <p:blipFill>
          <a:blip r:embed="rId2"/>
          <a:stretch/>
        </p:blipFill>
        <p:spPr>
          <a:xfrm>
            <a:off x="2700360" y="5661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390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37:09Z</dcterms:created>
  <dc:creator>ds0929</dc:creator>
  <dc:description/>
  <dc:language>en-US</dc:language>
  <cp:lastModifiedBy>ds0929</cp:lastModifiedBy>
  <dcterms:modified xsi:type="dcterms:W3CDTF">2013-04-18T05:38:08Z</dcterms:modified>
  <cp:revision>1</cp:revision>
  <dc:subject/>
  <dc:title>Slide 1</dc:title>
</cp:coreProperties>
</file>