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9B56-B5FB-423B-815E-23DEFF9A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4EAF-5CF8-46BB-B896-291A3AF3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96F6-C402-4730-BBE7-FF9FDCE76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ADD9-C313-4D17-8FCD-E160F830B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C112-35FB-4AC3-ADE5-792650FC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046C-DD4B-44AC-8253-78359D8C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C6B6-668D-4875-B0D0-7AF0D817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4AD1-5A2E-4A61-A9A5-33E952F7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4617-A731-473C-95A1-5CAD0D82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82B3-3A77-40AA-8568-46BE9C46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F703-AB75-4291-9A55-95AD9A7E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7A73-D1DB-4378-8EEC-79F60EDD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1CC3-A688-401E-877B-AFFD6CCFA7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700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4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137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05:06:56Z</dcterms:created>
  <dc:creator>ds0929</dc:creator>
  <dc:description/>
  <dc:language>en-US</dc:language>
  <cp:lastModifiedBy>ds0929</cp:lastModifiedBy>
  <dcterms:modified xsi:type="dcterms:W3CDTF">2013-04-18T05:09:13Z</dcterms:modified>
  <cp:revision>1</cp:revision>
  <dc:subject/>
  <dc:title>Slide 1</dc:title>
</cp:coreProperties>
</file>