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240-611D-4521-8670-0475D974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4E5-09B3-4594-A1D8-8E723D7B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D53-415E-4D0D-BA05-A6D86888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410-2770-4437-BC3F-796C6350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E9EB-F0F4-45C4-AEDF-4CA0EF8E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DB6-4B06-4725-B33A-576D1C8B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AF1-BD4A-4E84-BB01-8B32449A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4EB-7B65-4898-BF75-689B8C7D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03E-6C75-44B4-98B9-58CFA8E1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1F9-A380-4D9B-A547-C4CEF9F2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DD87-F5AF-49C3-8DA0-5694F569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4CE-E686-4BFF-B00E-CAA6069B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C0F5-EDAE-4C72-B0BA-D51EC10D07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3_U Kyaw Naing.mp3" descr=""/>
          <p:cNvPicPr/>
          <p:nvPr/>
        </p:nvPicPr>
        <p:blipFill>
          <a:blip r:embed="rId2"/>
          <a:stretch/>
        </p:blipFill>
        <p:spPr>
          <a:xfrm>
            <a:off x="7885080" y="378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32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20:52Z</dcterms:created>
  <dc:creator>ds0929</dc:creator>
  <dc:description/>
  <dc:language>en-US</dc:language>
  <cp:lastModifiedBy>ds0929</cp:lastModifiedBy>
  <dcterms:modified xsi:type="dcterms:W3CDTF">2013-04-18T05:21:30Z</dcterms:modified>
  <cp:revision>1</cp:revision>
  <dc:subject/>
  <dc:title>Slide 1</dc:title>
</cp:coreProperties>
</file>