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104-3F95-4610-88B3-0C3A1695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2F6-7BB6-4779-92FD-C8C05A28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46E-4DA5-431D-820A-31F5F3E7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5A7-ADBB-40ED-9A01-CF0C6BD9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C2A-C8DC-4D04-A34F-489E796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EA0-8A6B-4931-95F7-52B9952B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42E-8A25-4312-8100-C75AE0E7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2D2-0455-40D4-B894-9E18DF7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BE7-835D-4606-8337-1FC3E8CA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151-956F-4666-BAE4-2F4D9BF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421-E518-4E6C-AA7D-24B8A0EB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8B9-FA88-41D8-868C-CDAFD649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8E52-5C55-4768-AEB0-F330FC4925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5508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5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28:34Z</dcterms:created>
  <dc:creator>ds0929</dc:creator>
  <dc:description/>
  <dc:language>en-US</dc:language>
  <cp:lastModifiedBy>ds0929</cp:lastModifiedBy>
  <dcterms:modified xsi:type="dcterms:W3CDTF">2013-04-17T05:29:27Z</dcterms:modified>
  <cp:revision>1</cp:revision>
  <dc:subject/>
  <dc:title>Slide 1</dc:title>
</cp:coreProperties>
</file>