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2B0-0C73-45F2-8465-49652F45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B66-F85F-4259-9FB0-8B87DDB3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430-F605-4F3E-A3F2-DAE74249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EC2-8C64-4A1E-BF0D-FC2141ED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48D-714A-48A7-A6F8-81046226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51B-4CC0-434A-A5B8-ADAABE0E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D84-44D2-4F6E-AD54-56AFAF7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185-A592-4681-8D06-A006397C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954-3B50-4ABA-8C89-24DB63D8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DE2-6575-42CA-9F17-01176F15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9ED-7FA4-49E7-9527-31D10CD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583-8DE5-4DB7-AD75-7E6653F9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256C-9040-43C4-9424-38428BB3D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6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2700360" y="4869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5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3:32Z</dcterms:created>
  <dc:creator>ds0929</dc:creator>
  <dc:description/>
  <dc:language>en-US</dc:language>
  <cp:lastModifiedBy>ds0929</cp:lastModifiedBy>
  <dcterms:modified xsi:type="dcterms:W3CDTF">2013-04-18T05:24:29Z</dcterms:modified>
  <cp:revision>1</cp:revision>
  <dc:subject/>
  <dc:title>Slide 1</dc:title>
</cp:coreProperties>
</file>