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617-AB3E-4228-8F68-70623771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758-828F-4442-A1BC-4A3CE66C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58A-895D-430D-A925-22DCDB13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A87-F4C3-4E95-BB71-9A245FAD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29E-5FB8-4E73-A25D-0CD980E2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566-2518-4EDF-BA66-3AADCCFA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39C-5261-4B30-89E4-C55A701C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A2A-453E-4F10-A52F-411370A5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FB1-6E12-46FF-B317-44CFF96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A1B-9A1C-4F9E-9C85-E90879AB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C8A-DA7F-4D7B-8913-84840BB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68C-97D0-439F-8B8E-925004F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8393-ECF1-439C-A042-CF9C2A1CF9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2_U Kyaw Naing.mp3" descr=""/>
          <p:cNvPicPr/>
          <p:nvPr/>
        </p:nvPicPr>
        <p:blipFill>
          <a:blip r:embed="rId2"/>
          <a:stretch/>
        </p:blipFill>
        <p:spPr>
          <a:xfrm>
            <a:off x="212400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82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42:04Z</dcterms:created>
  <dc:creator>ds0929</dc:creator>
  <dc:description/>
  <dc:language>en-US</dc:language>
  <cp:lastModifiedBy>ds0929</cp:lastModifiedBy>
  <dcterms:modified xsi:type="dcterms:W3CDTF">2013-04-16T06:42:42Z</dcterms:modified>
  <cp:revision>1</cp:revision>
  <dc:subject/>
  <dc:title>Slide 1</dc:title>
</cp:coreProperties>
</file>