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4038-F24D-491E-90DA-59E396CC9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93FE-0711-41D0-813F-71F775331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0D36-1F64-4E06-908A-00816C444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BD45-7D55-47D6-866D-64EA9EB05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DF1F-9361-4844-83BD-78CFF14B8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F986-00A9-4AF6-B27B-501BB93C7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9275-8495-4378-AC46-3AFBA462B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A941-F160-4958-9907-EE421EA60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0C40-47FC-485B-BF8D-5EA631F4B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8537-BF8E-448E-BADA-BDB20A3E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3C0C-CD54-43EE-82BB-923090420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15AE-20CD-4B0B-9A94-FCBE8023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234DA-575F-49DC-BE3D-D5CDDDF991B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17002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21_U Kyaw Naing.mp3" descr=""/>
          <p:cNvPicPr/>
          <p:nvPr/>
        </p:nvPicPr>
        <p:blipFill>
          <a:blip r:embed="rId2"/>
          <a:stretch/>
        </p:blipFill>
        <p:spPr>
          <a:xfrm>
            <a:off x="7885080" y="5013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7216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7T05:43:24Z</dcterms:created>
  <dc:creator>ds0929</dc:creator>
  <dc:description/>
  <dc:language>en-US</dc:language>
  <cp:lastModifiedBy>ds0929</cp:lastModifiedBy>
  <dcterms:modified xsi:type="dcterms:W3CDTF">2013-04-17T05:44:01Z</dcterms:modified>
  <cp:revision>1</cp:revision>
  <dc:subject/>
  <dc:title>Slide 1</dc:title>
</cp:coreProperties>
</file>