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5B8F-2710-41E8-BE9E-913053BD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1EF-37ED-4D72-AA9C-CE5A1772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4D94-FB5F-4CC0-8CD8-FF522F84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95F2-7373-476C-A841-231CC63D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E5A-68E8-4FE3-9106-BDB152F9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329D-0D40-46E5-848B-B1F72F91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211E-1A03-4092-8BD5-721E1B74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125-BB11-4A41-82A5-EF00BC2E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52D-2163-4382-A350-AB126B7C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CB2-4046-4407-BC12-A4E2CB72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989-1611-4298-8454-3358B7DA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079-4AA5-47B3-AF85-C5468AE9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2FCC-D862-4CC1-A5C0-2F4492DB75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03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3_U Kyaw Naing.mp3" descr=""/>
          <p:cNvPicPr/>
          <p:nvPr/>
        </p:nvPicPr>
        <p:blipFill>
          <a:blip r:embed="rId2"/>
          <a:stretch/>
        </p:blipFill>
        <p:spPr>
          <a:xfrm>
            <a:off x="622764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4579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03:46Z</dcterms:created>
  <dc:creator>ds0929</dc:creator>
  <dc:description/>
  <dc:language>en-US</dc:language>
  <cp:lastModifiedBy>ds0929</cp:lastModifiedBy>
  <dcterms:modified xsi:type="dcterms:W3CDTF">2013-04-18T05:06:20Z</dcterms:modified>
  <cp:revision>1</cp:revision>
  <dc:subject/>
  <dc:title>Slide 1</dc:title>
</cp:coreProperties>
</file>