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5D54-3138-4737-B457-11FADB65B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4815-D5E3-4FF1-AC28-0074B9FE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B530-3B49-4951-84BE-60CFC950F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A7DA-B495-489E-8A66-F39949CC3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0D23-AC76-46CA-AD37-C15A69AF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DFA5-333E-482F-98D0-7282AEBE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BB93-A2EB-4F15-B58F-14855507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60A6-6EE7-40BD-809E-0FA7DD8B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2E08-8075-4523-A24C-C519425A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A021-950A-4BAE-AFE9-7DF55653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E0CA-23B1-4FB8-9F95-F3624E64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4466-9644-4D3C-A467-8AE6379C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AB19-5F01-4756-8B94-893730B819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60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7_U Kyaw Naing.mp3" descr=""/>
          <p:cNvPicPr/>
          <p:nvPr/>
        </p:nvPicPr>
        <p:blipFill>
          <a:blip r:embed="rId2"/>
          <a:stretch/>
        </p:blipFill>
        <p:spPr>
          <a:xfrm>
            <a:off x="594036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3417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6:27:11Z</dcterms:created>
  <dc:creator>ds0929</dc:creator>
  <dc:description/>
  <dc:language>en-US</dc:language>
  <cp:lastModifiedBy>ds0929</cp:lastModifiedBy>
  <dcterms:modified xsi:type="dcterms:W3CDTF">2013-04-16T06:27:52Z</dcterms:modified>
  <cp:revision>1</cp:revision>
  <dc:subject/>
  <dc:title>Slide 1</dc:title>
</cp:coreProperties>
</file>