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FE7-CA51-40AC-BCE6-A3C8ECD3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56A-BF7B-44D2-A94D-EE208D5D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AEB-7602-4C52-9BE2-18D9B28D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C74-3F81-42F8-8AA1-ADD7D44A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4F3-B169-4088-9054-6DBE94D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13D-3550-4C00-BA47-E0DBD361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335-AF71-4AB9-841F-71E7A53F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EA7-8E06-41B3-A38F-AF84BEAC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735-36F1-442E-B028-82D65E58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135-29EC-4C56-BB66-4C4359B9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008-1846-44CC-8BC3-EC963631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F0C-7E6F-4C14-804D-35784C2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96C6-14B8-41D6-B022-D2DA97F65B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6_U Kyaw Naing.mp3" descr=""/>
          <p:cNvPicPr/>
          <p:nvPr/>
        </p:nvPicPr>
        <p:blipFill>
          <a:blip r:embed="rId2"/>
          <a:stretch/>
        </p:blipFill>
        <p:spPr>
          <a:xfrm>
            <a:off x="3276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50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26:04Z</dcterms:created>
  <dc:creator>ds0929</dc:creator>
  <dc:description/>
  <dc:language>en-US</dc:language>
  <cp:lastModifiedBy>ds0929</cp:lastModifiedBy>
  <dcterms:modified xsi:type="dcterms:W3CDTF">2013-04-16T06:27:05Z</dcterms:modified>
  <cp:revision>1</cp:revision>
  <dc:subject/>
  <dc:title>Slide 1</dc:title>
</cp:coreProperties>
</file>