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1ED-358F-42BB-9C0B-C0AF321C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644-F399-4617-AB9B-5BABD4D0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66A-8081-49CE-BCB6-B16D9037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184-ECCC-4B50-9CF1-C4981C46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17F-0B57-4D37-AE36-EA48EB8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BD97-FF55-48EA-8F9C-B4251B23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EA8-B224-449C-A945-11369F7E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455B-0891-4FD5-8E31-23B1D73A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A1C-3487-49ED-99BB-4CD0950C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84E-F915-4F46-8684-C01B4CE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4A4-8C6A-4E11-A49D-1FB8A39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D16-D143-4914-832C-0F29C71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72E5-A6A1-4D36-B4B0-D4B1BC9579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2916360" y="558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2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09:20Z</dcterms:created>
  <dc:creator>ds0929</dc:creator>
  <dc:description/>
  <dc:language>en-US</dc:language>
  <cp:lastModifiedBy>ds0929</cp:lastModifiedBy>
  <dcterms:modified xsi:type="dcterms:W3CDTF">2013-04-18T05:10:22Z</dcterms:modified>
  <cp:revision>1</cp:revision>
  <dc:subject/>
  <dc:title>Slide 1</dc:title>
</cp:coreProperties>
</file>