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E04-4F98-4C2A-9BD2-D1E7D95F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06A-A4F6-43C9-AA12-40747197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1C3-B5F7-485C-86AC-70531B13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F95-0203-443E-B35A-9B1B60D5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119A-22A0-4E3A-9D4E-B43FF0E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761-89E9-43FF-B9AD-0AACC3EE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A49-E003-43DA-AACC-26580951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EC5-5E03-4A9C-81F7-7F968D57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5C4-6A36-4F43-A2C2-ADC7AFD2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99B-96AB-4BB2-BD42-0DFD3B3F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CD2-A791-44F8-8C25-78F61293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89F-89F8-440F-ADCF-3D1AF2BD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7BB9-6D95-420C-882B-055928C0D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7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3_U Kyaw Naing.mp3" descr=""/>
          <p:cNvPicPr/>
          <p:nvPr/>
        </p:nvPicPr>
        <p:blipFill>
          <a:blip r:embed="rId2"/>
          <a:stretch/>
        </p:blipFill>
        <p:spPr>
          <a:xfrm>
            <a:off x="255600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8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39:32Z</dcterms:created>
  <dc:creator>ds0929</dc:creator>
  <dc:description/>
  <dc:language>en-US</dc:language>
  <cp:lastModifiedBy>ds0929</cp:lastModifiedBy>
  <dcterms:modified xsi:type="dcterms:W3CDTF">2013-04-18T05:40:10Z</dcterms:modified>
  <cp:revision>1</cp:revision>
  <dc:subject/>
  <dc:title>Slide 1</dc:title>
</cp:coreProperties>
</file>