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4AF-48C3-4F4F-A72F-28D8D604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845-F7F1-450D-92A3-71132F66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A15-AF10-4A4B-AA6D-D4752A52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240-7BB9-4BC7-8DF3-4A264E1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848A-B42F-4655-87BD-8D72B60E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E2D-BC08-4B65-A479-9C472535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B3A-4B55-4973-9F6C-33344B6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635-9836-4CF7-9D70-1424FCCC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E3D-FE6A-4D32-92B2-905E1439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637-11D5-4C14-82DB-1C9A549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C34-DBE5-4CB7-B4F7-A6693447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6FC-334F-4835-B0B3-96715F8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ADB-6E26-48BD-9283-6DA51DCBF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5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2556000" y="4581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8:15Z</dcterms:created>
  <dc:creator>ds0929</dc:creator>
  <dc:description/>
  <dc:language>en-US</dc:language>
  <cp:lastModifiedBy>ds0929</cp:lastModifiedBy>
  <dcterms:modified xsi:type="dcterms:W3CDTF">2013-04-18T05:38:46Z</dcterms:modified>
  <cp:revision>1</cp:revision>
  <dc:subject/>
  <dc:title>Slide 1</dc:title>
</cp:coreProperties>
</file>