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C84A-E6E3-4155-829F-1995E7C02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50E6-7894-47E6-B291-411D723E7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7F5E-68AF-4D93-BC97-73A9987E4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C506-8C8E-42D8-A8C9-872AF7440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D177-1257-4A99-9272-203B30484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821C-BD6F-49CD-B4A0-D2FD9870D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01C3-8876-4A13-BB52-1894993FC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8122-2851-41F9-AE4C-B251D38A1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D763-4DEA-4A51-9BF1-C6DD251BA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533A-B498-4E78-8B61-0BDAAF5C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DFDA-6CE5-4A9A-A1C2-0EEC5BE7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3EBD-4679-48E7-BAD7-B34F6AAA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240FB-E73A-47FF-80C3-9D3A165B3D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1600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9_U Kyaw Naing.mp3" descr=""/>
          <p:cNvPicPr/>
          <p:nvPr/>
        </p:nvPicPr>
        <p:blipFill>
          <a:blip r:embed="rId2"/>
          <a:stretch/>
        </p:blipFill>
        <p:spPr>
          <a:xfrm>
            <a:off x="5292720" y="6165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233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6T06:31:02Z</dcterms:created>
  <dc:creator>ds0929</dc:creator>
  <dc:description/>
  <dc:language>en-US</dc:language>
  <cp:lastModifiedBy>ds0929</cp:lastModifiedBy>
  <dcterms:modified xsi:type="dcterms:W3CDTF">2013-04-16T06:31:40Z</dcterms:modified>
  <cp:revision>1</cp:revision>
  <dc:subject/>
  <dc:title>Slide 1</dc:title>
</cp:coreProperties>
</file>