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161-98B6-4941-A2DB-C60A38C7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0AE-94F3-4CCF-AEB3-691A541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031-CA96-4B66-A7F0-7B7363B5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76FB-9E4B-4108-89C1-F9E470F3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1FB-250E-49B5-9E44-80797EC9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F95-CB81-428C-B6A7-D6A973C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BF5-F93D-4E80-B8EF-9DCB7C20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EC7-069A-4F26-BBB6-4482FF16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5C3-FF14-4A77-A93B-84CE4E89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1D2-01F8-452A-B0F5-49191152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B17-79F9-4A52-9CE7-734B3442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1E4-F34A-47DD-A03B-7500B850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8ED-D770-42D1-9DC7-383F5907F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176364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69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P4170018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001_A_017_U Kyaw Naing.mp3" descr=""/>
          <p:cNvPicPr/>
          <p:nvPr/>
        </p:nvPicPr>
        <p:blipFill>
          <a:blip r:embed="rId2"/>
          <a:stretch/>
        </p:blipFill>
        <p:spPr>
          <a:xfrm>
            <a:off x="586728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980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4:34Z</dcterms:created>
  <dc:creator>ds0929</dc:creator>
  <dc:description/>
  <dc:language>en-US</dc:language>
  <cp:lastModifiedBy>ds0929</cp:lastModifiedBy>
  <dcterms:modified xsi:type="dcterms:W3CDTF">2013-04-18T05:33:54Z</dcterms:modified>
  <cp:revision>2</cp:revision>
  <dc:subject/>
  <dc:title>Slide 1</dc:title>
</cp:coreProperties>
</file>