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9A6A-4994-49E0-9FD6-D8353363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5091-98FF-4BD2-979B-542B6C29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742C-98CE-45BA-A3E0-B61561A5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0D18-CD0F-4F89-8302-F75780C4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5F54-63FF-4092-B21A-BEA54552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DF95-9C85-4557-8621-AFF9D41D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602-77DA-4B9D-94BF-21C129CA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EF6E-BC81-4C30-89DF-BFFF86A7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34D-0FE3-407D-9244-98044ADD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497A-2C5A-4F8E-BB31-29985571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9D2-27BF-47AE-A6F7-A753041E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22CA-9D2D-4A20-A4C2-8CCDB6E2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3C58-C0B7-48B0-A955-96D7EC7EF5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04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06:25Z</dcterms:created>
  <dc:creator>ds0929</dc:creator>
  <dc:description/>
  <dc:language>en-US</dc:language>
  <cp:lastModifiedBy>ds0929</cp:lastModifiedBy>
  <dcterms:modified xsi:type="dcterms:W3CDTF">2013-04-18T05:06:47Z</dcterms:modified>
  <cp:revision>1</cp:revision>
  <dc:subject/>
  <dc:title>Slide 1</dc:title>
</cp:coreProperties>
</file>