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C29B-BE12-48FC-9D55-EAED82157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3C38-55F3-44E2-AF9B-8E6134DE9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2131-B6EF-4F10-B9A5-42A14EDE7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EC65-D17B-46EF-A0BD-B08D904A7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EB62-F365-4C23-83CC-EAF7A2B7D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3654-DFFF-4D40-AC4B-DF71853F3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431B-0BE5-4BDF-82A8-5F1F2939E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9E6B-AF8B-4F57-A737-54B75178B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FEA1-ED4C-4C80-A615-B5A62CFDD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49FD-66AA-4A54-A784-8AC590561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F43A-EF9E-4796-AFCD-04DE8B463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070A-AF9E-4760-9770-CE50F9819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57240-CF75-41E8-B0C9-310CC8B198B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170026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22_U Kyaw Naing.mp3" descr=""/>
          <p:cNvPicPr/>
          <p:nvPr/>
        </p:nvPicPr>
        <p:blipFill>
          <a:blip r:embed="rId2"/>
          <a:stretch/>
        </p:blipFill>
        <p:spPr>
          <a:xfrm>
            <a:off x="2484360" y="472428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8304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8T05:38:51Z</dcterms:created>
  <dc:creator>ds0929</dc:creator>
  <dc:description/>
  <dc:language>en-US</dc:language>
  <cp:lastModifiedBy>ds0929</cp:lastModifiedBy>
  <dcterms:modified xsi:type="dcterms:W3CDTF">2013-04-18T05:39:29Z</dcterms:modified>
  <cp:revision>1</cp:revision>
  <dc:subject/>
  <dc:title>Slide 1</dc:title>
</cp:coreProperties>
</file>