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57FC2-5C6E-46A7-ABD7-49D17D793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FE314-5E74-484B-A227-5BD8983CD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93B67-955C-4271-8655-62BF59B5C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23973-C450-4130-BC73-226CA2021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6C3F7-0192-42A6-884C-DD2C23463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33A03-1B26-4B0A-851A-CB8CD92AE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57A72-B5DC-4FFA-A9BB-4C7EED9A3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8C0EC-F48F-4161-86A3-28F0F1ACB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5BF3C-174B-41C8-889E-4822B78EC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D4BF5-CA40-416F-BEE2-DF45EE1BF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8AF88-F62A-4D79-B4CD-B181A3ED6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DAB5A-D983-44FA-BDC0-934062D1A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3D702-C194-46DB-AA3C-1B6CC8D656F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3" descr="P416001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001_A_018_U Kyaw Naing.mp3" descr=""/>
          <p:cNvPicPr/>
          <p:nvPr/>
        </p:nvPicPr>
        <p:blipFill>
          <a:blip r:embed="rId2"/>
          <a:stretch/>
        </p:blipFill>
        <p:spPr>
          <a:xfrm>
            <a:off x="1763640" y="661356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10272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6T06:39:11Z</dcterms:created>
  <dc:creator>ds0929</dc:creator>
  <dc:description/>
  <dc:language>en-US</dc:language>
  <cp:lastModifiedBy>ds0929</cp:lastModifiedBy>
  <dcterms:modified xsi:type="dcterms:W3CDTF">2013-04-16T06:39:37Z</dcterms:modified>
  <cp:revision>1</cp:revision>
  <dc:subject/>
  <dc:title>Slide 1</dc:title>
</cp:coreProperties>
</file>