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461B-928A-4433-9577-98BBBFD4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C9C-B7F2-47C8-8BFA-9FD4B6B2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AE1-11D0-47E6-BD75-30491902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887-9686-48F1-9ED7-C424128D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83E-9A8B-49E3-B46B-EF042F27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84C-EE32-4FD7-B6EE-220F64EE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055-8D48-46E9-A06C-E2539B8E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4D0-516F-4E50-8EDB-7F9AD42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78F-CBEF-4D63-8E3E-83476FEB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109-A0EF-4F51-B734-D89BFE8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9D96-F9BB-4D9A-A356-FDD8D8FB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97F-F1F0-4241-91F3-DA935D47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62A-0D0E-4B39-AD91-C46E5F9774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7451640" y="4941720"/>
            <a:ext cx="26676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9:27Z</dcterms:created>
  <dc:creator>ds0929</dc:creator>
  <dc:description/>
  <dc:language>en-US</dc:language>
  <cp:lastModifiedBy>ds0929</cp:lastModifiedBy>
  <dcterms:modified xsi:type="dcterms:W3CDTF">2013-04-17T05:40:13Z</dcterms:modified>
  <cp:revision>1</cp:revision>
  <dc:subject/>
  <dc:title>Slide 1</dc:title>
</cp:coreProperties>
</file>