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498-034D-4ACA-9146-551864E3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2D1-7816-4423-8A43-E8653B06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BE3-669A-4E2F-829D-1CCBBF0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D12-58C5-4415-A71B-143D2CA2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CC2-F5E4-4BAF-B46B-77ADD55A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60D-80FF-4BAD-82B3-172FD328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D39-16D3-4E3C-B332-CF53361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E29-0105-42EB-BD06-15FB00E5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1F0F-C022-4481-9FED-FBA1B729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E37-E4C6-4D70-B639-29A0A92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55C-F593-4FE6-9943-D122E925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A9C-90D8-4DDF-88DD-940792C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F857-3022-4606-9635-3D1E1D691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3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284328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4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6:18Z</dcterms:created>
  <dc:creator>ds0929</dc:creator>
  <dc:description/>
  <dc:language>en-US</dc:language>
  <cp:lastModifiedBy>ds0929</cp:lastModifiedBy>
  <dcterms:modified xsi:type="dcterms:W3CDTF">2013-04-18T05:37:05Z</dcterms:modified>
  <cp:revision>1</cp:revision>
  <dc:subject/>
  <dc:title>Slide 1</dc:title>
</cp:coreProperties>
</file>