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272-B3BA-4BA4-AABD-36CFE8CE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55B-80DD-4DD1-91CF-A144240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4B0-1ACB-451F-AE7F-55459A20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FD8-F5B3-4E57-8B75-2AC0B832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F5E-F598-4598-8371-C362F314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78D-5D3B-4B3E-952F-1FAF990C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CDE-D815-496E-9D95-03B3D8D9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F93-521A-49B0-AB63-F33D555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D4F-363D-4853-A44F-123A1003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099-7EBB-4083-A0DC-E32290D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AEC-D170-4AC6-9AC3-62F9EC1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907-3A26-4C8E-B856-9A3CC2D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566-F535-459E-AC2A-7758B88E8F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4160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7_U Kyaw Naing.mp3" descr=""/>
          <p:cNvPicPr/>
          <p:nvPr/>
        </p:nvPicPr>
        <p:blipFill>
          <a:blip r:embed="rId2"/>
          <a:stretch/>
        </p:blipFill>
        <p:spPr>
          <a:xfrm>
            <a:off x="176364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8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8:01Z</dcterms:created>
  <dc:creator>ds0929</dc:creator>
  <dc:description/>
  <dc:language>en-US</dc:language>
  <cp:lastModifiedBy>ds0929</cp:lastModifiedBy>
  <dcterms:modified xsi:type="dcterms:W3CDTF">2013-04-16T06:38:54Z</dcterms:modified>
  <cp:revision>1</cp:revision>
  <dc:subject/>
  <dc:title>Slide 1</dc:title>
</cp:coreProperties>
</file>