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5D3-9FD0-4904-A019-A22C9A66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D38-6188-4125-8B78-A617745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1BD-1329-4BBC-8E8F-9304D033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461-ECDB-4676-9284-C4B9115D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C6F-821D-42C2-9491-DE6C4A3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C84-BA19-4C3A-A286-ABDEDB2C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35D-689F-4A32-A577-B4EE7F61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3D77-9536-409E-A5C5-07790A09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AC7-F1D3-44F2-B90D-74E1BC56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7C3-75CA-4094-9448-7877F798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FA0-98CD-4D80-8875-A1677CE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C23-9274-459A-A968-09F4FED6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D56D-E83C-4227-8A59-BA7A3D95F5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529272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30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29:36Z</dcterms:created>
  <dc:creator>ds0929</dc:creator>
  <dc:description/>
  <dc:language>en-US</dc:language>
  <cp:lastModifiedBy>ds0929</cp:lastModifiedBy>
  <dcterms:modified xsi:type="dcterms:W3CDTF">2013-04-17T05:32:03Z</dcterms:modified>
  <cp:revision>1</cp:revision>
  <dc:subject/>
  <dc:title>Slide 1</dc:title>
</cp:coreProperties>
</file>