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2E6-BF2E-4E79-9C45-ECE36FC5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0F8-58B8-4E4F-B517-B7DBFD39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F4B-CCD3-4BEF-A02B-F7D0BC61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1EB-642C-4BAA-93C8-6DAD0954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B1-5E6E-4A1D-9D03-2BE005B5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876-4E6E-416E-8D45-0FCD5E52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E27-5E1D-41B5-B5E9-0FEDAD50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8A0-5FAD-4418-9B1E-E9FC110A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44B-EBE4-4F91-A73B-F896E393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6C2-9578-4442-91A0-32D0B98D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454-20A6-4FEA-BC85-52D4E5E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A8E-3C5F-4097-9150-F1604BB5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8B6-15B8-4E75-BCEA-AD5B1DC0BD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3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8_U Kyaw Naing.mp3" descr=""/>
          <p:cNvPicPr/>
          <p:nvPr/>
        </p:nvPicPr>
        <p:blipFill>
          <a:blip r:embed="rId2"/>
          <a:stretch/>
        </p:blipFill>
        <p:spPr>
          <a:xfrm>
            <a:off x="651672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8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4:48Z</dcterms:created>
  <dc:creator>ds0929</dc:creator>
  <dc:description/>
  <dc:language>en-US</dc:language>
  <cp:lastModifiedBy>ds0929</cp:lastModifiedBy>
  <dcterms:modified xsi:type="dcterms:W3CDTF">2013-04-18T05:45:26Z</dcterms:modified>
  <cp:revision>1</cp:revision>
  <dc:subject/>
  <dc:title>Slide 1</dc:title>
</cp:coreProperties>
</file>