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4BB-28ED-4709-8194-F61B4F3E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0CD-A932-4C13-B042-80E1F447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A197-6805-4EE3-9877-92A9C055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0EA-E921-4817-94C2-DD26BDE68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ECE-6899-4AE4-AE37-C7F5161B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E30-4A0E-4106-8DCC-6A26EEB9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533-4AD4-49FD-B99E-06660921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CA2-BF3F-4EC3-9D5F-6A023D66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F7C-0D11-44F0-A8A2-B54E031F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7A7-3CB0-4B7E-BE61-5704B7DB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892-3709-41FD-9E13-A5D80B9A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5E9-C110-4249-A07C-7836B2B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0836-2EC2-4D90-872E-10B34EA489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7236000" y="141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46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38:42Z</dcterms:created>
  <dc:creator>ds0929</dc:creator>
  <dc:description/>
  <dc:language>en-US</dc:language>
  <cp:lastModifiedBy>ds0929</cp:lastModifiedBy>
  <dcterms:modified xsi:type="dcterms:W3CDTF">2013-04-17T05:39:20Z</dcterms:modified>
  <cp:revision>1</cp:revision>
  <dc:subject/>
  <dc:title>Slide 1</dc:title>
</cp:coreProperties>
</file>