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5CD-E511-472C-8B21-040296ED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719-B636-4FFE-B70E-B626240F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E9A-FCDE-44B7-B8F6-B597B710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E7D-149A-4CBB-86FD-59E66C17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707-69FF-4972-A36B-06BF67D2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F1B-F2CD-455C-86C6-326E147D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F96-5915-416E-88BA-09BD76FD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672-F255-4ED9-88EF-C6C04127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5EC-4424-4568-AEDE-FD18A6D4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5FE-CAE5-467C-8043-091BFAAC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6CA-745D-4B2D-BAF1-BF2A2606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CA0-E82E-4090-ADA8-7B55D973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BD0C-B08D-4CF9-B0B9-17F8558124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416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001_A_001_U Kyaw Naing.mp3" descr=""/>
          <p:cNvPicPr/>
          <p:nvPr/>
        </p:nvPicPr>
        <p:blipFill>
          <a:blip r:embed="rId2"/>
          <a:stretch/>
        </p:blipFill>
        <p:spPr>
          <a:xfrm>
            <a:off x="42847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4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6:19:14Z</dcterms:created>
  <dc:creator>ds0929</dc:creator>
  <dc:description/>
  <dc:language>en-US</dc:language>
  <cp:lastModifiedBy>ds0929</cp:lastModifiedBy>
  <dcterms:modified xsi:type="dcterms:W3CDTF">2013-04-16T06:21:53Z</dcterms:modified>
  <cp:revision>2</cp:revision>
  <dc:subject/>
  <dc:title>Slide 1</dc:title>
</cp:coreProperties>
</file>