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B62-D815-4E9D-B9E3-A5108C9D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103-49E1-49E7-A159-F6C1F078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8C3-1715-4030-872C-C89103F0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96C-76E5-4831-9633-1AFC018F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45D-292D-4BA0-8212-C6336235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454-9298-4724-8977-D143523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8B7-BC49-4AC5-9625-04D1B5E8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813-7C98-4C51-B127-DC530049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C8B-1435-410F-9FDE-DB6D92B2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9DD-EE67-4B00-92D7-8715736F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18F-22CA-4248-855E-A2236F24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D6F2-ACDE-4FCD-A207-596536AC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09FA-BD1D-4458-B18D-F71C8F5AB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8_U Kyaw Naing.mp3" descr=""/>
          <p:cNvPicPr/>
          <p:nvPr/>
        </p:nvPicPr>
        <p:blipFill>
          <a:blip r:embed="rId2"/>
          <a:stretch/>
        </p:blipFill>
        <p:spPr>
          <a:xfrm>
            <a:off x="4572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0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28:00Z</dcterms:created>
  <dc:creator>ds0929</dc:creator>
  <dc:description/>
  <dc:language>en-US</dc:language>
  <cp:lastModifiedBy>ds0929</cp:lastModifiedBy>
  <dcterms:modified xsi:type="dcterms:W3CDTF">2013-04-16T06:30:57Z</dcterms:modified>
  <cp:revision>2</cp:revision>
  <dc:subject/>
  <dc:title>Slide 1</dc:title>
</cp:coreProperties>
</file>