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5F0-A67C-4F51-89DC-53AB6B8E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8A3-07D4-4151-9DBA-BC4CB922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AAE-A252-4EBB-9091-9947FB86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253-7CB5-4BAE-A317-BE1D0712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B90-9ED8-453C-9AAD-2444E1F6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B85-AB70-4FBC-AAC0-39067AC5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545-757E-41F4-B805-2729D998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167-B35F-45F5-A314-3F2AEC80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82B-E5B8-47BF-8614-FD42248F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D81F-D107-4A0C-B842-04F48BEE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B08-E9F5-4CFB-BF1C-016A07FF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0C55-C1B4-49C9-9E00-00265BD8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D9EE-6173-4EF7-90D9-38994BFC79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5_U Kyaw Naing.mp3" descr=""/>
          <p:cNvPicPr/>
          <p:nvPr/>
        </p:nvPicPr>
        <p:blipFill>
          <a:blip r:embed="rId2"/>
          <a:stretch/>
        </p:blipFill>
        <p:spPr>
          <a:xfrm>
            <a:off x="378000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580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25:09Z</dcterms:created>
  <dc:creator>ds0929</dc:creator>
  <dc:description/>
  <dc:language>en-US</dc:language>
  <cp:lastModifiedBy>ds0929</cp:lastModifiedBy>
  <dcterms:modified xsi:type="dcterms:W3CDTF">2013-04-16T06:25:48Z</dcterms:modified>
  <cp:revision>1</cp:revision>
  <dc:subject/>
  <dc:title>Slide 1</dc:title>
</cp:coreProperties>
</file>