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A49-7472-40F8-82C1-780D42AA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145-5F5B-4942-A0F5-D45F367D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B24-7E71-43DF-BC4E-1EDC204B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839A-71E8-4D8D-85C6-4F10D9F5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07F-BD67-45B3-8796-A2CB9EED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D6D-281B-4BDD-B70F-C220EBFF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7B1-E23A-4052-B5F2-AE4BFBFA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B7A-6D69-44B3-AAC9-8255FC6B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281-2D4A-4A2B-A51A-1422F40D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025-3D3F-4E4A-A180-1B4DF34F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754-A52B-4176-A434-4E1214F6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F65-F13A-4274-9FF9-A4D59E5B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6F16-EE5F-44C5-8664-0A3B2CC282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7_U Kyaw Naing.mp3" descr=""/>
          <p:cNvPicPr/>
          <p:nvPr/>
        </p:nvPicPr>
        <p:blipFill>
          <a:blip r:embed="rId2"/>
          <a:stretch/>
        </p:blipFill>
        <p:spPr>
          <a:xfrm>
            <a:off x="7812000" y="5516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48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42:50Z</dcterms:created>
  <dc:creator>ds0929</dc:creator>
  <dc:description/>
  <dc:language>en-US</dc:language>
  <cp:lastModifiedBy>ds0929</cp:lastModifiedBy>
  <dcterms:modified xsi:type="dcterms:W3CDTF">2013-04-18T05:43:42Z</dcterms:modified>
  <cp:revision>1</cp:revision>
  <dc:subject/>
  <dc:title>Slide 1</dc:title>
</cp:coreProperties>
</file>