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1B8-FBE3-4703-B601-E7FBC051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86F-BCE4-43F7-B108-4CB23B0E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6B1B-C79E-464E-BDC0-4B1E6A7C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C78-30B5-4757-9FA9-65BF9627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0964-F6E0-4C82-BEF9-41ADEC7A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0B24-FFC4-46E2-BAC4-6A978344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E74D-F902-4317-99CF-D32019D3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E84-9E73-4A46-B5D8-447D45D7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6F7-C45D-4E1F-A67D-0151F84C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A86-4E4F-4DD1-8616-A2600E58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D51-684F-41B1-AF66-9A0CF3FD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28A5-EA1F-4BF4-BE1E-2C81B312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9BEE-E31A-49C1-BED2-38677B4F11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P4170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2_U Kyaw Naing.mp3" descr=""/>
          <p:cNvPicPr/>
          <p:nvPr/>
        </p:nvPicPr>
        <p:blipFill>
          <a:blip r:embed="rId2"/>
          <a:stretch/>
        </p:blipFill>
        <p:spPr>
          <a:xfrm>
            <a:off x="5364000" y="661356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652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25:46Z</dcterms:created>
  <dc:creator>ds0929</dc:creator>
  <dc:description/>
  <dc:language>en-US</dc:language>
  <cp:lastModifiedBy>ds0929</cp:lastModifiedBy>
  <dcterms:modified xsi:type="dcterms:W3CDTF">2013-04-17T05:28:12Z</dcterms:modified>
  <cp:revision>1</cp:revision>
  <dc:subject/>
  <dc:title>Slide 1</dc:title>
</cp:coreProperties>
</file>