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2E8-F702-477C-80F4-27B40ED8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7A2-9C13-438E-9D07-51E1FA32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58E-2287-4B89-945F-66B258BE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2BC-5B4D-4B68-B39A-22F18021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982E-198E-4B52-8E07-510B5F1B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F6C-860F-4CA4-9AAE-028C574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4E9-9A34-49C6-9B7D-D51D0DCF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259-AA81-4DC8-9032-FE7C8C2F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82C-4EFC-4E88-8040-0789DEC1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288-89DD-4EF6-ABE6-F643D0E0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395-12C7-4DD8-AF64-D31B8C8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1DB-1F5A-433C-8E27-8BC3AFB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A6DA-C819-44B0-B9FB-C381F30E7B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9_U Kyaw Naing.mp3" descr=""/>
          <p:cNvPicPr/>
          <p:nvPr/>
        </p:nvPicPr>
        <p:blipFill>
          <a:blip r:embed="rId2"/>
          <a:stretch/>
        </p:blipFill>
        <p:spPr>
          <a:xfrm>
            <a:off x="7020000" y="465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68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9:44Z</dcterms:created>
  <dc:creator>ds0929</dc:creator>
  <dc:description/>
  <dc:language>en-US</dc:language>
  <cp:lastModifiedBy>ds0929</cp:lastModifiedBy>
  <dcterms:modified xsi:type="dcterms:W3CDTF">2013-04-16T06:40:25Z</dcterms:modified>
  <cp:revision>1</cp:revision>
  <dc:subject/>
  <dc:title>Slide 1</dc:title>
</cp:coreProperties>
</file>