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CDD5-FB65-4001-820A-33C54B18A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8D9A-E1EE-420D-923A-6C4A9A79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B5CC-D59B-439E-B343-F2FE0C82D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723B-06CE-43A1-8F60-61FF0F6CB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720B-A6F0-4CB6-ABC2-CF14873E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D5F2-E2EA-4B42-839F-89D9A397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D5B4-FD7A-4F23-95D0-65979D1C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5BC6-4076-4A1C-BEDA-8409F275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83A0-CC0F-4243-9714-6C1000E8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D28C-C568-498A-A06F-BA9F274F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3B6A-8354-4F3D-8554-4454DE80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C01D-C12B-4A1F-8BF6-610C5897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B99D-79E2-4C03-B976-A6D18E7524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700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8_U Kyaw Naing.mp3" descr=""/>
          <p:cNvPicPr/>
          <p:nvPr/>
        </p:nvPicPr>
        <p:blipFill>
          <a:blip r:embed="rId2"/>
          <a:stretch/>
        </p:blipFill>
        <p:spPr>
          <a:xfrm>
            <a:off x="6875640" y="4869000"/>
            <a:ext cx="626760" cy="62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745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8T05:30:10Z</dcterms:created>
  <dc:creator>ds0929</dc:creator>
  <dc:description/>
  <dc:language>en-US</dc:language>
  <cp:lastModifiedBy>ds0929</cp:lastModifiedBy>
  <dcterms:modified xsi:type="dcterms:W3CDTF">2013-04-18T05:35:23Z</dcterms:modified>
  <cp:revision>1</cp:revision>
  <dc:subject/>
  <dc:title>Slide 1</dc:title>
</cp:coreProperties>
</file>