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B9C-E45B-4060-8B82-A3B27D8D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015-130E-4742-AB96-48AFE62A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E16B-D316-4899-A115-0B98849A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FFB-EB0D-4FA5-BE8A-A88BB4E5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66C-1378-4B60-BF99-68AFC2F8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ADF5-85C8-4FDD-948C-8144874A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C35F-C838-4A94-8A22-3C1CA91A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49D5-E5E3-4FFE-9F3A-C1284CD0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9214-1D7B-4D15-AE98-1D13271A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431-242B-467E-A200-03B96526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37C-16A0-468F-A7B9-527FD511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B3B-C787-4FA4-947E-3C29920C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3004-1F09-4C85-8FA7-F6E82458BB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60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4_U Kyaw Naing.mp3" descr=""/>
          <p:cNvPicPr/>
          <p:nvPr/>
        </p:nvPicPr>
        <p:blipFill>
          <a:blip r:embed="rId2"/>
          <a:stretch/>
        </p:blipFill>
        <p:spPr>
          <a:xfrm>
            <a:off x="7885080" y="2637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05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6:34:52Z</dcterms:created>
  <dc:creator>ds0929</dc:creator>
  <dc:description/>
  <dc:language>en-US</dc:language>
  <cp:lastModifiedBy>ds0929</cp:lastModifiedBy>
  <dcterms:modified xsi:type="dcterms:W3CDTF">2013-04-16T06:35:28Z</dcterms:modified>
  <cp:revision>1</cp:revision>
  <dc:subject/>
  <dc:title>Slide 1</dc:title>
</cp:coreProperties>
</file>