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D49E-C2F7-480A-A6CC-EF6B5DE93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68C6-5DEA-49B0-9B31-190C16CC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0378-C138-41A1-B26D-FA288A8B0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8283-7858-4484-9B22-0891E0784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405A-2C82-4DAB-9A68-D34D3292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587F-CAA2-430C-9F17-927E3597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D96B-2C05-484F-86A6-CFEE2908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7905-330C-4BDC-ACA7-28C027B8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81D3-CFC1-4D79-9D97-D04871C7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B649-6500-4764-81A0-C20A94D7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9686-019C-4781-AF93-FF98E486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88F4-F66E-4C7D-B171-01F374AD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95DD-B12B-4A93-AFAF-23441F75CB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3_U Kyaw Naing.mp3" descr=""/>
          <p:cNvPicPr/>
          <p:nvPr/>
        </p:nvPicPr>
        <p:blipFill>
          <a:blip r:embed="rId2"/>
          <a:stretch/>
        </p:blipFill>
        <p:spPr>
          <a:xfrm>
            <a:off x="4427640" y="479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4579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04:53:20Z</dcterms:created>
  <dc:creator>ds0929</dc:creator>
  <dc:description/>
  <dc:language>en-US</dc:language>
  <cp:lastModifiedBy>ds0929</cp:lastModifiedBy>
  <dcterms:modified xsi:type="dcterms:W3CDTF">2013-04-18T05:03:40Z</dcterms:modified>
  <cp:revision>2</cp:revision>
  <dc:subject/>
  <dc:title>Slide 1</dc:title>
</cp:coreProperties>
</file>