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9B3-022C-4326-93EC-9FE2271F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06C-ED4D-4E49-B6FD-812A5BC1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830-F0E1-422E-8C01-29FB2B60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F26-2233-4ED0-BD90-2E653520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D8C-6E40-4735-BDBD-BDE78286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E4A-4018-4C59-BC2C-2F7E0345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363-F3EF-4C4B-A069-214EB9AC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5DA-FD20-4AD7-B2BF-F09056CB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EF8-50A6-4108-80F8-3964A2B7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DDE-65FB-4560-82A9-6FCF3AB6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2DA-BCDC-4F6A-A795-ED3A7709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4963-CE0D-420A-A441-2E125E3A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2D9D-255D-4C62-B41A-CB8CB2F9F9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0_U Kyaw Naing.mp3" descr=""/>
          <p:cNvPicPr/>
          <p:nvPr/>
        </p:nvPicPr>
        <p:blipFill>
          <a:blip r:embed="rId2"/>
          <a:stretch/>
        </p:blipFill>
        <p:spPr>
          <a:xfrm>
            <a:off x="24112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04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35:09Z</dcterms:created>
  <dc:creator>ds0929</dc:creator>
  <dc:description/>
  <dc:language>en-US</dc:language>
  <cp:lastModifiedBy>ds0929</cp:lastModifiedBy>
  <dcterms:modified xsi:type="dcterms:W3CDTF">2013-04-17T05:35:41Z</dcterms:modified>
  <cp:revision>1</cp:revision>
  <dc:subject/>
  <dc:title>Slide 1</dc:title>
</cp:coreProperties>
</file>