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44A-D849-4ED4-A028-1FF4491C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7680-6E0E-4E25-8034-C4E9FFD9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8B3D-6618-4693-A20B-A935C669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1E3-A31A-416B-ACFE-C99F3572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D41-DF0F-43C9-B819-0D7A7A35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1DA-A402-4ECE-AC85-7C37C35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AF4-C61B-4EA1-9358-33F6F15D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7A9-1EB6-4B51-B4E0-E0F08D09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0AC-81C9-4CF1-B40D-2C495450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0A2-D2D6-40A1-AE7B-399A2ECA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B3C-02A1-498B-8B35-E3180264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421-A36E-456C-B5D0-3F997693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8A0A-47A8-45CC-819A-40922A3758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6875640" y="429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57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02:44Z</dcterms:created>
  <dc:creator>ds0929</dc:creator>
  <dc:description/>
  <dc:language>en-US</dc:language>
  <cp:lastModifiedBy>ds0929</cp:lastModifiedBy>
  <dcterms:modified xsi:type="dcterms:W3CDTF">2013-04-18T05:03:30Z</dcterms:modified>
  <cp:revision>1</cp:revision>
  <dc:subject/>
  <dc:title>Slide 1</dc:title>
</cp:coreProperties>
</file>