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6E1-6429-4E61-8945-0D48C9F9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7C1-2C59-4ECB-94C5-4994702B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956-B173-44B6-B614-6F495D2B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410-0095-4E2F-8408-CDB6824D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9B1-4CE2-43EF-865D-59DF01A7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C47-CEC3-4F88-9792-41642A7B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78D-09CC-4497-B7F3-484F5747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9FDA-E509-42C8-A0BF-393F88DC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E09-0509-469B-ABAE-F738047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C7D-E366-432B-8132-D7294436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2E8-ADE8-42BE-9AC0-085E087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B2A-7083-43E0-A67C-06BD9957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7187-3A2B-486B-94A4-4CD3DF98F9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2411280" y="5157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5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22:17Z</dcterms:created>
  <dc:creator>ds0929</dc:creator>
  <dc:description/>
  <dc:language>en-US</dc:language>
  <cp:lastModifiedBy>ds0929</cp:lastModifiedBy>
  <dcterms:modified xsi:type="dcterms:W3CDTF">2013-04-18T05:23:28Z</dcterms:modified>
  <cp:revision>1</cp:revision>
  <dc:subject/>
  <dc:title>Slide 1</dc:title>
</cp:coreProperties>
</file>