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012-808D-4893-8D00-2BEC983B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4519-9F60-4F9B-AD01-820A1963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D34-885C-4A57-A104-2B2A349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DC1-64F0-48FC-8880-074AFA6F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CDE-2133-4A38-A3E7-DCCE9BDA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134A-6FCF-4440-BEE9-CF86EE79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7BA-6376-4146-A5EF-CEF74289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8AC-1045-4689-88BA-D76C1909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13B-C594-404E-B9F3-72522864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137E-F5A2-476E-AE84-88532BFD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E15-1377-4D55-9CD3-1FCD124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90B-14AE-4C0D-809C-0103FFD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F7B6-D657-4C70-BAF9-12B71CBAC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3_U Kyaw Naing.mp3" descr=""/>
          <p:cNvPicPr/>
          <p:nvPr/>
        </p:nvPicPr>
        <p:blipFill>
          <a:blip r:embed="rId2"/>
          <a:stretch/>
        </p:blipFill>
        <p:spPr>
          <a:xfrm>
            <a:off x="39243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3:55Z</dcterms:created>
  <dc:creator>ds0929</dc:creator>
  <dc:description/>
  <dc:language>en-US</dc:language>
  <cp:lastModifiedBy>ds0929</cp:lastModifiedBy>
  <dcterms:modified xsi:type="dcterms:W3CDTF">2013-04-16T06:34:41Z</dcterms:modified>
  <cp:revision>1</cp:revision>
  <dc:subject/>
  <dc:title>Slide 1</dc:title>
</cp:coreProperties>
</file>