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075-6308-4542-A373-4FE8B627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5D1-87AB-4966-9EB0-1A625440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303-1C99-4E43-9ACC-235488BB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5AC-0045-4234-AEA9-DD5438A1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7E6-4E2A-4EBC-8D41-F44F2BEB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6CF-49C7-4F49-ABA4-2E92EA7D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217-6D5A-44E1-8349-3A913EA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875-680F-4C40-B2B5-7B741006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082-C4FB-43EE-9819-70EC43E8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778-223D-4787-BB76-5B28A1E7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643-7922-461D-A316-94F48DB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4FE-229D-4540-83D1-335584B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267C-9600-480D-B0EF-8707B2FEEC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1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4:09Z</dcterms:created>
  <dc:creator>ds0929</dc:creator>
  <dc:description/>
  <dc:language>en-US</dc:language>
  <cp:lastModifiedBy>ds0929</cp:lastModifiedBy>
  <dcterms:modified xsi:type="dcterms:W3CDTF">2013-04-18T05:15:27Z</dcterms:modified>
  <cp:revision>1</cp:revision>
  <dc:subject/>
  <dc:title>Slide 1</dc:title>
</cp:coreProperties>
</file>