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9CE-C987-4AE5-817E-8C02FC00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289-E951-4725-8E79-BD867914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D72-BC28-46DD-A141-92477A12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55B-7416-49AD-AB26-31DFDFB3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1EF-9E38-4CF3-B447-9101104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F26-0FD9-4052-96C2-39069808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ECF-391B-4043-A512-D984AD5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D7B-35FF-4679-AA72-32A23DD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9D9-81D1-45BD-96A7-8E600BC7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E041-35AE-4D90-8750-63351FD0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A1B-CDF8-42E4-9B68-A66A589E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30A-0FAB-45C6-AEF8-A72B6FF6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B2D-D417-48F3-9A3B-F5AA4153B5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7667640" y="299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2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2:26Z</dcterms:created>
  <dc:creator>ds0929</dc:creator>
  <dc:description/>
  <dc:language>en-US</dc:language>
  <cp:lastModifiedBy>ds0929</cp:lastModifiedBy>
  <dcterms:modified xsi:type="dcterms:W3CDTF">2013-04-17T05:43:20Z</dcterms:modified>
  <cp:revision>1</cp:revision>
  <dc:subject/>
  <dc:title>Slide 1</dc:title>
</cp:coreProperties>
</file>