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D1E-3DEE-4D60-B88B-A6BD0E69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B95-7580-4FE7-861B-0EB8F2B7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41B-65F0-4242-B00D-AE9DF316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53E-1054-44EB-B938-C6E8248D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CFA-5FAE-4641-8D50-F79B9C8E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37A-17D0-4EAE-BE6D-4E6ABA83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E1F-A0C7-4ADF-9EA4-5B167B50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361-7135-43EF-BC74-17800BC2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F9B-17B7-4C94-9C6A-5CE694F0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E17-F70F-4EB6-B3F2-31BC7CA2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CF1-8B03-4E5D-BA50-7673E18E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5B5-526A-4342-B7A2-93F5460C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CCA2-6316-486B-A27E-2224FEDB23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18352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87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33:38Z</dcterms:created>
  <dc:creator>ds0929</dc:creator>
  <dc:description/>
  <dc:language>en-US</dc:language>
  <cp:lastModifiedBy>ds0929</cp:lastModifiedBy>
  <dcterms:modified xsi:type="dcterms:W3CDTF">2013-04-17T05:34:14Z</dcterms:modified>
  <cp:revision>1</cp:revision>
  <dc:subject/>
  <dc:title>Slide 1</dc:title>
</cp:coreProperties>
</file>