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C1E-B546-4ED8-8592-59EBE86D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816-1E71-41E9-A550-C895DB89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C5A-DE6B-4D8E-9B1B-CBE12FC7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30DF-F657-4669-89B7-9E26C36A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E19-1F69-4DD3-ABC0-3C77A2D8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9B9-4FF3-44AB-BEC1-9F156332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ECE-1C77-468E-9417-E495B83A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557-8241-46EF-A2ED-9068AAAA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3CB-40F6-4054-AEA2-A4E18D8B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BF08-05DB-4A15-91F9-51905364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2C22-E486-4A10-B932-DE5BF461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BA5-94FA-4532-AA43-8167CF4B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678A-48E8-4714-916D-BFCC7D9BE4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P4170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9_U Kyaw Naing.mp3" descr=""/>
          <p:cNvPicPr/>
          <p:nvPr/>
        </p:nvPicPr>
        <p:blipFill>
          <a:blip r:embed="rId2"/>
          <a:stretch/>
        </p:blipFill>
        <p:spPr>
          <a:xfrm>
            <a:off x="7380360" y="134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787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41:41Z</dcterms:created>
  <dc:creator>ds0929</dc:creator>
  <dc:description/>
  <dc:language>en-US</dc:language>
  <cp:lastModifiedBy>ds0929</cp:lastModifiedBy>
  <dcterms:modified xsi:type="dcterms:W3CDTF">2013-04-17T05:42:22Z</dcterms:modified>
  <cp:revision>1</cp:revision>
  <dc:subject/>
  <dc:title>Slide 1</dc:title>
</cp:coreProperties>
</file>