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7324-E508-42B5-A093-152BE397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170-79DE-4B85-88EA-BCCE5CCE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B03-A458-4336-9C3D-4E39EF79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001-49B5-4A45-BDCD-6FCEE0ED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418-4FB4-4DBA-94EB-DF714275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E05-57F6-4B55-90FE-501B9600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C79-FFC1-4A75-A55E-8940CC64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3A7-9338-4A57-BC43-A959A9C2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6ED-CD85-42E4-B198-99C63B62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660-7412-488A-8CB6-0B82026B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A9A-7F56-4BF7-94A9-2ED2328E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9F9-6F35-4664-AB32-6901E11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8A97-D37A-4C3A-B542-9646BCE297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2627280" y="6664320"/>
            <a:ext cx="19512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85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35:53Z</dcterms:created>
  <dc:creator>ds0929</dc:creator>
  <dc:description/>
  <dc:language>en-US</dc:language>
  <cp:lastModifiedBy>ds0929</cp:lastModifiedBy>
  <dcterms:modified xsi:type="dcterms:W3CDTF">2013-04-17T05:36:37Z</dcterms:modified>
  <cp:revision>1</cp:revision>
  <dc:subject/>
  <dc:title>Slide 1</dc:title>
</cp:coreProperties>
</file>