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47F-29BD-4FE2-917A-BA177B97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186-E5B1-4517-90A5-771F90F6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CAA-C1B9-481D-89D4-81805DB6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DF9-D75E-4200-9EB5-68BFA555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8D2-C611-447E-8ABF-53101236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B4B-E057-49C3-AFA0-D7C48FB8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758-1B72-4D2C-A68B-5A0B6563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949-792C-48D7-99B2-057F158A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CC5-0613-4E12-ABEF-E6693D9B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7E2-DB15-4FA3-95ED-D7FF1AE2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2B6-AE7F-4320-952D-26F0F0C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19D-67B5-4FB3-B4EA-566E176A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15C8-C3C7-45E3-8BE9-7CD4DF928B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7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3_U Kyaw Naing.mp3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14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19:35Z</dcterms:created>
  <dc:creator>ds0929</dc:creator>
  <dc:description/>
  <dc:language>en-US</dc:language>
  <cp:lastModifiedBy>ds0929</cp:lastModifiedBy>
  <dcterms:modified xsi:type="dcterms:W3CDTF">2013-04-15T02:56:23Z</dcterms:modified>
  <cp:revision>2</cp:revision>
  <dc:subject/>
  <dc:title>Slide 1</dc:title>
</cp:coreProperties>
</file>