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535-AD86-485A-8EB9-4BC16AB5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6D8-2C88-4A39-87CF-3CED6F05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85D-5056-4C0C-8BD2-E4A069FA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A43-27C7-4DB6-8D83-3EB8344A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B1B-A0B0-430A-9855-5B05C63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8A-604D-47B2-892F-0DB4439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015-5BFA-48A1-A99F-AA57411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72E-0ABA-48B5-A034-CC8026B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A0C-4290-4BEC-AF3A-A58FC5C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F4C-DEDC-40F2-8FE8-C69099CF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0A7-32B3-4865-8087-12A119D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A3B-2931-48F8-AF29-C7A56AA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C08-D343-4FE6-B20B-9B4005B2B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0:41Z</dcterms:created>
  <dc:creator>ds0929</dc:creator>
  <dc:description/>
  <dc:language>en-US</dc:language>
  <cp:lastModifiedBy>ds0929</cp:lastModifiedBy>
  <dcterms:modified xsi:type="dcterms:W3CDTF">2013-04-13T08:21:34Z</dcterms:modified>
  <cp:revision>1</cp:revision>
  <dc:subject/>
  <dc:title>Slide 1</dc:title>
</cp:coreProperties>
</file>