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85EA-CBEE-453E-B8C2-5DF64966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BEF-A15A-4332-B225-53216DC8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71B6-70B9-420B-9987-F29CA903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A569-8DD9-41F7-AB4E-139646E5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541F-DC2A-4009-9AC2-D68CE989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6F5-3DDA-40A9-AC04-8FE0962B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6C96-0E01-4842-8575-08D41531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BB5-79A1-4B03-B6B5-1DC127DC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F8D2-AC4F-4280-92B6-20041771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8B84-FA55-411E-A2DF-D70E04A6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373B-B5DD-44CC-AD21-2F62CAC9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D67-AB2F-46BF-A437-B16656A6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6324-B543-4751-9745-00B2F9F740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P1180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37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21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3:06:48Z</dcterms:created>
  <dc:creator>ds0929</dc:creator>
  <dc:description/>
  <dc:language>en-US</dc:language>
  <cp:lastModifiedBy>ds0929</cp:lastModifiedBy>
  <dcterms:modified xsi:type="dcterms:W3CDTF">2013-04-15T03:08:13Z</dcterms:modified>
  <cp:revision>1</cp:revision>
  <dc:subject/>
  <dc:title>Slide 1</dc:title>
</cp:coreProperties>
</file>