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C13-ACAC-491C-B750-5FAD03C8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C15-D06E-4405-A3B7-9AB7CF8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60F-FBAC-466B-91EE-1698F41F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C7D-F9E1-490D-B004-EA52E2F4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745-5F21-4E71-8F65-54472AF4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744-11D5-43A5-80AE-A504C954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04C-9297-491E-BF1A-4F5BC9FD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B7C-09DB-408C-9D07-BF57FD88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520-617E-4CA7-A7E2-A94C012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AFB-FCA3-4998-8463-037AE24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49E-74E1-4EA7-8C32-5968DC3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1D5-BA26-450D-BC14-0F7CE8F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60FF-7854-4305-865E-C7BC97796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2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4:08Z</dcterms:created>
  <dc:creator>ds0929</dc:creator>
  <dc:description/>
  <dc:language>en-US</dc:language>
  <cp:lastModifiedBy>ds0929</cp:lastModifiedBy>
  <dcterms:modified xsi:type="dcterms:W3CDTF">2013-04-07T05:14:49Z</dcterms:modified>
  <cp:revision>1</cp:revision>
  <dc:subject/>
  <dc:title>Slide 1</dc:title>
</cp:coreProperties>
</file>