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A15-3DF3-407E-A398-F8EEDE94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2DA-37E3-4D41-B4EA-2A5CF849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F75-64F7-43E7-A281-5405703A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DBF-0CEC-4F02-9445-CDBC66CA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8BC-DAB5-475E-815E-F1E0A87A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CEA-46BD-4EA7-8E07-1E102A1B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5C3-D5DC-4531-B1EB-568A1A92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B11-5153-446B-B150-6566C0B2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73F-EAA1-4EC4-992A-211134D9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D72-95A8-49E2-A387-04191171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FB3-AE0C-4EC4-A9A7-0481283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12F-0E2F-466B-8A11-191EF6DC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B001-8B1D-493C-BB92-B974532F40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3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7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21:55Z</dcterms:created>
  <dc:creator>ds0929</dc:creator>
  <dc:description/>
  <dc:language>en-US</dc:language>
  <cp:lastModifiedBy>ds0929</cp:lastModifiedBy>
  <dcterms:modified xsi:type="dcterms:W3CDTF">2013-04-13T08:23:18Z</dcterms:modified>
  <cp:revision>1</cp:revision>
  <dc:subject/>
  <dc:title>Slide 1</dc:title>
</cp:coreProperties>
</file>