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738-F370-430C-93EC-A41A4789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FF3-A4EC-43E8-91F5-46D03D93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42F-F727-405E-8F67-0369CC9C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53B-90A3-4192-988C-E1F83413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0E1-FCE6-4647-9765-4BA0AACF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983-26DB-42AD-9A8E-895C5036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F85-E536-4EFA-AD32-E4B88304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EF0-256D-4084-B322-77F1B6DD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C0F-CF92-41C8-8296-282DDE8E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EFC-57BA-427D-8303-F7FE0153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CD3-1472-4939-B037-CCF57633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5E0-9578-41EE-BD6D-3AFBD03F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74EA-3D72-4B0C-8DFD-FACA430200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5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1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85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14:01Z</dcterms:created>
  <dc:creator>ds0929</dc:creator>
  <dc:description/>
  <dc:language>en-US</dc:language>
  <cp:lastModifiedBy>ds0929</cp:lastModifiedBy>
  <dcterms:modified xsi:type="dcterms:W3CDTF">2013-04-13T09:15:08Z</dcterms:modified>
  <cp:revision>1</cp:revision>
  <dc:subject/>
  <dc:title>Slide 1</dc:title>
</cp:coreProperties>
</file>