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B7F-B5B9-46F4-9A7B-4767E7D5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8BE-8D0D-401F-9F7F-D636EFB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CC5-A10D-420E-981E-4DE47DB5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065-DD66-4DC4-9796-FDC2A24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134-FF37-4A5B-92E2-B59C52D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8ED-93AD-447C-B88F-85A851B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336-0F29-44CB-B3C5-CBBF218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A39-85DB-456F-901E-7B07138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874-151B-4F6A-9717-A7A21E8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731-2C32-4622-ABCD-1FEA9BA9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0B1-83C3-4085-A6E0-5D9388D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A5E-0BED-430A-B390-5E091C4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CC0-BCDB-4958-B493-DE4F9F882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208013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7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8:01:26Z</dcterms:created>
  <dc:creator>ds0929</dc:creator>
  <dc:description/>
  <dc:language>en-US</dc:language>
  <cp:lastModifiedBy>ds0929</cp:lastModifiedBy>
  <dcterms:modified xsi:type="dcterms:W3CDTF">2013-04-13T08:17:08Z</dcterms:modified>
  <cp:revision>3</cp:revision>
  <dc:subject/>
  <dc:title>Slide 1</dc:title>
</cp:coreProperties>
</file>