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20E-838C-43B3-A687-744DC0B0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8C1-BFDF-4476-B589-70B01944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BB9-AB6D-444F-B467-03F2C25F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C14-AED6-409C-8BDD-544A2766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689-FA35-4FB4-BE85-1F095BB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BD7-4214-421F-891B-1E027B3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43C-4431-4D47-9B66-072B0E3C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834-4000-4AA1-A343-C1342DE5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CDD-C863-480A-BF64-46BC8840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50F-943A-41BA-9881-DCB0389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FDD-A5D2-433D-952F-B173966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AAB-9228-4C4F-883B-6BC89889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500B-7911-4DA6-87CA-946A442DA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4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92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47:05Z</dcterms:created>
  <dc:creator>ds0929</dc:creator>
  <dc:description/>
  <dc:language>en-US</dc:language>
  <cp:lastModifiedBy>ds0929</cp:lastModifiedBy>
  <dcterms:modified xsi:type="dcterms:W3CDTF">2013-04-13T08:47:47Z</dcterms:modified>
  <cp:revision>1</cp:revision>
  <dc:subject/>
  <dc:title>Slide 1</dc:title>
</cp:coreProperties>
</file>