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AEA-0DA5-408C-982F-0B12B592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A40-10DC-41A4-8B0A-3A677AF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CCF-3B63-48CF-A612-F013C2C4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9CD-700E-4D4A-83BB-BC96C16A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054-7E3F-4D73-A0B7-24516CE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90A-259C-484F-8F6A-B635AB7D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958-E450-441B-8AA4-84F2DB99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C10-18EB-4CE7-91FC-41C57CE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1C6-114C-489E-A6DA-BC321937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9B2-0246-457C-8323-E3CA065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389-7C0C-4AC3-B91A-3BAA266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839-466F-4D92-8DDE-F7E1929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5279-CDEF-4162-B7C0-62F77ECE4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1_U Kyaw Naing.mp3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9:19Z</dcterms:created>
  <dc:creator>ds0929</dc:creator>
  <dc:description/>
  <dc:language>en-US</dc:language>
  <cp:lastModifiedBy>ds0929</cp:lastModifiedBy>
  <dcterms:modified xsi:type="dcterms:W3CDTF">2013-04-15T02:55:53Z</dcterms:modified>
  <cp:revision>2</cp:revision>
  <dc:subject/>
  <dc:title>Slide 1</dc:title>
</cp:coreProperties>
</file>