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FFDAA-6959-4981-90E3-B13C72E31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41A9E-73C3-4BC0-849A-B0F5DBECF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719E3-8206-4A78-98F1-3BB886B49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9DD1F-04FC-4D33-B303-514FE04A0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48816-45CE-48F5-BA99-101C0449E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D6B8E-E0B1-4DD3-B7F1-BA3067F3D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45C10-B01D-4BB6-BE96-C4A14CB12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D1725-A072-4232-A646-AD369EF4C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AA784-6B67-4793-8E67-48AC310F2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DF415-C0C4-4649-99D7-B0F7198F6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1F4C1-BBA1-48EC-B47C-89FC2CF6F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23EF2-FAA3-49DA-823B-AF0C33864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36A69-516F-4A39-BCB5-D5BCE3BE321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3" descr="P2080123.JPG"/>
          <p:cNvPicPr/>
          <p:nvPr/>
        </p:nvPicPr>
        <p:blipFill>
          <a:blip r:embed="rId1"/>
          <a:stretch/>
        </p:blipFill>
        <p:spPr>
          <a:xfrm>
            <a:off x="2000160" y="0"/>
            <a:ext cx="514368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001_A_017_U Kyaw Naing.mp3" descr=""/>
          <p:cNvPicPr/>
          <p:nvPr/>
        </p:nvPicPr>
        <p:blipFill>
          <a:blip r:embed="rId2"/>
          <a:stretch/>
        </p:blipFill>
        <p:spPr>
          <a:xfrm>
            <a:off x="4449600" y="3306600"/>
            <a:ext cx="244800" cy="2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59744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7T05:13:28Z</dcterms:created>
  <dc:creator>ds0929</dc:creator>
  <dc:description/>
  <dc:language>en-US</dc:language>
  <cp:lastModifiedBy>ds0929</cp:lastModifiedBy>
  <dcterms:modified xsi:type="dcterms:W3CDTF">2013-04-07T05:13:57Z</dcterms:modified>
  <cp:revision>1</cp:revision>
  <dc:subject/>
  <dc:title>Slide 1</dc:title>
</cp:coreProperties>
</file>