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EF9C-352F-435D-B8CB-59A27003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6BA4-2AA9-41B5-A7E7-AE90455B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99A-8F9F-44EA-AE6C-45FADB5A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019A-A2A8-4A9B-8FE9-B44EEA3D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806F-2E90-43D1-89C7-E24903F0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9D0-AFF9-44E6-B221-57938A57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F8F-03F2-44B2-BF57-1B367215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DDA-7A49-40CD-B7DD-343A16BF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F3E-9AD2-4610-9DF5-F75DC241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36C-7989-4C1D-9197-E98FA0A6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EFD-1730-4732-B761-D21D83FB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21E9-D481-42D9-BC44-82734631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CCE4-B6B5-4D70-B81D-612930A655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5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2_A_01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29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20:54Z</dcterms:created>
  <dc:creator>ds0929</dc:creator>
  <dc:description/>
  <dc:language>en-US</dc:language>
  <cp:lastModifiedBy>ds0929</cp:lastModifiedBy>
  <dcterms:modified xsi:type="dcterms:W3CDTF">2013-04-13T09:21:56Z</dcterms:modified>
  <cp:revision>1</cp:revision>
  <dc:subject/>
  <dc:title>Slide 1</dc:title>
</cp:coreProperties>
</file>