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FA5-53BA-45AC-9CCF-669CB195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0C28-6B9F-48F8-B2B9-3B7C8BBF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BC9-3C5C-4416-92E9-D023B1D2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3B7-C3F6-4244-9262-BB92E793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869-106C-40A2-8DB1-6481F0F0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1A7-AB2E-40A8-832B-A7B44B8C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2766-1719-4D9E-B0D3-BD4EEF49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3D9-1806-4EA0-B0B4-C2DCAD32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0E8-493C-4C0C-A5B8-98A6FFD6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F87-E955-49E7-9D8E-EA641EA6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2A0-F2B7-4A3B-9E05-AF706A5C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B2D-084C-4EB5-AA7A-25E1C813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7824-F113-4DA4-B063-AE1BC4EEC7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4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569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29:24Z</dcterms:created>
  <dc:creator>ds0929</dc:creator>
  <dc:description/>
  <dc:language>en-US</dc:language>
  <cp:lastModifiedBy>ds0929</cp:lastModifiedBy>
  <dcterms:modified xsi:type="dcterms:W3CDTF">2013-04-13T08:30:25Z</dcterms:modified>
  <cp:revision>1</cp:revision>
  <dc:subject/>
  <dc:title>Slide 1</dc:title>
</cp:coreProperties>
</file>