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93D-5838-4B01-88AD-0F00EF03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CEB-E350-44D1-B18B-95F691E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BB2-5841-4C95-A901-84BB18C6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554-1C9E-469E-917B-BD09E984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043-FC34-4C4D-81CF-721C97B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74E-BB66-44C6-9313-2DA35A7E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B90-23F2-4C26-9BE7-30708E80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057-CA1F-4680-B018-40B3842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234-C5B2-411E-95BA-2A060F03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C48-CBA9-4127-B67F-2F535D9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3B8-B490-41D6-9271-BD4FF8F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7E2-E0D9-4DD8-A855-5384ACDF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78C4-D817-4322-9A99-3D3A454870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2771640" y="3716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6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40:28Z</dcterms:created>
  <dc:creator>ds0929</dc:creator>
  <dc:description/>
  <dc:language>en-US</dc:language>
  <cp:lastModifiedBy>ds0929</cp:lastModifiedBy>
  <dcterms:modified xsi:type="dcterms:W3CDTF">2013-04-15T02:55:05Z</dcterms:modified>
  <cp:revision>2</cp:revision>
  <dc:subject/>
  <dc:title>Slide 1</dc:title>
</cp:coreProperties>
</file>