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9FD6-1A11-4B98-943F-2FD8C8DB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A579-393C-4BE0-9FD4-F0A92498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A8EE-596C-4E0B-A7F8-95644348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C100-7676-4040-8ADD-6E529C78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CE3B-BB3B-43D8-9EF3-942D6B69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DA07-48E8-4D82-AC4B-371A0AE0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C777-9020-4D33-AAF2-ED3D6BAF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F56D-7228-40AF-A5AF-38FBB6A9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EA5B-EDCF-41E4-ADCE-C3B4B7DC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1465-842C-4F54-B55B-50FFFF27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AB40-9EFE-4F26-9505-C556B39C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0A42-5BBC-4B91-A2CC-030179A0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4E3C-FDBE-4BD5-ADB7-2544353D65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89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6_U Kyaw Naing.mp3" descr=""/>
          <p:cNvPicPr/>
          <p:nvPr/>
        </p:nvPicPr>
        <p:blipFill>
          <a:blip r:embed="rId2"/>
          <a:stretch/>
        </p:blipFill>
        <p:spPr>
          <a:xfrm>
            <a:off x="2916360" y="422100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53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33:43Z</dcterms:created>
  <dc:creator>ds0929</dc:creator>
  <dc:description/>
  <dc:language>en-US</dc:language>
  <cp:lastModifiedBy>ds0929</cp:lastModifiedBy>
  <dcterms:modified xsi:type="dcterms:W3CDTF">2013-04-15T02:55:19Z</dcterms:modified>
  <cp:revision>2</cp:revision>
  <dc:subject/>
  <dc:title>Slide 1</dc:title>
</cp:coreProperties>
</file>