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E70-F6F6-4C96-AD17-2E6B234F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2F3-3FC4-4172-8CBA-4D0A23F0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089-5E5F-4A1C-82BB-B988C343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3D3-BFF4-46E1-B80E-5B446058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AFE-CD35-4877-AE0D-5118AE3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6DE-3F2E-4A4B-9277-5C93169F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3C2-5296-4D1F-BACD-1E852964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76A-ABA3-4149-B4A9-8B165D3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DBD-30F0-441E-A515-A39B375B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9A6-9DA7-44C1-BB57-3FCE1E58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41C-86D8-41BA-815C-AA847165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C98-F61B-4F25-8A20-E42C2995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6848-FA8D-42A5-AAEF-A7CAE8D38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208010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3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4:48:56Z</dcterms:created>
  <dc:creator>ds0929</dc:creator>
  <dc:description/>
  <dc:language>en-US</dc:language>
  <cp:lastModifiedBy>ds0929</cp:lastModifiedBy>
  <dcterms:modified xsi:type="dcterms:W3CDTF">2013-04-07T04:50:56Z</dcterms:modified>
  <cp:revision>1</cp:revision>
  <dc:subject/>
  <dc:title>Slide 1</dc:title>
</cp:coreProperties>
</file>