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AB1-5367-425F-9CED-5FDD0AE7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D28-E448-4B1B-8EE7-69D3984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799-22A3-4A7F-877B-2D0CEB5F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B20-58FA-49A3-8F86-5E4BDF73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DB1-7679-481C-8BF1-DE01F509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63F-42D4-4C8D-960F-C394EF02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F0D-82D6-49C3-8C8A-B0B7EDF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F0C-3BB0-4DDD-B21F-0E2C963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F77-D6D3-4C53-AE88-20808636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674-33D2-4405-9696-599841D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A6D-94D9-4788-804B-C0304E20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196-94AC-4797-ADB1-D49C292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955-2A23-4945-857C-0E0896E412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6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41_U Kyaw Naing.mp3" descr=""/>
          <p:cNvPicPr/>
          <p:nvPr/>
        </p:nvPicPr>
        <p:blipFill>
          <a:blip r:embed="rId2"/>
          <a:stretch/>
        </p:blipFill>
        <p:spPr>
          <a:xfrm>
            <a:off x="7020000" y="29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60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11806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9:51Z</dcterms:created>
  <dc:creator>ds0929</dc:creator>
  <dc:description/>
  <dc:language>en-US</dc:language>
  <cp:lastModifiedBy>ds0929</cp:lastModifiedBy>
  <dcterms:modified xsi:type="dcterms:W3CDTF">2013-04-15T03:10:40Z</dcterms:modified>
  <cp:revision>1</cp:revision>
  <dc:subject/>
  <dc:title>Slide 1</dc:title>
</cp:coreProperties>
</file>