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951-17FE-403B-8843-BFE025CE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D18-3ED6-4D0B-88E7-C67B533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30B-36B4-4503-A450-A3AAB724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7BD-0601-430E-B1CD-CF4A16C9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973-D40A-4E01-9E1A-A6CF53F9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45A-6FBE-465D-8DE6-4C366C2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C00-7980-4C99-B088-E4178C2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733-FC81-493F-82E4-2054B82C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280-BFE0-4B5C-8406-BF3C18B1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AFE-BCAC-4BE4-ADE7-16ACB9C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82E-3CD6-430D-9659-B9426DAA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9D7-38DE-4BC2-BB9B-277EFE8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7AD-4F32-4AAB-8284-79A86E7A6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7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2771640" y="234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4:23Z</dcterms:created>
  <dc:creator>ds0929</dc:creator>
  <dc:description/>
  <dc:language>en-US</dc:language>
  <cp:lastModifiedBy>ds0929</cp:lastModifiedBy>
  <dcterms:modified xsi:type="dcterms:W3CDTF">2013-04-15T02:56:03Z</dcterms:modified>
  <cp:revision>5</cp:revision>
  <dc:subject/>
  <dc:title>Slide 1</dc:title>
</cp:coreProperties>
</file>