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947-C593-48E2-BCFB-18C520C8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C3F-137C-4811-B85F-249077AA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A0B-2366-40C5-B8AD-BAAA4374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A24-36B1-43F4-BB45-F237938A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61A-35BF-474A-830C-3548A805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E36-03BB-41D1-A7E0-D5846CF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20D-279F-4EB6-ADF4-E6D6D492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1A0-5E24-4E33-9806-0DB75AB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156-38FB-42F4-B899-06CC389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3D5-0F52-43F7-B2D1-1B37EC4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4C6-BBEA-4BBB-AC93-60ADFE04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593-E704-4358-8807-434BBA29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F616-A969-46D0-BE3E-97DEB238B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7" descr="P208011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47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01:36Z</dcterms:created>
  <dc:creator>ds0929</dc:creator>
  <dc:description/>
  <dc:language>en-US</dc:language>
  <cp:lastModifiedBy>ds0929</cp:lastModifiedBy>
  <dcterms:modified xsi:type="dcterms:W3CDTF">2013-04-07T05:04:02Z</dcterms:modified>
  <cp:revision>1</cp:revision>
  <dc:subject/>
  <dc:title>Slide 1</dc:title>
</cp:coreProperties>
</file>