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AE03-7646-4F14-B846-259106DE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17C7-43A3-4113-8C0B-CBE2E0D6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A688-07FB-43D6-8135-E697A0A78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FF27-1CBB-4C77-84EF-EAB0FC098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4BDE-4AF7-4E6F-8480-BDC52A5F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C7C0-715A-4B28-823A-EFBB52BB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B83E-829C-498F-A9A6-79197108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99D5-D1CC-4F62-8E2A-A7F25692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2766-96B5-4A66-95D5-8EDEB703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CC5D-4E48-45E8-81D4-7DF5033E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CF7D-2E34-4280-A073-7A6431EF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42FF-A388-494A-803E-A79E9107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8045-6739-45DC-B6F0-4B68C36F69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1180636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36_U Kyaw Naing.mp3" descr=""/>
          <p:cNvPicPr/>
          <p:nvPr/>
        </p:nvPicPr>
        <p:blipFill>
          <a:blip r:embed="rId2"/>
          <a:stretch/>
        </p:blipFill>
        <p:spPr>
          <a:xfrm>
            <a:off x="2268360" y="2997360"/>
            <a:ext cx="24480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100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3:06:02Z</dcterms:created>
  <dc:creator>ds0929</dc:creator>
  <dc:description/>
  <dc:language>en-US</dc:language>
  <cp:lastModifiedBy>ds0929</cp:lastModifiedBy>
  <dcterms:modified xsi:type="dcterms:W3CDTF">2013-04-15T03:06:36Z</dcterms:modified>
  <cp:revision>1</cp:revision>
  <dc:subject/>
  <dc:title>Slide 1</dc:title>
</cp:coreProperties>
</file>