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69C-9058-410E-B738-7F04000D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73E-F511-4EED-9D2F-1863B86B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EEA-E360-4CAC-9222-73FDCCAF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5B1-6F90-49D0-8F00-A67411C0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DD2-CE9A-4005-99A2-7FA1B45E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8F3-6365-44EC-AA11-2548C619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775-6F65-4BA9-B60C-8BA860C7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55A-2684-44F9-B8A6-8BBA8FA8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ED1-B553-4A36-9B6B-DE4DB8FE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0C2-76D0-427C-BA1C-7AAE6F6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44E-19B5-4E33-8AB1-328159C2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54F-A09F-4095-B3AF-7E5B5429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9322-DF3F-4BE3-91EE-787E8363F7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5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1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pic>
        <p:nvPicPr>
          <p:cNvPr id="43" name="002_A_014_U Kyaw Naing.mp3" descr=""/>
          <p:cNvPicPr/>
          <p:nvPr/>
        </p:nvPicPr>
        <p:blipFill>
          <a:blip r:embed="rId3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1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93184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9318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22:01Z</dcterms:created>
  <dc:creator>ds0929</dc:creator>
  <dc:description/>
  <dc:language>en-US</dc:language>
  <cp:lastModifiedBy>ds0929</cp:lastModifiedBy>
  <dcterms:modified xsi:type="dcterms:W3CDTF">2013-04-13T09:23:06Z</dcterms:modified>
  <cp:revision>1</cp:revision>
  <dc:subject/>
  <dc:title>Slide 1</dc:title>
</cp:coreProperties>
</file>