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02B-19F6-4D7C-B1E7-8BF5E425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936-3468-405F-B580-F67557D1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50D-2DED-40C7-982E-1EC30FD5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4F0-1533-4212-A5A2-1A436F36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99B-E14C-454B-B1D1-EB6B329D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2C8-1272-4306-937D-21E831F4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0A1-9173-415E-B385-A31DA055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81F-DFB9-46B1-92C8-2D6DDC75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3E9-7D2D-454A-90E8-8B549C25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2B9-AFC5-4B39-9D2B-40A0C661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4DE-8F7E-463F-90B4-874192C9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150-6D81-41EE-8FF0-EDBB6CBF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5201-70F8-4658-97C0-4541171212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6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31:03Z</dcterms:created>
  <dc:creator>ds0929</dc:creator>
  <dc:description/>
  <dc:language>en-US</dc:language>
  <cp:lastModifiedBy>ds0929</cp:lastModifiedBy>
  <dcterms:modified xsi:type="dcterms:W3CDTF">2013-04-13T09:32:18Z</dcterms:modified>
  <cp:revision>1</cp:revision>
  <dc:subject/>
  <dc:title>Slide 1</dc:title>
</cp:coreProperties>
</file>