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639-3E7A-4021-8C31-DC2C26CB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65E-691C-4E67-BC61-1FA70E2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A82-AE60-472C-99DD-30B437AF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A23-B337-4F15-93F0-4D7803C5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519-4FF9-411A-8595-D22E5FD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D45-27EE-45D2-A9BC-AEACC13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8C-073D-4612-9BDA-F81CDC1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AA2-71E0-41E3-B550-F18BB511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03F-EEE8-4AC5-81C1-285CDD1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8D9-CD06-4764-AE9F-4F24543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EBA-38DA-4EE5-BFED-C8A8AF1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BF0-CBAE-4DED-9DE7-3842062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E3B-F7CD-4934-AE97-35A58618C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8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7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27:28Z</dcterms:created>
  <dc:creator>ds0929</dc:creator>
  <dc:description/>
  <dc:language>en-US</dc:language>
  <cp:lastModifiedBy>ds0929</cp:lastModifiedBy>
  <dcterms:modified xsi:type="dcterms:W3CDTF">2013-04-15T02:28:10Z</dcterms:modified>
  <cp:revision>1</cp:revision>
  <dc:subject/>
  <dc:title>Slide 1</dc:title>
</cp:coreProperties>
</file>