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66E7-B854-42AE-87AB-08C5A60F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D555-C7EA-42B8-AA06-ABA99085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9D59-6E54-428D-850B-2FEB39D8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2E07-C24A-4A62-A12F-0844F0C3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9A0D-5058-43B6-AA7A-C2EFB6F0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BDE7-175E-4904-8753-8F33AE47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ECA7-1254-468C-89B7-26BE68B8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D5C3-668E-4805-B975-69FD1926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66C-30EA-45AC-9ECE-83B78731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9022-99AE-4737-B023-0B7BBA77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6E65-03E6-40DA-8B30-5B8DBDE4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F4C-4223-4798-A17E-D6E40446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3DCB-1DD1-49F0-B319-87FF55F72D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93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37:09Z</dcterms:created>
  <dc:creator>ds0929</dc:creator>
  <dc:description/>
  <dc:language>en-US</dc:language>
  <cp:lastModifiedBy>ds0929</cp:lastModifiedBy>
  <dcterms:modified xsi:type="dcterms:W3CDTF">2013-04-15T02:38:03Z</dcterms:modified>
  <cp:revision>1</cp:revision>
  <dc:subject/>
  <dc:title>Slide 1</dc:title>
</cp:coreProperties>
</file>