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AD8-F7E1-437D-8A73-D7597AF4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0D3-0FC3-4D2E-87D2-2AAB5ACC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B20-F0BE-4916-8EC8-38D3300E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AA3-532C-4611-BCE4-6583A454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A28-381B-41A2-9317-5D31112D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9A7-EA3C-4655-8E06-9D69C5FF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A2C-ADE1-43D0-B1B4-4F685DC2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964-CFF3-454E-8CA1-80E6A56C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3FA-2AE0-46C1-ACD5-D5708646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075-6DAE-4BE9-BDA4-95889EBD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608-F5C4-4A95-BCB6-5D089FCE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EC2-6D81-4F24-8703-DD77757D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4603-A3C0-42E9-94E1-7A2AAA2021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8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6:35Z</dcterms:created>
  <dc:creator>ds0929</dc:creator>
  <dc:description/>
  <dc:language>en-US</dc:language>
  <cp:lastModifiedBy>ds0929</cp:lastModifiedBy>
  <dcterms:modified xsi:type="dcterms:W3CDTF">2013-04-07T05:17:07Z</dcterms:modified>
  <cp:revision>1</cp:revision>
  <dc:subject/>
  <dc:title>Slide 1</dc:title>
</cp:coreProperties>
</file>