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0A6-3F4F-49BB-BC12-2CAF4B83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E70-55BD-4354-AA95-885B2F7F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D8B-6C50-4A32-8B6D-4F50329E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CF4-FB59-4739-AD57-B1D0E2E9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E997-DDA0-48E1-9BD6-B3EA4465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ECD-15F5-4BA8-BBE3-AABB32E8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78E-27EC-46D5-990C-5D070C0B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0A7-D4E6-48E8-847F-2B2C2203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920-740D-46B9-9B6B-BBE118B6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5F79-7ADE-4315-83C7-445F9953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A0D-0D3F-4D1D-AD14-6F541AA0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3119-EEC3-4D8F-AA28-EA82338E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DA78-D54D-44C5-94E6-4CCA05C890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63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4_U Kyaw Naing.mp3" descr=""/>
          <p:cNvPicPr/>
          <p:nvPr/>
        </p:nvPicPr>
        <p:blipFill>
          <a:blip r:embed="rId2"/>
          <a:stretch/>
        </p:blipFill>
        <p:spPr>
          <a:xfrm>
            <a:off x="2627280" y="256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29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3:04:25Z</dcterms:created>
  <dc:creator>ds0929</dc:creator>
  <dc:description/>
  <dc:language>en-US</dc:language>
  <cp:lastModifiedBy>ds0929</cp:lastModifiedBy>
  <dcterms:modified xsi:type="dcterms:W3CDTF">2013-04-15T03:05:01Z</dcterms:modified>
  <cp:revision>1</cp:revision>
  <dc:subject/>
  <dc:title>Slide 1</dc:title>
</cp:coreProperties>
</file>