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64D-105E-4577-A9D4-9CACDDEA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AB8-0CC8-4215-8181-BD18317C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109-E0DB-4DD7-960D-E0EAEA1E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475-45B8-4F27-B6C2-6467554C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45B-D4CB-4902-A286-7D413EF5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D63-0C54-48C4-8149-AD71263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242-DB9D-4FCE-B2F2-6B907799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B5B-018B-458C-BD22-5003F84A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4A2-7101-4AA8-A38A-AFB1D011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410-6760-4DB0-8EA2-180BA7F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7B1-4BD6-4B61-8063-C2A251FA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388-D8A1-4192-B7B9-E530E72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4667-6893-4ABE-BE28-7C7492E0F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208018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3_U Kyaw Naing.mp3" descr=""/>
          <p:cNvPicPr/>
          <p:nvPr/>
        </p:nvPicPr>
        <p:blipFill>
          <a:blip r:embed="rId2"/>
          <a:stretch/>
        </p:blipFill>
        <p:spPr>
          <a:xfrm>
            <a:off x="6300720" y="263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1:05Z</dcterms:created>
  <dc:creator>ds0929</dc:creator>
  <dc:description/>
  <dc:language>en-US</dc:language>
  <cp:lastModifiedBy>ds0929</cp:lastModifiedBy>
  <dcterms:modified xsi:type="dcterms:W3CDTF">2013-04-15T02:32:01Z</dcterms:modified>
  <cp:revision>1</cp:revision>
  <dc:subject/>
  <dc:title>Slide 1</dc:title>
</cp:coreProperties>
</file>