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747-7FD9-4AE7-BD79-E42DB81A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231-5CB2-446A-AFEA-61898502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2C0-491F-4572-8FE6-C82BAA7B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522-6492-4937-85E9-502A69B1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E91-40E9-41DF-95C6-D8E2C850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64B-36BA-49F1-BED4-522A02BD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931-B22F-4990-BB0A-1194EEDE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BC1-B2BA-4EF1-BE23-CF552486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524-7DA2-4C38-8964-A240A9F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2AB-7FFE-4646-880D-2C97F3B0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364-4B64-465A-856C-A1861FA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437-4950-4D04-8D40-7AEB5150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D57E-94AC-4979-95FF-9D3ADB3A93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20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8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47:00Z</dcterms:created>
  <dc:creator>ds0929</dc:creator>
  <dc:description/>
  <dc:language>en-US</dc:language>
  <cp:lastModifiedBy>ds0929</cp:lastModifiedBy>
  <dcterms:modified xsi:type="dcterms:W3CDTF">2013-04-15T02:54:23Z</dcterms:modified>
  <cp:revision>1</cp:revision>
  <dc:subject/>
  <dc:title>Slide 1</dc:title>
</cp:coreProperties>
</file>