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8AB6-E66B-4FDF-B09F-3B2B61A8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89F4-5A72-4FF6-90E5-0F6717E5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2C95-F763-4B15-8879-49BB565B7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D06C-7E17-40DD-9A7C-C259850C6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084B-9C59-4819-BCFE-6E1E5A26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0BA6-657B-4131-AC74-D92E02B4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94F1-8733-45AE-946B-786E6482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C50D-EE83-44F4-B53D-FEE19CEE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723C-7119-476B-9A24-02FF54F5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5F70-CDAF-415C-8F06-597EC27C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C15C-C3BF-420D-94AA-76DB7C44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BA0B-956B-4558-904A-9622A380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6CA5-EF35-48C3-907F-2F26F9F8CE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2080106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4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395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04:56:09Z</dcterms:created>
  <dc:creator>ds0929</dc:creator>
  <dc:description/>
  <dc:language>en-US</dc:language>
  <cp:lastModifiedBy>ds0929</cp:lastModifiedBy>
  <dcterms:modified xsi:type="dcterms:W3CDTF">2013-04-07T04:57:01Z</dcterms:modified>
  <cp:revision>1</cp:revision>
  <dc:subject/>
  <dc:title>Slide 1</dc:title>
</cp:coreProperties>
</file>