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7264-7629-49CA-91DC-915EC3982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3F8C-3C8D-4262-B25C-052FA8D1E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B1E9-82F2-4D26-B5B3-CC8314329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0B2E-34C9-4DBF-95BD-A0AE296E0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B05A-8C40-4CFF-80EE-67DDA2C7C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9E2A-FF75-466E-AE86-FC3B7B186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D4C0-E33E-440D-9ABF-41784E9B6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0E3B-D9B6-4F2C-8DAC-45AACAF8F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7448-C613-4E42-994A-8E408E41E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890D-D773-4FE1-8174-BDF2D6A5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DF07-CB06-46AC-9FA6-6BC97C0B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C717-6F16-4709-92AE-BB0C8E0E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4D841-408C-4864-8ABB-FDBFAAB0FD4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2080109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6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5408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04:59:27Z</dcterms:created>
  <dc:creator>ds0929</dc:creator>
  <dc:description/>
  <dc:language>en-US</dc:language>
  <cp:lastModifiedBy>ds0929</cp:lastModifiedBy>
  <dcterms:modified xsi:type="dcterms:W3CDTF">2013-04-07T05:00:26Z</dcterms:modified>
  <cp:revision>1</cp:revision>
  <dc:subject/>
  <dc:title>Slide 1</dc:title>
</cp:coreProperties>
</file>