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987-E257-4ACB-8900-3E4051F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20A-DDBD-4665-BAC2-9E362537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BFD-D89E-458F-8152-7821F18B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98B-6187-44A6-90DA-3008856D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A0A-D1E1-41A0-AA40-B6AC5AE5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3A8-4D04-4B00-B26C-2583C8D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6F5-3809-4F42-8C14-A9A8E19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6A6-8F20-4474-9C13-7FCA255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552-6BE9-4CCA-94D9-3BA2EEFF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AED-62B3-402E-A5A8-C3CA117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217-A6CF-4FF7-A46D-57AC5876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E32-199A-405A-A7D0-F1A82A5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FCB-480D-46AD-83D8-184AEDFA8B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2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10:26Z</dcterms:created>
  <dc:creator>ds0929</dc:creator>
  <dc:description/>
  <dc:language>en-US</dc:language>
  <cp:lastModifiedBy>ds0929</cp:lastModifiedBy>
  <dcterms:modified xsi:type="dcterms:W3CDTF">2013-04-07T05:11:17Z</dcterms:modified>
  <cp:revision>1</cp:revision>
  <dc:subject/>
  <dc:title>Slide 1</dc:title>
</cp:coreProperties>
</file>