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7D82-7F4B-49F4-B52D-33F2A786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E741-B6F1-444D-99CA-BC318449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7BE1-B1FF-42FB-A8AF-EDD3C757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6A94-1C9E-4086-BFB8-EC01CBC8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B1DC-D07F-4B17-A3C1-403969E9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E96-A75C-4C8D-A584-65DA7F9F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247B-FD10-4498-BA12-54745C34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3C45-931F-4D36-B2B9-37591B67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EBD4-4B73-49B6-9153-C35AF8AA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8CDD-E5C4-433A-914D-CFD864C4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61E4-5317-4B6B-B12C-8DDC0AA7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0F09-1A77-4B45-8482-0AEA7930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34FA-52DB-449C-A062-CDF5E028CD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627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8_U Kyaw Naing.mp3" descr=""/>
          <p:cNvPicPr/>
          <p:nvPr/>
        </p:nvPicPr>
        <p:blipFill>
          <a:blip r:embed="rId2"/>
          <a:stretch/>
        </p:blipFill>
        <p:spPr>
          <a:xfrm>
            <a:off x="2340000" y="4508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80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57:24Z</dcterms:created>
  <dc:creator>ds0929</dc:creator>
  <dc:description/>
  <dc:language>en-US</dc:language>
  <cp:lastModifiedBy>ds0929</cp:lastModifiedBy>
  <dcterms:modified xsi:type="dcterms:W3CDTF">2013-04-15T02:58:53Z</dcterms:modified>
  <cp:revision>1</cp:revision>
  <dc:subject/>
  <dc:title>Slide 1</dc:title>
</cp:coreProperties>
</file>