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822-DEB6-4289-B7EB-329FB802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6B7-53EF-4A07-9252-19691E81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93F-A1C8-425D-973A-DA9D7888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32D-5C7C-4EB6-A3C7-EB2E77BB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8B3-39FE-4EBF-97E6-7AF329D2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123A-80F9-4D5C-BB4C-17735507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5A0-AE91-46B9-8C05-0E4D5402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001-F094-46D2-A2B3-6512CE78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71E-E073-4EBD-8600-AE1FE1A3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D33-4A19-42CA-8CE3-397ACD03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C98-7387-480A-9AF0-B641F089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A7D-DD86-4D49-BFEB-63E6B5EF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9336-A1CA-42F4-A9BA-D36750C391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20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11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52:34Z</dcterms:created>
  <dc:creator>ds0929</dc:creator>
  <dc:description/>
  <dc:language>en-US</dc:language>
  <cp:lastModifiedBy>ds0929</cp:lastModifiedBy>
  <dcterms:modified xsi:type="dcterms:W3CDTF">2013-04-15T02:53:25Z</dcterms:modified>
  <cp:revision>1</cp:revision>
  <dc:subject/>
  <dc:title>Slide 1</dc:title>
</cp:coreProperties>
</file>