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449-48B2-4315-8D27-A1498A5B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21F-63E0-47A0-87FA-E0A6C69D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3AB-DFDB-40F8-A82C-918549BE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2D7D-38A9-4794-9DB9-8864941C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73C-95DC-4BCA-95B2-3E2B40D1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C44-79D1-4C96-AEEE-9A31B577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760-273E-45A4-B3F6-48C6FF3D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1E9-51FA-4CF4-84F4-791CF254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612-2F87-4381-B797-ED5EDCA8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F76-D102-42B2-A8DA-D30ABC34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C05-B78D-458E-AC5F-96BC139E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E67-86EF-4AA4-B8FA-A8BEB65D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B203-6D33-4495-A22F-20EC307941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9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69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43:22Z</dcterms:created>
  <dc:creator>ds0929</dc:creator>
  <dc:description/>
  <dc:language>en-US</dc:language>
  <cp:lastModifiedBy>ds0929</cp:lastModifiedBy>
  <dcterms:modified xsi:type="dcterms:W3CDTF">2013-04-15T02:44:21Z</dcterms:modified>
  <cp:revision>1</cp:revision>
  <dc:subject/>
  <dc:title>Slide 1</dc:title>
</cp:coreProperties>
</file>