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BDC-E455-48FB-9769-D929FD28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BCB-7F24-410F-AEF3-54D589CF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6BE-48B5-419D-8054-1E4B2968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D4E-8CDD-469B-8B11-CA27B67C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64C-7DB0-4B88-9D4B-9E89C7F6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197-C965-45C0-98E9-B86485E5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852-561B-4EA0-A430-123B76D6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BD1-C24C-4CD8-9A13-D5AB9092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142-4839-49C0-999E-A2DE2DB3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2AC-5D78-485F-9ABD-9EF68E15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C8B-6250-4952-9E35-41E5954E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42A-E309-41A2-92AC-03158B3A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23E3-E0E9-4882-9BAA-43A55E2A56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63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3_U Kyaw Naing.mp3" descr=""/>
          <p:cNvPicPr/>
          <p:nvPr/>
        </p:nvPicPr>
        <p:blipFill>
          <a:blip r:embed="rId2"/>
          <a:stretch/>
        </p:blipFill>
        <p:spPr>
          <a:xfrm>
            <a:off x="6516720" y="314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0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3:03:33Z</dcterms:created>
  <dc:creator>ds0929</dc:creator>
  <dc:description/>
  <dc:language>en-US</dc:language>
  <cp:lastModifiedBy>ds0929</cp:lastModifiedBy>
  <dcterms:modified xsi:type="dcterms:W3CDTF">2013-04-15T03:04:16Z</dcterms:modified>
  <cp:revision>1</cp:revision>
  <dc:subject/>
  <dc:title>Slide 1</dc:title>
</cp:coreProperties>
</file>