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018-CCAF-4D25-A9CC-6F6207A4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921-6857-40F3-A108-3EC6A7B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5DB-0231-42CE-AC5E-77885E0B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316-D8BC-4E7E-9AF0-08F47791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C9-DF1D-4832-9D96-1EACE4F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70-8A43-4B0A-BD1F-EDD6556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074-E14E-4B24-808E-B31B5D4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503-5F6D-4440-A7AA-C2DE5BEF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901-2C2A-4386-A8D4-13B2078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929-E215-4E85-8123-44A2F0D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F5F-20C7-44A6-BFED-2A44070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527-CF47-4CFE-80D3-28F0E17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CF49-FFBF-4F58-9DBE-66E4EE9AF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7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7:21Z</dcterms:created>
  <dc:creator>ds0929</dc:creator>
  <dc:description/>
  <dc:language>en-US</dc:language>
  <cp:lastModifiedBy>ds0929</cp:lastModifiedBy>
  <dcterms:modified xsi:type="dcterms:W3CDTF">2013-04-07T05:18:09Z</dcterms:modified>
  <cp:revision>1</cp:revision>
  <dc:subject/>
  <dc:title>Slide 1</dc:title>
</cp:coreProperties>
</file>