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43B-923D-42AF-BCB7-6F2B269D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9A4-0CA3-42B8-9F30-105F800B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9AE-6FDF-411E-ACD0-93A4242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130-D2A7-4476-837D-B1C5A19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E29-0F6D-4ED3-AB95-335C16F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C8D-F4A7-4642-95F0-A846450A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FDE-3C7A-4022-8204-F77A454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C4F-AE5C-418B-BE25-94E6300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1AB-7FFF-4105-9FFE-0F5A74A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21B-55DF-4F72-B669-A1E6BDC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DFB-9580-4A8C-A92F-D5E80CE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335-7035-40C5-BFA4-4D6FD1D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595-6749-41C2-8614-E8647E37F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4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8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43:50Z</dcterms:created>
  <dc:creator>ds0929</dc:creator>
  <dc:description/>
  <dc:language>en-US</dc:language>
  <cp:lastModifiedBy>ds0929</cp:lastModifiedBy>
  <dcterms:modified xsi:type="dcterms:W3CDTF">2013-04-13T08:46:53Z</dcterms:modified>
  <cp:revision>1</cp:revision>
  <dc:subject/>
  <dc:title>Slide 1</dc:title>
</cp:coreProperties>
</file>