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922-E219-41CE-9917-77F492E5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796-F975-4FBC-BFC0-AF623EA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29D-C9E1-485F-854B-53B10CDD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F50-8987-4217-AF25-095257B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73F-C146-4952-BE1C-67D8C27D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7A1-1717-4795-B0DE-97FFEE2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190-EC8B-4CDE-9C37-B7F5FC1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B3C-8484-444D-8DB8-2083C023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5EE-26FD-4C3B-B30F-9CDC7DF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923-6249-4A4D-A895-60B6B8B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1AB-E7E8-40A8-ACFD-4F45FEE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AD4-01D3-4891-9874-161DB44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D58-E268-477E-B6EF-F098F3A44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75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2:19Z</dcterms:created>
  <dc:creator>ds0929</dc:creator>
  <dc:description/>
  <dc:language>en-US</dc:language>
  <cp:lastModifiedBy>ds0929</cp:lastModifiedBy>
  <dcterms:modified xsi:type="dcterms:W3CDTF">2013-04-07T05:13:24Z</dcterms:modified>
  <cp:revision>1</cp:revision>
  <dc:subject/>
  <dc:title>Slide 1</dc:title>
</cp:coreProperties>
</file>