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AD7-0B6C-4BDE-9DBA-706AE4E3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977-1BA7-4827-87B6-7A9C7806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B6B-A984-45B3-8395-146C099B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B6-9335-4446-A7BC-1E960D1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194-38BD-4600-9596-961DAB6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E63-9061-4E08-AF11-B9F71BE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3D3-73BC-472E-91CB-16276B6B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C28-D499-4CF3-A96E-36D357D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430-C9E4-46D0-9718-C7B39A0F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451-88DA-410F-BA80-443FE91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26C-894E-4F81-A5AD-1BB1213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1FC-80CF-4A33-A12C-AED2EC2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1A4-D79E-4B9D-A33B-FB1DA3E2F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6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1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4:14Z</dcterms:created>
  <dc:creator>ds0929</dc:creator>
  <dc:description/>
  <dc:language>en-US</dc:language>
  <cp:lastModifiedBy>ds0929</cp:lastModifiedBy>
  <dcterms:modified xsi:type="dcterms:W3CDTF">2013-04-13T09:24:57Z</dcterms:modified>
  <cp:revision>1</cp:revision>
  <dc:subject/>
  <dc:title>Slide 1</dc:title>
</cp:coreProperties>
</file>