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070-853C-48B3-A9E8-FBB71FCA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5BA-B337-4CC8-B530-3E2F373D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687-8330-4A6E-88A8-DA0AB774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162-3B87-4D4E-B0C2-C3BCAF15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8C7-9F6F-408E-A6A4-E3CD8B7E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688-59D5-4E0E-8208-B3EF075B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CEF-FD08-494B-9291-14552351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F94-9830-4127-B0EB-17849728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869-D53C-4285-B10A-974F8A7A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07B-D230-47AA-9521-39FC964F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5A0-71CF-4675-A47C-81850A69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B5A-7783-4F20-AD7F-ACA5242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A26E-65E6-42FC-BD6A-5CDB0E6DDF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9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7_U Kyaw Naing.mp3" descr=""/>
          <p:cNvPicPr/>
          <p:nvPr/>
        </p:nvPicPr>
        <p:blipFill>
          <a:blip r:embed="rId2"/>
          <a:stretch/>
        </p:blipFill>
        <p:spPr>
          <a:xfrm>
            <a:off x="435600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2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4:30Z</dcterms:created>
  <dc:creator>ds0929</dc:creator>
  <dc:description/>
  <dc:language>en-US</dc:language>
  <cp:lastModifiedBy>ds0929</cp:lastModifiedBy>
  <dcterms:modified xsi:type="dcterms:W3CDTF">2013-04-15T02:35:09Z</dcterms:modified>
  <cp:revision>1</cp:revision>
  <dc:subject/>
  <dc:title>Slide 1</dc:title>
</cp:coreProperties>
</file>