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F11-C966-426B-8265-707BDB32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E72-90EF-45C0-8841-A9085680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DCF-2597-4DE1-81C5-5D80955A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103-B1FD-43F5-960B-9F161029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B9E-F9ED-43DB-BF61-74C72E24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0A6-903B-4821-BB86-3EE8954E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777-0AF3-4AAD-8D12-6795F21C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17E-22A3-401D-9E18-EF48C796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978-0339-4E6E-9465-CE6565C4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EA2-E9FD-4D32-AA7B-C005210B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AA3-8259-4F22-9CF5-A38F8612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09C-8822-4F73-852B-AAAB7AF4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62EF-45A2-4E36-B525-7E301E803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6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4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8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9:07Z</dcterms:created>
  <dc:creator>ds0929</dc:creator>
  <dc:description/>
  <dc:language>en-US</dc:language>
  <cp:lastModifiedBy>ds0929</cp:lastModifiedBy>
  <dcterms:modified xsi:type="dcterms:W3CDTF">2013-04-15T03:09:47Z</dcterms:modified>
  <cp:revision>1</cp:revision>
  <dc:subject/>
  <dc:title>Slide 1</dc:title>
</cp:coreProperties>
</file>