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C3F-2F3B-4FEE-922F-30D036E8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8BB-8A2D-4D47-A7F7-F2A1C433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A4A-129B-4108-922B-F674AFEE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4BC-92EF-4B6A-8287-C1E5A87A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F80-E103-45F2-96C5-C9BDA1DB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42D-7E24-4DE6-A890-EEB74CB6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75D-E3D6-4AF1-A662-537DF5E2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B2F-72CC-4725-9880-E289C13E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B47-C301-450E-A162-B381555D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137-9C59-4DB2-9D04-0902B116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8BF-0DAC-4A96-A69A-4B731D7B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E37-9DE0-4A4E-B4A7-C195EDE0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D21E-A491-4D21-B39D-ADB2C0EA39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20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5_U Kyaw Naing.mp3" descr=""/>
          <p:cNvPicPr/>
          <p:nvPr/>
        </p:nvPicPr>
        <p:blipFill>
          <a:blip r:embed="rId2"/>
          <a:stretch/>
        </p:blipFill>
        <p:spPr>
          <a:xfrm>
            <a:off x="2411280" y="2924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28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50:16Z</dcterms:created>
  <dc:creator>ds0929</dc:creator>
  <dc:description/>
  <dc:language>en-US</dc:language>
  <cp:lastModifiedBy>ds0929</cp:lastModifiedBy>
  <dcterms:modified xsi:type="dcterms:W3CDTF">2013-04-15T02:51:31Z</dcterms:modified>
  <cp:revision>1</cp:revision>
  <dc:subject/>
  <dc:title>Slide 1</dc:title>
</cp:coreProperties>
</file>