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866-D1E7-4C37-BF41-6C005D93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069-EB74-493A-87D6-D05C2F8E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EF2-268A-484C-BE70-EE2C7C07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F30-95CF-4A05-B78D-BE3CA517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05B3-43DE-46D1-A49B-69972F20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F8AD-21D3-4347-B779-24896E40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55F-A234-4AC4-8BC9-48F7DC13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C5C-EEC6-4384-B897-13C17011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C25-BF9C-4A97-B9A1-1C143DAD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18C-05C0-4A41-BEBB-BA661952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CB0-7118-4DFC-A7A1-F3AAB6E2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7FA-73B9-49FC-BC29-946E4682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14D4-0F73-4D9D-9473-95CC207690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11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20801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5:18:13Z</dcterms:created>
  <dc:creator>ds0929</dc:creator>
  <dc:description/>
  <dc:language>en-US</dc:language>
  <cp:lastModifiedBy>ds0929</cp:lastModifiedBy>
  <dcterms:modified xsi:type="dcterms:W3CDTF">2013-04-07T05:18:55Z</dcterms:modified>
  <cp:revision>1</cp:revision>
  <dc:subject/>
  <dc:title>Slide 1</dc:title>
</cp:coreProperties>
</file>