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718-B17C-46D5-BDEC-12319928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BAE4-6753-4B83-8921-E816FDE3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DFC8-6BF8-4592-A1F9-ECBEE35C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D57-44FB-4304-B0DC-51F973C5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BCD-C967-44CC-9761-A69AF672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BDF-82AB-4054-A519-EEFFD434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8750-06E9-4F34-A571-3DD4A6EA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B0D-B489-48ED-9FB9-CCD3A2D7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99B-BDC5-4F9A-B0EF-BC2A34C3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313-BAB1-45A8-A206-DC2C47FA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F79-C843-4B4F-B35F-C2B6EC82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C68-6637-4B71-97B0-25B11698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ADCF-C803-46EE-B830-52300EDD05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19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4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745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5:09:31Z</dcterms:created>
  <dc:creator>ds0929</dc:creator>
  <dc:description/>
  <dc:language>en-US</dc:language>
  <cp:lastModifiedBy>ds0929</cp:lastModifiedBy>
  <dcterms:modified xsi:type="dcterms:W3CDTF">2013-04-07T05:10:12Z</dcterms:modified>
  <cp:revision>1</cp:revision>
  <dc:subject/>
  <dc:title>Slide 1</dc:title>
</cp:coreProperties>
</file>