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4D1-76A7-401F-B783-3A4BF98D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B5A-2525-4E5C-8A73-1541BB8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34A-9CE4-4DDA-A34F-A3B105C2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2E7-659A-4213-A63F-233690B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044-FCE3-41D7-9311-32B0B0F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1BF-0083-43DD-8A5B-F4DE4414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CD5-90DC-4AD8-80D3-0F25DB1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F69-CFAA-4449-BDF7-C343379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0F6-8FED-402C-A898-5AF89F2C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3E2-1929-4C03-A7EB-AF872DE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B66-EED8-4489-A550-873D273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CF5-F83D-4D53-AAAA-B2DB4BB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F9A-AB0F-4E7B-ACA3-BFACD2EB0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6156360" y="1268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6:12Z</dcterms:created>
  <dc:creator>ds0929</dc:creator>
  <dc:description/>
  <dc:language>en-US</dc:language>
  <cp:lastModifiedBy>ds0929</cp:lastModifiedBy>
  <dcterms:modified xsi:type="dcterms:W3CDTF">2013-04-15T02:37:04Z</dcterms:modified>
  <cp:revision>1</cp:revision>
  <dc:subject/>
  <dc:title>Slide 1</dc:title>
</cp:coreProperties>
</file>