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ABF6-0902-4395-B24A-E3AA081B7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7067-E8AD-40B7-BAD8-07A2A800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3D4C-429F-4B00-826B-C5AB8E50C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2B76-441A-45F9-A477-FEC3DD753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ED8D-7408-4CBD-82D2-5612EA30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F9DF-7E29-4E2F-B094-2F833869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AE0F-5CB2-4DFB-A794-A0C35DB3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F53B-6AD1-42FD-9E1F-C58CD94B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E588-D15B-4798-9F48-7FF4E1FA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F092-77CB-4340-9D21-5C9A944C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7E2B-8051-4106-B778-F5301E28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62CF-5758-4B60-B7B9-51983A3C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3E4E-5D7B-4290-81DC-E754D029F7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94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0_U Kyaw Naing.mp3" descr=""/>
          <p:cNvPicPr/>
          <p:nvPr/>
        </p:nvPicPr>
        <p:blipFill>
          <a:blip r:embed="rId2"/>
          <a:stretch/>
        </p:blipFill>
        <p:spPr>
          <a:xfrm>
            <a:off x="5651640" y="3068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028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2:38:12Z</dcterms:created>
  <dc:creator>ds0929</dc:creator>
  <dc:description/>
  <dc:language>en-US</dc:language>
  <cp:lastModifiedBy>ds0929</cp:lastModifiedBy>
  <dcterms:modified xsi:type="dcterms:W3CDTF">2013-04-15T02:40:23Z</dcterms:modified>
  <cp:revision>1</cp:revision>
  <dc:subject/>
  <dc:title>Slide 1</dc:title>
</cp:coreProperties>
</file>