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1B3-ABAD-4318-8A67-8246BBA2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3F7-9948-431F-81D4-50B4C3E8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4F6-183E-4965-B4A2-3ED37D8B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81D-9B1D-4B62-A252-D256C2D1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85A-2E4B-4055-88F8-CF4A876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0E0-788F-4709-B879-3D5A2D48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2D6-C01B-4F47-B9EF-9F89B52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23F-8E43-4200-96C4-0EC14392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BF3-F7A4-4CB6-BA55-671B3DD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D42-F2ED-4094-A4C0-A4A1D07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6F4-396B-4EC7-B4D6-02ADB19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F77-09C5-4827-A3BE-75779F0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885-D2CF-4185-804D-FA378D9A4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5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50:17Z</dcterms:created>
  <dc:creator>ds0929</dc:creator>
  <dc:description/>
  <dc:language>en-US</dc:language>
  <cp:lastModifiedBy>ds0929</cp:lastModifiedBy>
  <dcterms:modified xsi:type="dcterms:W3CDTF">2013-04-13T08:51:16Z</dcterms:modified>
  <cp:revision>1</cp:revision>
  <dc:subject/>
  <dc:title>Slide 1</dc:title>
</cp:coreProperties>
</file>