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FDFF-4C82-4581-8D18-0C717AA0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6270-8CD2-45AE-933E-B4122818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DDC-CC5C-4F5E-B2B0-28BB1608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755A-2878-44EB-A3AA-DFF3D008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665-9966-4737-BFD1-FC1A6CAD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A1AF-62C3-49DD-9CCD-BB2CE535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570-E4C7-438C-A232-058913E4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492-D508-4C77-992D-E366874F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0E7-97C0-4D85-82E9-76A51057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307-472D-441F-B3E8-981B65E3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8197-D55B-4AF5-8F01-1D7A0A25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D81-6800-4DC3-8D6A-5D9E3386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8FFF-1F48-4AB6-82C7-282DA573B4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8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5_U Kyaw Naing.mp3" descr=""/>
          <p:cNvPicPr/>
          <p:nvPr/>
        </p:nvPicPr>
        <p:blipFill>
          <a:blip r:embed="rId2"/>
          <a:stretch/>
        </p:blipFill>
        <p:spPr>
          <a:xfrm>
            <a:off x="6012000" y="3357720"/>
            <a:ext cx="769680" cy="76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137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32:53Z</dcterms:created>
  <dc:creator>ds0929</dc:creator>
  <dc:description/>
  <dc:language>en-US</dc:language>
  <cp:lastModifiedBy>ds0929</cp:lastModifiedBy>
  <dcterms:modified xsi:type="dcterms:W3CDTF">2013-04-15T02:55:36Z</dcterms:modified>
  <cp:revision>2</cp:revision>
  <dc:subject/>
  <dc:title>Slide 1</dc:title>
</cp:coreProperties>
</file>