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32D-DDEE-456C-82CA-F42122A1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413-FADC-4292-8802-D7779C2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C51-90E0-4360-A3E7-B6860D3E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25A-CA26-4B6B-B31C-7959777C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2AC-F950-4D81-A34F-C91CA658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6B1-212B-4547-AD2A-85F7EA3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F14-B40C-4CB0-AF83-403F6469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C7D-BAEB-42EA-818C-DD58934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C72-913C-4879-B724-A1BCC619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777-7B71-4A14-9417-CBA811B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593-47C6-4216-9EA9-2F28C17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E3E-75C8-4579-A102-9A7B46D6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BD55-DA7F-489E-98F1-837FE523E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7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1:39Z</dcterms:created>
  <dc:creator>ds0929</dc:creator>
  <dc:description/>
  <dc:language>en-US</dc:language>
  <cp:lastModifiedBy>ds0929</cp:lastModifiedBy>
  <dcterms:modified xsi:type="dcterms:W3CDTF">2013-04-15T02:56:15Z</dcterms:modified>
  <cp:revision>2</cp:revision>
  <dc:subject/>
  <dc:title>Slide 1</dc:title>
</cp:coreProperties>
</file>