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8DF-19C5-439B-A7BB-B6286492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FF7-A72D-4ADE-BFF7-032927BB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B2C-EEC9-4CEF-8D01-23601172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3C5-5A81-4484-8A60-93A520BA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D63-DB1F-432E-88F3-9C15E397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4F4-308A-454A-8F6B-3F84F260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B64-1593-403A-9076-8B1BAE78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8D5-0DF2-40FA-BC07-3157F56C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D6C-D394-4958-933E-D8018A8C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ECC-052A-49A6-9937-A920514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8B2-36DD-4E1F-AEBB-B82C17D3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627-2212-4CF4-AE01-E4722425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8854-4AE0-4A56-8D85-CEFE788E3D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1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2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05:16Z</dcterms:created>
  <dc:creator>ds0929</dc:creator>
  <dc:description/>
  <dc:language>en-US</dc:language>
  <cp:lastModifiedBy>ds0929</cp:lastModifiedBy>
  <dcterms:modified xsi:type="dcterms:W3CDTF">2013-04-07T05:06:35Z</dcterms:modified>
  <cp:revision>1</cp:revision>
  <dc:subject/>
  <dc:title>Slide 1</dc:title>
</cp:coreProperties>
</file>