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5A06-016D-478B-8BE7-AA56BB9C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CC0-C88F-48D8-994E-D6F18710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C17C-6ECA-4173-97AD-5C30E41E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DD9-22ED-4FB7-88AD-04C935B4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44CE-0F5D-4DD0-936C-32307E2F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881-92E3-418E-B0A1-F39AC987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A44F-3F44-4FA4-B0A2-41CB700E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CF7E-2262-4118-A45E-23042DCA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FEA9-56A1-4EF5-8904-B175A386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04F7-25C5-4A21-8940-D970479A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D77-4B03-4CD9-BAAE-9DEC6C7C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0758-EC6B-4EEE-AA52-5D30B923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B897-1E75-4180-B680-9CBA718009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96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2_U Kyaw Naing.mp3" descr=""/>
          <p:cNvPicPr/>
          <p:nvPr/>
        </p:nvPicPr>
        <p:blipFill>
          <a:blip r:embed="rId2"/>
          <a:stretch/>
        </p:blipFill>
        <p:spPr>
          <a:xfrm>
            <a:off x="2556000" y="5445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92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41:33Z</dcterms:created>
  <dc:creator>ds0929</dc:creator>
  <dc:description/>
  <dc:language>en-US</dc:language>
  <cp:lastModifiedBy>ds0929</cp:lastModifiedBy>
  <dcterms:modified xsi:type="dcterms:W3CDTF">2013-04-15T02:54:58Z</dcterms:modified>
  <cp:revision>2</cp:revision>
  <dc:subject/>
  <dc:title>Slide 1</dc:title>
</cp:coreProperties>
</file>