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B64-8601-498A-8E12-7C8746B3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32E-8106-472A-916D-783CF1EF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FC4-68C0-42F4-8217-3469A102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951-82D9-4B39-B06D-E7D148D7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704-B742-4869-8FFD-D94C5B26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A8A-786F-4939-9FC1-68589A9E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FFA-407B-4646-A462-3BFD2B83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1E32-89F9-4F5B-B0F5-389841EE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D03-75C5-473F-8916-58998480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AC8-C165-49E6-8A3F-3E6A5E1C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495-B77E-452C-9D53-FB992C65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165-F998-4D8D-A4A0-4B5D12EC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58DC-6A78-4651-8D1C-657B93032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208014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2_A_00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11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30:31Z</dcterms:created>
  <dc:creator>ds0929</dc:creator>
  <dc:description/>
  <dc:language>en-US</dc:language>
  <cp:lastModifiedBy>ds0929</cp:lastModifiedBy>
  <dcterms:modified xsi:type="dcterms:W3CDTF">2013-04-13T09:37:07Z</dcterms:modified>
  <cp:revision>7</cp:revision>
  <dc:subject/>
  <dc:title>Slide 1</dc:title>
</cp:coreProperties>
</file>