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4F13-CC7E-4793-A9F9-FA2CECF2F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7845-9373-454A-A3B1-881A99A3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2036-C09B-40AF-9575-66A2EBBC3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3B46-31F4-47D0-8FBD-E8BC06161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5867-B77A-44F9-9F33-F8B333C8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63E4-2F41-4A81-8F69-180F33AC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6867-EF19-4542-B499-3F530404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9B8E-6EC6-47C9-BBEC-5D7D38A4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66C6-87F0-4043-BA3C-BDAC6C09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FD3C-E2D6-4CFD-B494-BF7FD8A2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82E7-9F1C-41B4-B468-6695F0A3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BBFA-430F-4918-83F7-C4740053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EF74-B431-413F-BB4E-28144F71E7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2080121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5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564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05:11:28Z</dcterms:created>
  <dc:creator>ds0929</dc:creator>
  <dc:description/>
  <dc:language>en-US</dc:language>
  <cp:lastModifiedBy>ds0929</cp:lastModifiedBy>
  <dcterms:modified xsi:type="dcterms:W3CDTF">2013-04-07T05:12:10Z</dcterms:modified>
  <cp:revision>1</cp:revision>
  <dc:subject/>
  <dc:title>Slide 1</dc:title>
</cp:coreProperties>
</file>