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26B-211B-45F7-B619-EF7A67DD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650-45C3-4A80-B159-FE5F0546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9DF-51BE-448B-8176-56E17F72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E4B-FC62-4651-B5F2-F28B0AB6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F14-AA03-4318-9C0A-FCB0A573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443-56B6-4257-A0E9-DB3F833D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F21-AEB0-4EB9-A178-41F0D700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432-5256-4B3C-9EF5-A16F0982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D97-17E6-4EDF-879C-B3E588A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5BA-C876-4A41-BBA4-9202126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9FC-CB6D-4FA8-AD44-A9B63C0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E37-9AB1-422F-A4DF-4DAF44F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BBE-9430-4588-9CA4-6E5B63D01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10:27Z</dcterms:created>
  <dc:creator>ds0929</dc:creator>
  <dc:description/>
  <dc:language>en-US</dc:language>
  <cp:lastModifiedBy>ds0929</cp:lastModifiedBy>
  <dcterms:modified xsi:type="dcterms:W3CDTF">2013-04-13T09:13:54Z</dcterms:modified>
  <cp:revision>1</cp:revision>
  <dc:subject/>
  <dc:title>Slide 1</dc:title>
</cp:coreProperties>
</file>