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FDC-33E5-4E1B-8720-E5B646EA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AA0-9C52-4097-8EB4-4715BA98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2E7-2E6B-4EB4-8FF1-65415105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D47-63A1-4A1E-81E4-EB6E7C05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EC3-5223-4800-8E27-57A3719D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315-5F02-4AFC-864F-8FD97AC8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F7D-6867-4E49-A09F-028CB951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391-1027-4EC1-AB5F-E0821159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D7E-6D2A-43AC-B3C8-33696465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BA0-51FE-4849-B578-EEEFC2BF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86D-9487-4A10-9A00-1333E52F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0FD-D3D5-4E52-8484-FEA928CA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0C6A-CA51-4074-9DF5-066EDE8323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118063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32_U Kyaw Naing.mp3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71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3:02:16Z</dcterms:created>
  <dc:creator>ds0929</dc:creator>
  <dc:description/>
  <dc:language>en-US</dc:language>
  <cp:lastModifiedBy>ds0929</cp:lastModifiedBy>
  <dcterms:modified xsi:type="dcterms:W3CDTF">2013-04-15T03:03:30Z</dcterms:modified>
  <cp:revision>1</cp:revision>
  <dc:subject/>
  <dc:title>Slide 1</dc:title>
</cp:coreProperties>
</file>