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26A4-1617-4920-BF89-0FD275F9F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0D4E-44F5-4B70-9C2A-6906C0FF3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B4C6-7C4F-4E76-B522-542D4CC61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21B0-CD2D-44AE-B9C8-EDEC4E563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B267-45D5-47A2-86BE-A7E2EE8A5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CCAA-9366-4118-BDFC-E42414CD7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99C3-C639-4C51-846B-DC3A774BF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586F-37B4-4567-883D-9F3D07666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B1DE-5EC4-4F5B-8548-4379A7470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19F9-8E0C-487D-BF8A-9A543FA4D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AE6C-F347-40D8-94BF-BC9E1F07D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ED1F-C257-49D4-B2DB-843463C44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BC6D3-76BD-44CF-968F-20C65F694F4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2080184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12_U Kyaw Naing.mp3" descr=""/>
          <p:cNvPicPr/>
          <p:nvPr/>
        </p:nvPicPr>
        <p:blipFill>
          <a:blip r:embed="rId2"/>
          <a:stretch/>
        </p:blipFill>
        <p:spPr>
          <a:xfrm>
            <a:off x="2771640" y="39337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4752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5T02:30:16Z</dcterms:created>
  <dc:creator>ds0929</dc:creator>
  <dc:description/>
  <dc:language>en-US</dc:language>
  <cp:lastModifiedBy>ds0929</cp:lastModifiedBy>
  <dcterms:modified xsi:type="dcterms:W3CDTF">2013-04-15T02:30:55Z</dcterms:modified>
  <cp:revision>1</cp:revision>
  <dc:subject/>
  <dc:title>Slide 1</dc:title>
</cp:coreProperties>
</file>