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6ED-237C-4EB9-9FA2-AACAE952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39B-B189-44BC-AA3F-7B10E68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AB1-F36A-423D-9833-A92F11EA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E0E-5C85-4A4E-AAC1-F0BECFEC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31A-A3F7-48B7-A647-5EF072A7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A8F-F809-4BEF-A075-94B16CC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EFE-C4B6-4824-B5DB-14515F95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C51-FDD3-4D85-971D-E249695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F74-E287-4520-ABF1-9D00BBF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B69-7085-4104-B78C-62271CE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B8C-F107-4429-B365-3E2B44A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154-FE8F-451C-881A-C7224BB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EEA-F5FF-4125-876D-D690F77CB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208013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5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27:04Z</dcterms:created>
  <dc:creator>ds0929</dc:creator>
  <dc:description/>
  <dc:language>en-US</dc:language>
  <cp:lastModifiedBy>ds0929</cp:lastModifiedBy>
  <dcterms:modified xsi:type="dcterms:W3CDTF">2013-04-13T08:29:05Z</dcterms:modified>
  <cp:revision>1</cp:revision>
  <dc:subject/>
  <dc:title>Slide 1</dc:title>
</cp:coreProperties>
</file>