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153-40CB-422C-A85C-AB08A25F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90C-F0B0-49D1-9C73-7707DFA2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EA5-1652-4A1E-B60B-8F1CD8E6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014-D1D1-46CB-BF74-2DE63FE0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C13-D4F0-4DFE-80C7-553AD2DD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957-8BDE-4BAD-93F4-293B3DFB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A44-42ED-4E47-B18B-D5D91F8E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9CF-CB91-4C44-9583-A435A9BE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5C3-5925-4427-8EF7-6B4E0FDA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E45-3DCA-4E14-A1E5-495C277C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8C3-B212-4DA2-89DA-C9EC7343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23D-8867-4F32-A5E7-E798D0A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DA02-C08B-4C32-A90D-04075D55EA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P208011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24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06:53Z</dcterms:created>
  <dc:creator>ds0929</dc:creator>
  <dc:description/>
  <dc:language>en-US</dc:language>
  <cp:lastModifiedBy>ds0929</cp:lastModifiedBy>
  <dcterms:modified xsi:type="dcterms:W3CDTF">2013-04-07T05:08:21Z</dcterms:modified>
  <cp:revision>1</cp:revision>
  <dc:subject/>
  <dc:title>Slide 1</dc:title>
</cp:coreProperties>
</file>