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ACCA-F3B2-4BC8-8541-10E9D863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B55-8BE6-43B3-89F6-1F70C8C6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6CC-50D0-4410-9FD6-D6463EB4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7CE-416A-4B46-8087-C40552CD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C5BB-D0BC-4CC0-A14B-69A40628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156-9A11-41D2-8D5E-AFA55F3D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4DE-DE14-4E7D-B0DF-57B91462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AD4-4F8D-44D9-AFCF-FA5E3041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C43-F901-4D6A-A367-83C46AD2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2A6-1CFE-4606-A379-EBBCE222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296-466F-4CAE-8F67-5DE7D17D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7E8-BF21-42D1-84C5-8D3ABE42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A7A4-880F-4E60-9367-ADF516CCDE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8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0_U Kyaw Naing.mp3" descr=""/>
          <p:cNvPicPr/>
          <p:nvPr/>
        </p:nvPicPr>
        <p:blipFill>
          <a:blip r:embed="rId2"/>
          <a:stretch/>
        </p:blipFill>
        <p:spPr>
          <a:xfrm>
            <a:off x="2700360" y="162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78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28:17Z</dcterms:created>
  <dc:creator>ds0929</dc:creator>
  <dc:description/>
  <dc:language>en-US</dc:language>
  <cp:lastModifiedBy>ds0929</cp:lastModifiedBy>
  <dcterms:modified xsi:type="dcterms:W3CDTF">2013-04-15T02:29:09Z</dcterms:modified>
  <cp:revision>1</cp:revision>
  <dc:subject/>
  <dc:title>Slide 1</dc:title>
</cp:coreProperties>
</file>