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3E7-EDC7-46E0-928F-779A2D5B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5FE-7E62-4F90-9711-382B58FA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8A6-3AB3-444E-BC98-9717C607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9F5-F97C-47BE-B53A-0C6ED2ED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D5D-9778-4DF2-8E52-BD877B41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F8B-766B-4682-B866-AA284214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23E-41E3-439F-8DAB-8800AF77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53E-48A5-4F21-AB39-28CA1405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FB5-FF4A-4CB8-A6B2-2B041713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566-AD98-450A-85E6-C58A625A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5AD-C450-4B46-8BBF-E66CE743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33D-07AE-44E7-A619-67B32A8E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7354-F672-4416-A151-8319AF4621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208016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2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77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29:39Z</dcterms:created>
  <dc:creator>ds0929</dc:creator>
  <dc:description/>
  <dc:language>en-US</dc:language>
  <cp:lastModifiedBy>ds0929</cp:lastModifiedBy>
  <dcterms:modified xsi:type="dcterms:W3CDTF">2013-04-13T09:30:58Z</dcterms:modified>
  <cp:revision>1</cp:revision>
  <dc:subject/>
  <dc:title>Slide 1</dc:title>
</cp:coreProperties>
</file>