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B8F-7BC3-479A-99CF-EB898D15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3A5-039E-4CD1-9DE7-76C3B776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F2A-A6B0-4531-930F-CAF95D5A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1A4-C794-4993-9323-ACF145A5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3F2-350D-4746-B123-ED0EB79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BE3-54C8-490D-901D-E7891777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25C-7584-4256-A5CB-571A781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22B-AB00-4B37-A7FA-FFCAD656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425-1FAB-431F-B68C-8F705906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5FA-0288-4266-BD7F-018BAF6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2C8-313F-41FD-ADC1-B0CC1147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2D1-550A-4BE5-BA36-E531784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A9A6-A593-4542-96A7-48D824D28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5:07Z</dcterms:created>
  <dc:creator>ds0929</dc:creator>
  <dc:description/>
  <dc:language>en-US</dc:language>
  <cp:lastModifiedBy>ds0929</cp:lastModifiedBy>
  <dcterms:modified xsi:type="dcterms:W3CDTF">2013-04-13T09:26:58Z</dcterms:modified>
  <cp:revision>1</cp:revision>
  <dc:subject/>
  <dc:title>Slide 1</dc:title>
</cp:coreProperties>
</file>