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6DE-7E35-4B7C-8625-5325AC70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CA3-BE1A-47D8-A781-613269E0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EEE-ABFE-4B2A-9F49-0847CF59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D2E-229D-4FC5-8DB4-3C288EFE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D9D-B8F1-4E97-8251-48D853B3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7C5-3073-40D9-BB9B-A620971F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732-3042-4029-BF9B-FCAB9029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BF9-21F6-4C97-A9DD-A55042A7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251-30A3-4C82-9AEE-4A3C424E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117-5CD5-40BB-8326-9DBF68C4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C81-9F2B-4C58-8A48-0BB25CBC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AB7-5334-421A-9B39-A8CC8140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0903-5754-4A42-95F4-52D3E4F203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7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1_U Kyaw Naing.mp3" descr=""/>
          <p:cNvPicPr/>
          <p:nvPr/>
        </p:nvPicPr>
        <p:blipFill>
          <a:blip r:embed="rId2"/>
          <a:stretch/>
        </p:blipFill>
        <p:spPr>
          <a:xfrm>
            <a:off x="5796000" y="321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9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14:58Z</dcterms:created>
  <dc:creator>ds0929</dc:creator>
  <dc:description/>
  <dc:language>en-US</dc:language>
  <cp:lastModifiedBy>ds0929</cp:lastModifiedBy>
  <dcterms:modified xsi:type="dcterms:W3CDTF">2013-04-15T02:56:35Z</dcterms:modified>
  <cp:revision>3</cp:revision>
  <dc:subject/>
  <dc:title>Slide 1</dc:title>
</cp:coreProperties>
</file>