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89A-9C1F-4079-99B5-E435E494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313-D8F2-487C-8A9C-4A0D6CED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07D-7BED-46E2-8057-F5919578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DCD-EB3D-4667-B693-B6A5514A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F85-6AC2-420B-9630-64FEF1F4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1AB6-9A03-4B7A-9060-F9A156F2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289-2F7D-4722-8DC9-00A7D67F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BE7-99A0-4B01-8DDF-754E6822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705-E3C2-471D-8F9A-2CDBC272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34B-25F2-4438-9FAF-FE92BBC5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3DE-8D99-4B89-8FD7-86674D39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C1B-4300-4F57-9A5F-C391E6DD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5989-4747-477A-987A-E69701D614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9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8_U Kyaw Naing.mp3" descr=""/>
          <p:cNvPicPr/>
          <p:nvPr/>
        </p:nvPicPr>
        <p:blipFill>
          <a:blip r:embed="rId2"/>
          <a:stretch/>
        </p:blipFill>
        <p:spPr>
          <a:xfrm>
            <a:off x="2771640" y="5157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076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35:16Z</dcterms:created>
  <dc:creator>ds0929</dc:creator>
  <dc:description/>
  <dc:language>en-US</dc:language>
  <cp:lastModifiedBy>ds0929</cp:lastModifiedBy>
  <dcterms:modified xsi:type="dcterms:W3CDTF">2013-04-15T02:36:01Z</dcterms:modified>
  <cp:revision>1</cp:revision>
  <dc:subject/>
  <dc:title>Slide 1</dc:title>
</cp:coreProperties>
</file>