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52E-8257-4971-9C71-1889D72B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348-4753-4616-8C30-4460487F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4F9-08DA-4F2B-9999-3A7435C2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C30-A18A-4F65-B687-F1250ED1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51D-4949-4254-BC36-A4E4CBF1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0DE-0035-4005-AFB9-854AB810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CF2-FC3C-46FC-BE62-F2AAD49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990-8706-4D1A-A0E2-5A298F7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7FE-FE93-4FED-99E2-F74D1920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90A-F7C3-4FF8-AAC7-CFE7B21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04C-1D09-4417-A45E-F5D9B8E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9EE-1EF4-4CDC-ABC8-E1BD1E7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B71-0A3C-46C7-9431-308AB4EBF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63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1_U Kyaw Naing.mp3" descr=""/>
          <p:cNvPicPr/>
          <p:nvPr/>
        </p:nvPicPr>
        <p:blipFill>
          <a:blip r:embed="rId2"/>
          <a:stretch/>
        </p:blipFill>
        <p:spPr>
          <a:xfrm>
            <a:off x="6227640" y="29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0:46Z</dcterms:created>
  <dc:creator>ds0929</dc:creator>
  <dc:description/>
  <dc:language>en-US</dc:language>
  <cp:lastModifiedBy>ds0929</cp:lastModifiedBy>
  <dcterms:modified xsi:type="dcterms:W3CDTF">2013-04-15T03:02:08Z</dcterms:modified>
  <cp:revision>1</cp:revision>
  <dc:subject/>
  <dc:title>Slide 1</dc:title>
</cp:coreProperties>
</file>