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522-D837-45D1-83D2-D50BB74A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4DC-D7FB-41BF-855B-2AD03876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12C-D8E6-42BD-A47A-88892224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AF3-3BD1-4CBB-8763-1E0FF0C2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A30-78FF-4AEF-9A82-91711E74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102-4E52-4F4B-B1E8-83420D91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CED-CC01-4203-840F-7A59309B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02E-2E73-4001-9D6E-837B76B5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C76-9FCB-496E-BD7D-67E3AF96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F0A-FD7E-4187-B325-9AEFD421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6DF-DD99-48CA-B060-8FF22F20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D18-7F6D-4877-8F9E-DEDB58D7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2EE3-BD51-49E8-8C56-1FF956FBC1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8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4_U Kyaw Naing.mp3" descr=""/>
          <p:cNvPicPr/>
          <p:nvPr/>
        </p:nvPicPr>
        <p:blipFill>
          <a:blip r:embed="rId2"/>
          <a:stretch/>
        </p:blipFill>
        <p:spPr>
          <a:xfrm>
            <a:off x="2340000" y="422100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4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32:10Z</dcterms:created>
  <dc:creator>ds0929</dc:creator>
  <dc:description/>
  <dc:language>en-US</dc:language>
  <cp:lastModifiedBy>ds0929</cp:lastModifiedBy>
  <dcterms:modified xsi:type="dcterms:W3CDTF">2013-04-15T02:55:42Z</dcterms:modified>
  <cp:revision>2</cp:revision>
  <dc:subject/>
  <dc:title>Slide 1</dc:title>
</cp:coreProperties>
</file>