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C36-856D-4760-B95F-B616AFA9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DCE-EBD1-4572-AD76-9F784DF3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DBE-6D94-4F21-BE0C-24955FAE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BCD-7771-421F-9819-656B1643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D2B-13EF-4974-9572-D889347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3AC-762D-417E-91E5-F7498D2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D75-5F68-4BBE-B980-AE95557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101-46AE-46A3-8151-9A70FB2A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BE2-63D5-415B-A5CB-6DF666A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9AD-091D-4111-985A-42D89F8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22E-4732-4121-B0AF-C3A881A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179-635C-4465-BEE5-2D6A0FD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86EE-23BA-404A-A264-16B38B8336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7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7_U Kyaw Naing.mp3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1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5:28Z</dcterms:created>
  <dc:creator>ds0929</dc:creator>
  <dc:description/>
  <dc:language>en-US</dc:language>
  <cp:lastModifiedBy>ds0929</cp:lastModifiedBy>
  <dcterms:modified xsi:type="dcterms:W3CDTF">2013-04-15T02:26:22Z</dcterms:modified>
  <cp:revision>1</cp:revision>
  <dc:subject/>
  <dc:title>Slide 1</dc:title>
</cp:coreProperties>
</file>