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B0AA-89AA-42EF-969F-19F4FFD17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67FF-C9C4-4DDD-9AA1-56D677B4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5D26-B804-4CDB-BA7E-8D5AC2C8C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F52F-F155-4345-B426-9118ED0AA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D9B3-8067-45EE-BC40-5F295A78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12AB-2D3B-4191-8827-5605EE79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2C54-7CD3-4934-98CA-693BBE43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C887-F0F2-4DEF-8856-B76307E4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F6B4-87A8-4D58-9F07-1AC654D0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32A7-649B-41C3-AFF0-D934A6F8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76EC-E985-4239-8F35-31EB7FF9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70E0-103F-4346-9B80-4D2D129E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D81D-A4B1-40C6-B14E-75D005E576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137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5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161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08:23:23Z</dcterms:created>
  <dc:creator>ds0929</dc:creator>
  <dc:description/>
  <dc:language>en-US</dc:language>
  <cp:lastModifiedBy>ds0929</cp:lastModifiedBy>
  <dcterms:modified xsi:type="dcterms:W3CDTF">2013-04-13T08:24:08Z</dcterms:modified>
  <cp:revision>1</cp:revision>
  <dc:subject/>
  <dc:title>Slide 1</dc:title>
</cp:coreProperties>
</file>