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39F-4FA7-440D-90FB-BDA35E71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6DC-3EDB-4488-AB4B-EF420048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1F4D-74F7-4CDB-A304-4AE5F170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4890-CD9E-48A2-81CE-B2D7A5C7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AA0F-88F2-44F7-9F82-944662E7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8AD1-A2B1-4ACD-B83B-E499FB02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49B8-F319-4ABD-97B9-2D3D1C76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A16-E14A-466B-BCA1-8DBA5116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1F5-BE74-4419-8C6F-CF15DBF3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6A9-40CE-4CD5-8AEA-C8B81AA1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642-52B9-4A38-80F3-38EC514C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428-7F1E-4F08-AFF2-B725BAFE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78C4-86BD-4B6F-9CA5-73929EBA12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2080110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7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793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5:00:33Z</dcterms:created>
  <dc:creator>ds0929</dc:creator>
  <dc:description/>
  <dc:language>en-US</dc:language>
  <cp:lastModifiedBy>ds0929</cp:lastModifiedBy>
  <dcterms:modified xsi:type="dcterms:W3CDTF">2013-04-07T05:01:26Z</dcterms:modified>
  <cp:revision>1</cp:revision>
  <dc:subject/>
  <dc:title>Slide 1</dc:title>
</cp:coreProperties>
</file>