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179-79E0-4F0D-89F1-A688579A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D7F-4973-4872-805B-B0E462E0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F98-A9E8-414E-A3C0-F86BD5D4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444-94D5-4C97-9A6B-444E352C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B52-E5CA-4548-AD6A-BBA2A80A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03E-3203-4720-80F4-1AA4FF4F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D78-F49C-44D6-865E-D1D80933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73B-392D-458D-AB94-62584A83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850F-C83A-430E-8E05-DC5A2126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6790-C61A-4E83-AA1A-9AEFA000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E29-51B9-4ED2-838C-E33249CC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935D-6833-4798-8679-E2013748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FED6-EC96-4196-AA1B-D089891325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62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9_U Kyaw Naing.mp3" descr=""/>
          <p:cNvPicPr/>
          <p:nvPr/>
        </p:nvPicPr>
        <p:blipFill>
          <a:blip r:embed="rId2"/>
          <a:stretch/>
        </p:blipFill>
        <p:spPr>
          <a:xfrm>
            <a:off x="6588000" y="263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61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58:57Z</dcterms:created>
  <dc:creator>ds0929</dc:creator>
  <dc:description/>
  <dc:language>en-US</dc:language>
  <cp:lastModifiedBy>ds0929</cp:lastModifiedBy>
  <dcterms:modified xsi:type="dcterms:W3CDTF">2013-04-15T02:59:50Z</dcterms:modified>
  <cp:revision>1</cp:revision>
  <dc:subject/>
  <dc:title>Slide 1</dc:title>
</cp:coreProperties>
</file>