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7BA-C01C-4647-8BD6-1FC8AA5C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EA12-E1AE-42B3-AFBA-58619D23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7C4-3431-470A-A7B3-FC37C166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F1C-5652-413D-864A-8E1F0D44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FC2-2AA6-4A27-BD01-BEF94504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363-A79B-4A92-9590-B3BE87BC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581-D327-43C3-AB51-DD64C5DA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EE2-1EDD-422F-9C8C-5DF07F94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927-32A0-4C39-87F1-148EBA3D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670-30F1-4D17-ABBF-741FE3BB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CCC1-5DAA-4FD6-B3BC-EFB5EDB5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C13-01D0-4A08-ABF7-F09EC382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E880-A17C-48AB-B4A4-963A4E7DD4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7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2_U Kyaw Naing.mp3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5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18:34Z</dcterms:created>
  <dc:creator>ds0929</dc:creator>
  <dc:description/>
  <dc:language>en-US</dc:language>
  <cp:lastModifiedBy>ds0929</cp:lastModifiedBy>
  <dcterms:modified xsi:type="dcterms:W3CDTF">2013-04-15T02:56:29Z</dcterms:modified>
  <cp:revision>2</cp:revision>
  <dc:subject/>
  <dc:title>Slide 1</dc:title>
</cp:coreProperties>
</file>