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7C90-838F-4F0D-A0C0-6A65ED41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0018-607A-4013-80D3-653765DA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57F2-D0EE-4EF0-AFB7-F8E839C0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A00F-EE60-4A03-BFBC-7A537C61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2CCF-2AC8-4C6F-843B-A74F032E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E190-0D75-4C69-ABB5-0FD43CDB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6328-D787-44BD-8AF9-43951811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BE78-44A0-4ED8-A367-45292E7C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6206-1848-4C48-8DB2-0EFD15E3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D9FB-6280-487D-8EC6-63AB626F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BA0A-4469-408E-A561-F924CD25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FBF3-D367-4429-BD1D-E70DFCAE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325D-8194-469D-8F92-E163712190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2080125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5:14:56Z</dcterms:created>
  <dc:creator>ds0929</dc:creator>
  <dc:description/>
  <dc:language>en-US</dc:language>
  <cp:lastModifiedBy>ds0929</cp:lastModifiedBy>
  <dcterms:modified xsi:type="dcterms:W3CDTF">2013-04-07T05:15:32Z</dcterms:modified>
  <cp:revision>1</cp:revision>
  <dc:subject/>
  <dc:title>Slide 1</dc:title>
</cp:coreProperties>
</file>