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B235-E988-404B-94CE-A34CD5535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8F9E-C2D2-4172-9FF4-E2C99F19F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6F6A-4F4E-44EA-B243-A64B0155A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0952-DB67-4685-A62E-255E7DC59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A221-02AE-4158-8884-688282342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D141-89C9-426C-9E42-781D58804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9161-275C-4299-A58B-C67BDCF95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5C68-44AA-409B-B6DD-05C6FEEC5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DDBB-4010-463F-BD0A-B43F19FB0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CA39-F21F-4007-A867-D333E0AB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96F7-99EA-4430-99AD-624A1CCE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BBD6-C33C-4D3E-9645-1A5652D52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CD73A-B39D-42C2-90DF-ECD60C49BBE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2080152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2_A_008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02432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3T08:52:14Z</dcterms:created>
  <dc:creator>ds0929</dc:creator>
  <dc:description/>
  <dc:language>en-US</dc:language>
  <cp:lastModifiedBy>ds0929</cp:lastModifiedBy>
  <dcterms:modified xsi:type="dcterms:W3CDTF">2013-04-13T09:08:22Z</dcterms:modified>
  <cp:revision>1</cp:revision>
  <dc:subject/>
  <dc:title>Slide 1</dc:title>
</cp:coreProperties>
</file>