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FB04-69B4-4D65-9D3C-1ED71D2E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4C83-B44A-4BEF-8031-0D16CC20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4015-6D38-4C97-AB78-3FE40D3E4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89C0-0607-479B-A989-4D464A431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CF57-F83E-4546-A4B9-39361B69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9000-4F20-46E5-9B2E-9FBA9EA2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3146-D493-491B-89EB-F0060F5A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C797-3616-4B1B-A9C6-2DA55C34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6ED7-A576-44E7-8FAF-143A8046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A7D5-D110-45EB-9738-40674A0A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9E3B-4F44-4875-819D-CE67C817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E7E9-26F1-4C73-90C7-5214A2EB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7CE6-6DF2-4055-B274-40EABF203F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60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2_A_015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745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9:23:11Z</dcterms:created>
  <dc:creator>ds0929</dc:creator>
  <dc:description/>
  <dc:language>en-US</dc:language>
  <cp:lastModifiedBy>ds0929</cp:lastModifiedBy>
  <dcterms:modified xsi:type="dcterms:W3CDTF">2013-04-13T09:24:09Z</dcterms:modified>
  <cp:revision>1</cp:revision>
  <dc:subject/>
  <dc:title>Slide 1</dc:title>
</cp:coreProperties>
</file>