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A3C9-A354-4C6D-A260-2E45F02B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BE61-04FC-45D2-B163-37986ACE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4CAC-7363-484F-82E7-BA3A302FF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176A-0F14-4E5F-B692-CFA3DFF7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49B9-54F7-43CA-80EE-56808017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79B3-3343-401D-AE78-FFEB21EF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5771-70DA-4402-893C-8E550C5F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DFF8-A6D0-4309-ADE6-29ECC697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EC66-95B1-4E1C-B0A8-8D2D90EE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E77D-BBE5-478E-8B3D-4ED3D6A1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7D58-9734-48FE-BA05-BE355EED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C288-9B4A-4F39-BEC8-333B83A8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7787-3789-47EC-BB70-299C3957BD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2080165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2_A_020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776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09:27:05Z</dcterms:created>
  <dc:creator>ds0929</dc:creator>
  <dc:description/>
  <dc:language>en-US</dc:language>
  <cp:lastModifiedBy>ds0929</cp:lastModifiedBy>
  <dcterms:modified xsi:type="dcterms:W3CDTF">2013-04-13T09:28:40Z</dcterms:modified>
  <cp:revision>1</cp:revision>
  <dc:subject/>
  <dc:title>Slide 1</dc:title>
</cp:coreProperties>
</file>