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FFA-4134-4DFE-8607-5EBC3230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D441-7B5A-414D-9FE9-7A802C1A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CF0-442D-4674-B014-D6C21D02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0F9-1D2A-4813-B390-331E5D1D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64F-9467-4938-B9E3-30CC3E6A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16A-06E9-4E58-9FAA-5FFFDB64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AF4-0C8D-4502-B611-1A7D3DF0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AA2D-9C5E-4EF1-8B78-D732D412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49F-CAE4-4F5B-ADDC-678E618B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4E6C-EDE7-46F6-8CD6-E8B291B3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13D-9133-4EC4-9E12-9BC49241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850-1270-4754-BD65-189F9400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6224-00EF-4089-8981-6FD1149919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5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8:51:21Z</dcterms:created>
  <dc:creator>ds0929</dc:creator>
  <dc:description/>
  <dc:language>en-US</dc:language>
  <cp:lastModifiedBy>ds0929</cp:lastModifiedBy>
  <dcterms:modified xsi:type="dcterms:W3CDTF">2013-04-13T09:36:47Z</dcterms:modified>
  <cp:revision>5</cp:revision>
  <dc:subject/>
  <dc:title>Slide 1</dc:title>
</cp:coreProperties>
</file>