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69C-344F-4692-AB05-4D996A0C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AF7-40A5-42F0-B2F5-94193AA7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75B-BA05-4DBA-A435-ED00D335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63C-ACB8-465C-A47D-4F359EDB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4B5-DE92-4CFF-A7C0-475D53A5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3ED-FE95-4FC8-ADD1-52EF6C08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50C-A1ED-41C7-A06E-94C4B118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9E3-0572-4469-BDF6-B6EA67C5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2AC4-28AC-4BAB-8332-3E1BDAFA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4AF-21E1-442D-8492-AEB74E2D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BDB-B1F6-429A-81B1-06A1FE62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09D-73B3-44BF-85EE-D99541C6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0D03-4A80-42A8-9CD2-D7BA0092E8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0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4:53:04Z</dcterms:created>
  <dc:creator>ds0929</dc:creator>
  <dc:description/>
  <dc:language>en-US</dc:language>
  <cp:lastModifiedBy>ds0929</cp:lastModifiedBy>
  <dcterms:modified xsi:type="dcterms:W3CDTF">2013-04-07T04:53:56Z</dcterms:modified>
  <cp:revision>1</cp:revision>
  <dc:subject/>
  <dc:title>Slide 1</dc:title>
</cp:coreProperties>
</file>