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D56-958B-436F-867F-68B22400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BBD-ECD3-44C1-8F07-3138E375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A4E-4CB7-4A2E-B6FC-E111704C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C78-0F97-49F9-84DF-18518456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509-160D-4F2F-95C8-CB5703EF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D63-36E9-46CE-97A6-D7BAE11B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35F-F8AC-4F1E-BFA6-06EDF383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028-EB27-469D-8A57-024EA0F5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ABC-AB52-44EB-9F09-524909AD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930-6944-4913-848A-BE911FA1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6B7-E537-4216-AB43-C026DD12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A6A-5E02-4215-A1EC-BA729902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A576-393C-44F3-9322-E1E32039D2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1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8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5:04:19Z</dcterms:created>
  <dc:creator>ds0929</dc:creator>
  <dc:description/>
  <dc:language>en-US</dc:language>
  <cp:lastModifiedBy>ds0929</cp:lastModifiedBy>
  <dcterms:modified xsi:type="dcterms:W3CDTF">2013-04-07T05:05:07Z</dcterms:modified>
  <cp:revision>1</cp:revision>
  <dc:subject/>
  <dc:title>Slide 1</dc:title>
</cp:coreProperties>
</file>