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F72-9DEC-4390-B45F-883CC80A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73E-F18E-4ECD-9743-B4B19576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332-613D-437E-B10B-8E44AFFB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A53-A1E2-4EDA-BD6B-D31DCE93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B69-91DD-4856-9936-C8FD165B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131-4DE8-49C2-A506-5FD2DD5D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1D0-4332-49EE-A771-74C9A710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579-AA57-4B46-94B6-04543465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CBA-A9EC-450E-8E4B-C2F574A7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72E-D5DD-4CBF-95A4-F6B34FC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D85-ECC8-47CC-ACF1-843C1654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316-5B5D-4D83-B0D0-795D214E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0DAF-F040-45FE-8A03-36E439E139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3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05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15:39Z</dcterms:created>
  <dc:creator>ds0929</dc:creator>
  <dc:description/>
  <dc:language>en-US</dc:language>
  <cp:lastModifiedBy>ds0929</cp:lastModifiedBy>
  <dcterms:modified xsi:type="dcterms:W3CDTF">2013-04-13T08:17:41Z</dcterms:modified>
  <cp:revision>1</cp:revision>
  <dc:subject/>
  <dc:title>Slide 1</dc:title>
</cp:coreProperties>
</file>