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C55-E33A-44B7-BB4D-0A22208B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429-D279-425F-9497-6C7DCE99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40D-2850-47BC-9843-A9428583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A5D-835A-4157-A48D-06907F22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226-1212-416B-BCCF-5C56D2C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081-3D5A-4C2A-B6BD-A7A5B7C6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78D-F6D6-4A56-BEF5-DB1E3F8E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618-5584-4F81-A27E-F369DE16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9B0-B43A-42FD-A0B8-1790EBE6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07E-C436-411B-8395-E21ADD0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967-E85A-4A2E-AFA0-64004DB7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C45-6618-4345-BB4F-9E3655A6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BB95-CC3D-4424-9189-846D3D2323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P208010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38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4:57:11Z</dcterms:created>
  <dc:creator>ds0929</dc:creator>
  <dc:description/>
  <dc:language>en-US</dc:language>
  <cp:lastModifiedBy>ds0929</cp:lastModifiedBy>
  <dcterms:modified xsi:type="dcterms:W3CDTF">2013-04-07T04:59:14Z</dcterms:modified>
  <cp:revision>1</cp:revision>
  <dc:subject/>
  <dc:title>Slide 1</dc:title>
</cp:coreProperties>
</file>