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978-F2BC-43CF-B102-0DF64CAC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541-0B03-466E-B9D6-72C9D5A9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758-29CE-4BE7-B843-EA4D0EDF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2C7-83B2-4A35-9E90-FEF46A1D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1C4-76AC-4ECB-855B-71423644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3B3-0593-4CE5-A98B-AA4F19D9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E99-E0DD-4117-AC0E-FCFF902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DDD-415E-4140-A186-D71AA3E4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AF5-E80E-4285-B63F-F42D4E21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142-30AA-4C94-AAF7-9F15E6C2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6E5-B260-4FCD-9ABB-34B4DC4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98F-89C1-49E7-AB29-C6AD4E8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169E-8FEA-45A9-BBB8-BB3DB73AC2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2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20801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32:24Z</dcterms:created>
  <dc:creator>ds0929</dc:creator>
  <dc:description/>
  <dc:language>en-US</dc:language>
  <cp:lastModifiedBy>ds0929</cp:lastModifiedBy>
  <dcterms:modified xsi:type="dcterms:W3CDTF">2013-04-13T09:33:39Z</dcterms:modified>
  <cp:revision>1</cp:revision>
  <dc:subject/>
  <dc:title>Slide 1</dc:title>
</cp:coreProperties>
</file>