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98C8-5169-44D8-9DBA-DE90308E9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47B7-2EF1-4D74-9DF2-400CD0515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8AF3-F65F-4284-97AA-65E3CCAD2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6DCC-28E9-4FD5-941E-8BB4DC0EF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84B0-5C45-43ED-ACB1-53065EF89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CB74-75AA-47C5-A744-292FB65F3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C338-E3A5-4B7D-9950-CA97F8AAC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08BC-BD08-4BE9-B497-01EAFB159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B5F3-6274-4440-B0A1-E84EAA638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CB92-FEC3-4B1E-AA51-F0DD9B710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881F-605E-4A16-8FB6-6601C2FDC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FFE3-B5A8-49C9-B375-D161EB9F4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BB4AC-E8B8-4670-BDB7-A5962BF69F8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P2080166.JPG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3T09:28:46Z</dcterms:created>
  <dc:creator>ds0929</dc:creator>
  <dc:description/>
  <dc:language>en-US</dc:language>
  <cp:lastModifiedBy>ds0929</cp:lastModifiedBy>
  <dcterms:modified xsi:type="dcterms:W3CDTF">2013-04-13T09:29:34Z</dcterms:modified>
  <cp:revision>1</cp:revision>
  <dc:subject/>
  <dc:title>Slide 1</dc:title>
</cp:coreProperties>
</file>