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598-F6A0-45A6-B200-A5F3159D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765-A808-45B4-9AEA-1F144F40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857-5E67-4A54-8512-714B500D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87F-A191-4C03-816F-652C9162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B44-16CD-44DA-8EBF-966509DD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154-9395-4B68-B50C-F37CB458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D70-6AF4-456B-B8F1-15BE7B28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B94-190A-41C8-951E-6272108F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7BE-5676-4CC9-A0A4-C069A8C3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8A6-159D-4D88-98FA-976E13AA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543-0CE5-4B6A-A563-457604CD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06C-29ED-4407-93EE-F725CEEE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9A1A-5202-4004-940F-812E936D35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63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5_U Kyaw Naing.mp3" descr=""/>
          <p:cNvPicPr/>
          <p:nvPr/>
        </p:nvPicPr>
        <p:blipFill>
          <a:blip r:embed="rId2"/>
          <a:stretch/>
        </p:blipFill>
        <p:spPr>
          <a:xfrm>
            <a:off x="6443640" y="2708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22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3:05:11Z</dcterms:created>
  <dc:creator>ds0929</dc:creator>
  <dc:description/>
  <dc:language>en-US</dc:language>
  <cp:lastModifiedBy>ds0929</cp:lastModifiedBy>
  <dcterms:modified xsi:type="dcterms:W3CDTF">2013-04-15T03:05:57Z</dcterms:modified>
  <cp:revision>1</cp:revision>
  <dc:subject/>
  <dc:title>Slide 1</dc:title>
</cp:coreProperties>
</file>