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1EF-BF5E-447A-BF15-78B7C078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14E-59B2-4FBE-AEE4-912BDA71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11BA-D191-42BF-A7B5-2A6A648C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DDB-912D-4969-9733-8AB263F8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F33-87C9-42DC-B6D1-A8555370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8B7E-0F8F-4CFD-B25E-D7A436D4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577-D43F-468A-93AB-3A963BC3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975-FE6B-43BB-9E0F-ED10C2ED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9201-C9AA-4274-B0B8-69530DAA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979B-C09A-4D6C-BE3D-6BF3DCD6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377B-2753-4A2A-A9C1-CE99619B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2654-6A98-4F93-821C-4CA444B4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DEFD-7D85-4731-B669-3EC964BD92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2080177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22:29Z</dcterms:created>
  <dc:creator>ds0929</dc:creator>
  <dc:description/>
  <dc:language>en-US</dc:language>
  <cp:lastModifiedBy>ds0929</cp:lastModifiedBy>
  <dcterms:modified xsi:type="dcterms:W3CDTF">2013-04-15T02:24:19Z</dcterms:modified>
  <cp:revision>1</cp:revision>
  <dc:subject/>
  <dc:title>Slide 1</dc:title>
</cp:coreProperties>
</file>