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A2C-F7F1-4086-8FCC-FB8DB5BE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F59F-549D-470B-BA60-58A1FF06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9C5-4D88-4162-BF91-AEA733BD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4AA-21E8-40AE-BB9E-690E4D37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7FF-EA9C-4B26-87EE-7DA75738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068-2C10-4B3D-9A57-C6CF52E2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9AE1-EBEF-4A82-AA0C-7FE75768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E914-00EF-451A-A5F8-C70C1465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476-E126-41CA-8473-4A899111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641-273B-403E-AED9-79540F81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D13-967D-43DE-A502-E297145E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2ED-521F-40AA-ABE8-5422925F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A02A-D1AA-4B9A-9129-A0EEA01022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20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6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7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51:36Z</dcterms:created>
  <dc:creator>ds0929</dc:creator>
  <dc:description/>
  <dc:language>en-US</dc:language>
  <cp:lastModifiedBy>ds0929</cp:lastModifiedBy>
  <dcterms:modified xsi:type="dcterms:W3CDTF">2013-04-15T02:52:29Z</dcterms:modified>
  <cp:revision>1</cp:revision>
  <dc:subject/>
  <dc:title>Slide 1</dc:title>
</cp:coreProperties>
</file>