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F56-63DB-481D-940D-0460A1EF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534-8114-4B5A-918B-A7DCB0D5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847-8934-4B77-A362-6265FB1B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E1A-8777-44F2-8AFB-3F696405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E0D-9526-44F2-95AD-69C57CC4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9FF-404E-4DC1-A746-CF04FC87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842-2D3D-469F-99AC-03201D78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5F1-87C9-48DF-BB34-D2A803FB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60E-1153-4397-B7BF-DD85D655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2C6-EB9F-4059-A2F5-3D177A9C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CC6-03B9-4E08-AD86-72DCB60E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672-6951-4A08-9047-2A9432AA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B7B8-C4B2-42EE-98FF-441F005999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208015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1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26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18:46Z</dcterms:created>
  <dc:creator>ds0929</dc:creator>
  <dc:description/>
  <dc:language>en-US</dc:language>
  <cp:lastModifiedBy>ds0929</cp:lastModifiedBy>
  <dcterms:modified xsi:type="dcterms:W3CDTF">2013-04-13T09:20:50Z</dcterms:modified>
  <cp:revision>1</cp:revision>
  <dc:subject/>
  <dc:title>Slide 1</dc:title>
</cp:coreProperties>
</file>