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7E6-34FB-4A07-9F7F-E52B9594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7BB-A874-4838-9B82-A65ADD32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09A-4D04-4D9E-9976-33CAC390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A02-E7EC-4A19-BFBB-DBAE584D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87A-DAEF-46CA-B136-892D178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FBF-225D-4684-8085-C1381D29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221-C9C8-4E47-86E8-45D0254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613-66B9-4C71-BF55-0963DBE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67B-115D-4A85-A47F-05D9CFD7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0D5-9084-4471-87A6-AE497EE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003-1E51-437B-B4F8-B924B24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7A4-D850-4A0A-8C98-59166A0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EC47-B12A-455F-8E44-66DF4B2761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08:30Z</dcterms:created>
  <dc:creator>ds0929</dc:creator>
  <dc:description/>
  <dc:language>en-US</dc:language>
  <cp:lastModifiedBy>ds0929</cp:lastModifiedBy>
  <dcterms:modified xsi:type="dcterms:W3CDTF">2013-04-13T09:10:05Z</dcterms:modified>
  <cp:revision>1</cp:revision>
  <dc:subject/>
  <dc:title>Slide 1</dc:title>
</cp:coreProperties>
</file>