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0E08-0DC7-4B6C-830D-3705BEAC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E88C-CA9D-4726-A606-789E09D9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B071-9925-4AA0-9CCC-BD433CBB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0A12-7351-4DF4-9404-4B533624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3202-EF1C-4291-8138-6A4824C9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1444-2F19-4853-AD84-5CF49691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BF5A-3745-448F-A44C-3C3EB335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C3A2-E091-435F-877F-5158A817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B17C-000F-43AE-BF16-F59E8FA3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489-917F-4894-8695-20F67941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152-87FC-402C-AD22-E58FA6F1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8E69-7F5C-4D83-B782-F92274B1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8FCD-EC34-4FDA-B8AF-2923EA6B07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2080103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2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809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4:51:04Z</dcterms:created>
  <dc:creator>ds0929</dc:creator>
  <dc:description/>
  <dc:language>en-US</dc:language>
  <cp:lastModifiedBy>ds0929</cp:lastModifiedBy>
  <dcterms:modified xsi:type="dcterms:W3CDTF">2013-04-07T04:52:46Z</dcterms:modified>
  <cp:revision>1</cp:revision>
  <dc:subject/>
  <dc:title>Slide 1</dc:title>
</cp:coreProperties>
</file>