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2E9F-F734-44ED-A481-C4914C8BB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5BD5-EF42-435E-B3FD-2FFBB50B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3956-3A0B-4C6B-9915-2FCE2DA3C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E0A3-42B2-4D97-86EA-D5624D926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2BDF-F015-4C6F-B67D-66C40EBF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E4C6-3407-47D4-9546-104BA068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3315-02FD-4440-9999-5711EBE6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A206-F737-48AD-97D6-A38BDFAC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AEB2-E9F9-4608-BAA3-8EBBD3E4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9902-941F-4AAF-BBC6-F8BB93D6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D195-C969-4542-9953-217BD00F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2CF3-3B72-4FC7-9B13-30C3B7EE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122B-F923-4DAA-91D0-24838AB5A1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2080139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7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721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3T08:25:33Z</dcterms:created>
  <dc:creator>ds0929</dc:creator>
  <dc:description/>
  <dc:language>en-US</dc:language>
  <cp:lastModifiedBy>ds0929</cp:lastModifiedBy>
  <dcterms:modified xsi:type="dcterms:W3CDTF">2013-04-13T08:26:54Z</dcterms:modified>
  <cp:revision>1</cp:revision>
  <dc:subject/>
  <dc:title>Slide 1</dc:title>
</cp:coreProperties>
</file>