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56C-A185-4446-8106-04ECA437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DF9-05E6-455E-BF5E-3F4CFA7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04B-262A-4C26-B483-8B7C0F7C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8EB-B713-409B-A36B-6E7FF5B0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7A0-410F-474D-9A9F-0FF5AE37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D13-A941-4D7B-A218-B3F695D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3F5-3986-4576-A333-D05A077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B4E-711E-4809-968F-C0E887E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6E6-F5A0-418B-9385-E523B4A1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ECC-37E4-4FE4-B425-5B8C126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6EF-D11B-48BA-B7D0-2D62147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0D7-A97C-4C83-8EDD-276A1DC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2BB-A6A5-4850-B38F-2DC5CB538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8:22Z</dcterms:created>
  <dc:creator>ds0929</dc:creator>
  <dc:description/>
  <dc:language>en-US</dc:language>
  <cp:lastModifiedBy>ds0929</cp:lastModifiedBy>
  <dcterms:modified xsi:type="dcterms:W3CDTF">2013-04-15T03:08:58Z</dcterms:modified>
  <cp:revision>1</cp:revision>
  <dc:subject/>
  <dc:title>Slide 1</dc:title>
</cp:coreProperties>
</file>