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6D52-10ED-404A-BB19-8D2D93C80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1389-55AE-4627-9889-AF3561AFE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E923-37C2-47BD-A730-E953CDD43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E483-B6C1-4128-B464-3BB518784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7188-DD9B-404B-9B36-1A28237BA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8BD9-5480-4EF7-B1C9-8499D75A0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A623-22BF-4546-9723-4653AB219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D000-9E99-48E8-B76A-6445BF12B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BA0A-6EC1-46AC-BBF2-E2ECAAD06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D766-3CE6-401E-9308-07C6A860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FBBD-19AF-4441-A76E-AC62925D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B6E3-D793-4F5A-AB20-53A58F6D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0B1E9-CB34-414C-9B50-293D70C696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2080175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05_U Kyaw Naing.mp3" descr=""/>
          <p:cNvPicPr/>
          <p:nvPr/>
        </p:nvPicPr>
        <p:blipFill>
          <a:blip r:embed="rId2"/>
          <a:stretch/>
        </p:blipFill>
        <p:spPr>
          <a:xfrm>
            <a:off x="6372360" y="306864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684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5T02:20:24Z</dcterms:created>
  <dc:creator>ds0929</dc:creator>
  <dc:description/>
  <dc:language>en-US</dc:language>
  <cp:lastModifiedBy>ds0929</cp:lastModifiedBy>
  <dcterms:modified xsi:type="dcterms:W3CDTF">2013-04-15T02:21:33Z</dcterms:modified>
  <cp:revision>1</cp:revision>
  <dc:subject/>
  <dc:title>Slide 1</dc:title>
</cp:coreProperties>
</file>