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71E-7481-4321-903D-1952F28A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86E-AC68-4BC6-9BC8-76A24268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63AE-D0A1-4B1B-9E14-498192CB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C14-17C0-4C26-8C20-CF8AEFD1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E0B3-A893-48D2-A8AD-48A764E8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40D-D0F1-4C2A-9FF2-884C40F1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F3A5-1B4A-407C-9DD4-41837211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89E-AAE4-4020-8463-DC9712EF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0DE-4546-48CB-8937-1A7C0AD3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EBA-B311-44A5-8B64-8FF2061F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8200-E844-44A3-83AB-5E5ED80F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243-58A1-45F2-B086-80183C1A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87CD-849B-4786-B9B4-5122CCA234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629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30_U Kyaw Naing.mp3" descr=""/>
          <p:cNvPicPr/>
          <p:nvPr/>
        </p:nvPicPr>
        <p:blipFill>
          <a:blip r:embed="rId2"/>
          <a:stretch/>
        </p:blipFill>
        <p:spPr>
          <a:xfrm>
            <a:off x="2556000" y="2781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59:53Z</dcterms:created>
  <dc:creator>ds0929</dc:creator>
  <dc:description/>
  <dc:language>en-US</dc:language>
  <cp:lastModifiedBy>ds0929</cp:lastModifiedBy>
  <dcterms:modified xsi:type="dcterms:W3CDTF">2013-04-15T03:00:43Z</dcterms:modified>
  <cp:revision>1</cp:revision>
  <dc:subject/>
  <dc:title>Slide 1</dc:title>
</cp:coreProperties>
</file>