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1B1-E49D-4C28-88C5-67093CE8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C84-A583-4FD8-9432-840E6407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3C2-3B78-4A49-9E48-73CCB3E6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112-C3DF-4479-A4E5-64C8EAF4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B11-7704-4225-9827-C02AFA10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CAC-27AD-4FCC-982D-DD02A694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736-E826-46B9-9857-28603C5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55D-ADB8-47C8-A45B-F5E191BC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47C-3C8A-4CD2-82D4-ACB104E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BA1-F672-407A-9539-93183D0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A59-EC48-48D8-B068-6BD9C8A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97A-D285-49B1-B4DD-04C66BE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A97-5036-4568-A60A-1F25C84A4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1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8:26Z</dcterms:created>
  <dc:creator>ds0929</dc:creator>
  <dc:description/>
  <dc:language>en-US</dc:language>
  <cp:lastModifiedBy>ds0929</cp:lastModifiedBy>
  <dcterms:modified xsi:type="dcterms:W3CDTF">2013-04-07T05:09:21Z</dcterms:modified>
  <cp:revision>1</cp:revision>
  <dc:subject/>
  <dc:title>Slide 1</dc:title>
</cp:coreProperties>
</file>