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3139-76F3-4512-95A5-2894CEEC3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9AAD-589C-4B39-93A3-F1B496C5D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A058-8C71-48FF-921E-F7A290287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6394-2E0A-4091-BD84-0B68D00C4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E6E1-9019-4A64-B7A9-35EC4D241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04AE-2D39-48F9-8A2E-DC4C678C1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C22A-DAF6-46AB-906D-07A1F61F2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EE76-A52E-4278-92B4-BB3F1F1CC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B800-A0D2-4D6B-8E88-DCF06B6F0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417C-0004-4A89-A77E-98FD9825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61F7-3739-4361-94C4-ED34F94E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07DE-3B14-4D33-8B3E-507C7969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98F2D-9721-4B08-8DFC-FFF3146367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2080200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5T02:45:24Z</dcterms:created>
  <dc:creator>ds0929</dc:creator>
  <dc:description/>
  <dc:language>en-US</dc:language>
  <cp:lastModifiedBy>ds0929</cp:lastModifiedBy>
  <dcterms:modified xsi:type="dcterms:W3CDTF">2013-04-15T02:54:42Z</dcterms:modified>
  <cp:revision>2</cp:revision>
  <dc:subject/>
  <dc:title>Slide 1</dc:title>
</cp:coreProperties>
</file>