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779-6F86-4AD1-B8F9-FBD71AFC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9D9-629B-4904-B0B5-A072DC5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9AF-3C60-475B-9C37-A1CF89DC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2CF-0FFA-4D43-B877-CCD26688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ED3-9E4D-44D7-AB55-223A4824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326-4825-4550-A672-729416C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221-4634-4956-8F62-093B4117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418-6A92-4039-85DC-8C0F635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F54-5436-418F-9D0C-2E72F8F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44F-6DF8-4EAB-9C8F-AEC6BA23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C00-8B1C-43EE-AF00-00A3DCC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9AB-F186-444F-BAC6-BE8314F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D9E8-C9E1-4BE0-BEE5-6C2A5AE7E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5:37Z</dcterms:created>
  <dc:creator>ds0929</dc:creator>
  <dc:description/>
  <dc:language>en-US</dc:language>
  <cp:lastModifiedBy>ds0929</cp:lastModifiedBy>
  <dcterms:modified xsi:type="dcterms:W3CDTF">2013-04-07T05:16:30Z</dcterms:modified>
  <cp:revision>1</cp:revision>
  <dc:subject/>
  <dc:title>Slide 1</dc:title>
</cp:coreProperties>
</file>