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245-0918-4CEF-A18B-938A9DE7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F28-9D1F-4178-9F63-3913863D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05F-D409-4BB8-BFC4-CB0DACB1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D34-4BD4-49CD-8A7B-9DC48F4B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145-09FF-42F5-B155-63AA1DE4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DA9-D29E-456B-88DB-3CC4A9E1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9CF-FA41-4B77-BFE0-31F71B54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F6B-C97F-4289-A74C-05502CE9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6EE-31EE-4E6F-A8D2-1C371275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4DC-85A3-4F1B-8BA0-98F5FD1D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7AF-1316-44DB-BA43-E042D94F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065-28B9-445F-A7AD-E86D94DD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35E2-B821-4364-9A72-D5B6FBDAFF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4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0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16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47:55Z</dcterms:created>
  <dc:creator>ds0929</dc:creator>
  <dc:description/>
  <dc:language>en-US</dc:language>
  <cp:lastModifiedBy>ds0929</cp:lastModifiedBy>
  <dcterms:modified xsi:type="dcterms:W3CDTF">2013-04-13T08:50:04Z</dcterms:modified>
  <cp:revision>1</cp:revision>
  <dc:subject/>
  <dc:title>Slide 1</dc:title>
</cp:coreProperties>
</file>