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933-A982-4701-9CB3-5ED294A2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A8D-3013-4985-ABEE-BA8D8DA9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036-103D-4762-A0E0-31BE6F05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DCF-3883-4169-8BE4-4B230465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668-895A-4478-BAAA-F88173F1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C5F-E590-483A-8172-68118CE5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139-8EA0-48CA-A26B-5BD13F3F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38E-9BD0-4D83-998A-4154D893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671-FA38-4B4F-9E62-6CC21C5E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6CB-BAF8-4DA1-8832-F6BF272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542-71DF-4571-838B-0DCF7D0C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A4C-D0FC-4F97-8D1A-F63FE2C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EC67-6314-4A21-A048-3D77C55077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5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1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15:15Z</dcterms:created>
  <dc:creator>ds0929</dc:creator>
  <dc:description/>
  <dc:language>en-US</dc:language>
  <cp:lastModifiedBy>ds0929</cp:lastModifiedBy>
  <dcterms:modified xsi:type="dcterms:W3CDTF">2013-04-13T09:18:31Z</dcterms:modified>
  <cp:revision>1</cp:revision>
  <dc:subject/>
  <dc:title>Slide 1</dc:title>
</cp:coreProperties>
</file>