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FC6-1F68-4DE7-A5F8-0AB42B1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E2B-7DBA-4059-8AA3-9737C0F1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FD4-EB1C-493C-A545-1F74474C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E96-87D4-4B14-8054-10A35EE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207-1C37-4691-8AA2-024B829C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947-FADA-4BA4-A3B3-74BF7DD3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F46-6B00-41E8-A32E-AD9557F7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7EB-8000-4194-8BAC-80FC60B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060-842F-4B06-8DF1-C13C95D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7F6-0784-415C-B295-A4D798D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4C7-1C07-4199-B363-987D994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61D-32F9-476C-9BF6-6D835F2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B92-CE7A-4A8B-A71E-9F370C334F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4:19Z</dcterms:created>
  <dc:creator>ds0929</dc:creator>
  <dc:description/>
  <dc:language>en-US</dc:language>
  <cp:lastModifiedBy>ds0929</cp:lastModifiedBy>
  <dcterms:modified xsi:type="dcterms:W3CDTF">2013-04-13T08:28:15Z</dcterms:modified>
  <cp:revision>1</cp:revision>
  <dc:subject/>
  <dc:title>Slide 1</dc:title>
</cp:coreProperties>
</file>