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CF9-9B3F-4449-9942-7685D3DC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705-C8E7-45FA-A78C-59B4CEB8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A76-2EC5-4E12-A384-9DAA928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94D-3579-4FA1-A326-5FE39832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86D-00E6-4635-A9AB-25A94029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4C1-E684-410A-A15C-A13C1D6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99C-1426-471C-9322-749CDE6D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DEE-800B-435B-9FBF-79944957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3AF-1FC4-4458-9377-82C985B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8DB-D65C-4AEC-92AD-8C0CAA4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6C2-3D82-45D7-99FB-AF857FC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499-C5E1-4548-95AC-C5AF7AA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ECC-BF49-449C-A2C2-5D80101E4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4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0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31:29Z</dcterms:created>
  <dc:creator>ds0929</dc:creator>
  <dc:description/>
  <dc:language>en-US</dc:language>
  <cp:lastModifiedBy>ds0929</cp:lastModifiedBy>
  <dcterms:modified xsi:type="dcterms:W3CDTF">2013-04-13T08:32:19Z</dcterms:modified>
  <cp:revision>1</cp:revision>
  <dc:subject/>
  <dc:title>Slide 1</dc:title>
</cp:coreProperties>
</file>