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096-97A9-4EBB-B77C-8ADBFB66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344-3367-4F1C-A715-EECEAC1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D83-E701-4311-8EE3-74DB7AA1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54E-AD09-4576-BFD9-6DF00C1B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764-C14E-4BD2-8447-65FCEE7F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644-82A0-44FE-8388-C0AE10B6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278-C281-485B-B558-D545CCFA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1EB-F99C-42FD-9B00-9E9596C2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37E-244E-44B2-B8A2-13B66FB9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076-10E4-4FBC-8027-FB2915C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BED-7D49-4C4D-BF52-9F1CD1C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F3D-2FA4-4A2A-950F-1BC8004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33B7-0D56-4881-96D6-7D290BCA8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17:48Z</dcterms:created>
  <dc:creator>ds0929</dc:creator>
  <dc:description/>
  <dc:language>en-US</dc:language>
  <cp:lastModifiedBy>ds0929</cp:lastModifiedBy>
  <dcterms:modified xsi:type="dcterms:W3CDTF">2013-04-13T08:20:33Z</dcterms:modified>
  <cp:revision>1</cp:revision>
  <dc:subject/>
  <dc:title>Slide 1</dc:title>
</cp:coreProperties>
</file>