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C19-6ABB-4ED9-9C20-C6A9FAF2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F63-CF21-45D5-A3A9-6F9BE02A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596-D5D9-472C-9D0B-EE5EE043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738-0575-4C34-8036-E686C34F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9F1-A847-4FF4-B214-B4F70B22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C94-AF3E-4A16-8F34-6FC2CB70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90E-E7EF-4C53-9CC3-440A5533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1F8-0E17-4198-B65E-48836CE5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9E7-DA0E-427E-B8E6-E4882DF1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C3D-EC2A-469D-A11A-E973625D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36E-2C4A-4F17-97B9-54B7D8BA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2AC-DD03-45F3-8A71-AC7E3D8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78A3-D50C-43B6-8F4B-1435416407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8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8_U Kyaw Naing.mp3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26:27Z</dcterms:created>
  <dc:creator>ds0929</dc:creator>
  <dc:description/>
  <dc:language>en-US</dc:language>
  <cp:lastModifiedBy>ds0929</cp:lastModifiedBy>
  <dcterms:modified xsi:type="dcterms:W3CDTF">2013-04-15T02:27:18Z</dcterms:modified>
  <cp:revision>1</cp:revision>
  <dc:subject/>
  <dc:title>Slide 1</dc:title>
</cp:coreProperties>
</file>