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E88-3DAC-4CD3-9854-26774315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E71-B32F-4595-A726-2F6BC18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896-99E9-4B54-A1C0-A9AFA26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CB8-067B-43C2-B006-FE35DB2E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123-59B9-448C-8D74-5A1D5733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23F-299B-42AF-9B44-D843C070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B7A-D54A-4A6F-9410-86C3924B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797-CBB1-4BB2-9E93-E6DCAB4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DDE-973C-4A39-BEE2-6E04967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056-085B-46D9-9886-9CB7C7A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83B-2F42-4CE8-A94D-2BAE334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FC7-9A88-4CDC-918E-8C06CFD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3279-E076-4EFB-842F-9806941D9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4:26Z</dcterms:created>
  <dc:creator>ds0929</dc:creator>
  <dc:description/>
  <dc:language>en-US</dc:language>
  <cp:lastModifiedBy>ds0929</cp:lastModifiedBy>
  <dcterms:modified xsi:type="dcterms:W3CDTF">2013-04-15T02:45:21Z</dcterms:modified>
  <cp:revision>1</cp:revision>
  <dc:subject/>
  <dc:title>Slide 1</dc:title>
</cp:coreProperties>
</file>