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ED7-20C7-44F3-87B9-0CACECCA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E4B-62D7-4127-80B1-CDE39A19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ECC-DF64-4B32-BF38-65E35709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7C8-A76C-4FAD-94C1-B6B001F5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2E0-8EB1-435A-AC50-B50B41C8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12C-85DF-4F82-9415-7921717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A97-424F-474D-BB20-4448786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D44-BA44-4036-8C0F-A9E090B4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232-4BE8-485E-86A3-F2B6003F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3ED-859E-47A0-8451-05861D2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80C-4B87-46C2-8543-B48C751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C61-968C-4FD5-A73F-E6567BC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5080-9E36-4ED4-A1E3-9F61E8238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19:36Z</dcterms:created>
  <dc:creator>ds0929</dc:creator>
  <dc:description/>
  <dc:language>en-US</dc:language>
  <cp:lastModifiedBy>ds0929</cp:lastModifiedBy>
  <dcterms:modified xsi:type="dcterms:W3CDTF">2013-04-13T08:20:14Z</dcterms:modified>
  <cp:revision>1</cp:revision>
  <dc:subject/>
  <dc:title>Slide 1</dc:title>
</cp:coreProperties>
</file>