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19F-372A-446D-A4CA-6697287D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068-A829-4338-A519-F3CA9B82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103-B875-44E0-A941-29335AE2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E18-15AB-4F26-B5BF-50D69940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C49-DA02-41A0-B2C0-9D00EBC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31E-6984-49AA-B4F0-CCA89149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819-B43E-4BBB-A647-7882E18A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343-52F0-4067-B6AB-2A46C307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BA5-C472-40B5-B92A-ED438BC2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FF2-125C-4E68-BB44-6C07EADD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6EB-4A95-48D7-A292-3E41520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CC4-CD36-425A-B92E-8C31684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97EF-A74D-405A-B0CE-3D4FAB3B31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3_U Kyaw Naing.mp3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10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42:21Z</dcterms:created>
  <dc:creator>ds0929</dc:creator>
  <dc:description/>
  <dc:language>en-US</dc:language>
  <cp:lastModifiedBy>ds0929</cp:lastModifiedBy>
  <dcterms:modified xsi:type="dcterms:W3CDTF">2013-04-15T02:54:52Z</dcterms:modified>
  <cp:revision>2</cp:revision>
  <dc:subject/>
  <dc:title>Slide 1</dc:title>
</cp:coreProperties>
</file>