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796-2FF0-4E0E-BE28-D326A118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153-7CC9-423C-859A-D35E77C7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104-D9AD-470B-9C0C-81607EE5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D15-6AEA-48EB-AF48-C06E2B76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94F-4408-4BE0-8B8E-1B871A8B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86A-A0A1-4CF8-92F9-7D6D9087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CFF-652F-405D-AE01-C13167C8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5DC-D7D1-4086-AEAC-BE85E62E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A08-2CBA-45D3-8C69-948EA412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E9C-C4E9-420A-8328-1CBFFBC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A1F-DCBE-4AF4-9239-3316439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41F-F70A-4AF8-9C0A-1609DBF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2B87-F848-4CDB-B89E-0F5F8D555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0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5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4:54:01Z</dcterms:created>
  <dc:creator>ds0929</dc:creator>
  <dc:description/>
  <dc:language>en-US</dc:language>
  <cp:lastModifiedBy>ds0929</cp:lastModifiedBy>
  <dcterms:modified xsi:type="dcterms:W3CDTF">2013-04-07T04:55:59Z</dcterms:modified>
  <cp:revision>1</cp:revision>
  <dc:subject/>
  <dc:title>Slide 1</dc:title>
</cp:coreProperties>
</file>