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6744-2760-4D20-AE9E-9FA0A869C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20B6-6806-4444-B5E7-CB30BCC7B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8FD4-F560-499F-84A6-FA41AC27B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0B41-F11F-496F-AA00-43FE17CD3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9836-6F8E-4D60-868F-55509EEDA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F695-ADA4-4F80-BD7C-F37C7250D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4B6C-B5B6-407F-ACEF-D935F56B5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59C5-A65C-4F76-B122-1EBFE5655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5CC5-6CF4-40DF-A91C-8C1E3EDBF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A08D-697B-4EE3-A130-7EC618E7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B01E-88BC-4A2C-B5CC-AF8A0651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8688-7509-4F54-9F9E-9787D79F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361EA-2C18-4A52-912A-9777326CCCD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301004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03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2121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2T02:00:28Z</dcterms:created>
  <dc:creator>ds0929</dc:creator>
  <dc:description/>
  <dc:language>en-US</dc:language>
  <cp:lastModifiedBy>ds0929</cp:lastModifiedBy>
  <dcterms:modified xsi:type="dcterms:W3CDTF">2013-03-02T02:01:16Z</dcterms:modified>
  <cp:revision>1</cp:revision>
  <dc:subject/>
  <dc:title>Slide 1</dc:title>
</cp:coreProperties>
</file>