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257-81CD-4DD1-97B3-FAEB6261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C57-B5FD-4CA9-9B76-683ECD0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0B2-E8E5-46C2-9105-F3DF0BCD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73D-C3BB-4D76-AE94-48F49387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4F6-BF5E-40DA-9150-F43D596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842-C9B5-4CAB-B26C-CC190886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982-CA7B-4BE0-8B94-4D4BC85F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D5E-C67A-4178-A3A4-F45C69C6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F62-E196-4505-B5B1-D52DFB5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23A-5D5D-415E-AC01-EB13D3BF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B64-43AD-4205-B11A-81CB16F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874-E861-4284-9BFB-DB27360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E936-3B04-480C-B71E-7A8F58CE1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9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4:54Z</dcterms:created>
  <dc:creator>ds0929</dc:creator>
  <dc:description/>
  <dc:language>en-US</dc:language>
  <cp:lastModifiedBy>ds0929</cp:lastModifiedBy>
  <dcterms:modified xsi:type="dcterms:W3CDTF">2013-03-02T02:25:27Z</dcterms:modified>
  <cp:revision>1</cp:revision>
  <dc:subject/>
  <dc:title>Slide 1</dc:title>
</cp:coreProperties>
</file>