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49C-DA37-47A9-87FC-E61E70D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E41-7B52-4A8D-9103-5B4CD33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6BE-FA99-4D9D-A824-A6775A6A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10B-D849-4130-9187-008F846B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C05-10F9-4F47-AB75-C519F75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7E5-1526-4D8F-A3A2-573AC12C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B0A-830C-4BA4-87F0-36549B9D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8D5-14A0-472E-94E9-52B890B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B1A-33F2-47C5-8A87-88C8414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B19-2E63-4706-AEF6-ED3497A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3EC-BDE6-4325-9CDB-4CCF9C0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0E9-526D-4F37-A74A-F9717BC9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B090-2006-416D-8306-45F33EBFC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6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3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6:17Z</dcterms:created>
  <dc:creator>ds0929</dc:creator>
  <dc:description/>
  <dc:language>en-US</dc:language>
  <cp:lastModifiedBy>ds0929</cp:lastModifiedBy>
  <dcterms:modified xsi:type="dcterms:W3CDTF">2013-03-02T02:27:01Z</dcterms:modified>
  <cp:revision>1</cp:revision>
  <dc:subject/>
  <dc:title>Slide 1</dc:title>
</cp:coreProperties>
</file>