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F80-A7B3-482D-9576-9DA2C50D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F802-D816-4C20-873E-D72D2228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563-CBDD-45F1-95C6-6543B7AB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17DF-09D7-4591-A624-7A0DF301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DAB8-353A-495E-A9EF-027D2C39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4D5B-0119-4037-87FA-96EC7DA7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19F-756F-430C-85D0-AFC7E29A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8511-0C60-4F2B-9D0B-91EAA147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EA29-39EB-40C8-83C1-CA26D520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082-9872-486B-969A-F5A14549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743-F4F4-4E69-87A5-171B0992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B58A-1FDF-44F6-9448-DFC1629D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8717-C98D-4309-8097-2B165F6398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6" descr="P11805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7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884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09:16Z</dcterms:created>
  <dc:creator>ds0929</dc:creator>
  <dc:description/>
  <dc:language>en-US</dc:language>
  <cp:lastModifiedBy>ds0929</cp:lastModifiedBy>
  <dcterms:modified xsi:type="dcterms:W3CDTF">2013-03-15T06:10:58Z</dcterms:modified>
  <cp:revision>1</cp:revision>
  <dc:subject/>
  <dc:title>Slide 1</dc:title>
</cp:coreProperties>
</file>