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234-08CB-4BB9-8DFD-4AF407B4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1C1-EB7C-4BEF-B3D4-5E2EE77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5D2-829B-4DAA-A9DE-0A5F6E17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8C9-1C64-4D99-BA2D-D5537F14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E7E-B971-42CF-9182-EEF81BC6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896-F89E-4B9C-809A-53EA7086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75B-CE7F-48C3-8334-F8EEE683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82C-92B9-4334-AF2E-B1DE4BB8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CCA-1252-4AB5-92AE-ED4194A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D73-7CF0-4FD9-B281-CB76CD5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E49-B4AD-4C93-A48E-19E9BAC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FEE-46F0-450D-BCC4-B06E4A3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E9CC-9061-4FB5-863E-EDF06B8351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9:54Z</dcterms:created>
  <dc:creator>ds0929</dc:creator>
  <dc:description/>
  <dc:language>en-US</dc:language>
  <cp:lastModifiedBy>ds0929</cp:lastModifiedBy>
  <dcterms:modified xsi:type="dcterms:W3CDTF">2013-03-02T02:10:41Z</dcterms:modified>
  <cp:revision>1</cp:revision>
  <dc:subject/>
  <dc:title>Slide 1</dc:title>
</cp:coreProperties>
</file>