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35D5-AF2A-4B9B-B169-2099FE05C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E33E-4915-41F2-AF63-E981190C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E65B-99F8-44DD-BADE-C009B1C6C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9871-5F2D-4F04-A680-0A880C90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06F4-C0B7-4B45-8F8E-9E8B56C7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6B60-A17B-4EA7-8E27-7AA14B14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A9F0-0D62-43F9-81E6-9D2B56D6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DA83-5891-4FE4-BA0B-7C2A39CB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AACF-B278-4D82-8515-8AD2F102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011F-63DC-4ABB-8A5D-DF825F24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D1D4-0A17-4A04-8968-8D5C27D3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77E3-FDD8-49D7-B92C-5ED61CC0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5A1D-476A-4B56-8004-996148676F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56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3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617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0:46:56Z</dcterms:created>
  <dc:creator>ds0929</dc:creator>
  <dc:description/>
  <dc:language>en-US</dc:language>
  <cp:lastModifiedBy>ds0929</cp:lastModifiedBy>
  <dcterms:modified xsi:type="dcterms:W3CDTF">2013-03-08T10:49:58Z</dcterms:modified>
  <cp:revision>1</cp:revision>
  <dc:subject/>
  <dc:title>Slide 1</dc:title>
</cp:coreProperties>
</file>