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517-CECA-4E06-9F52-E1023556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F3F-F836-4249-A83A-5B2E02EC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C46-166C-4936-BD2A-72991FA8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536-8404-4A83-BF9D-16CF56BE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467-6EF5-4039-A835-29B2F1C5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8AB-32C4-400E-88DC-91A63185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08A-83C1-43CF-B270-000F7B1E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AB0-BDC8-421D-ADC8-2334DA64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290-0097-4910-9AE3-3AA2D746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C35-3E67-45AC-B4AC-D5D7D4E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8AE-1C4C-466B-88F0-CE451B30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C0C-CDF0-447A-8190-8E41BCD9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DDB8-5A61-4DA3-94AF-1AE1B9B6C7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11805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95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0:32:21Z</dcterms:created>
  <dc:creator>ds0929</dc:creator>
  <dc:description/>
  <dc:language>en-US</dc:language>
  <cp:lastModifiedBy>ds0929</cp:lastModifiedBy>
  <dcterms:modified xsi:type="dcterms:W3CDTF">2013-03-08T10:35:43Z</dcterms:modified>
  <cp:revision>1</cp:revision>
  <dc:subject/>
  <dc:title>Slide 1</dc:title>
</cp:coreProperties>
</file>