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EEA-ED37-4DC4-BD7C-F681124C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1A5-F5B4-4FA2-9066-D58C1B1C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3BF-CA76-471E-8580-00D3AA01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341-7701-443D-AF56-CAD3D010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59E-6E08-4A09-A9FC-1A0A102C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0CD-BF45-4C29-A1FB-D87481E3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74C-427C-40BC-9F77-8875398E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047-0E3B-4740-B8A4-03A8891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53C-48A2-4E35-9282-0260598A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C16-C9B4-4BD4-8568-4CCAA869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089-B14D-42DB-A639-C988A811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126-D38E-455C-B28B-19B9493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8292-2826-4FC3-8146-146FCEE542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9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29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29:14Z</dcterms:created>
  <dc:creator>ds0929</dc:creator>
  <dc:description/>
  <dc:language>en-US</dc:language>
  <cp:lastModifiedBy>ds0929</cp:lastModifiedBy>
  <dcterms:modified xsi:type="dcterms:W3CDTF">2013-03-15T06:31:23Z</dcterms:modified>
  <cp:revision>1</cp:revision>
  <dc:subject/>
  <dc:title>Slide 1</dc:title>
</cp:coreProperties>
</file>