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ED3C-1BC6-4E15-B470-65CD3D60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48B3-778D-4317-BAE4-84D7CD09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350E-3171-43B2-BB4C-86BFA463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A87C-B4D6-46F7-9D5A-ADF8D0D3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952-B1B3-49B1-9746-B270EFBD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E63A-1834-4E7F-8515-EE9B3B07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95B9-BB0A-4472-A218-4F23E115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46E6-16BC-43FA-9078-0DA056B5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BA2-54E7-47FA-9B27-6AB2F94E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5A6-061E-4B54-B709-356E508E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685F-8EC6-42CA-8790-EFBBDF43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F21-A86C-44DD-B413-E0FD205B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3EFE-4248-49FE-AB5D-ECCE63F943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P3010057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8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830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17:44Z</dcterms:created>
  <dc:creator>ds0929</dc:creator>
  <dc:description/>
  <dc:language>en-US</dc:language>
  <cp:lastModifiedBy>ds0929</cp:lastModifiedBy>
  <dcterms:modified xsi:type="dcterms:W3CDTF">2013-03-02T02:31:16Z</dcterms:modified>
  <cp:revision>2</cp:revision>
  <dc:subject/>
  <dc:title>Slide 1</dc:title>
</cp:coreProperties>
</file>