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818-79F0-444D-8EA4-5F74785F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D7D-FA43-48D2-A0C2-D83212B6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325-6EFC-4434-9402-D6DCDC71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668-AB8E-454D-A153-95D1A3B0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28B-3E4F-445A-9847-3A9E77FC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1C5-C491-41C1-BE8F-0FE8D469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492-ABC3-42A8-AB80-51934FA1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6BC-C969-4728-A8B2-02A33EB1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9C3-C563-4197-B087-795A53B1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91C-A371-401A-8F86-1519611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172-5D33-4C0F-B531-DA39CC8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171-BE1F-4C5A-9944-7D677163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856D-B19B-4849-B6C9-91BBD9A6B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2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54:59Z</dcterms:created>
  <dc:creator>ds0929</dc:creator>
  <dc:description/>
  <dc:language>en-US</dc:language>
  <cp:lastModifiedBy>ds0929</cp:lastModifiedBy>
  <dcterms:modified xsi:type="dcterms:W3CDTF">2013-03-08T10:55:35Z</dcterms:modified>
  <cp:revision>1</cp:revision>
  <dc:subject/>
  <dc:title>Slide 1</dc:title>
</cp:coreProperties>
</file>