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D4C5-EDA3-4B85-8675-172CC8AD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541-ABF2-49C7-BCE7-773CD227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5CF7-D2D6-46C8-A9F2-AF180B1D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1CCC-8B3C-48CC-9A12-2915C678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C09-6031-400A-9DE2-66C66436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E800-5589-4896-BCBA-C726190F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4DE7-37C7-4FC9-8D07-B0D57EB5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5AD-E46A-4A2B-8028-62BD38C8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25C6-92A0-40E0-9B8F-9BE29A4B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59C-640B-4343-83E7-2833FA8D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8BF-6DE3-4411-B538-51AB679E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3FB1-6B45-4E52-BFE0-DD5F86FB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5D18-490E-494D-8881-5E05C056AE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5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5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124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20:13Z</dcterms:created>
  <dc:creator>ds0929</dc:creator>
  <dc:description/>
  <dc:language>en-US</dc:language>
  <cp:lastModifiedBy>ds0929</cp:lastModifiedBy>
  <dcterms:modified xsi:type="dcterms:W3CDTF">2013-03-15T06:24:48Z</dcterms:modified>
  <cp:revision>2</cp:revision>
  <dc:subject/>
  <dc:title>Slide 1</dc:title>
</cp:coreProperties>
</file>