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3BF-C23C-438E-9D4D-3D66A3D7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E60-E892-4ADC-9F5D-894082E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8D5-FD76-447A-BEEF-69E6099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B34-BC37-4C9A-821B-8B05F788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682-DF22-4053-A12F-904C09D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B86-CB14-4727-B2B6-87A6D31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AA5-C80D-49B1-8E9D-AFF7904F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202-E737-41B3-B261-9A015490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B1C-72D4-4FDB-8448-D6D92FE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326-030F-479B-A770-5A1019A2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64F-9406-4133-8B50-E0397B6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FC3-26BD-4787-AF4C-605BE740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58E-46D8-421E-90CD-973EE4B1C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6:21Z</dcterms:created>
  <dc:creator>ds0929</dc:creator>
  <dc:description/>
  <dc:language>en-US</dc:language>
  <cp:lastModifiedBy>ds0929</cp:lastModifiedBy>
  <dcterms:modified xsi:type="dcterms:W3CDTF">2013-03-08T10:57:10Z</dcterms:modified>
  <cp:revision>1</cp:revision>
  <dc:subject/>
  <dc:title>Slide 1</dc:title>
</cp:coreProperties>
</file>