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2C0-29D5-4E5C-987E-08042630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6DB-7A6A-4461-8A95-0B33CC66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119-CBAF-4185-B830-C2867A3C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81C-C202-40E2-AF48-CCA36DCC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44A-139D-4A52-B8C3-AA768B2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CEA-36B1-434A-88D0-E0B80318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93E-F3E8-46EC-887C-F12CB35C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8FA-266F-4C8C-9706-D801B6B7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37B-A09C-4CA2-9FEF-DA7457A6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152-5001-47BF-93B0-E89DB079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EA1-466E-4FD9-B21E-0ABE1D25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CB0-58E4-44CB-9B44-7E0ED0C9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B22E-B6C3-41F1-B956-9E9E6857BE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69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36:36Z</dcterms:created>
  <dc:creator>ds0929</dc:creator>
  <dc:description/>
  <dc:language>en-US</dc:language>
  <cp:lastModifiedBy>ds0929</cp:lastModifiedBy>
  <dcterms:modified xsi:type="dcterms:W3CDTF">2013-03-08T10:37:22Z</dcterms:modified>
  <cp:revision>1</cp:revision>
  <dc:subject/>
  <dc:title>Slide 1</dc:title>
</cp:coreProperties>
</file>