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E424-CAD5-4A20-AD75-ADEA0CCB7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0B2E-C335-4585-910B-E8C68259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5490-D13B-42AF-8AF3-40CC8656F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75CA-8653-4610-AFA3-10E0A1A76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75AC-BD98-44C4-B2BD-7A4DA5B5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710A-F02D-4C87-8877-79994FE3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A2C9-B4D9-42F3-97EF-98AF1685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58F9-8C65-4026-9A2C-C93D860B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53E1-AB83-4586-B433-034834BF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8D02-85E4-4049-8B9B-ADF47018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7078-ABC0-4127-9538-B6507F11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9326-A713-4F15-AC2A-8B371B46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4431-8F48-48B2-853F-3135040726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5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4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164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8T10:37:29Z</dcterms:created>
  <dc:creator>ds0929</dc:creator>
  <dc:description/>
  <dc:language>en-US</dc:language>
  <cp:lastModifiedBy>ds0929</cp:lastModifiedBy>
  <dcterms:modified xsi:type="dcterms:W3CDTF">2013-03-08T10:38:16Z</dcterms:modified>
  <cp:revision>1</cp:revision>
  <dc:subject/>
  <dc:title>Slide 1</dc:title>
</cp:coreProperties>
</file>