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0ABF-40A8-47F2-9FC7-7D783157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90A-AF0D-4728-86A5-8F157F81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1C69-D784-40E4-8382-4AB6B9E4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D162-FBB8-4312-833E-84C094E8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CB33-8BBC-4445-9E64-1D3DD626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CB32-3057-4AEF-BB7F-68479C06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454F-F6EB-4157-A98E-0BF94266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27F0-8F9D-45F2-831A-D48A58A3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FD65-4A1D-4679-B95A-E3C6D89B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D13-B87A-4D3E-A95B-8D898E8A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EE4F-306A-4853-8F98-8C95C5A5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A5A-FFBC-4A9D-895B-88E55107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F264-B3A2-43AB-8F1F-A7FF1EFB3B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590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4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004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6:18:46Z</dcterms:created>
  <dc:creator>ds0929</dc:creator>
  <dc:description/>
  <dc:language>en-US</dc:language>
  <cp:lastModifiedBy>ds0929</cp:lastModifiedBy>
  <dcterms:modified xsi:type="dcterms:W3CDTF">2013-03-15T06:22:39Z</dcterms:modified>
  <cp:revision>1</cp:revision>
  <dc:subject/>
  <dc:title>Slide 1</dc:title>
</cp:coreProperties>
</file>