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8A7-1481-4EF4-9AB0-ABEDE936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C5D-16E5-4734-BCA2-9E79BA3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838-DE6E-4852-8C7C-A9FEF6E4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72E-CC72-4B4D-AF4B-A458AEA4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6E0-3D4B-4213-8C7C-8F9034D3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4F8-DD41-4F2D-B176-1AEC0DB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BB1-1327-4722-A652-0E11F41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745-0BFE-4A19-8E27-52EDD4D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2B2-035B-4A9C-B0EE-717BB25C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3AB-2F3E-4718-8157-5067493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B31-C42D-47F6-8018-3AD9B71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79F-12A5-4CCA-8D85-0CB562B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7E12-2FD9-4CC1-B13A-C3C23454A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9:29Z</dcterms:created>
  <dc:creator>ds0929</dc:creator>
  <dc:description/>
  <dc:language>en-US</dc:language>
  <cp:lastModifiedBy>ds0929</cp:lastModifiedBy>
  <dcterms:modified xsi:type="dcterms:W3CDTF">2013-03-15T06:20:09Z</dcterms:modified>
  <cp:revision>1</cp:revision>
  <dc:subject/>
  <dc:title>Slide 1</dc:title>
</cp:coreProperties>
</file>