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FC2-5C63-4896-BF42-BBA739CB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C37C-DBDD-4EA5-9282-409DB70B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BD0D-1B1A-4372-9C11-EE30B10B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6785-BB5B-4177-B73B-7328CD9C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97E4-041D-4AD9-A02B-C117C92D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F5DA-3E5F-477E-919D-06E70C2C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8303-8740-46D7-8F00-EB9DD1E8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11A-EBA7-4932-92F9-85BABB8B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DB6-1AB5-4F07-9C4B-6C43F8D7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D92E-7AFF-4BB8-958F-A7E34F36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9EC-2267-4893-9ED3-4DBE3478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95DA-1501-4F4E-9AFB-D80F6B39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6D02-1EA9-4958-AD2E-9E2BBBD980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14:32Z</dcterms:created>
  <dc:creator>ds0929</dc:creator>
  <dc:description/>
  <dc:language>en-US</dc:language>
  <cp:lastModifiedBy>ds0929</cp:lastModifiedBy>
  <dcterms:modified xsi:type="dcterms:W3CDTF">2013-03-15T06:33:09Z</dcterms:modified>
  <cp:revision>3</cp:revision>
  <dc:subject/>
  <dc:title>Slide 1</dc:title>
</cp:coreProperties>
</file>