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B8A-CD4B-4131-BFB5-A31575AA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18F-A5A3-4E5D-B17F-DE62F08C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981-67EA-4323-A2AB-172D0286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A7E-9E24-4770-95B1-EED5B4B3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898-C576-41DA-86BF-C0220A38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2D1-558E-4C5A-8E4A-AF9AE4ED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101-E0FA-4968-BB05-F83F4CBD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CAF-4DF7-481F-B06C-561D68D5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F2A-4BD6-4EDD-B450-EC7C9427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FDC-FC96-4FA1-8E05-733BDB5E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3C7-715E-45AF-8B17-9BCAA434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C13-BEDB-4FCF-98CE-3B40BD81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0DAD-AE68-485F-86CA-9F1EED3AF6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6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776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301006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P3010069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3010070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27:12Z</dcterms:created>
  <dc:creator>ds0929</dc:creator>
  <dc:description/>
  <dc:language>en-US</dc:language>
  <cp:lastModifiedBy>ds0929</cp:lastModifiedBy>
  <dcterms:modified xsi:type="dcterms:W3CDTF">2013-03-02T02:29:29Z</dcterms:modified>
  <cp:revision>1</cp:revision>
  <dc:subject/>
  <dc:title>Slide 1</dc:title>
</cp:coreProperties>
</file>