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8A7-36C7-464B-9772-99D4DC51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176-A824-400D-96B3-9C695C2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984-4BC3-403E-BDC3-A0B4390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D32-6B6D-4D7D-8FB9-C7B8E052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D58-B32E-4C8F-A42A-22E4854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572-5F7D-4EFB-A1E0-BB15302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7F0-69BF-4FE6-BA5A-86279661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322-188C-4991-B21D-4BB9FBB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4B7-9CBD-4DD5-9B24-BC5FAC9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B26-0AE1-4D56-9976-1692183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597-E242-466E-B1D5-4C167D9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EE8-6568-41BB-83F7-D7786E5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4FC-02DB-4A4C-A806-2B82FB4A8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5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9:01Z</dcterms:created>
  <dc:creator>ds0929</dc:creator>
  <dc:description/>
  <dc:language>en-US</dc:language>
  <cp:lastModifiedBy>ds0929</cp:lastModifiedBy>
  <dcterms:modified xsi:type="dcterms:W3CDTF">2013-03-08T10:51:42Z</dcterms:modified>
  <cp:revision>1</cp:revision>
  <dc:subject/>
  <dc:title>Slide 1</dc:title>
</cp:coreProperties>
</file>