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A88-55D2-45EB-A8BC-FF16C051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4BB-9A16-4E6A-A8E0-F469DFFF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CA4-B879-46E1-95B5-DA90F8D9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556-1566-4B53-AC44-FFCB7152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C7D-BB13-457B-9403-A6D979E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0E7-DC9A-4A63-B14F-01B3937B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22B-8783-47DF-870D-752C0085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036-58D2-42E5-B1AD-797BF7A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9BF-2925-43EA-8810-0A634FB8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A50-E910-429D-95A4-ED73E7F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780-E852-40D8-8DE5-A1AA26D2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50F-3615-49C1-B509-8400CC5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A5A-8E16-40FF-B3A2-BBF36A08F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2:35Z</dcterms:created>
  <dc:creator>ds0929</dc:creator>
  <dc:description/>
  <dc:language>en-US</dc:language>
  <cp:lastModifiedBy>ds0929</cp:lastModifiedBy>
  <dcterms:modified xsi:type="dcterms:W3CDTF">2013-03-02T02:13:13Z</dcterms:modified>
  <cp:revision>1</cp:revision>
  <dc:subject/>
  <dc:title>Slide 1</dc:title>
</cp:coreProperties>
</file>