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EF8-A490-4F3F-B5D4-733C8182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BD-2DB7-48C0-880D-A8FBA74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886-684B-4882-A9C5-BDCEBC33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908-FE5D-490E-B612-76182851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522-127C-4A95-A8D4-4D23DCCF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82E-05FE-4B59-B6C1-DB689AC4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D3D-1DE1-40A1-894C-0F14A59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962-A354-4F25-BDC6-9FECA6B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250-B03F-4972-B649-31062AB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5D7-17BE-40B5-9D1C-CBBC46E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0D8-B9D3-462A-96DD-D88DE83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844-69BF-402A-B2A5-FBE3D4B5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697-7DCD-4DDF-913C-2DEFC2ED6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6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1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2:15Z</dcterms:created>
  <dc:creator>ds0929</dc:creator>
  <dc:description/>
  <dc:language>en-US</dc:language>
  <cp:lastModifiedBy>ds0929</cp:lastModifiedBy>
  <dcterms:modified xsi:type="dcterms:W3CDTF">2013-03-02T02:30:53Z</dcterms:modified>
  <cp:revision>1</cp:revision>
  <dc:subject/>
  <dc:title>Slide 1</dc:title>
</cp:coreProperties>
</file>