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1CF-46C4-4211-A506-C3F19A52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AC5-30C0-4219-9CB7-64009CCD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A4B-5F8B-4C9D-AF4A-A4DAD8B4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F8C-BA86-4305-B276-1FDDE00F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43E-B62F-44DC-B534-8E9EB473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6E3-1577-4777-8275-DAFEEA41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77A-4E3E-4DB9-AF79-13537676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508-D2B2-46E2-B185-2FB31198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EB6-C2D7-4A55-818B-790A1172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B37-6D33-421E-909A-4774C4B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030-2191-4E2D-8A38-24862E5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218-AFDF-4646-8F56-ACAC24FF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59B-3EEB-4414-BD9D-E2AEB36F2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20:52Z</dcterms:created>
  <dc:creator>ds0929</dc:creator>
  <dc:description/>
  <dc:language>en-US</dc:language>
  <cp:lastModifiedBy>ds0929</cp:lastModifiedBy>
  <dcterms:modified xsi:type="dcterms:W3CDTF">2013-03-15T06:27:45Z</dcterms:modified>
  <cp:revision>1</cp:revision>
  <dc:subject/>
  <dc:title>Slide 1</dc:title>
</cp:coreProperties>
</file>