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8EC-D123-41D6-84BC-0922D293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394-A68F-4CD7-8B40-A7FB2593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1EA-D12B-4429-8465-BB4EF228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A5F-91A1-4752-965C-0398CCAF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166-12A0-48C2-BDBF-BEB6BF1E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FD6-7B63-44DD-A6C3-DBE18E50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71C-16BB-4ADF-A4D3-0AB60AAF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E74F-0A0B-4AE5-B298-29A8CDF6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B8B-1457-4687-AB1E-38D81CFF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2BA-8CE8-4358-8F87-3D42A928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17E-6AA5-459C-AB89-582627F1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655-E1F7-4C6A-AF84-5CEDA2E5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2989-29FF-43D1-93BC-5C42A0F0B6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9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12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22:43Z</dcterms:created>
  <dc:creator>ds0929</dc:creator>
  <dc:description/>
  <dc:language>en-US</dc:language>
  <cp:lastModifiedBy>ds0929</cp:lastModifiedBy>
  <dcterms:modified xsi:type="dcterms:W3CDTF">2013-03-15T06:28:22Z</dcterms:modified>
  <cp:revision>1</cp:revision>
  <dc:subject/>
  <dc:title>Slide 1</dc:title>
</cp:coreProperties>
</file>