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410-04A9-42AF-8BBF-A17B042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B99-DFC9-4163-9F5D-8BDB5B2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5CF-0285-4445-93BC-59C2018A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44D-D0DE-4A95-9AF1-2C35E01D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190-8A77-4D3A-B417-23E4275A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7F4-B102-454C-B164-6670B0A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CC2-E18B-40C2-8433-C2B6DE8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215-9A4F-43BF-B6D5-A196E4C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518-C5ED-41B3-8609-6C2470D2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4D9-33BA-4698-99E1-E933899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A6D-6BD5-4F59-8426-09078E6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3A2-9B58-4093-BC84-467C524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E4D4-06F7-4BA3-AAB0-1C49B0926B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0:51Z</dcterms:created>
  <dc:creator>ds0929</dc:creator>
  <dc:description/>
  <dc:language>en-US</dc:language>
  <cp:lastModifiedBy>ds0929</cp:lastModifiedBy>
  <dcterms:modified xsi:type="dcterms:W3CDTF">2013-03-08T10:41:28Z</dcterms:modified>
  <cp:revision>1</cp:revision>
  <dc:subject/>
  <dc:title>Slide 1</dc:title>
</cp:coreProperties>
</file>