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01E-CB69-43A7-B350-B0ECF670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BF7-D199-4018-B4FC-0923D20C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1D3-05B1-4728-8927-0D54160F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E86-D9CA-4D23-B7FE-558AE74F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CFB-31BC-49EE-8B36-10FF7EAB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8DF-FAE5-42F5-A0DC-620A0B89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4E4-EC61-4337-80B6-8A699F6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B44-4B9A-4857-97D9-12DC0272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541-CEC6-4CF1-9C79-9F43B3C2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38D-8A9F-494D-815B-C6A0DBE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D22-A9B6-4127-B5CD-774A032E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C01-EB2B-41EA-BE42-900EBA6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1A87-23A0-4C01-82B5-1E55675D4F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9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6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31:27Z</dcterms:created>
  <dc:creator>ds0929</dc:creator>
  <dc:description/>
  <dc:language>en-US</dc:language>
  <cp:lastModifiedBy>ds0929</cp:lastModifiedBy>
  <dcterms:modified xsi:type="dcterms:W3CDTF">2013-03-15T06:32:30Z</dcterms:modified>
  <cp:revision>1</cp:revision>
  <dc:subject/>
  <dc:title>Slide 1</dc:title>
</cp:coreProperties>
</file>