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A2E-967E-44F1-A364-995FCF30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F42-1973-41AE-ACF2-C823498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B1E-9558-4B2C-80C3-CDD6B806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7F5-893C-4491-9857-A5E5F649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E85-F6D4-4263-A60C-BE267005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B3B-51AE-4504-94D7-8601EB1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46B-FE1F-4692-9597-74CC8D64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CE8-824B-46FF-A331-7197DE90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CA0-06D4-4EA2-8B41-A6B9ED6C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44C-E650-4CF2-83B1-089DDC7A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4FA-7D4E-4B83-ABAC-5787ECC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420-5C21-4005-AFA0-3BE6CF8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6964-FFC3-4094-A370-7691FE4FF7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1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35:53Z</dcterms:created>
  <dc:creator>ds0929</dc:creator>
  <dc:description/>
  <dc:language>en-US</dc:language>
  <cp:lastModifiedBy>ds0929</cp:lastModifiedBy>
  <dcterms:modified xsi:type="dcterms:W3CDTF">2013-03-08T10:36:32Z</dcterms:modified>
  <cp:revision>1</cp:revision>
  <dc:subject/>
  <dc:title>Slide 1</dc:title>
</cp:coreProperties>
</file>