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37B-3F3A-4116-B5AC-ECAF2BE4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444-4CC6-443F-B5DA-CAA7CD0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268-1D4B-4A47-BF6A-90739BD0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80A-965A-4D97-A846-3F50A93C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1B6-1072-4592-BE15-08F69924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F66-5E04-43A8-9044-93F199FD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1FF-4430-4816-9660-0DD31987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EF5-EA95-4F12-AED6-086DE072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A36-88E4-4D55-9D50-4F71CC5D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804-2387-4FD9-ACF4-F9B6655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8A0-6743-4150-9E9C-BE19263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1FC-2453-4278-A51D-6D48A78B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AC12-518D-4689-B5E4-0317E8FAB5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7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0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08:24Z</dcterms:created>
  <dc:creator>ds0929</dc:creator>
  <dc:description/>
  <dc:language>en-US</dc:language>
  <cp:lastModifiedBy>ds0929</cp:lastModifiedBy>
  <dcterms:modified xsi:type="dcterms:W3CDTF">2013-03-15T06:09:06Z</dcterms:modified>
  <cp:revision>1</cp:revision>
  <dc:subject/>
  <dc:title>Slide 1</dc:title>
</cp:coreProperties>
</file>