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FDFF-54E3-4E22-A117-C42F90F1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BBBD-91F6-4C12-9A83-8341CA1C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8CF-E684-41AA-B0C2-6BCE91A8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628-2352-41BD-8062-750073FD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CF6-0246-4778-AD00-E873312E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8DD-B67F-4F13-864B-001C5408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529-6C87-400B-B3B0-70961A7B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0E4-8852-452E-A751-2C51625A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974-C2B5-4444-A82E-F2ABC343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BE5-4B72-4991-A668-16E7F53E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573-F10F-40F7-B0F1-899B0065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203-9F43-46EE-85EB-54878080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B6A3-BDE6-44CE-BB50-EDE999D655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11805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45:30Z</dcterms:created>
  <dc:creator>ds0929</dc:creator>
  <dc:description/>
  <dc:language>en-US</dc:language>
  <cp:lastModifiedBy>ds0929</cp:lastModifiedBy>
  <dcterms:modified xsi:type="dcterms:W3CDTF">2013-03-08T10:46:51Z</dcterms:modified>
  <cp:revision>1</cp:revision>
  <dc:subject/>
  <dc:title>Slide 1</dc:title>
</cp:coreProperties>
</file>