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15A-FFA6-4D26-975A-94979E11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A3EE-6931-4798-8996-8F2313C3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3B8-430F-4E8F-A0DC-E43B8E66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C503-0B17-41A4-B68C-2841A188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847-F37C-4C9A-8B75-DDC57779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4664-8E90-48BB-B685-43E3EC7B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95C-49E5-476E-B8D5-6EB6CE04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6B2-056D-4B71-9E07-D9A29192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8BCB-0923-4B96-9AF8-C2DE563C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E1F-C4BF-4AC7-95DF-57EBD5D9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3CB0-792F-487C-9475-9288B439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788-37EA-4E88-BC74-ED580097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6CAF-84A5-4204-BECC-E29F8970CA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04:26Z</dcterms:created>
  <dc:creator>ds0929</dc:creator>
  <dc:description/>
  <dc:language>en-US</dc:language>
  <cp:lastModifiedBy>ds0929</cp:lastModifiedBy>
  <dcterms:modified xsi:type="dcterms:W3CDTF">2013-03-15T06:05:35Z</dcterms:modified>
  <cp:revision>1</cp:revision>
  <dc:subject/>
  <dc:title>Slide 1</dc:title>
</cp:coreProperties>
</file>