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8AD-D9AE-4801-8D5D-D7583761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982-8D7E-4CE0-853D-09EFC89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BED-F8F0-43FF-97E0-7CD2EB9A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47C-33D0-49A3-895F-4F7E0AC7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3AD-1E5A-4BB1-9931-07E152A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DA7-DD44-4780-A6ED-5F62BE8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D60-363A-409D-B574-057748AD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0E1-2015-4116-BDC1-02DA2BF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4CB-56C0-4B3F-AAD9-7EFF9425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B86-9F87-426E-874C-6FB5223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874-57DD-4606-8E5E-0A415AF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28B-123C-4280-A9CC-5D30148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509-0533-445A-86A3-CF25841790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4:36Z</dcterms:created>
  <dc:creator>ds0929</dc:creator>
  <dc:description/>
  <dc:language>en-US</dc:language>
  <cp:lastModifiedBy>ds0929</cp:lastModifiedBy>
  <dcterms:modified xsi:type="dcterms:W3CDTF">2013-03-02T02:05:52Z</dcterms:modified>
  <cp:revision>1</cp:revision>
  <dc:subject/>
  <dc:title>Slide 1</dc:title>
</cp:coreProperties>
</file>