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318-E006-432E-8891-B52294FB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F96-3094-468A-8D4E-B4B7E774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361-9BEB-4203-80DD-8B806EEB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134-4012-4CB0-8D2A-6F5359B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0F4-CF8B-4187-A99B-6235FBC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006-AF04-45D0-9357-782DECFF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D3A-BB81-42DB-899C-AB80A97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91F-524D-417B-8046-0E15334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DA1-6E1B-471F-AB4B-E229DE4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1CB-4967-44CD-AC81-FCCE816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1E4-A2C0-46F9-B840-58EF5CB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37A-5BD9-40D2-922D-60129CA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4F17-AA2B-4AE3-BDEA-BD120110E1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30100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2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1:53:40Z</dcterms:created>
  <dc:creator>ds0929</dc:creator>
  <dc:description/>
  <dc:language>en-US</dc:language>
  <cp:lastModifiedBy>ds0929</cp:lastModifiedBy>
  <dcterms:modified xsi:type="dcterms:W3CDTF">2013-03-02T01:58:07Z</dcterms:modified>
  <cp:revision>1</cp:revision>
  <dc:subject/>
  <dc:title>Slide 1</dc:title>
</cp:coreProperties>
</file>