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120-B04D-4852-840C-A8A1D98C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279-279A-4F60-B387-A2E1E24A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211-D60A-43AF-AE20-002AD48B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15A-323D-42CD-81B8-3B16434F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75D-91FE-4161-AA5A-A5E1244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54E-7E82-4BD9-A8ED-D7D606EE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6A8-34E5-4CCD-82C1-1A9F2406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89B-C1EE-48FC-9B8E-032AB6F0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EB8-5BC2-48CA-8E42-A5901310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0C6-9A56-4A5E-8D8F-1AF4276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572-9218-485E-838B-12AC5D9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A26-5543-4939-AC55-F276CEBD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2456-8B7F-4E1F-80B6-10B1EECAA8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70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5:33Z</dcterms:created>
  <dc:creator>ds0929</dc:creator>
  <dc:description/>
  <dc:language>en-US</dc:language>
  <cp:lastModifiedBy>ds0929</cp:lastModifiedBy>
  <dcterms:modified xsi:type="dcterms:W3CDTF">2013-03-02T02:16:16Z</dcterms:modified>
  <cp:revision>1</cp:revision>
  <dc:subject/>
  <dc:title>Slide 1</dc:title>
</cp:coreProperties>
</file>