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7F9-56B8-484D-990F-B378EBD7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A7A-B6C3-42F5-843D-A4E2909E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29E-6D9C-4E02-A619-C4689875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D2C-9483-4CB1-AA1E-D2B71A06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864-EA27-4514-9615-D3F507F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2B8-B863-4FE0-A9B3-A696910F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171-E21F-41F3-AC8D-B120464C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507-25D9-42BC-B281-DACBEB01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89E-3F90-4526-8F24-F1DD0ADF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206-71D1-4B6D-AA46-2BE48D4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078-B9BC-41C9-A41E-7809CA3D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B20-F99A-463F-B49A-E706602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44FA-B177-4E78-B570-0B4C490CB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1:12Z</dcterms:created>
  <dc:creator>ds0929</dc:creator>
  <dc:description/>
  <dc:language>en-US</dc:language>
  <cp:lastModifiedBy>ds0929</cp:lastModifiedBy>
  <dcterms:modified xsi:type="dcterms:W3CDTF">2013-03-15T06:11:56Z</dcterms:modified>
  <cp:revision>1</cp:revision>
  <dc:subject/>
  <dc:title>Slide 1</dc:title>
</cp:coreProperties>
</file>