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315C-4227-4423-A800-6C5FCD252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66ED-1C41-4A57-AD22-5155C57EE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F384-273F-4FBF-B5BA-7761EB025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A832-3314-4F7D-B9CD-4E9232F6E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8343-162C-4663-B3E7-8B3C73ED5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04E1-130B-4F16-96EF-2BD4AC7E5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6952-CC73-4A4B-BE40-29CA0FA82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FBC2-C772-48B6-BA36-7D86EE7C8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DDC1-F17E-4901-AF25-83815E1C6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0751-83F2-461C-A83F-7558CC1C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FB5A-B185-4EE0-83F0-2E0D1E59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DDAF-D5C4-492F-996B-6BA491B8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1F186-6B31-4519-A656-C1AF8CC27F7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8" descr="P1180577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05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312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5T06:05:41Z</dcterms:created>
  <dc:creator>ds0929</dc:creator>
  <dc:description/>
  <dc:language>en-US</dc:language>
  <cp:lastModifiedBy>ds0929</cp:lastModifiedBy>
  <dcterms:modified xsi:type="dcterms:W3CDTF">2013-03-15T06:08:19Z</dcterms:modified>
  <cp:revision>1</cp:revision>
  <dc:subject/>
  <dc:title>Slide 1</dc:title>
</cp:coreProperties>
</file>