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C5C-E9B5-409A-8969-BE39DEDB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174-1AB1-4736-AF8C-FB382096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749-B3F6-4ED8-A59B-F1BD4973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E8E-BA98-401D-A680-60A3E885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C43-F152-4CC9-B345-AED98839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BE7-EBF4-4DA3-8492-017590D6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2DD-0A91-4925-925E-A5407761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9E3-4BB8-4BFF-9E20-8FCFCEDC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5D7-EA57-448F-A506-B5D72762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D17-14BC-4610-926C-0BFBC27E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2D35-44E6-45DA-AA79-87DE4A44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310-1E8A-4A2C-8CD7-7F4E5228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31AB-28F1-4687-A4FB-3FB8F40606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8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468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17:02Z</dcterms:created>
  <dc:creator>ds0929</dc:creator>
  <dc:description/>
  <dc:language>en-US</dc:language>
  <cp:lastModifiedBy>ds0929</cp:lastModifiedBy>
  <dcterms:modified xsi:type="dcterms:W3CDTF">2013-03-15T06:32:53Z</dcterms:modified>
  <cp:revision>3</cp:revision>
  <dc:subject/>
  <dc:title>Slide 1</dc:title>
</cp:coreProperties>
</file>