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5296-97AF-441A-B0F6-908557DE7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7E1E-7225-42EE-A16C-7802E4977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5545-F7CA-4442-8EFB-6B9F2FEF3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E2C5-4231-49CB-8F0F-47166833D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9274-D01C-41DC-8317-920EE6AFD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7997-453F-4816-9B1F-1C8B1710D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B996-2EE2-4FAC-9562-055A2D69A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B81D-A769-48D4-AFA5-B697F87B4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497F-D8A6-4ED4-AB3A-68D825C20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9F63-7B53-4D08-8BB2-553D4950E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AD8C-BF6A-4218-B01D-9D68DC18C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C357-1B77-4E15-9B9A-127ABD445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AF354-3689-464F-B741-343757500AE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P118056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001_A_018_U Kyaw Naing.mp3" descr=""/>
          <p:cNvPicPr/>
          <p:nvPr/>
        </p:nvPicPr>
        <p:blipFill>
          <a:blip r:embed="rId2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75104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8T10:53:21Z</dcterms:created>
  <dc:creator>ds0929</dc:creator>
  <dc:description/>
  <dc:language>en-US</dc:language>
  <cp:lastModifiedBy>ds0929</cp:lastModifiedBy>
  <dcterms:modified xsi:type="dcterms:W3CDTF">2013-03-08T10:53:54Z</dcterms:modified>
  <cp:revision>1</cp:revision>
  <dc:subject/>
  <dc:title>Slide 1</dc:title>
</cp:coreProperties>
</file>