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B9D-E119-46A3-9430-FD9DA4D3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59C-FA7A-4505-A996-FE9423E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769-A2A6-46AC-A834-39DEBCB9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CF2-DBC5-40A4-9DD5-6E778AD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EF8-CCD3-494F-8F6B-28354A90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5C8-8180-4817-882D-11CF72B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1FD-9022-42EA-98B0-E6FF7DD0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310-CCE9-4713-9B1E-0FAF0AB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C60-38BA-4D81-9F72-CC35FAC6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5C9-2053-4720-9624-1FAE0D5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4FF-52F5-4F85-A02C-1F6D6FC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DDF-9AB0-4105-8CD6-3480CEA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9D2-6BDF-484B-AB6E-A33A3B6C9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8:23Z</dcterms:created>
  <dc:creator>ds0929</dc:creator>
  <dc:description/>
  <dc:language>en-US</dc:language>
  <cp:lastModifiedBy>ds0929</cp:lastModifiedBy>
  <dcterms:modified xsi:type="dcterms:W3CDTF">2013-03-15T06:18:37Z</dcterms:modified>
  <cp:revision>1</cp:revision>
  <dc:subject/>
  <dc:title>Slide 1</dc:title>
</cp:coreProperties>
</file>