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BB6-66B3-42BC-AF2A-AA57EE69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D1A0-1C0F-4612-BAAC-4E8AC48A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F7C-44CB-4C6C-B5A5-E2B4CE0D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E8EB-45B8-4FA1-9962-EEBE4DB2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13AC-C436-4120-AEEE-12934A63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0F5-378E-4173-99BA-BC68A10F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18F-2E4C-48DD-8408-88F550FC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6F5C-07A5-401E-936D-BB13FA79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05D-24C2-4105-9FD0-6732D711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F48-5009-4F14-9DB4-1535630F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D7E-1BA1-49BF-99B5-C15DD76C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B590-05E2-4EF8-B69D-AA93E892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DCC3-DA6F-48DD-8D09-A69A5B3893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7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03:19Z</dcterms:created>
  <dc:creator>ds0929</dc:creator>
  <dc:description/>
  <dc:language>en-US</dc:language>
  <cp:lastModifiedBy>ds0929</cp:lastModifiedBy>
  <dcterms:modified xsi:type="dcterms:W3CDTF">2013-03-15T06:04:52Z</dcterms:modified>
  <cp:revision>1</cp:revision>
  <dc:subject/>
  <dc:title>Slide 1</dc:title>
</cp:coreProperties>
</file>