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B25A-5BF7-464E-937B-65DE2791E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A9B3-7241-49E7-97BF-C873AEBB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3281-1C6D-476B-8914-C5A87D55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4156-A86B-45C1-82B7-E9F95BEAC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633A-EE92-4920-8684-AD06E3C7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B74B-5D8B-47A9-9FE8-402B8FAE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9239-19A6-4237-86D1-B2149367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C9AC-56CF-40BD-92F4-FA42E648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36AE-0490-48E1-AFD0-75B91FBE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91BF-CAA5-4F40-A10A-C7476E11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AD7F-5526-4E6C-8F29-46277B51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879E-B18F-4A6F-A8FC-451EE5BE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F8BE-0EFF-4C74-9433-2CA4F077FE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30100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6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726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2:16:20Z</dcterms:created>
  <dc:creator>ds0929</dc:creator>
  <dc:description/>
  <dc:language>en-US</dc:language>
  <cp:lastModifiedBy>ds0929</cp:lastModifiedBy>
  <dcterms:modified xsi:type="dcterms:W3CDTF">2013-03-02T02:16:52Z</dcterms:modified>
  <cp:revision>1</cp:revision>
  <dc:subject/>
  <dc:title>Slide 1</dc:title>
</cp:coreProperties>
</file>