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024-15C6-4208-8D34-8BAA8439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067-0CA1-4A1C-977E-EBEB76C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913-40AF-4C4A-AFA5-EB1A74C7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E92-61B2-4B81-94EB-2C933EE1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870-F221-4927-8001-FA03B0C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1DD-2ABA-41D4-921C-29CE06B3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3F9-9398-4359-8C26-0B84E0A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0E-19B1-48CF-8FE2-CBE1B53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F27-3FE1-4865-A552-7A431013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14A-1FCB-4E30-A75B-AF872BF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FEC-163E-47E7-94D5-3BFC21B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1C5-24FA-4596-9C19-7E29212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C5AD-4A62-456E-B0A9-CB52D9532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5:01Z</dcterms:created>
  <dc:creator>ds0929</dc:creator>
  <dc:description/>
  <dc:language>en-US</dc:language>
  <cp:lastModifiedBy>ds0929</cp:lastModifiedBy>
  <dcterms:modified xsi:type="dcterms:W3CDTF">2013-03-15T06:25:39Z</dcterms:modified>
  <cp:revision>1</cp:revision>
  <dc:subject/>
  <dc:title>Slide 1</dc:title>
</cp:coreProperties>
</file>