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090F-DFF7-48D8-A6C7-5F6A1592C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12CF-C779-4B7F-9E44-34DE77224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1F18-3C58-43D9-B725-C5872B249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5F60-61B7-414E-971F-157D9EABA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99FD-E948-42BA-99F1-EB9AA7F8C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17D2-F7C7-469D-8E28-E865438E2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0295-8BF5-4D02-AF2F-177FD239A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E424-9C17-4E0F-BF67-5FCEAD565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7AB4-6AD3-46A7-B33D-C2F433564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6857-BA7E-487B-9CC7-F89E9F45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5323-958B-4859-B262-F54FDD96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5AE0-AAED-46A5-9378-A54557E5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C639B-97AB-4F8B-93C4-507F8B7F473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1180594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8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3424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5T06:25:50Z</dcterms:created>
  <dc:creator>ds0929</dc:creator>
  <dc:description/>
  <dc:language>en-US</dc:language>
  <cp:lastModifiedBy>ds0929</cp:lastModifiedBy>
  <dcterms:modified xsi:type="dcterms:W3CDTF">2013-03-15T06:28:54Z</dcterms:modified>
  <cp:revision>1</cp:revision>
  <dc:subject/>
  <dc:title>Slide 1</dc:title>
</cp:coreProperties>
</file>