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5C3-F0AE-4533-B19E-6AE3111B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925-77E3-4E54-9739-052EB58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AFA-549D-4E63-90AE-696738FE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82D-DF3F-45AE-81D2-617CE5A5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48E-C478-44F7-9499-00A4E438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7CE-AE8B-420A-BB89-44466537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23B-573F-4043-89F2-59898FF4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249-8BFF-4B6D-B1EE-1A0A693F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05A-02DB-4829-8D08-BC37136D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549-3440-4DB1-951A-B4F0530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016-7FF2-40B7-ACEE-854032F1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6C4-19A4-4407-967F-EBE1E3CF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1C59-F9C2-4D6A-AE68-A6E3D30EF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7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7:01Z</dcterms:created>
  <dc:creator>ds0929</dc:creator>
  <dc:description/>
  <dc:language>en-US</dc:language>
  <cp:lastModifiedBy>ds0929</cp:lastModifiedBy>
  <dcterms:modified xsi:type="dcterms:W3CDTF">2013-03-02T02:17:38Z</dcterms:modified>
  <cp:revision>1</cp:revision>
  <dc:subject/>
  <dc:title>Slide 1</dc:title>
</cp:coreProperties>
</file>