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935A-65C1-40CB-A4F0-CDFC6FC6C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4C22-512A-414D-BD9A-4216107FF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0679-8271-40A6-8A2E-4DF959035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10A4-1B2A-42A9-A3A0-A23685A05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7FB7-4433-4431-B0C5-14C0CBB79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B83C-BCE6-4318-9B8C-4CA55F070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5339-899F-45D2-A419-3AA7D7DDB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2B4D-9BEE-4F58-A5B6-962FC8A5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51E9-267B-4FCB-B151-F1515D201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4529-619A-4345-AB12-3D8A412C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261B-3193-4252-8349-BD51088F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A371-CBB9-4CA7-8B15-3E39D7B1E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23422-FCB4-4922-BBC3-B019FFFA04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301004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2T01:58:14Z</dcterms:created>
  <dc:creator>ds0929</dc:creator>
  <dc:description/>
  <dc:language>en-US</dc:language>
  <cp:lastModifiedBy>ds0929</cp:lastModifiedBy>
  <dcterms:modified xsi:type="dcterms:W3CDTF">2013-03-02T02:00:21Z</dcterms:modified>
  <cp:revision>1</cp:revision>
  <dc:subject/>
  <dc:title>Slide 1</dc:title>
</cp:coreProperties>
</file>