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A2B-A7D6-4C17-88DB-AB6D09AF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111-4591-41E8-A7C5-A3627A1B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AC3-DC38-40FC-A967-C8F0E902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687-8BE7-4CAC-9659-9ECBBF1B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D49-8DE0-4680-9B91-7467F1A0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55B-35FC-4625-9D3A-118B5CA4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811-7784-4430-AFBF-3946158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84B-45C0-4F0D-8F7B-2A6DEFA2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40-4768-417C-A88F-395A1A8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97A-3945-460D-A816-AD87BDF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D4F-8581-4A9A-8325-58DF642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A48-72A6-4567-ADD8-50B6016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22FA-D256-4C08-B84E-BBB3904CE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5:31Z</dcterms:created>
  <dc:creator>ds0929</dc:creator>
  <dc:description/>
  <dc:language>en-US</dc:language>
  <cp:lastModifiedBy>ds0929</cp:lastModifiedBy>
  <dcterms:modified xsi:type="dcterms:W3CDTF">2013-03-02T02:26:13Z</dcterms:modified>
  <cp:revision>1</cp:revision>
  <dc:subject/>
  <dc:title>Slide 1</dc:title>
</cp:coreProperties>
</file>