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676-B40E-46C5-A3F6-E8CD69D6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0CF-CAF0-432C-B507-BCB04D01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918-AAA0-49A0-825A-CCABB47B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954-D7C6-4994-92B3-47BD7BF2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10D-9468-446F-9A26-98445FB7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6C2-8252-46C7-968B-94804D89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9A4-D315-4630-A8E9-72140B0D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F87-75E3-4D9B-A3EC-D93399C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728-2BFE-45B0-8B76-16A84C86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DE0-7757-4ECF-80AB-8986AD9C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EE4-220C-4438-A14D-0BD71AAD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A4B-A444-4A32-9C37-E8A6F543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369-6B0C-41F9-A8FD-A846FDAAC0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53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06:47Z</dcterms:created>
  <dc:creator>ds0929</dc:creator>
  <dc:description/>
  <dc:language>en-US</dc:language>
  <cp:lastModifiedBy>ds0929</cp:lastModifiedBy>
  <dcterms:modified xsi:type="dcterms:W3CDTF">2013-03-02T02:07:30Z</dcterms:modified>
  <cp:revision>1</cp:revision>
  <dc:subject/>
  <dc:title>Slide 1</dc:title>
</cp:coreProperties>
</file>