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DBA-5151-4FE1-BBB8-FCB42343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528-9CA4-4906-8EBE-ABC791DE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5F0-0347-4300-9B7A-5CDD113D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E60-9BFA-4CF9-946C-F9295D60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00A-2139-4F79-AA73-A2FE1C4F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507-3921-479E-B25B-E1ABE0A5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E63-9AE7-435F-8571-22B2B004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232-AB12-4BA5-9CB7-0B31695E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27D-8BE0-41C2-8EE7-64221F53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F6B-A32F-40C0-BD66-5FCB3C76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F7D-5F9E-4054-B9E8-FD1B1E6D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0BD-8DF5-47D6-BFB2-69F82477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99DB-1595-47D0-9DA7-4404FD3F73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81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05:55Z</dcterms:created>
  <dc:creator>ds0929</dc:creator>
  <dc:description/>
  <dc:language>en-US</dc:language>
  <cp:lastModifiedBy>ds0929</cp:lastModifiedBy>
  <dcterms:modified xsi:type="dcterms:W3CDTF">2013-03-02T02:06:43Z</dcterms:modified>
  <cp:revision>1</cp:revision>
  <dc:subject/>
  <dc:title>Slide 1</dc:title>
</cp:coreProperties>
</file>