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392-31EC-40E1-B341-465F5016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A5E-8142-4504-8385-F595EA26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C56-1B69-4B7A-AD7D-0011B05C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36B-5386-4AD0-B796-A20DBF29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7FA-DBDA-42A4-A664-8968D7A5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17A-4E09-4DDA-8065-FAD2510D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E29-B10D-48F0-A21F-88C350E0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351-BA71-4B16-B8BF-C20C52CC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549-21B7-4034-ADED-DE22AD1F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754-5C0E-485B-A7CA-F5038EF5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F71-756B-4A7E-8BC3-025250D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FB77-E5C6-429E-8D6A-4A83785D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D87E-D8B8-400C-A56B-5778061E79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8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281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13:46Z</dcterms:created>
  <dc:creator>ds0929</dc:creator>
  <dc:description/>
  <dc:language>en-US</dc:language>
  <cp:lastModifiedBy>ds0929</cp:lastModifiedBy>
  <dcterms:modified xsi:type="dcterms:W3CDTF">2013-03-15T06:14:24Z</dcterms:modified>
  <cp:revision>1</cp:revision>
  <dc:subject/>
  <dc:title>Slide 1</dc:title>
</cp:coreProperties>
</file>