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515-0346-417A-B517-A828FAAD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109-84D5-4E71-AA6C-D5737ECD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E9C-C670-4CB1-A438-6F370FFA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EDD-0580-424B-A730-2E3D14BB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4FAB-C85A-4F9B-A04B-C635BC2C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7F6-BC2F-4644-8740-304837F0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2C5-CB2F-4547-B514-09E62900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F94-83C3-4C83-BFF2-459DAE32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052-8050-4357-935A-F7AE4A6B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6F0-B679-4069-A285-65AA83A9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650-51CB-41DE-8E5D-52D9B019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512-28AF-4C26-A980-304389E9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A63C-94EB-449A-9123-41F1593724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11805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88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43:27Z</dcterms:created>
  <dc:creator>ds0929</dc:creator>
  <dc:description/>
  <dc:language>en-US</dc:language>
  <cp:lastModifiedBy>ds0929</cp:lastModifiedBy>
  <dcterms:modified xsi:type="dcterms:W3CDTF">2013-03-08T10:48:48Z</dcterms:modified>
  <cp:revision>2</cp:revision>
  <dc:subject/>
  <dc:title>Slide 1</dc:title>
</cp:coreProperties>
</file>