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894-9B28-4498-8D22-690E4442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086-5A2C-48A9-BDBD-7C012FA6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52F-59D8-452B-B5E5-4DDCB0FC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542-03C9-45D1-B4F1-58680362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4B8-3C6F-4604-9ABE-02A92393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137-7302-41DF-9C02-D9C0F262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D0C-759C-4ABF-B6C4-3080C27F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F4A1-9E0F-467B-859E-FF3AE21C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E63-3B08-4E69-863D-B1F4A0A5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BDE-0CD9-4A63-B251-88841BF3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B9E-8CF5-4152-92CD-69F0C6B7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AD7-7E45-48DE-A8BD-E38BB092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00CE-E38D-4537-972F-FC8942EC88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12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53:58Z</dcterms:created>
  <dc:creator>ds0929</dc:creator>
  <dc:description/>
  <dc:language>en-US</dc:language>
  <cp:lastModifiedBy>ds0929</cp:lastModifiedBy>
  <dcterms:modified xsi:type="dcterms:W3CDTF">2013-03-08T10:54:50Z</dcterms:modified>
  <cp:revision>1</cp:revision>
  <dc:subject/>
  <dc:title>Slide 1</dc:title>
</cp:coreProperties>
</file>