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878-E1B1-4A5C-8E16-3B8B2475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42A-21B1-49D9-87E9-BC829F2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EF2-2FAA-42DE-9BCB-88B6074A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B19-352B-4E11-A013-AD92BF62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2EF-7462-404D-860D-21F125D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B55-5402-4DE5-9798-2F053345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BD9-C492-4418-8621-56E022AD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FE7-2EFF-42BD-A4B5-A92C9C39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E9A-2CDD-4E5F-809F-CBD06C2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EBC-9742-4CDC-91EF-DBC08FB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5E8-EDFD-4FD9-835F-CDC837A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41F-A94B-431A-B7B6-13E26E0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4F2-9377-4C40-AD20-8C25B34DF9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1:49Z</dcterms:created>
  <dc:creator>ds0929</dc:creator>
  <dc:description/>
  <dc:language>en-US</dc:language>
  <cp:lastModifiedBy>ds0929</cp:lastModifiedBy>
  <dcterms:modified xsi:type="dcterms:W3CDTF">2013-03-08T10:57:36Z</dcterms:modified>
  <cp:revision>1</cp:revision>
  <dc:subject/>
  <dc:title>Slide 1</dc:title>
</cp:coreProperties>
</file>