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625-E3FB-4FC0-B059-5D47E7E1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E9E-574C-4D60-856D-4D3BFA8A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2D6-8BC0-42E7-8AAB-6DDD8E2C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C65-83B9-4B57-BC73-EB7EBA92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60C-052A-4EA0-BCE7-C0989852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491-60B5-4A86-BFBD-8C553372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280-16E0-4A47-9378-90641B43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850-0449-4DE7-9B3E-DF5587D2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3E2-C269-45C3-B91D-2D279C0C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498-59C6-40B1-80A1-C134F76B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383-3DC0-4917-8E1E-B0E80DED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FCD-9805-4C60-9FB5-B4290303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736-FDD4-4DCC-B4E6-1CBE48A389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6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23:49Z</dcterms:created>
  <dc:creator>ds0929</dc:creator>
  <dc:description/>
  <dc:language>en-US</dc:language>
  <cp:lastModifiedBy>ds0929</cp:lastModifiedBy>
  <dcterms:modified xsi:type="dcterms:W3CDTF">2013-03-02T02:24:38Z</dcterms:modified>
  <cp:revision>1</cp:revision>
  <dc:subject/>
  <dc:title>Slide 1</dc:title>
</cp:coreProperties>
</file>