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26BE-10C2-4131-92AC-C17549C5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131C-2AE3-4DC9-A85B-E2E2DE72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9AEF-C261-49FD-83BB-9397B490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77CF-4EF4-46C7-9125-F565DC66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DF66-070C-431C-9C9E-583B0F1D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F262-5B44-4679-9D20-4AFADC4D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17CA-8D25-4D42-8EA0-FC6E072D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C545-CF9A-4B7B-AA45-E96EAF44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1F6-79FF-408A-B382-C14A79A7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4C95-177E-430F-A693-ADB43EFE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0643-CEA0-4258-AF59-6D112E41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2FE-2583-41B3-B098-6E911A01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76B4-7756-4E68-95D6-81D1DFA32F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30100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9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11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07:38Z</dcterms:created>
  <dc:creator>ds0929</dc:creator>
  <dc:description/>
  <dc:language>en-US</dc:language>
  <cp:lastModifiedBy>ds0929</cp:lastModifiedBy>
  <dcterms:modified xsi:type="dcterms:W3CDTF">2013-03-02T02:08:19Z</dcterms:modified>
  <cp:revision>1</cp:revision>
  <dc:subject/>
  <dc:title>Slide 1</dc:title>
</cp:coreProperties>
</file>