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839-291D-4043-88BE-94A363B6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F96-1FAE-47FF-A150-C34D07C2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5DD-A18A-4C0D-BA07-791DFB3A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8E6-ACF4-4B7E-9A80-818195F9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AE7-DE66-4E00-97B3-A33937A6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A5F-5B89-4714-8A1E-DB49CCF9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E28-E92B-484A-81F3-B2EC9796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FFE-012B-4DDA-88ED-0C3E3827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8E0-A4F2-42D7-8CF3-365B1C80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9A1-EEAD-484D-B122-FC1C58E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D32-25D2-44B6-8CF6-A45033F2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77A-02F6-4249-97A0-CF27357A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DA98-FDB6-4E38-9732-C99D60323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0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6:18Z</dcterms:created>
  <dc:creator>ds0929</dc:creator>
  <dc:description/>
  <dc:language>en-US</dc:language>
  <cp:lastModifiedBy>ds0929</cp:lastModifiedBy>
  <dcterms:modified xsi:type="dcterms:W3CDTF">2013-03-15T06:16:54Z</dcterms:modified>
  <cp:revision>1</cp:revision>
  <dc:subject/>
  <dc:title>Slide 1</dc:title>
</cp:coreProperties>
</file>