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9152-E9FB-4431-B4FD-3A330133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C0A4-5145-431F-AC95-95F9B1C8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A103-0975-46F2-B798-51CD9508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C30D-9369-4489-B13D-47D41569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2AE4-74EE-4C11-B8E8-CBE9478B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D7BD-7089-4B60-BC6C-759FF5E2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796C-DB7A-4A61-A5F6-EBC4D94E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F079-0BCD-4508-8F63-9C17B2AF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DA0-B0A3-4E5A-A933-7ED3C4E5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5298-1A84-43F1-98AD-2A56404B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5933-2DA4-4608-B425-8FD506D5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1238-568C-430B-AA69-A892C9DD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071A-1B7C-4B9E-AC1A-0D74307CD3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30100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0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220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2:08:27Z</dcterms:created>
  <dc:creator>ds0929</dc:creator>
  <dc:description/>
  <dc:language>en-US</dc:language>
  <cp:lastModifiedBy>ds0929</cp:lastModifiedBy>
  <dcterms:modified xsi:type="dcterms:W3CDTF">2013-03-02T02:09:43Z</dcterms:modified>
  <cp:revision>1</cp:revision>
  <dc:subject/>
  <dc:title>Slide 1</dc:title>
</cp:coreProperties>
</file>