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387-5809-486E-9F3C-D12E765B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FF5-58D5-4BFF-81E0-B8DA7EF1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9FCB-EC5F-48C0-8830-407DC990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F82A-389E-469B-95A1-871F729A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06AA-3A13-40B9-91E1-9E3A9072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E0BE-BCAC-49C2-B51E-F05E99A6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322-A2D3-4865-BB0B-D8863A3D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CFE3-B549-478A-AA6F-F4E3EAC4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A7B-8D0E-4E84-8BF3-138D9485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589-AA9E-4B7D-AE22-C9EC210F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FD69-2D52-423A-A5C2-C2C9A460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0D5C-52D4-4707-AA85-8BAAE248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2D99-99D0-4AE6-93A7-2FBEACFB4E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30100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3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72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30100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13:19Z</dcterms:created>
  <dc:creator>ds0929</dc:creator>
  <dc:description/>
  <dc:language>en-US</dc:language>
  <cp:lastModifiedBy>ds0929</cp:lastModifiedBy>
  <dcterms:modified xsi:type="dcterms:W3CDTF">2013-03-02T02:14:37Z</dcterms:modified>
  <cp:revision>1</cp:revision>
  <dc:subject/>
  <dc:title>Slide 1</dc:title>
</cp:coreProperties>
</file>