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D2B-83DB-4F99-A8CA-25AACED4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DFC-AC86-4605-92F5-9F3D7FAD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981-445A-4FEF-920C-119DE9B9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BDC-E7D9-4671-9070-9373090E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70F-D83B-47F0-AAB1-F6C6E42E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801-47E2-40C2-B4E2-481A061C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518-BB8F-47F2-B4B1-773915CF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5C6-9B05-407C-BBD6-8706B850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25F-0374-4213-9427-2D60C900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0A2-1A4D-4F24-BD07-26F70C84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D1E-29F2-4592-B497-C7124A5E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0A4-4F75-4ADF-9EFF-3DC2B611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4070-F419-4AA8-A7D6-E76F145FCC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75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41:37Z</dcterms:created>
  <dc:creator>ds0929</dc:creator>
  <dc:description/>
  <dc:language>en-US</dc:language>
  <cp:lastModifiedBy>ds0929</cp:lastModifiedBy>
  <dcterms:modified xsi:type="dcterms:W3CDTF">2013-03-08T10:43:17Z</dcterms:modified>
  <cp:revision>1</cp:revision>
  <dc:subject/>
  <dc:title>Slide 1</dc:title>
</cp:coreProperties>
</file>