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D80-E35B-4E9B-A07D-0FF513FA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A6AD-9877-4210-8046-A108DA1D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8FB-0045-4BCD-AC46-59236356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4E0-C81B-4462-BC5F-29798430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E6B-7DE8-4DBF-98C0-42C11ED1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39E-0541-4A68-AEFB-197FA020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C88-46E0-437E-8C05-02202E7A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3EE-CD8A-47C6-9A26-CE3BDA9E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5AA-D588-4EB8-B527-13F2DA57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71D-EE84-42A7-835E-969F8AEC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CFA-4CC6-4457-B97D-4DDE68AC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896-FCB8-45B0-8E95-41A304F2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9928-7E59-49B1-B9F7-3204D6E2F0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17:55Z</dcterms:created>
  <dc:creator>ds0929</dc:creator>
  <dc:description/>
  <dc:language>en-US</dc:language>
  <cp:lastModifiedBy>ds0929</cp:lastModifiedBy>
  <dcterms:modified xsi:type="dcterms:W3CDTF">2013-03-15T06:18:13Z</dcterms:modified>
  <cp:revision>1</cp:revision>
  <dc:subject/>
  <dc:title>Slide 1</dc:title>
</cp:coreProperties>
</file>