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004-67AB-48F7-9274-78599812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1C6-DE19-45F4-B5F6-97AF948F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BDD-E9FC-4E50-8782-5CBE4E22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725-56D5-414E-A693-B0750592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3B0-1F5E-47A9-9E60-089F6F5F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590-BBC3-4229-B959-4CDA11C8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6DA-F440-4F74-A9D6-30FD9447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8D4-E9E5-4718-8080-B2079E65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D20-E296-4492-8154-1C355656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227-B45C-4D71-A912-2A0795C5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66B-18D8-40C2-BDE7-F34CFDEB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FC3-E860-4A43-8599-8BBE65D2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79B9-C59C-422D-BA12-B7BFFD17F8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6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98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22:54Z</dcterms:created>
  <dc:creator>ds0929</dc:creator>
  <dc:description/>
  <dc:language>en-US</dc:language>
  <cp:lastModifiedBy>ds0929</cp:lastModifiedBy>
  <dcterms:modified xsi:type="dcterms:W3CDTF">2013-03-02T02:23:38Z</dcterms:modified>
  <cp:revision>1</cp:revision>
  <dc:subject/>
  <dc:title>Slide 1</dc:title>
</cp:coreProperties>
</file>