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72B-D594-4CA3-B834-812B8C42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B2A-9FD8-4A12-B01E-0993A43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C0F-70FE-46BD-B8E9-A97A7773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22C-4EBB-4B37-BB38-6BF7E39C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9EB-1725-476C-BCA3-34A17660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ABA-FF3E-4902-9F1B-E4C0C844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7EF-9774-47E0-B48C-4954D3F0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9EC-7E21-48BF-B53D-51AB939A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4F7-62E2-4C91-BA3E-D4ECFE8E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F6C-2F32-4D17-A876-20D66C62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7F2-5FB2-41E8-87EB-5D56C485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7AD-C812-474A-91E0-41924B77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DEBA-4C00-40AD-8107-F7FBAD6F13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5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23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21:14Z</dcterms:created>
  <dc:creator>ds0929</dc:creator>
  <dc:description/>
  <dc:language>en-US</dc:language>
  <cp:lastModifiedBy>ds0929</cp:lastModifiedBy>
  <dcterms:modified xsi:type="dcterms:W3CDTF">2013-03-02T02:31:05Z</dcterms:modified>
  <cp:revision>1</cp:revision>
  <dc:subject/>
  <dc:title>Slide 1</dc:title>
</cp:coreProperties>
</file>