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B26-4696-498A-A906-A507E35E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B94-5A70-4715-A878-DB9BAD7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4C5-AC67-48E8-972A-EFDF2629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F1B-9F75-4B2F-A18E-11B0906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914-664D-442F-B893-D51D196A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C2C-3AFA-49B9-8EAA-226D669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690-BD5D-4CB9-B52B-31F8CD1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178-F7F5-4F61-AF6C-5A3B5D8C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FE7-9078-4756-8BD1-D13F4E8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5A2-5AC6-4372-A628-26B98B9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189-17E4-4B85-A725-88C9F6D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E1C-0BF0-4CA7-88D6-DC2E567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BE04-3A8D-4ECE-88AC-3EA8AEBD4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6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1:46Z</dcterms:created>
  <dc:creator>ds0929</dc:creator>
  <dc:description/>
  <dc:language>en-US</dc:language>
  <cp:lastModifiedBy>ds0929</cp:lastModifiedBy>
  <dcterms:modified xsi:type="dcterms:W3CDTF">2013-03-02T02:22:08Z</dcterms:modified>
  <cp:revision>1</cp:revision>
  <dc:subject/>
  <dc:title>Slide 1</dc:title>
</cp:coreProperties>
</file>