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EB91-6497-4802-9EEE-4F85125EF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5473-53B3-4B11-8307-D9B5F47F8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23FF-15F9-47AB-AC71-4CE8D799E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D0BE-E5B5-4DA4-AC98-0A521D38A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D485-8876-4535-B825-7DAB70D1B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8544-0E16-4033-874D-581E5B78B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9497-3C51-4E8E-9F8D-11921511C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4E4B-8252-4327-A7B8-AB08253E9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35EF-5975-41C0-B148-49B3144B6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310D-C931-4FEF-A14D-D303971D0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D8C1-DBFC-4616-B9B1-5A82F6495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C81E-9EC0-48CE-8EE9-B3D17E3CF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8C6B5-C44C-4AE2-9976-74E105AF821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1180582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08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9632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5T06:12:02Z</dcterms:created>
  <dc:creator>ds0929</dc:creator>
  <dc:description/>
  <dc:language>en-US</dc:language>
  <cp:lastModifiedBy>ds0929</cp:lastModifiedBy>
  <dcterms:modified xsi:type="dcterms:W3CDTF">2013-03-15T06:12:47Z</dcterms:modified>
  <cp:revision>1</cp:revision>
  <dc:subject/>
  <dc:title>Slide 1</dc:title>
</cp:coreProperties>
</file>