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7E8F-25B9-4BF0-BB31-4D1331D70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7037-ED5C-456B-B30A-91808D3E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092C-9445-401F-B11B-CA8FF86CD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A23A-3BBF-4DB5-BD6F-711FB3409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86E8-02BB-46D4-9DA5-0483B237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726F-58B6-46FD-B3E5-510D9ABF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C450-A4BB-4636-935E-D54C3902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C134-B44F-4B28-8D69-DA6D9268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A568-5DD4-4DBA-A186-65D7837E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339F-1527-4564-A444-7C851D9D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DB3B-4EC0-44E2-9338-CAFDCB12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5584-5CEF-44C4-8994-6D50C60F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3CB5-F7B9-49F8-98FD-C969A7EE6B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55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6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5056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8T10:39:19Z</dcterms:created>
  <dc:creator>ds0929</dc:creator>
  <dc:description/>
  <dc:language>en-US</dc:language>
  <cp:lastModifiedBy>ds0929</cp:lastModifiedBy>
  <dcterms:modified xsi:type="dcterms:W3CDTF">2013-03-08T10:40:00Z</dcterms:modified>
  <cp:revision>1</cp:revision>
  <dc:subject/>
  <dc:title>Slide 1</dc:title>
</cp:coreProperties>
</file>