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7B8-F87C-4438-9235-B63F9F59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0B5-D0BB-4040-BBC3-327645D6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8B3-280A-420E-A565-7D957CAA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877-F750-4140-BEE3-E8749E6B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689-A81A-49E6-92F1-6A06709B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B52-55CB-4695-85B2-AF8DA913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6B0-477C-46ED-AEFD-9621651D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3FFB-3B06-4E17-A9AB-121DC24E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39F-A972-40E2-A322-B877A3FB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B52-8453-41A6-90F1-57ACE2D4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D5E-E046-405D-85BC-71488ED1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814D-D717-40EC-AD20-DDE1A5BC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B0F8-82A2-4D94-B43A-5C5D338835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80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14:43Z</dcterms:created>
  <dc:creator>ds0929</dc:creator>
  <dc:description/>
  <dc:language>en-US</dc:language>
  <cp:lastModifiedBy>ds0929</cp:lastModifiedBy>
  <dcterms:modified xsi:type="dcterms:W3CDTF">2013-03-02T02:15:28Z</dcterms:modified>
  <cp:revision>1</cp:revision>
  <dc:subject/>
  <dc:title>Slide 1</dc:title>
</cp:coreProperties>
</file>