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6D7-C598-466A-8E8D-0052B002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4A5-1AB2-4B7D-A02B-069FC9E6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9E1-81CB-47D3-A35B-CF959B90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18A-2DA1-4EF9-A095-E0310C4F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9F0-0314-445D-8EBD-5B4BFD1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728-FC9F-451D-982F-76F6C7A0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B58-5954-4321-BB07-DD0D0E4A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124-C944-4363-BE12-67F21853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BBF-8E55-451E-9428-D1F38B5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0C6-3E1E-400F-926A-49F296D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2C2-7E16-435B-8787-50925B4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1BB-FFC4-4F14-837E-FF62CFD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1D36-20D4-492C-8466-3E2475F47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4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5:40Z</dcterms:created>
  <dc:creator>ds0929</dc:creator>
  <dc:description/>
  <dc:language>en-US</dc:language>
  <cp:lastModifiedBy>ds0929</cp:lastModifiedBy>
  <dcterms:modified xsi:type="dcterms:W3CDTF">2013-03-08T10:56:13Z</dcterms:modified>
  <cp:revision>1</cp:revision>
  <dc:subject/>
  <dc:title>Slide 1</dc:title>
</cp:coreProperties>
</file>