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F85-2DB6-47AE-AE8C-92A3AB9D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1AC-429B-44EF-97A5-75D8D0A9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C92-7B22-4A48-AD40-8BF0D077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A0D-7798-4D60-9791-4CC4F377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998-250D-4931-BBF6-EA0F4E7F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BE0-5C8D-4E86-9788-0DC1F4DD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0D0-35F9-4D08-A622-2DFA8F4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F9F-9FC7-4C89-BDC3-B79F3BE7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815-834A-449A-8362-068469D8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976-0A8C-497D-8C2D-616F34DA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C9B-256A-4FF8-8C01-3ECFE759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43D-33CA-4CA2-902F-418AA6F5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46B4-BA97-4819-94E7-E3AAE9EF15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30100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9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01:21Z</dcterms:created>
  <dc:creator>ds0929</dc:creator>
  <dc:description/>
  <dc:language>en-US</dc:language>
  <cp:lastModifiedBy>ds0929</cp:lastModifiedBy>
  <dcterms:modified xsi:type="dcterms:W3CDTF">2013-03-02T02:03:00Z</dcterms:modified>
  <cp:revision>1</cp:revision>
  <dc:subject/>
  <dc:title>Slide 1</dc:title>
</cp:coreProperties>
</file>