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ABD-A490-4445-A2E5-986DE898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76C-364B-49E0-917D-277C4786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6C0-A816-420A-9F85-FDDFC009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BD6-742E-41E9-AB71-A027E11A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A71-F1C4-4148-A63B-A9FD113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49B-30E5-4731-9898-CEE2C02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042-9BD1-45D1-99E7-56FF631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3D0-7A3F-4AD3-B99A-674EE79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320-90BF-48D0-BC06-6DA2FF7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38D-E7D0-48FF-88EE-AE48E1C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AB5-958D-48AB-B8DA-55DF6B5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ABC-88E7-4AD2-9BDB-8BCDC02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22BE-7207-4034-965C-522264431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50:04Z</dcterms:created>
  <dc:creator>ds0929</dc:creator>
  <dc:description/>
  <dc:language>en-US</dc:language>
  <cp:lastModifiedBy>ds0929</cp:lastModifiedBy>
  <dcterms:modified xsi:type="dcterms:W3CDTF">2013-03-08T10:50:54Z</dcterms:modified>
  <cp:revision>1</cp:revision>
  <dc:subject/>
  <dc:title>Slide 1</dc:title>
</cp:coreProperties>
</file>