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869A-CD5E-4AE6-8CE8-310D497A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697C-C0A4-401E-AC1E-F95F6ADC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4219-B19D-4404-9B97-B32986A8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F3BE-72E5-4644-B464-2927AA2B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2174-44E7-47F0-B14B-3092943B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3B21-90AC-4CC4-9622-2175777C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2774-EF6D-4371-AD7B-F5CACC01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DBE0-8470-4AD2-9397-919871FF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42AF-FD54-4E29-9A01-ED498F4C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727C-2DA7-4A2C-B591-45509A3A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D684-7660-4404-9C88-738631CA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5177-C8DF-4F01-AF03-1B444123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DE52-97C8-4482-A179-53214560AB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1180586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0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84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06:15:27Z</dcterms:created>
  <dc:creator>ds0929</dc:creator>
  <dc:description/>
  <dc:language>en-US</dc:language>
  <cp:lastModifiedBy>ds0929</cp:lastModifiedBy>
  <dcterms:modified xsi:type="dcterms:W3CDTF">2013-03-15T06:16:02Z</dcterms:modified>
  <cp:revision>1</cp:revision>
  <dc:subject/>
  <dc:title>Slide 1</dc:title>
</cp:coreProperties>
</file>