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1B8-211F-4D6E-8778-65F996CE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B83-1846-4ADF-955D-BE8A1AAA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7BF-EA73-4468-AF2D-38C299A8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E3B-EDAC-4074-BA4C-A22BE3D9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555-003D-4384-BD84-19A2C75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87A-56CC-448D-A3CA-644B22B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2BC-D7FA-499A-A25A-4C84472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D4E-5704-4074-8A1C-A5B87432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FA9-DF37-4480-88D4-A4D74757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56C-A704-42F5-83EC-59BFE3A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326-89F6-4626-A24C-B39E593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C62-F87B-4DA7-BCA4-8BC47A7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0E0C-ADC7-4059-A2B9-015109D3E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118057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5:53:19Z</dcterms:created>
  <dc:creator>ds0929</dc:creator>
  <dc:description/>
  <dc:language>en-US</dc:language>
  <cp:lastModifiedBy>ds0929</cp:lastModifiedBy>
  <dcterms:modified xsi:type="dcterms:W3CDTF">2013-03-15T06:00:54Z</dcterms:modified>
  <cp:revision>1</cp:revision>
  <dc:subject/>
  <dc:title>Slide 1</dc:title>
</cp:coreProperties>
</file>