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A26E-05A9-42CA-AAC9-A06446EE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89BF-BF2C-482C-9500-7AD45CBC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B33C-7593-4C32-801E-EF8E46DD5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5809-56E5-4748-BFF0-93AF18046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69C0-1A30-4C35-90EC-C9374548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0E73-F6FD-4AE8-B561-D06BB11D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B218-A66D-470E-B568-07522955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DDBD-B48E-4867-9B20-F28CDEB9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8338-38BA-4574-86E3-35C4FFA2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624E-7EFA-4C0C-928A-FFC11280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F950-A4D7-4FFE-B3B9-668928C7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6E0C-CBBE-4287-A355-C775E6CC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9972-BBFA-4A6B-A6AB-A95CAC916C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1180572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2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739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06:01:04Z</dcterms:created>
  <dc:creator>ds0929</dc:creator>
  <dc:description/>
  <dc:language>en-US</dc:language>
  <cp:lastModifiedBy>ds0929</cp:lastModifiedBy>
  <dcterms:modified xsi:type="dcterms:W3CDTF">2013-03-15T06:01:43Z</dcterms:modified>
  <cp:revision>1</cp:revision>
  <dc:subject/>
  <dc:title>Slide 1</dc:title>
</cp:coreProperties>
</file>