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029-5510-4B44-967C-4FAC4A66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3DE-70D9-45A8-A640-A479F00D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687-3298-4802-ADDA-032494E5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679-49FF-46B0-9429-1AD23782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28C-CFD7-44B1-8866-69C86E2A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9AC-15EB-46E7-B479-E44E2ADB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87D-AB34-4476-8DFC-7709D5A3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CFD-8152-4143-85B8-1706E8A2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49D-52EA-4DF1-A153-2CCDD79E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C7B-759F-4530-8DCC-681FACA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5E3-8B75-4C85-A1D1-462DF941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D1F-1988-4197-A6E8-D36F26CA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8C63-CD63-4C38-806D-27FFCC54F0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7" descr="P30100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0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10:47Z</dcterms:created>
  <dc:creator>ds0929</dc:creator>
  <dc:description/>
  <dc:language>en-US</dc:language>
  <cp:lastModifiedBy>ds0929</cp:lastModifiedBy>
  <dcterms:modified xsi:type="dcterms:W3CDTF">2013-03-02T02:12:30Z</dcterms:modified>
  <cp:revision>1</cp:revision>
  <dc:subject/>
  <dc:title>Slide 1</dc:title>
</cp:coreProperties>
</file>