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A69-8037-44D6-9CD7-17C78010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4AD-69F9-4E92-A77E-DE62413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622-E61D-4A78-BCB1-37012C99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CB1-CDF9-46F9-A558-3299B08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CBD-FC43-4B56-82F3-3D02520A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803-9A94-4DD8-8674-1526ABD8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DF0-6020-4BF7-8DA9-A97DD66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9F0-AB9B-45FE-9B63-9B2D3461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A38-7195-4191-8D38-3429B6B9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ACF-94CA-4C6E-AD4B-2ABAA97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241-E03D-420F-BD6D-6D9251C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B0E-9AC2-4A37-88F1-88298F8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579-4587-4AC0-BD09-D223F113B8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30100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8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3:04Z</dcterms:created>
  <dc:creator>ds0929</dc:creator>
  <dc:description/>
  <dc:language>en-US</dc:language>
  <cp:lastModifiedBy>ds0929</cp:lastModifiedBy>
  <dcterms:modified xsi:type="dcterms:W3CDTF">2013-03-02T02:04:30Z</dcterms:modified>
  <cp:revision>1</cp:revision>
  <dc:subject/>
  <dc:title>Slide 1</dc:title>
</cp:coreProperties>
</file>