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D68-34FE-42F5-A9F7-480E8E5B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DFF-A341-471B-92FD-AD9008AF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EF7-5417-48D8-BB24-09409FC2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426-BF87-4475-8B5F-74BDEDFF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0F1-3208-42D4-9066-A83659ED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69C-607A-441E-A6D9-25642DE3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C6F-3269-4D22-A3F9-A604EA0C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600-E9D2-41A0-93DD-1F6E4F75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6C5-757B-4A46-B3DC-564CCD47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654-0B64-4A5F-BBC4-5461EF48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EF1-5D0E-4A43-9EDA-D2034FC3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D2B-3AB3-42E1-9434-CE76741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762F-126C-437D-A176-48534CA26C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7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03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02:42Z</dcterms:created>
  <dc:creator>ds0929</dc:creator>
  <dc:description/>
  <dc:language>en-US</dc:language>
  <cp:lastModifiedBy>ds0929</cp:lastModifiedBy>
  <dcterms:modified xsi:type="dcterms:W3CDTF">2013-03-15T06:03:14Z</dcterms:modified>
  <cp:revision>1</cp:revision>
  <dc:subject/>
  <dc:title>Slide 1</dc:title>
</cp:coreProperties>
</file>