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A96-5AF6-4D7E-803F-88E59315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7C2-696B-47D0-AC44-AFB32D7B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264-58EA-458A-8AE9-8BCBA9E9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6AF-B282-4C81-BEA4-AE17FACC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E03-25FC-4A4F-9F4A-5E127CBE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E64-C7F1-41A2-BADA-3A981BE1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F5F-2495-4FF0-A043-E89ED437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DBF-A773-48E4-83AA-3D6716C5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6AC-E35A-44F4-9344-79B20A4B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34E-D7FF-4EBA-BF66-6A8BB39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E34-9B27-471C-8904-184F799C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687-1817-4D20-9C5C-2F68B2B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88BA-18D3-4AC5-AB8B-45F633130F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2:52Z</dcterms:created>
  <dc:creator>ds0929</dc:creator>
  <dc:description/>
  <dc:language>en-US</dc:language>
  <cp:lastModifiedBy>ds0929</cp:lastModifiedBy>
  <dcterms:modified xsi:type="dcterms:W3CDTF">2013-03-15T06:13:33Z</dcterms:modified>
  <cp:revision>1</cp:revision>
  <dc:subject/>
  <dc:title>Slide 1</dc:title>
</cp:coreProperties>
</file>