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A399-B28C-438F-97B0-D1EAF2FA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54F4-943D-4BEB-B265-E4FAF72E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E213-D7E6-4E0C-882E-4CB2A0D4E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BD51-267E-4D4B-B8E0-275520968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D4C5-1BD3-472E-A7ED-20AEDCCA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0C70-E00D-4376-B14E-C2E12591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3ABB-F1D5-43A6-92EC-E4066A43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A8C6-780A-41CA-A4F6-D641CF1A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A25A-9108-4DE7-88BA-BC6D63D0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F26D-8E5E-4053-9227-01DA0145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C191-10D5-4950-8B6A-40AF21B4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7DAC-B92E-43DC-A68E-026FCA57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6618-9A03-4C44-9E51-EC859A822E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56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7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870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0:52:39Z</dcterms:created>
  <dc:creator>ds0929</dc:creator>
  <dc:description/>
  <dc:language>en-US</dc:language>
  <cp:lastModifiedBy>ds0929</cp:lastModifiedBy>
  <dcterms:modified xsi:type="dcterms:W3CDTF">2013-03-08T10:53:12Z</dcterms:modified>
  <cp:revision>1</cp:revision>
  <dc:subject/>
  <dc:title>Slide 1</dc:title>
</cp:coreProperties>
</file>