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954-0220-4A80-BA3F-0BE7318A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82D-22DD-4D20-90BB-CCE7098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1E3-3213-4E67-B421-864503BC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FBC-58A5-4731-991D-1F18A833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EE1-293D-4F82-9A6D-DBE376B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F42-E943-487D-B3D5-64F06B18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778-7AB9-4780-84F1-F2D9724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DB8-F523-469E-B97C-9F16D31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CD1-5197-4418-8480-44577C50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49E-E799-46DF-8263-F80170F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D16-AC5F-410D-88A8-85AC918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A9E-1812-4ECE-A9E6-74136C4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516F-67D1-473D-822A-4F82150EC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1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1:59:09Z</dcterms:created>
  <dc:creator>ds0929</dc:creator>
  <dc:description/>
  <dc:language>en-US</dc:language>
  <cp:lastModifiedBy>ds0929</cp:lastModifiedBy>
  <dcterms:modified xsi:type="dcterms:W3CDTF">2013-03-02T02:00:12Z</dcterms:modified>
  <cp:revision>1</cp:revision>
  <dc:subject/>
  <dc:title>Slide 1</dc:title>
</cp:coreProperties>
</file>