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A53-4371-4D5C-BB0B-EE95FB30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A08-FF71-48FA-9212-DCD0A471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98D-7CFD-4E47-92C0-FF01D68A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F3E-F545-4037-9C09-09DF82F6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0D7-ECEC-4E0E-B720-06493297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51B-0510-4865-970A-DBDB49A7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95A-E81D-48F8-B0DE-3839DF9B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021-735F-41FA-8BAB-ED73BCBA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CB1-D6D3-407C-ADDA-165FFCE2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5B3-4314-44F0-83FD-AC486A27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E53-25C7-449D-954F-E2AAA239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936-C8DF-44C5-8331-8C26138F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4760-BC43-4FDD-8429-CE7B46062D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24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40:03Z</dcterms:created>
  <dc:creator>ds0929</dc:creator>
  <dc:description/>
  <dc:language>en-US</dc:language>
  <cp:lastModifiedBy>ds0929</cp:lastModifiedBy>
  <dcterms:modified xsi:type="dcterms:W3CDTF">2013-03-08T10:40:44Z</dcterms:modified>
  <cp:revision>1</cp:revision>
  <dc:subject/>
  <dc:title>Slide 1</dc:title>
</cp:coreProperties>
</file>