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E1F-74E9-453E-8533-3A6D76B9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595-4C1A-41D1-8363-E6741AFC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ED1-1CDF-4A14-9096-F901AB8A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5A6C-C975-45E6-9D2A-B0368BE6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5FA-CE0C-458B-BD82-28DBEEE9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19D-983B-40E2-91E4-50840EB7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80A-CAB3-48A3-97DF-36483C40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F73-2B42-441A-9869-BC85CC0A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D08-522B-4BC6-9C4E-3B0CD5C3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B7B-1600-4DEA-8FF2-A702DAC8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F83-61BF-4D1C-9737-25936BE1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E03-0296-4206-8371-F6D0F499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3BC6-12E5-454C-B132-BCA02B347B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30100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7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83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30100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29:34Z</dcterms:created>
  <dc:creator>ds0929</dc:creator>
  <dc:description/>
  <dc:language>en-US</dc:language>
  <cp:lastModifiedBy>ds0929</cp:lastModifiedBy>
  <dcterms:modified xsi:type="dcterms:W3CDTF">2013-03-02T02:30:31Z</dcterms:modified>
  <cp:revision>1</cp:revision>
  <dc:subject/>
  <dc:title>Slide 1</dc:title>
</cp:coreProperties>
</file>