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409-F5FB-4898-AA03-C2986345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90B-0F86-4CC4-9DFB-6E3F61B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E07-FDAA-4C79-810E-6812410E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52E-DBB3-4024-AC00-446BA9FB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D12-DDE6-441B-8885-1CF2DA0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803-8F34-41FC-B451-7D32A12B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386-E484-4FEA-BF6B-42A4F02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C6F-3CA7-4287-AC75-B8901726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75C-1356-427A-B133-086D887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537-DF1F-4C28-9306-5FF2A475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5C3-F22C-4F8C-9EA8-F31E22A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460-3740-43A6-A2E0-633FCD8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FB2-2C4C-4C46-A204-ADEFD998F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8:24Z</dcterms:created>
  <dc:creator>ds0929</dc:creator>
  <dc:description/>
  <dc:language>en-US</dc:language>
  <cp:lastModifiedBy>ds0929</cp:lastModifiedBy>
  <dcterms:modified xsi:type="dcterms:W3CDTF">2013-03-08T10:39:10Z</dcterms:modified>
  <cp:revision>1</cp:revision>
  <dc:subject/>
  <dc:title>Slide 1</dc:title>
</cp:coreProperties>
</file>