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00D-8625-46DA-B456-EAEC9FB9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6935-1993-4B25-85A0-849FD6BA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BFA-A3C5-42E2-8070-E3CA5733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2590-F845-4AAE-B5DF-23EE3484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5A2-1B90-4123-9093-36F3DE94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B4A-D4FD-4EF8-89F8-38FB3D60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27B8-D911-47CF-93FB-41B4A27B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885-3AA5-4932-9E5D-834D0613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E504-5FDE-4784-A0F4-24C379F4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AC1-D4B0-4623-B4C5-392156FB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2A6F-6B5F-4CDB-B00F-23F636F9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8DCD-EE5F-4F60-8F90-3ADAEC85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6739-2281-4ECE-BCD2-3BD389C98D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0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12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35:38Z</dcterms:created>
  <dc:creator>ds0929</dc:creator>
  <dc:description/>
  <dc:language>en-US</dc:language>
  <cp:lastModifiedBy>ds0929</cp:lastModifiedBy>
  <dcterms:modified xsi:type="dcterms:W3CDTF">2013-02-09T04:37:07Z</dcterms:modified>
  <cp:revision>1</cp:revision>
  <dc:subject/>
  <dc:title>Slide 1</dc:title>
</cp:coreProperties>
</file>