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1648-4124-446F-8B36-3D0037E1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89E7-B34A-4757-8045-BDB28EB1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4EB8-81FF-4636-8821-E9F1DF80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9BA4-F17B-4392-952B-0196DDAD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6C5F-6D87-4441-A519-0F5036FA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72E1-F349-42E9-86BE-FC66808D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4FF2-87AE-416D-BA9F-4F503B2D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D165-CD5E-4972-8CBD-360DB549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132-3C45-4DE2-8289-50E89A66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4F07-EADF-4501-A543-226D1501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E3EA-EBCB-4240-8D4A-D6BE3E9F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FEA8-6080-484B-8C01-658BCCF2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7046-6173-47F1-859D-3468E58A9A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5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712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1:08:52Z</dcterms:created>
  <dc:creator>ds0929</dc:creator>
  <dc:description/>
  <dc:language>en-US</dc:language>
  <cp:lastModifiedBy>ds0929</cp:lastModifiedBy>
  <dcterms:modified xsi:type="dcterms:W3CDTF">2013-02-15T11:09:35Z</dcterms:modified>
  <cp:revision>1</cp:revision>
  <dc:subject/>
  <dc:title>Slide 1</dc:title>
</cp:coreProperties>
</file>