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6837-4E99-438A-892E-6A40FE5E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F7A1-9913-4997-B971-C3B4701D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FA7C-3E68-4D6A-8CD8-5CD18D770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B923-BCA6-48A6-90E8-4D1DE830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8DE2-2F80-4CE1-906E-4143234F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9329-0AF4-456C-9218-D0611D60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6296-1FC2-4042-8AC5-DFAD7D94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5764-4924-4346-98E9-AEB5AED5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CEEA-FA2F-4CC1-8651-92FE8AD6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ED61-2E05-4657-AE6A-87E952A2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4510-A707-4ABF-8A3E-A6B12DC6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1D96-4CD8-4301-8815-D56C7601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EE25-1834-42DE-9A95-CD997DE5A9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8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5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052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10:21:13Z</dcterms:created>
  <dc:creator>ds0929</dc:creator>
  <dc:description/>
  <dc:language>en-US</dc:language>
  <cp:lastModifiedBy>ds0929</cp:lastModifiedBy>
  <dcterms:modified xsi:type="dcterms:W3CDTF">2013-02-22T10:21:56Z</dcterms:modified>
  <cp:revision>1</cp:revision>
  <dc:subject/>
  <dc:title>Slide 1</dc:title>
</cp:coreProperties>
</file>