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CEA1-46C5-465A-9651-8D928EEC9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2C00-C952-47C2-A555-C06E0B24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2BCE-6E36-4A9C-8750-B0714954F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ED16-8A01-450C-8C88-5E3724CF2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5C0E-8300-440A-B59E-969EA6C9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48BE-227E-4E87-B24B-CB3A576F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E09D-B4C7-4A25-AFC7-FFFA5C2D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A604-E9EF-455F-9F61-0CE1A939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B7B0-4197-493B-8C03-26D2D58A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4B04-F62B-441B-9FC5-8E21EBEC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0C70-36C1-45D2-A820-040655D2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4580-DE83-4C9E-B68F-5C3CC566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68E7-C5A6-4E9D-A5C1-D64D38DCD0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21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82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11:17:18Z</dcterms:created>
  <dc:creator>ds0929</dc:creator>
  <dc:description/>
  <dc:language>en-US</dc:language>
  <cp:lastModifiedBy>ds0929</cp:lastModifiedBy>
  <dcterms:modified xsi:type="dcterms:W3CDTF">2013-02-15T11:18:30Z</dcterms:modified>
  <cp:revision>1</cp:revision>
  <dc:subject/>
  <dc:title>Slide 1</dc:title>
</cp:coreProperties>
</file>