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825-7A60-4B71-B5A9-D2FC4631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092-ED28-4DE3-A990-E3DA25B1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31D-2B0B-4724-9C99-5F9F126D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A28-F5FB-496A-8DB0-2433ED97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4AD-FF58-427C-AC0E-B8C77982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B2D-E403-4FEE-AB80-E8F72B62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E35-20A2-4E62-A90B-692CD821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48A-5885-41CB-A694-E87BB7CD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FCE-61B2-4BF1-B4CC-AF01FEDC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819-7ACF-44D6-886C-9606C190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022-CF2B-45BE-84EE-0FFD022B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6EC-D81F-4B8F-BE55-98D16D87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E1CB-6AD4-464F-AB0D-B0B7B80337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61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09:43:25Z</dcterms:created>
  <dc:creator>ds0929</dc:creator>
  <dc:description/>
  <dc:language>en-US</dc:language>
  <cp:lastModifiedBy>ds0929</cp:lastModifiedBy>
  <dcterms:modified xsi:type="dcterms:W3CDTF">2013-02-22T09:47:06Z</dcterms:modified>
  <cp:revision>1</cp:revision>
  <dc:subject/>
  <dc:title>Slide 1</dc:title>
</cp:coreProperties>
</file>