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129-8588-418E-AA3A-B27AD7F8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F13-2827-489E-9236-EE44640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471-668A-4D57-AAB8-265C7D67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997-FEA2-4C22-93B4-5E21C857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4F4-D3B7-4B95-A72C-7C0C913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785-8DA4-4328-B54D-2C65187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25D-3448-4A33-AD84-3D0154C0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DEC-E4FB-4701-A677-EF5F3C9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A0D-753D-4029-AD31-F06412D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CEE-95DC-42CF-BC5A-6675C717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C83-D1D5-45C4-BBEB-4C3881C4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C23-D903-41AF-A318-1D6ABA4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4A94-A27B-4556-A55E-564E93E84A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11804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1:14Z</dcterms:created>
  <dc:creator>ds0929</dc:creator>
  <dc:description/>
  <dc:language>en-US</dc:language>
  <cp:lastModifiedBy>ds0929</cp:lastModifiedBy>
  <dcterms:modified xsi:type="dcterms:W3CDTF">2013-02-09T04:42:31Z</dcterms:modified>
  <cp:revision>1</cp:revision>
  <dc:subject/>
  <dc:title>Slide 1</dc:title>
</cp:coreProperties>
</file>