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920-FC3A-4543-B8E6-7B43E5E8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A26-5340-4DF3-810D-4C0F0979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202-96CF-4A47-9646-44FE73A9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5D4-B7EB-4109-8B22-9E23BA7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EAA-D5C7-4E89-8B4B-DE0E498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060-A702-44F4-B0BF-00A2C98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A42-829C-4DC3-970F-2AFAA4E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D0-7630-4700-BC23-A099207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847-485E-4C53-A7B2-34888C4A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BA5-2866-42A6-B23E-538DF08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63A-C44F-4B42-84FB-B8C8C93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2CE-419F-4C06-8BF1-98038807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CEB9-2175-4DAD-9383-7822ABFA3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6:24Z</dcterms:created>
  <dc:creator>ds0929</dc:creator>
  <dc:description/>
  <dc:language>en-US</dc:language>
  <cp:lastModifiedBy>ds0929</cp:lastModifiedBy>
  <dcterms:modified xsi:type="dcterms:W3CDTF">2013-02-22T10:37:09Z</dcterms:modified>
  <cp:revision>1</cp:revision>
  <dc:subject/>
  <dc:title>Slide 1</dc:title>
</cp:coreProperties>
</file>