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E5D-2F52-4BB0-A818-D10E8618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FB2-72B3-44A2-B126-0A18C60E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629-7D0A-45CD-B3F1-9D45D0DF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468-926D-4DC0-B6F3-5EE11CEB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33F-F54B-4D83-B95E-DA40663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46D-1C0B-4B63-A201-7890D35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A9F-7DFF-41B9-A042-8A12B6E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895-081D-4F3E-AB63-417BAF8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702-093E-49ED-9F32-BF8F2F0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5AE-C5FE-445E-9147-36CA206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345-EA35-47DD-8C21-7B65BC1D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A81-AFE2-45F0-9A63-CB50F26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2DA-B172-425C-8D7E-4ED33585A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32:10Z</dcterms:created>
  <dc:creator>ds0929</dc:creator>
  <dc:description/>
  <dc:language>en-US</dc:language>
  <cp:lastModifiedBy>ds0929</cp:lastModifiedBy>
  <dcterms:modified xsi:type="dcterms:W3CDTF">2013-02-09T04:38:39Z</dcterms:modified>
  <cp:revision>2</cp:revision>
  <dc:subject/>
  <dc:title>Slide 1</dc:title>
</cp:coreProperties>
</file>