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CF8-72F3-42DE-B2F3-63A2EBD4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CDC-D3C6-440B-8397-2B4C9374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FE0-25CC-40FE-8F37-9BB4094E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2033-DE64-4EFB-9629-138D22ED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46B-2DA9-4256-9E97-08035D90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A59A-06B6-4EDE-911C-286BC9B0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A64-B298-475F-84E1-95E96335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5F3-A39E-4F11-920C-7C1ED698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54A-AF13-4862-A472-19723F81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D98-3E66-4659-82A7-43FF804D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F017-A17B-456B-B92C-85A10903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BB48-476A-4AC7-A9C3-AA6CB952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9BEB-2625-4397-843B-F3FED11CEE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11804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0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10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0:28:56Z</dcterms:created>
  <dc:creator>ds0929</dc:creator>
  <dc:description/>
  <dc:language>en-US</dc:language>
  <cp:lastModifiedBy>ds0929</cp:lastModifiedBy>
  <dcterms:modified xsi:type="dcterms:W3CDTF">2013-02-22T10:45:22Z</dcterms:modified>
  <cp:revision>2</cp:revision>
  <dc:subject/>
  <dc:title>Slide 1</dc:title>
</cp:coreProperties>
</file>