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E6F-4D47-41B5-8764-2BA9E252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79F-3EF0-4964-BC7F-419E6A70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61A-F9EE-46E1-A8FC-A2C6F3B6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EA4-54AF-42A8-8895-43FB689D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C44-3CEE-46A7-8904-0CC074D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F1F-0882-4197-9FBB-432B1587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1B0-DB91-44A4-B33D-4EBB245A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66E-1EE0-4DBD-B994-22B3D49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775-DC12-4B55-BA32-019891E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6FA-DD4E-4BDE-9D20-6461ADC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67E-2F2D-4D1A-8DE9-003D261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32B-A32D-485C-BCC0-D730AEDC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08C4-7B53-4A84-A300-E285372B2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75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9:43Z</dcterms:created>
  <dc:creator>ds0929</dc:creator>
  <dc:description/>
  <dc:language>en-US</dc:language>
  <cp:lastModifiedBy>ds0929</cp:lastModifiedBy>
  <dcterms:modified xsi:type="dcterms:W3CDTF">2013-02-15T11:10:42Z</dcterms:modified>
  <cp:revision>1</cp:revision>
  <dc:subject/>
  <dc:title>Slide 1</dc:title>
</cp:coreProperties>
</file>