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84B-7258-4416-AAD3-28EE1D1B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B3F-E81E-487B-9216-9738BFCB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A8F-1733-4CAE-A9CE-E404565C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9A4-B93F-4D52-B18C-61649E32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99B-D434-443F-B2FB-CF398B26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179-1B9B-41A9-BBD5-F724C14C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9245-89D3-4370-9A12-508E30FE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E92-5939-495A-9939-BBA6741C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B04-3E5D-4504-B933-3242EF68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A61-7A41-4D90-9070-9C93DD2B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A4E-A8A6-4AA0-A3F7-E097DFEA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CB3-6369-4976-A803-26C3E66C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9DC3-E368-472C-8AA4-2C065FF7A3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9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8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34:52Z</dcterms:created>
  <dc:creator>ds0929</dc:creator>
  <dc:description/>
  <dc:language>en-US</dc:language>
  <cp:lastModifiedBy>ds0929</cp:lastModifiedBy>
  <dcterms:modified xsi:type="dcterms:W3CDTF">2013-02-22T10:35:36Z</dcterms:modified>
  <cp:revision>1</cp:revision>
  <dc:subject/>
  <dc:title>Slide 1</dc:title>
</cp:coreProperties>
</file>