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C51-FC4D-4FD2-AB88-12BAB13F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92E-0C9E-4E2D-A834-9D96879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300-0FFC-4BC1-A2CF-2961D5CB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A8F-7B35-4B60-8F67-2E81B4EA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81A-A63E-4ECB-A662-AD69825F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4AE-E2E9-440F-8783-9F678F43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3EC-7E57-406E-A9DF-BCB45D9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244-9B53-4AF7-B1B0-993C13AA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4F2-6633-4365-AB42-1DE76978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A70-0CBB-4074-AF8A-D75FA6B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C55-CC3F-4F75-B84F-B723E51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EF4-7953-4431-9160-BEBF264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450-492F-4D5C-8216-818FF0F7B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76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25:59Z</dcterms:created>
  <dc:creator>ds0929</dc:creator>
  <dc:description/>
  <dc:language>en-US</dc:language>
  <cp:lastModifiedBy>ds0929</cp:lastModifiedBy>
  <dcterms:modified xsi:type="dcterms:W3CDTF">2013-02-09T04:27:13Z</dcterms:modified>
  <cp:revision>1</cp:revision>
  <dc:subject/>
  <dc:title>Slide 1</dc:title>
</cp:coreProperties>
</file>