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BF6-EE17-4DA6-A264-F67F5DD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A0C-F53F-4FB3-9B91-658215C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FAB-E5F9-4CB3-B61D-518D93D7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792-BE5A-461D-AF44-47EB0494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562-8EB4-44AF-BF58-B509D2B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39B-2A0C-4F98-B0F5-5E81C33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890-B59A-4C5F-B274-C2B20096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5D4-EB2F-4EAC-AA0F-9D70317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33B-D357-4276-AF1D-0687810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AF6-67FF-4459-9921-D29EE56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292-06EF-4264-B807-389B54E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3DB-B2FD-453A-8499-C88ACCB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113-C053-4821-8F0A-999DCFB76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7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0:54:19Z</dcterms:created>
  <dc:creator>ds0929</dc:creator>
  <dc:description/>
  <dc:language>en-US</dc:language>
  <cp:lastModifiedBy>ds0929</cp:lastModifiedBy>
  <dcterms:modified xsi:type="dcterms:W3CDTF">2013-02-15T10:55:49Z</dcterms:modified>
  <cp:revision>1</cp:revision>
  <dc:subject/>
  <dc:title>Slide 1</dc:title>
</cp:coreProperties>
</file>