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60F-1A0C-459E-AB5E-8232D09E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72B-1373-45D8-9575-15C7F66E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7FE-6FAF-4B09-B9E7-EB6C0820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93B-58C8-4C1B-AFD4-2D88B4CA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ABF-DF24-4E4E-A7A4-DA369196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2DE-BA9F-4EA0-A27D-E5FE00D4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CD73-8EBA-4012-93B7-B040D2FC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52E-52F1-44C4-AF77-065A5408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58C-3C62-4029-BBCF-42386909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C77-B55A-47BD-BC16-0FA74B33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1EB-605D-4448-A619-0F1266B1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363-E8A1-43FE-AFFB-7262FBDE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9303-04BC-4CB6-B492-12C032C583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61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11804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26:59Z</dcterms:created>
  <dc:creator>ds0929</dc:creator>
  <dc:description/>
  <dc:language>en-US</dc:language>
  <cp:lastModifiedBy>ds0929</cp:lastModifiedBy>
  <dcterms:modified xsi:type="dcterms:W3CDTF">2013-02-22T10:28:44Z</dcterms:modified>
  <cp:revision>2</cp:revision>
  <dc:subject/>
  <dc:title>Slide 1</dc:title>
</cp:coreProperties>
</file>