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3CB-154C-4E14-8209-F8DD72D9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4D9-7DFE-4E49-B0E0-4087266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363-23B4-4B4E-A77E-E1E8BD1E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183-D601-4663-8CA3-51BB27C7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F14-F74F-4A58-B77D-9463C73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E58-890C-493E-BC33-FAF81305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5FF-4BCA-4EF1-A678-E90C0912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CBD-9E95-40D9-B9E2-DEABFD8C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736-9871-4E42-87AE-7F63EF0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06C-8EAA-4F3A-954C-F09D0DB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3E6-81B6-430B-982B-54FE8FE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CC2-956F-41A2-8038-66C22A3C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1D47-A48B-4BFA-B350-A473092D8E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4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6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47:24Z</dcterms:created>
  <dc:creator>ds0929</dc:creator>
  <dc:description/>
  <dc:language>en-US</dc:language>
  <cp:lastModifiedBy>ds0929</cp:lastModifiedBy>
  <dcterms:modified xsi:type="dcterms:W3CDTF">2013-02-09T04:49:31Z</dcterms:modified>
  <cp:revision>1</cp:revision>
  <dc:subject/>
  <dc:title>Slide 1</dc:title>
</cp:coreProperties>
</file>