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6BA3-D2CB-4F82-B603-97AED335E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3144-2F18-4DFE-9681-1D35A4AE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3D4E-2D5B-4A8E-8460-659E82C90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E690-ECBF-4CC3-8610-E39D9925A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D635-719E-443C-A8AD-3A633E5C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6E7A-AB3C-461E-AF57-4FD40EFC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AFF5-3DCE-4C16-A776-A095C112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5CB4-8801-440C-9F96-234CF5D0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479B-012A-43F1-AE78-F78C2F82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A6F7-AF98-49B9-AD5E-E9393A17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3C7E-9DBE-4217-B27D-0ED381D9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3BA5-8788-4F60-82CA-91B333B7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F008-7D7A-41CC-8CF6-1E975B6192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5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1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852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10:42:04Z</dcterms:created>
  <dc:creator>ds0929</dc:creator>
  <dc:description/>
  <dc:language>en-US</dc:language>
  <cp:lastModifiedBy>ds0929</cp:lastModifiedBy>
  <dcterms:modified xsi:type="dcterms:W3CDTF">2013-02-22T10:43:16Z</dcterms:modified>
  <cp:revision>1</cp:revision>
  <dc:subject/>
  <dc:title>Slide 1</dc:title>
</cp:coreProperties>
</file>