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ABA-6FDB-4A06-8F62-1C50AF32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B16-5F30-41A4-919E-F75F60BB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8F0-EF18-450A-8655-B35EA9EA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831-1284-418C-A7EB-7A7A8607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333-8F46-4185-905F-3D653879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604-FE51-4E8B-8AA1-2EC7320B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F81-4B1C-4475-9FFA-252DB63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000-5743-41BF-B333-69452F19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038-9733-4F5D-B0D0-B03673DB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F35-109E-492F-998C-2FEA01EF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5FA-C13C-4899-BF43-775D428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A79-ADFF-4292-ADD7-C3827467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591D-6B86-4706-A7BE-6280C95E5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5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40:13Z</dcterms:created>
  <dc:creator>ds0929</dc:creator>
  <dc:description/>
  <dc:language>en-US</dc:language>
  <cp:lastModifiedBy>ds0929</cp:lastModifiedBy>
  <dcterms:modified xsi:type="dcterms:W3CDTF">2013-02-09T04:41:10Z</dcterms:modified>
  <cp:revision>1</cp:revision>
  <dc:subject/>
  <dc:title>Slide 1</dc:title>
</cp:coreProperties>
</file>