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3D4-2510-4B9A-BC7B-A84F511C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FA9-8AD4-4CE7-8637-5484045E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058-82E8-4EB5-87A4-A1055AAC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5FD-1E62-4E16-960B-2B674B38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982-9905-4C48-BD31-B8ABAA45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4F1-B6B1-43FC-B47A-7F6AB496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F89-CF93-484F-90FC-E1EAAA89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53E-3DC8-4267-886C-F8D9F7E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E10-5F51-4771-96C0-FDC1DF74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E70-DC26-440E-8E07-5BA369D8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FF6-EBE4-40B5-8F20-239FA1F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4CF-A9E1-494D-BB51-81F8C844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8023-E029-4677-883B-7E96185683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14:21Z</dcterms:created>
  <dc:creator>ds0929</dc:creator>
  <dc:description/>
  <dc:language>en-US</dc:language>
  <cp:lastModifiedBy>ds0929</cp:lastModifiedBy>
  <dcterms:modified xsi:type="dcterms:W3CDTF">2013-02-15T11:17:14Z</dcterms:modified>
  <cp:revision>1</cp:revision>
  <dc:subject/>
  <dc:title>Slide 1</dc:title>
</cp:coreProperties>
</file>