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6EE-2DBC-43D1-9A4F-1E9FAB15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7A7-89F9-4AA9-86FB-41880FAC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723-363D-4E15-96CF-60E03C41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9FD-F70B-4756-9DB8-7C9360D1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3B3-8569-4791-BE20-2EF304B2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9DA-77C7-4B99-B8A6-097C1083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91B-6CB2-491B-B89C-85C346D7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C0D-809C-41F2-A873-9B69B66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745-D7A9-404D-88E4-EC36FF9B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7BB-83F9-4CEA-B8A4-68E02E3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21C-A7BD-489E-A941-D271D81B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D18-8302-418F-BED3-C19FB046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84C0-C79A-4BE8-8CD6-2A5099A6F8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6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6:54Z</dcterms:created>
  <dc:creator>ds0929</dc:creator>
  <dc:description/>
  <dc:language>en-US</dc:language>
  <cp:lastModifiedBy>ds0929</cp:lastModifiedBy>
  <dcterms:modified xsi:type="dcterms:W3CDTF">2013-02-15T11:07:49Z</dcterms:modified>
  <cp:revision>1</cp:revision>
  <dc:subject/>
  <dc:title>Slide 1</dc:title>
</cp:coreProperties>
</file>