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3B0-2F5A-475D-93CD-5E94E626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9E0-80B1-4361-892F-0BA8449B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418-0931-41BF-A08F-4C69B1F1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2C0-C9A7-42DE-A452-28D0820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4D-93AB-4167-B126-B086974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13D-BDB2-4C41-9375-CE0B5CBC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B94-8AF3-4E3F-9D06-B353B07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710-0DC9-4626-996B-0CD6240C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EC9-AF7E-4D87-8A87-E8B2A924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140-462F-42B1-BC26-DB647CF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D80-6440-4380-BADC-F3B4C2BC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7F-1CA2-4B18-8ACF-974468A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8E9-074D-4075-B9FE-EC32D78BB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9:58Z</dcterms:created>
  <dc:creator>ds0929</dc:creator>
  <dc:description/>
  <dc:language>en-US</dc:language>
  <cp:lastModifiedBy>ds0929</cp:lastModifiedBy>
  <dcterms:modified xsi:type="dcterms:W3CDTF">2013-02-15T11:00:28Z</dcterms:modified>
  <cp:revision>1</cp:revision>
  <dc:subject/>
  <dc:title>Slide 1</dc:title>
</cp:coreProperties>
</file>