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962A-1917-4413-AF22-229D7859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A2A2-5B3C-4010-8230-50A59223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68E5-C0E9-4700-A4D3-82BB5D69C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87C2-3742-44B5-ADA9-8A057801D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FA43-998D-4710-8879-2D203C93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658A-87C1-46A4-A0D9-9E8B7401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5684-2FC0-4FB9-BD23-EBA976DD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1E63-A297-462B-9D4C-1F03FD4A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34DD-83D0-4A33-8A48-08628F4C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9936-59FC-434D-8F0A-FA0FDB3B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43C3-E6D2-4D36-8BCE-4AF2BCE1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B338-B318-47EF-9683-A279B02A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30B1-1A87-49BD-A302-921A03BF21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4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5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3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04:49:37Z</dcterms:created>
  <dc:creator>ds0929</dc:creator>
  <dc:description/>
  <dc:language>en-US</dc:language>
  <cp:lastModifiedBy>ds0929</cp:lastModifiedBy>
  <dcterms:modified xsi:type="dcterms:W3CDTF">2013-02-09T04:50:31Z</dcterms:modified>
  <cp:revision>1</cp:revision>
  <dc:subject/>
  <dc:title>Slide 1</dc:title>
</cp:coreProperties>
</file>