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0F0-6B10-4E84-BA9F-5C8B11A9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A36-AEE6-42FE-9526-C653817C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365-AB14-467C-BB03-A337B32A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3C1-813F-4228-A628-8026AC32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233-2E39-4DAA-8F1F-A593169F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518-2CA0-489A-A259-F85E42ED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292-8100-4E0F-A498-CA4FF1F7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9CD-B471-407B-81BC-A2AAB1C0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115-7581-4F03-8C96-0D5E148B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3B3-C75B-4ACB-9001-17975ED3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B71-FE8B-42D2-922C-2FC532A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700-FBD8-4E31-9681-843B70BD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EDB6-3AF1-4087-BCA3-3FA32D6B06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16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37:16Z</dcterms:created>
  <dc:creator>ds0929</dc:creator>
  <dc:description/>
  <dc:language>en-US</dc:language>
  <cp:lastModifiedBy>ds0929</cp:lastModifiedBy>
  <dcterms:modified xsi:type="dcterms:W3CDTF">2013-02-22T10:37:57Z</dcterms:modified>
  <cp:revision>1</cp:revision>
  <dc:subject/>
  <dc:title>Slide 1</dc:title>
</cp:coreProperties>
</file>