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A6A-D823-4261-8959-40263ED5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762-CB56-4308-8025-638F5130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877-814E-43C2-A4AD-EDE12A6D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AFE4-A26B-445F-B435-0A5C4FA4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6BB-DD43-4841-976A-1B6FECF7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D8D-04F3-4DD4-86CF-62D80482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CA9-B5F4-4F47-A1CB-DD0D0B20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3B5-0547-482B-9DBB-D427301C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E36-0AA1-4221-B55D-AF3A7512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E41-B87D-45A6-98BA-4F3933C7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62F-87FF-415C-B4CF-5C3B1F10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C35-C062-4E8F-B663-CFEEE10A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6AEF-1E21-47FF-A503-D9F8C4B073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06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0:56:01Z</dcterms:created>
  <dc:creator>ds0929</dc:creator>
  <dc:description/>
  <dc:language>en-US</dc:language>
  <cp:lastModifiedBy>ds0929</cp:lastModifiedBy>
  <dcterms:modified xsi:type="dcterms:W3CDTF">2013-02-15T10:56:49Z</dcterms:modified>
  <cp:revision>1</cp:revision>
  <dc:subject/>
  <dc:title>Slide 1</dc:title>
</cp:coreProperties>
</file>