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8E8C-C03A-47D5-A815-49F2761B2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B455-E931-4AED-833B-A7D7504E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31FC-8AB1-4828-BCD2-CA309E7C3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8D9E-F1B1-4B7C-BAC1-69A8CB06C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7B29-5105-4EB3-96D2-5D3BE969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5499-E3AF-4A65-82EE-93663678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A97A-ABE9-4DF5-876F-1D080DEB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9495-437D-4EBC-A6C4-3AB9D6A7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2849-5345-4B9D-AA34-F3DC282A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8609-64B1-4D32-BFD1-0CCCBB04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4F24-A75A-4AB8-90BD-5832C6D7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C5C2-B68B-4578-A59B-7EF55C93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D39A-703B-41AF-ADF1-44027CE31A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46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0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412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5T11:03:40Z</dcterms:created>
  <dc:creator>ds0929</dc:creator>
  <dc:description/>
  <dc:language>en-US</dc:language>
  <cp:lastModifiedBy>ds0929</cp:lastModifiedBy>
  <dcterms:modified xsi:type="dcterms:W3CDTF">2013-02-15T11:04:37Z</dcterms:modified>
  <cp:revision>1</cp:revision>
  <dc:subject/>
  <dc:title>Slide 1</dc:title>
</cp:coreProperties>
</file>