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C2A-7415-4BD8-B652-24F1F918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246-BE14-402F-8EDA-CBE79740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5FB-91F0-4654-84E5-C470FAC3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653-03D8-44E8-B1CF-653AC0FF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007-79ED-40AD-9234-36D109D3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CC2-47CF-436B-A123-415A829F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794-616F-44F7-8ACA-963C5E4E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083-3EEF-49A0-936D-47D2D926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5A9-0279-474A-9F7B-29183998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208-F76A-4687-A25B-93C8236F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AC9-915D-4875-B50B-920EB224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638B-B14E-4F7C-A558-844E617C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8C1C-6CD9-42E6-903C-0DD8EF5812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18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55:12Z</dcterms:created>
  <dc:creator>ds0929</dc:creator>
  <dc:description/>
  <dc:language>en-US</dc:language>
  <cp:lastModifiedBy>ds0929</cp:lastModifiedBy>
  <dcterms:modified xsi:type="dcterms:W3CDTF">2013-02-09T04:57:41Z</dcterms:modified>
  <cp:revision>1</cp:revision>
  <dc:subject/>
  <dc:title>Slide 1</dc:title>
</cp:coreProperties>
</file>