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935-B741-4960-9E90-77FF229B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A3D-3906-43E1-9F6B-181F072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0F4-4B5B-428C-82B3-8BB02CA3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481-4927-4FDE-95F4-85317A1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249-F87F-4BB4-8C71-80709FD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BBB-C9A4-4587-B59E-1237095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D50-8D34-4910-A1A9-2FAE5DD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EB6-9EEE-4D51-8DC9-AA3E01B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FCE-1F9D-4295-B18F-26C2573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EC7-C0BA-4E61-A7E5-A4F44CB2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C4A-D771-43A7-8BF6-3558D50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B67-5E1A-4A50-9FBD-311A0B3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4C3-7799-4101-BA9D-49F26287E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4:43Z</dcterms:created>
  <dc:creator>ds0929</dc:creator>
  <dc:description/>
  <dc:language>en-US</dc:language>
  <cp:lastModifiedBy>ds0929</cp:lastModifiedBy>
  <dcterms:modified xsi:type="dcterms:W3CDTF">2013-02-15T11:05:36Z</dcterms:modified>
  <cp:revision>1</cp:revision>
  <dc:subject/>
  <dc:title>Slide 1</dc:title>
</cp:coreProperties>
</file>