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12EE-4C2F-450F-B162-F3BF9A0A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E5C0-44E7-46AE-A341-5B06806D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0D06-E850-4437-B304-BFC22563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4648-F7FA-4193-8C59-28009734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516A-2C60-408C-9DA1-34A55213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4CF7-56E1-4165-91E5-B660CE13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FF4-50B0-4935-8BFF-403C4CA2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1DD3-83BA-46B0-A7B9-D6B78D7A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2186-5592-467A-BC22-53E8088B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DCB-8199-48E1-A52B-589B48DD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7D39-5191-4CC3-8E7E-B998D323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884-6632-44FE-A58A-87E79943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7B0A-C330-4BE1-A463-229BF4E984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3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53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0:56:59Z</dcterms:created>
  <dc:creator>ds0929</dc:creator>
  <dc:description/>
  <dc:language>en-US</dc:language>
  <cp:lastModifiedBy>ds0929</cp:lastModifiedBy>
  <dcterms:modified xsi:type="dcterms:W3CDTF">2013-02-15T10:57:40Z</dcterms:modified>
  <cp:revision>1</cp:revision>
  <dc:subject/>
  <dc:title>Slide 1</dc:title>
</cp:coreProperties>
</file>