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176-BC51-4B91-A2CC-5949E6A6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035-7711-4303-8840-3E4C355A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A76-7C63-4135-B8B2-7FEFB4A8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011-5EF6-4288-834D-74E76BF8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0F6-5996-4110-9ABF-20E10470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5E4-6F06-4078-8042-7665174C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808-05B6-47D8-8542-54CD87AA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51D-2035-450F-90A0-98343967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591-7278-4B6A-9225-8017AD37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936-6150-4D4E-9233-9A2368AE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B10-87E7-4C74-B1D7-E9ACE12D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F3B-E7BA-4536-B791-39085AFC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A125-8003-41C6-B055-3F56B6CD58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57:48Z</dcterms:created>
  <dc:creator>ds0929</dc:creator>
  <dc:description/>
  <dc:language>en-US</dc:language>
  <cp:lastModifiedBy>ds0929</cp:lastModifiedBy>
  <dcterms:modified xsi:type="dcterms:W3CDTF">2013-02-09T04:58:36Z</dcterms:modified>
  <cp:revision>1</cp:revision>
  <dc:subject/>
  <dc:title>Slide 1</dc:title>
</cp:coreProperties>
</file>