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25E-EBFF-4307-88A4-EBF5CFA1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FCC-9CDD-4EC6-8DAC-C631DDA3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86C-116E-4429-92D2-F19D6853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B4B-F968-4D14-BA67-92574ADC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B2C-98E1-46FD-BC25-5B50B1E5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EDF-172D-4695-81D3-A276BAF9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75E-DA30-4125-9817-CD68E0F1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93C-90F0-4A1B-9258-6F876A5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DB4-1273-48A9-B1BD-BB29EB5B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802-3163-40E9-B85F-E1215AE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179-D0DB-452E-9CFF-E282104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9E8-6A9B-45D5-9208-FAAAD9E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9E5-D39D-4240-BFB4-9228EEB09A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0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0:26:01Z</dcterms:created>
  <dc:creator>ds0929</dc:creator>
  <dc:description/>
  <dc:language>en-US</dc:language>
  <cp:lastModifiedBy>ds0929</cp:lastModifiedBy>
  <dcterms:modified xsi:type="dcterms:W3CDTF">2013-02-22T10:26:55Z</dcterms:modified>
  <cp:revision>1</cp:revision>
  <dc:subject/>
  <dc:title>Slide 1</dc:title>
</cp:coreProperties>
</file>