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5034-4A0C-4C16-B74A-03C17C4CC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3000-C333-4BFC-A2B4-162CB5325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6BCB-F7A4-4364-8939-D8A2B1D50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F158-018F-485B-9123-92EC4985D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6FC9-4EB1-4ECE-BC16-3A964FFA5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2A18-808E-4989-9EEC-B8959F6F4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3306-006B-476B-9BDB-1EF9A4DE0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01F0-DBA8-4209-A259-B4168976E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EB38-9E3E-43B2-987C-E1AF5E556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1B50-2780-4BCB-92A9-FEA17013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574B-28CC-4F22-A9C8-ED166E80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E485-3931-468F-9E4E-C8049E1C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15ADA-9E86-4DEB-B797-5C467C4F55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118044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18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4780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9T04:51:42Z</dcterms:created>
  <dc:creator>ds0929</dc:creator>
  <dc:description/>
  <dc:language>en-US</dc:language>
  <cp:lastModifiedBy>ds0929</cp:lastModifiedBy>
  <dcterms:modified xsi:type="dcterms:W3CDTF">2013-02-09T04:52:31Z</dcterms:modified>
  <cp:revision>1</cp:revision>
  <dc:subject/>
  <dc:title>Slide 1</dc:title>
</cp:coreProperties>
</file>