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CD0-D9FD-4AF3-A8E0-15BF92ED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F407-5960-4865-99B9-3328FCBC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E09-152F-42AC-9C9A-698DC87B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738-C496-4D3B-8509-812645E6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94D-302E-42B5-A5AA-0F8EB621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B65-9DCC-4E67-AA5B-DF6F80D4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2C0-5B5A-4A13-A62E-15375495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531-7450-4927-BE76-95B83816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111-5D19-44A1-8D5C-1A33755E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C87-4F5B-48FB-B621-C102E15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A30-68BB-46A7-BCB0-D2139EB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F05-25AC-4459-A918-EABA1181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11A-FFD9-4762-8AD6-72F1DE84B1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8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24:04Z</dcterms:created>
  <dc:creator>ds0929</dc:creator>
  <dc:description/>
  <dc:language>en-US</dc:language>
  <cp:lastModifiedBy>ds0929</cp:lastModifiedBy>
  <dcterms:modified xsi:type="dcterms:W3CDTF">2013-02-22T10:24:52Z</dcterms:modified>
  <cp:revision>1</cp:revision>
  <dc:subject/>
  <dc:title>Slide 1</dc:title>
</cp:coreProperties>
</file>