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5E5B-7904-48FA-A74E-98B4BEE98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7B73-2767-4F04-A012-8371858D0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CA9C-CDFA-4CDB-83EC-5B7A52C08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18D0-7A60-4480-B52A-B9AA27C08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3695-C861-46DF-82ED-C13BB36E3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DC86-6A5D-4A63-B4ED-F53972797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86CF-892C-477A-98F8-44F1BAD10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506A-F9DD-4F37-BDC8-CD275614C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9CFE-3160-4CDD-95A2-A36802151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50C0-6B3F-4AD0-A154-98690A37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EDC5-071B-423A-9E45-149E25DC2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B694-54D4-4B18-9A89-82DB30668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D219D-AF90-41DB-903F-4BE12589354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P118049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13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848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2T10:33:55Z</dcterms:created>
  <dc:creator>ds0929</dc:creator>
  <dc:description/>
  <dc:language>en-US</dc:language>
  <cp:lastModifiedBy>ds0929</cp:lastModifiedBy>
  <dcterms:modified xsi:type="dcterms:W3CDTF">2013-02-22T10:34:48Z</dcterms:modified>
  <cp:revision>1</cp:revision>
  <dc:subject/>
  <dc:title>Slide 1</dc:title>
</cp:coreProperties>
</file>