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377-B9C4-4117-8148-7F845931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21A-65F3-411C-9AF9-2B57A2BD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D3D-CAD2-45B6-9697-2473F69A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592-B2AB-437F-B803-143493E7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D2D-EEA2-45AA-B581-653A03F1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674-4498-46DB-9088-485C120B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9EE-9D77-4D19-89C8-5393672F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948-725F-414F-AEB8-FCDF8B8B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5DE-1B42-4804-8037-EB371734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13F-0D48-4EF8-A6D7-098E4EA3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3DD-D2DD-4579-8645-B7158D3C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AD6-2C59-44E8-8630-02C3F491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B935-0FA3-4CE3-AB02-3129CF699A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91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00:36Z</dcterms:created>
  <dc:creator>ds0929</dc:creator>
  <dc:description/>
  <dc:language>en-US</dc:language>
  <cp:lastModifiedBy>ds0929</cp:lastModifiedBy>
  <dcterms:modified xsi:type="dcterms:W3CDTF">2013-02-15T11:01:33Z</dcterms:modified>
  <cp:revision>1</cp:revision>
  <dc:subject/>
  <dc:title>Slide 1</dc:title>
</cp:coreProperties>
</file>