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266-73CA-405E-8400-A586017C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7B5-BACD-4E9A-8409-6AEB828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BB3-1BEE-43CD-BCD4-6FCEAF01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5C7-7439-4B65-8127-41A82C05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36E-68E0-4C70-93A1-2A4D8A3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B4B-F6C2-4458-A3B5-607C3588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BE8-AEFA-4C8C-8E49-D71EF19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B51-E445-4EA1-872E-AD8BCF3C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C09-D51C-4348-BA23-ABF66D4E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AF0-407D-4330-B7BF-8185D76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2D1-13E6-46D2-A4FE-618149A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ECF-501A-4272-9AE1-1E9A06E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5FB3-253C-43CB-856E-32971B2BAA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11804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07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04:23:03Z</dcterms:created>
  <dc:creator>ds0929</dc:creator>
  <dc:description/>
  <dc:language>en-US</dc:language>
  <cp:lastModifiedBy>ds0929</cp:lastModifiedBy>
  <dcterms:modified xsi:type="dcterms:W3CDTF">2013-02-09T04:24:50Z</dcterms:modified>
  <cp:revision>1</cp:revision>
  <dc:subject/>
  <dc:title>Slide 1</dc:title>
</cp:coreProperties>
</file>