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7A74-145D-45C0-AF4E-53516C9C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F705-6E9F-4FCC-982E-A5C7ACE6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B6AD-0D75-4E99-A7CC-12A14BCC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02F1-77D2-4BA5-B7B6-D9411637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DE0-88A4-4F24-9B7C-44E6D38B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07B-081F-4C41-B861-0F20D4A1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0D1-892D-4F54-904B-7C564456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EE49-2974-4BEC-86F2-6DBB3E62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C10E-9C1B-43F6-A843-739921D3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4200-8E7A-4428-8C65-3106133D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4E4-C58F-42EB-9DBC-5651BE29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DFF-27C6-4A81-9D08-33C4274F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EA5E-78C6-4108-9784-9FA096544A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4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444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07:56Z</dcterms:created>
  <dc:creator>ds0929</dc:creator>
  <dc:description/>
  <dc:language>en-US</dc:language>
  <cp:lastModifiedBy>ds0929</cp:lastModifiedBy>
  <dcterms:modified xsi:type="dcterms:W3CDTF">2013-02-15T11:08:40Z</dcterms:modified>
  <cp:revision>1</cp:revision>
  <dc:subject/>
  <dc:title>Slide 1</dc:title>
</cp:coreProperties>
</file>