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776-45FA-4FBB-A695-48817899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0A6-AC5D-4699-B8DB-519F6F53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4012-011D-4951-A489-38571257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254-DF22-4EE8-BF9C-8FF90265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EF7-91C7-4D9A-81D6-BA966043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38D0-8843-41D1-9ED3-23AC0041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BFC-D153-4975-B020-60F14CB9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C0B-4356-4AA1-99A2-D7B10170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410A-C90C-4C71-887A-900DBF8F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DBD-B75B-4EEF-810F-52FE49C3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0065-82C4-4E97-A09D-C662B661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7BF-6CEC-4D82-A404-7CC5DD68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A689-98A7-4597-9F45-E3AD19D183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11804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4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50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42:37Z</dcterms:created>
  <dc:creator>ds0929</dc:creator>
  <dc:description/>
  <dc:language>en-US</dc:language>
  <cp:lastModifiedBy>ds0929</cp:lastModifiedBy>
  <dcterms:modified xsi:type="dcterms:W3CDTF">2013-02-09T04:44:44Z</dcterms:modified>
  <cp:revision>1</cp:revision>
  <dc:subject/>
  <dc:title>Slide 1</dc:title>
</cp:coreProperties>
</file>