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F79-7100-4133-9391-F47D49B0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11F-D592-436C-97D3-F1698B9F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90D-F7C5-4CF0-B31E-080A2270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C64-EFD6-49BF-B2FA-BCC52026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969-C898-4E3E-9AA9-D7AD7769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4DA-874B-4148-9A80-CEF086F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E2E-7AB1-4BE5-AB41-4550535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243-AEC0-4CA9-B9C9-1507F11F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E0-3F99-4E47-81E0-17E7BBA3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BB0-1EA8-4270-A46F-BF46045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100-0B84-4FD8-B900-50D4E65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7A0-C8EF-4000-A7BD-5D092AAC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F325-B461-4944-BBBB-FCFA23CA2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2:32Z</dcterms:created>
  <dc:creator>ds0929</dc:creator>
  <dc:description/>
  <dc:language>en-US</dc:language>
  <cp:lastModifiedBy>ds0929</cp:lastModifiedBy>
  <dcterms:modified xsi:type="dcterms:W3CDTF">2013-02-15T11:03:35Z</dcterms:modified>
  <cp:revision>1</cp:revision>
  <dc:subject/>
  <dc:title>Slide 1</dc:title>
</cp:coreProperties>
</file>