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7B3-F6CF-4547-9324-09461302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80F-34F0-4F8C-9B7D-FF110A2F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AE4-B789-421F-818F-48A4CD31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07C-CBE5-4BEC-9AE3-AFD89EE7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318-272E-4641-A367-9B9508BC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282-FEDB-4E72-B479-F39F8E96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1C1-3F30-42E8-8CCB-C93537AE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843-A3AD-4C0C-B7A5-8D69337F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9E4-4ED0-447C-8779-E5F6D368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6F2-8812-4D23-ACAE-A78C4BAD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CCF-6C31-4D26-9249-0A237607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63A-4029-4B97-AFB3-01377C76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21F7-C49E-4F04-B2AA-5DEC74C392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5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85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11805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40:09Z</dcterms:created>
  <dc:creator>ds0929</dc:creator>
  <dc:description/>
  <dc:language>en-US</dc:language>
  <cp:lastModifiedBy>ds0929</cp:lastModifiedBy>
  <dcterms:modified xsi:type="dcterms:W3CDTF">2013-02-22T10:42:00Z</dcterms:modified>
  <cp:revision>1</cp:revision>
  <dc:subject/>
  <dc:title>Slide 1</dc:title>
</cp:coreProperties>
</file>