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A66-A4A0-46DA-8840-A733CF8F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0A6-D140-43EE-BE25-D7F52F6C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9F6-BA57-499A-9E87-55E41A4C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51B-D77C-4D69-8703-A90C7A3C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805-73D0-49C1-9712-1B8ECA42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26F-7164-4D60-A493-FB1B28A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6A9-1A14-43EB-B15D-CA3FBC41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3AA-95C2-4EDD-B8B3-39FA2671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6D7-6E2C-4F58-818B-3E6CB1DF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36B-28BA-40CA-8F02-4657FD5D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BCE-9E4A-46D9-80C9-9F172BC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7FA-68B2-4634-AC66-EB41CA1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4859-EF0B-4569-B51A-F49F62CE5A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8:41Z</dcterms:created>
  <dc:creator>ds0929</dc:creator>
  <dc:description/>
  <dc:language>en-US</dc:language>
  <cp:lastModifiedBy>ds0929</cp:lastModifiedBy>
  <dcterms:modified xsi:type="dcterms:W3CDTF">2013-02-09T05:00:42Z</dcterms:modified>
  <cp:revision>1</cp:revision>
  <dc:subject/>
  <dc:title>Slide 1</dc:title>
</cp:coreProperties>
</file>