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FA62E-7EB9-4EF6-AA85-5E913FB85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2F12E-548C-4478-AD36-734A1417D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2E091-7A3C-4621-9A9A-BAE401486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92F71-1BE6-44E8-9410-7A90F3524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1804A-EC68-4F75-9F02-1B4F732D4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49375-F142-484B-9841-1BCE4F7A9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D86B2-B9F7-4CE5-91AA-2A0E19CF3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F89FF-6E0B-4649-AC9A-7F48950F8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3F275-FA85-4353-9E39-EFB453658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21A5B-E3E0-4047-A5A7-F4E0B4593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298DF-0889-4E6E-96FC-1BEEA59E9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D4297-ECC9-4437-A00F-8800321C1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16516-3A74-481B-AD04-F264CECA7BC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P118046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001_A_012_U Kyaw Naing.mp3" descr=""/>
          <p:cNvPicPr/>
          <p:nvPr/>
        </p:nvPicPr>
        <p:blipFill>
          <a:blip r:embed="rId2"/>
          <a:stretch/>
        </p:blipFill>
        <p:spPr>
          <a:xfrm>
            <a:off x="4449600" y="3306600"/>
            <a:ext cx="244800" cy="2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21184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5T11:05:43Z</dcterms:created>
  <dc:creator>ds0929</dc:creator>
  <dc:description/>
  <dc:language>en-US</dc:language>
  <cp:lastModifiedBy>ds0929</cp:lastModifiedBy>
  <dcterms:modified xsi:type="dcterms:W3CDTF">2013-02-15T11:06:47Z</dcterms:modified>
  <cp:revision>1</cp:revision>
  <dc:subject/>
  <dc:title>Slide 1</dc:title>
</cp:coreProperties>
</file>