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B6A2-9594-4669-BE8C-36B28D83C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82E1-6269-4923-AD24-2DC8AE923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DC78-4D43-466C-9417-BEA32952B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B58F-3CB8-4E5D-A347-8D6B30F57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F3F2-80AB-4C43-8876-AAA100DE4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92FB-4C1F-4347-95DB-05E851E46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6E46-109B-49F1-AAE7-A0D0D5324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B59C-2478-4907-B4AF-D80B891A6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A4E1-541E-49C4-8E86-4995A2A8A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3B2B-A535-4628-A366-3BF60398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C700-4853-4820-8F92-605E2602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B018-2900-4DC8-920D-41D6DDF4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82F8D-4572-43F4-91EC-E2C3983B8D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P118047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23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360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P118047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5T11:22:35Z</dcterms:created>
  <dc:creator>ds0929</dc:creator>
  <dc:description/>
  <dc:language>en-US</dc:language>
  <cp:lastModifiedBy>ds0929</cp:lastModifiedBy>
  <dcterms:modified xsi:type="dcterms:W3CDTF">2013-02-15T11:24:15Z</dcterms:modified>
  <cp:revision>1</cp:revision>
  <dc:subject/>
  <dc:title>Slide 1</dc:title>
</cp:coreProperties>
</file>