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3B6-DD94-4F3B-8332-4A3AEA85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721-636D-4A1D-A03D-DB0B58F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ED6-B0BC-42AA-BF3F-794FF633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D30-1E58-4D66-9EFB-A44175A1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0FF-E28F-4E73-9AB1-C729E51B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E58-B940-4A7C-A84B-A2B2F0C0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A7B-6120-497C-B1CC-BA542934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850-E1F7-44B3-A870-CF466FC2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3AC-80A2-4B5F-88EC-3CCEC7E2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9CB-346E-444A-8B55-7EEDCE11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F3F-5498-469C-8466-04BE6021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FBF-9AD8-4A64-B950-C8D88648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8FFB-B5C3-43B7-AF58-CB0AF42AE3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7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73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50:45Z</dcterms:created>
  <dc:creator>ds0929</dc:creator>
  <dc:description/>
  <dc:language>en-US</dc:language>
  <cp:lastModifiedBy>ds0929</cp:lastModifiedBy>
  <dcterms:modified xsi:type="dcterms:W3CDTF">2013-02-09T04:51:34Z</dcterms:modified>
  <cp:revision>1</cp:revision>
  <dc:subject/>
  <dc:title>Slide 1</dc:title>
</cp:coreProperties>
</file>