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D85-444C-4B36-BC86-B35815E9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CBF-7678-4A6C-A7D1-11939695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8CD-2DB7-4EE6-885A-1D178F4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41A-FEEC-4AC3-95A4-57F874ED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015-99E6-4CA2-A8EF-792B75F4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52B-BA4E-4DBF-B8A1-840D1E4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D69-96AA-4C30-8CA3-07521323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1AA-C18D-4BBA-B6CB-60576F7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E93-5BFA-4C15-9020-B9695AD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D5A-43C9-4224-83C2-99B4B85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DE5-8C63-4724-8D80-E00A8635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C46-3B7D-46F7-9000-FDFF7F4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1FF-7B3C-431A-9C8F-5EE1BC609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7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8:39Z</dcterms:created>
  <dc:creator>ds0929</dc:creator>
  <dc:description/>
  <dc:language>en-US</dc:language>
  <cp:lastModifiedBy>ds0929</cp:lastModifiedBy>
  <dcterms:modified xsi:type="dcterms:W3CDTF">2013-02-15T10:59:41Z</dcterms:modified>
  <cp:revision>1</cp:revision>
  <dc:subject/>
  <dc:title>Slide 1</dc:title>
</cp:coreProperties>
</file>