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C7D-98EF-4489-830D-BE780032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D30-C1BF-4212-A56F-DF6F857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DB6-199D-4042-9AEE-59CAFAF2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852-8565-449D-A3CB-65E2AFA8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54E-FF29-484E-AF5E-2C11F78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A0B-3DCA-4E7B-BB0C-C2705A1F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E5B-AC82-48BA-86B3-9AFCEBF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BA1-3276-40E0-846B-484D0BB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8D9-C0CE-4D3D-9315-E7B170B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7D3-3E66-436B-80E9-41190E0B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4E7-F9C9-4BEB-9B3E-A593842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3F2-1FA8-4E58-81B3-C430957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F028-C919-45B8-8775-488F43EF9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9:32Z</dcterms:created>
  <dc:creator>ds0929</dc:creator>
  <dc:description/>
  <dc:language>en-US</dc:language>
  <cp:lastModifiedBy>ds0929</cp:lastModifiedBy>
  <dcterms:modified xsi:type="dcterms:W3CDTF">2013-02-09T05:00:26Z</dcterms:modified>
  <cp:revision>1</cp:revision>
  <dc:subject/>
  <dc:title>Slide 1</dc:title>
</cp:coreProperties>
</file>