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71D-FFEB-4B97-8469-F5FF6EAB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EE6-209D-4D53-8EC1-EE63462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DD1-5694-43A7-B96D-E814591B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F8F-FAC2-49F1-8550-2F772C8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F83-2FA6-43AD-92EF-CE09C048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6AE-6C7E-46BC-9EE2-34F26FA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0205-0575-418C-9462-97EB9D90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EC9-9822-487A-A168-D00F0C8F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461-4EFA-4A08-9A4A-69E04DA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332-0DFE-48CB-B226-2A3FDED7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79D-65BD-43EE-AB19-310B729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98B-C96A-4222-9193-981FE11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4C6B-C2DD-4334-BC16-19B36B697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1:53Z</dcterms:created>
  <dc:creator>ds0929</dc:creator>
  <dc:description/>
  <dc:language>en-US</dc:language>
  <cp:lastModifiedBy>ds0929</cp:lastModifiedBy>
  <dcterms:modified xsi:type="dcterms:W3CDTF">2013-02-15T11:13:05Z</dcterms:modified>
  <cp:revision>1</cp:revision>
  <dc:subject/>
  <dc:title>Slide 1</dc:title>
</cp:coreProperties>
</file>