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249-8784-4211-9245-F134A4A5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2E0-FA7A-45A3-A1EB-FE04F657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DA6-5D11-4927-BAF0-75DD21F4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1BB-9207-4256-9957-68704686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2F0-CEA1-48F5-9239-D7811F7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10B-7C73-43E7-909F-1DF5A14A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330-D3B8-4D3F-A962-68D45486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65A-9D1D-4D6C-91C3-8054C2B1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290-2B1E-4AC6-A714-594A7895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308-C3D9-49D6-A887-CB173AC7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B6C-A61E-4CB0-A64F-19ABF833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695-2479-4F3C-AE69-08BF4056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CFF3-0177-4967-90BC-D2D91668FA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23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29:16Z</dcterms:created>
  <dc:creator>ds0929</dc:creator>
  <dc:description/>
  <dc:language>en-US</dc:language>
  <cp:lastModifiedBy>ds0929</cp:lastModifiedBy>
  <dcterms:modified xsi:type="dcterms:W3CDTF">2013-02-09T04:29:59Z</dcterms:modified>
  <cp:revision>1</cp:revision>
  <dc:subject/>
  <dc:title>Slide 1</dc:title>
</cp:coreProperties>
</file>