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660-51D8-4B1C-B9D5-FCF93411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54B-3488-4013-822C-ED16F9FD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295-E267-4549-A564-15A5CC3B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981-5B50-4E29-90BC-D9A675A9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041-E6FD-4974-B147-591DE221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8F0-F2BF-4836-B91C-AF699AAB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4C2-DA23-4D09-BB10-63F8DCA3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86B-B2CF-4092-97FC-AEDC1CC6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0AF8-E4D3-4E87-9602-AF50B582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B304-25FF-4797-BA6B-F93A44D9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718-9082-4EDD-BEEF-AEF2E7F1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7D5-AD4C-4015-B2FC-5C5CE1D4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80D1-BF24-4747-B24B-ECD29B9444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6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23:10Z</dcterms:created>
  <dc:creator>ds0929</dc:creator>
  <dc:description/>
  <dc:language>en-US</dc:language>
  <cp:lastModifiedBy>ds0929</cp:lastModifiedBy>
  <dcterms:modified xsi:type="dcterms:W3CDTF">2013-02-22T10:23:59Z</dcterms:modified>
  <cp:revision>1</cp:revision>
  <dc:subject/>
  <dc:title>Slide 1</dc:title>
</cp:coreProperties>
</file>