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6E3-C9D5-4921-9406-152D35F9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034-E5B4-43FD-9BEE-5BC0A637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F48-B84B-4730-ABB8-956818AC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822-A7B6-4A51-887D-E9500A2D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CC6-6456-4759-A8F6-2D38CC94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554-6104-4D1F-866B-FF8298AB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C91-176D-41B2-B8E1-F32FEBD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251-549F-4540-A9A7-162F1C5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FF3-7CCA-49FE-B6D7-8C72B8E8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A81-EA3E-410B-9182-D1E2DDD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D0C-8593-4C06-B9DA-98606D1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C89-EE22-4CB2-9EB3-662E1E64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C9B-8A2C-4FF7-80DA-158D8F916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9:41:58Z</dcterms:created>
  <dc:creator>ds0929</dc:creator>
  <dc:description/>
  <dc:language>en-US</dc:language>
  <cp:lastModifiedBy>ds0929</cp:lastModifiedBy>
  <dcterms:modified xsi:type="dcterms:W3CDTF">2013-02-22T09:45:52Z</dcterms:modified>
  <cp:revision>2</cp:revision>
  <dc:subject/>
  <dc:title>Slide 1</dc:title>
</cp:coreProperties>
</file>