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96A-B3D0-421F-968A-936FD982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EE0-85B3-4781-AF7A-48C4745B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E52-35C3-4793-B50E-ECB7B2F3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95F-1E39-445C-B624-EA10C548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7AA-82F3-476F-9E92-F0E52794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F32-39DB-4124-AE1F-EA5D7ACC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559-EA90-47C6-8AD4-B28BD0FB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123-0C40-47C6-B7A0-9B7EC96B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570-583D-4764-8425-286880A9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4F5-EA12-4579-98C0-946C0D5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10C9-93C1-4422-AA05-0B2EB45D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1D4-E766-4E32-B6A0-C43C9329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64F5-047A-48EF-9D91-2736A845BF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2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31:12Z</dcterms:created>
  <dc:creator>ds0929</dc:creator>
  <dc:description/>
  <dc:language>en-US</dc:language>
  <cp:lastModifiedBy>ds0929</cp:lastModifiedBy>
  <dcterms:modified xsi:type="dcterms:W3CDTF">2013-02-09T04:40:00Z</dcterms:modified>
  <cp:revision>2</cp:revision>
  <dc:subject/>
  <dc:title>Slide 1</dc:title>
</cp:coreProperties>
</file>