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A31-0D3C-4246-BF0C-4BE73AF1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B6E-DCAD-4FC1-9347-628E6B06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52D-3C03-413F-8817-4978CF64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633-899B-4213-A16E-3EC25135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990-0085-44A3-A61A-4A547BE8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2D3-3C8B-4386-94FA-7D36E23E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B70-A011-4B91-991B-23BD3F85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F4A-498B-4BAC-A05F-F50B3CB3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E59-51A7-49B5-995B-DA610367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CED-6A92-4651-A668-4C2C1DB2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25F-5C0F-4D1B-82FE-483EC3CE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C76-19FB-4717-9FCC-4FF3023C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EEBB-E4CA-4E6E-BFD8-17D4F85B98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P11804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50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44:53Z</dcterms:created>
  <dc:creator>ds0929</dc:creator>
  <dc:description/>
  <dc:language>en-US</dc:language>
  <cp:lastModifiedBy>ds0929</cp:lastModifiedBy>
  <dcterms:modified xsi:type="dcterms:W3CDTF">2013-02-09T04:47:17Z</dcterms:modified>
  <cp:revision>1</cp:revision>
  <dc:subject/>
  <dc:title>Slide 1</dc:title>
</cp:coreProperties>
</file>