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8EE-0F49-464B-B436-D3AD2596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2EE-3305-4795-B2A5-43194BB4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716-487D-4944-989F-8D859E28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151-F5A7-45B6-9C1A-5D1C9BEA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A27-0943-4BFD-B76A-54D3A75D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AD9-4714-4AB4-94AA-EB8F011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A8C-9C1A-43F6-A5C8-7952F2D8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E72-0207-47E4-B519-F4BD0A68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49B-B4BB-4311-9B47-8C6E352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D80-C68E-4C29-80C5-6292403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227-EE20-4EBC-8F8E-DE9CC5C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096-684A-4A63-A3CE-4057B9E8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6518-73C4-4F7E-B274-C5579053B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11806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90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27:18Z</dcterms:created>
  <dc:creator>ds0929</dc:creator>
  <dc:description/>
  <dc:language>en-US</dc:language>
  <cp:lastModifiedBy>ds0929</cp:lastModifiedBy>
  <dcterms:modified xsi:type="dcterms:W3CDTF">2013-02-09T04:28:08Z</dcterms:modified>
  <cp:revision>1</cp:revision>
  <dc:subject/>
  <dc:title>Slide 1</dc:title>
</cp:coreProperties>
</file>