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EA1-4B1C-4BA9-BE6D-6800F72B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13E-7D9A-4AA2-924C-105E88F8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6E9-D244-4B2B-AA2E-831912E5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823-0E29-471D-9D9C-3272A17F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DD7-85D9-4807-837C-13638310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D4A-0C6A-4718-9FDD-CDF040E2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4AB-E877-4353-B870-FA7553B4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820-F90C-499D-AAF9-CEAE93CB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126-D024-424B-8371-D150EDE4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D0D-0742-45EE-A5A4-A93B692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2AC-FE73-45A4-8D4D-D2881214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279-5D4B-4683-9359-6B4F7B8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196C-A20B-4505-ADDB-DDDB645E4A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0:57:47Z</dcterms:created>
  <dc:creator>ds0929</dc:creator>
  <dc:description/>
  <dc:language>en-US</dc:language>
  <cp:lastModifiedBy>ds0929</cp:lastModifiedBy>
  <dcterms:modified xsi:type="dcterms:W3CDTF">2013-02-15T10:58:35Z</dcterms:modified>
  <cp:revision>1</cp:revision>
  <dc:subject/>
  <dc:title>Slide 1</dc:title>
</cp:coreProperties>
</file>