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02D-BC37-4B4D-A376-268D64DE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AEE-C583-48A0-83FA-7D29FF20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012-994E-4E74-BFE4-FC3D7C8D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D07-96F2-4E1E-9112-9FB55711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7E0-9196-4D6B-9E89-F07A47A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57C-E679-4986-87DC-1C95C786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268-5091-45FD-86D2-2AAC8143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648-E023-4A65-B100-046BF804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D0B-B443-4D40-B169-003F3B4A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723-FA7F-485F-94E2-68F82D53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F3F-263A-4691-9CAF-F28BB01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F4D-9987-486F-BE71-1565C01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431C-6EE8-4258-920A-8E8B1529A7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0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10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11804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53:22Z</dcterms:created>
  <dc:creator>ds0929</dc:creator>
  <dc:description/>
  <dc:language>en-US</dc:language>
  <cp:lastModifiedBy>ds0929</cp:lastModifiedBy>
  <dcterms:modified xsi:type="dcterms:W3CDTF">2013-02-09T04:56:37Z</dcterms:modified>
  <cp:revision>2</cp:revision>
  <dc:subject/>
  <dc:title>Slide 1</dc:title>
</cp:coreProperties>
</file>