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2AA-F81A-4F3A-B393-4ECDE5F3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184-7B97-4720-8BF0-1EFBADA4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9D7-506A-4B5C-8A12-F74C1326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AF4-AA0F-4FC4-8DD9-4F5D2ADC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63E-CC7B-4F82-A7C7-D6397383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7A7-9FCB-401A-9E12-5D43DF78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722-178B-4E2E-B674-0801C215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A72-638A-4A4A-92D4-9C5022D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021-32EB-4401-910E-17595E05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69E-8462-4674-94ED-C3D0451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03A-8F95-4CCC-91B8-23EEDAC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86F-B094-4F24-AE5E-758BD9EF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9152-F4AC-433B-BD16-9745F5639B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0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5:05Z</dcterms:created>
  <dc:creator>ds0929</dc:creator>
  <dc:description/>
  <dc:language>en-US</dc:language>
  <cp:lastModifiedBy>ds0929</cp:lastModifiedBy>
  <dcterms:modified xsi:type="dcterms:W3CDTF">2013-02-22T10:25:54Z</dcterms:modified>
  <cp:revision>1</cp:revision>
  <dc:subject/>
  <dc:title>Slide 1</dc:title>
</cp:coreProperties>
</file>