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858-4BBF-417F-BDDA-DB0418F3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BE3-63F7-4DF2-AF16-6A1CD787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354-3CA0-4F9D-BCCF-DD5F6499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50B-A536-4BF6-8C65-8AC24473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992-881F-484F-BABA-AD25B9BB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A45-C51E-4F85-AB0C-F659FF60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C14-ADF7-434D-892E-ED90989A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75D-855D-4F37-BC78-36B920EF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0ED-4834-4A56-B68F-E17BB897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911-E7A8-4CAA-8B3F-6FF1D13E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1D7-D462-4BFA-AA9A-56552B7C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277-EC8F-433C-84EC-7EA466C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AC41-9590-4ADB-9C3C-2D7090C909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1804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4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18:34Z</dcterms:created>
  <dc:creator>ds0929</dc:creator>
  <dc:description/>
  <dc:language>en-US</dc:language>
  <cp:lastModifiedBy>ds0929</cp:lastModifiedBy>
  <dcterms:modified xsi:type="dcterms:W3CDTF">2013-02-15T11:21:57Z</dcterms:modified>
  <cp:revision>1</cp:revision>
  <dc:subject/>
  <dc:title>Slide 1</dc:title>
</cp:coreProperties>
</file>