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817-C752-495A-ACEC-30C1C912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38E5-3EC5-4042-97A2-6613438B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B795-B730-4296-AE19-9C7B6EEA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E015-F113-46B4-9824-941E39CF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750-10F1-4AFF-94CF-92A986CE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3B5-6500-4530-B264-1B1A952A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309F-682A-41CE-833F-45E79717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586-A75F-4994-A64B-A718605E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E31-78CE-4FFE-81FB-E5E397FF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4636-7926-4272-9966-FCE50803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7EA8-3846-495E-BE32-51A14199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6B2-CC7E-4ED0-A990-60E37F73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3D73-0B77-4F44-8CA2-6648963EFC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9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116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13:10Z</dcterms:created>
  <dc:creator>ds0929</dc:creator>
  <dc:description/>
  <dc:language>en-US</dc:language>
  <cp:lastModifiedBy>ds0929</cp:lastModifiedBy>
  <dcterms:modified xsi:type="dcterms:W3CDTF">2013-02-15T11:14:15Z</dcterms:modified>
  <cp:revision>1</cp:revision>
  <dc:subject/>
  <dc:title>Slide 1</dc:title>
</cp:coreProperties>
</file>