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168-AF7F-4540-BE22-B7D02068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6E5-7631-4212-A40D-54B7888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772-E32D-4E93-A516-6FDEB9AC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D3C-CAD6-4F70-87A8-B067A5A5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30E-0523-47AD-9243-8A1F82C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BF0-E5AE-4BD9-A6C2-D2A96045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B53-8786-41C0-89CE-514E5AB8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85A-A3D4-4395-81E1-B85B5FE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F9A-F9E4-44A7-AD2E-97F59ECF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9D4-1DA7-4DFE-97EB-06F86940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AD5-32A8-4C7F-9648-AEEFE22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066-C6CA-4F0A-8021-43E2DF8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D81-9371-4F30-B97F-88860B9569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7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9:47:13Z</dcterms:created>
  <dc:creator>ds0929</dc:creator>
  <dc:description/>
  <dc:language>en-US</dc:language>
  <cp:lastModifiedBy>ds0929</cp:lastModifiedBy>
  <dcterms:modified xsi:type="dcterms:W3CDTF">2013-02-22T10:19:38Z</dcterms:modified>
  <cp:revision>1</cp:revision>
  <dc:subject/>
  <dc:title>Slide 1</dc:title>
</cp:coreProperties>
</file>