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3C0-3DAB-4D0B-8D8D-21033B00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7DC-70EE-4312-8DE4-CAD4F4A0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3B3-FF1E-408C-9C82-975A7879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CFB-A9E7-46F7-A5F4-67D43DD0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AC6-CFA8-4052-9E5A-2E096345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69E-AFBC-4EA8-82CF-CED7E256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765-1550-4A0E-91B2-9644E41E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0DF-FA2E-47D4-A3FC-8ACF90D3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F5D-1922-452C-B176-F0E34280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EC9-1735-40F1-914A-26192A7A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330-76F6-4EDE-9DCA-27822073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CE4-4C09-4D5C-AB2A-202A964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D8EC-4874-43A2-9080-0870538017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1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10:48Z</dcterms:created>
  <dc:creator>ds0929</dc:creator>
  <dc:description/>
  <dc:language>en-US</dc:language>
  <cp:lastModifiedBy>ds0929</cp:lastModifiedBy>
  <dcterms:modified xsi:type="dcterms:W3CDTF">2013-02-15T11:11:44Z</dcterms:modified>
  <cp:revision>1</cp:revision>
  <dc:subject/>
  <dc:title>Slide 1</dc:title>
</cp:coreProperties>
</file>