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B14-50C4-42EF-9550-BB9C1276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45-44BF-4061-838A-94E92F4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119-8B38-43D8-9338-3560DD4E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754-D048-493E-9563-0345F053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6FA-2589-411B-9DC3-9997F26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480-AFE2-4D77-A7E7-6A3585F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E90-F39E-48C5-A321-196E44A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0A3-5830-4CA7-BC28-655C84B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4F2-10E6-4AA9-BE65-DEED11D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61F-CFB5-4BF6-9F88-715E794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300-13D9-417E-8C61-CAC3B84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B57-8B31-4AD8-A1F4-67ACD8D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5653-B5D0-4B31-87EF-A134EF0C54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11804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7:44Z</dcterms:created>
  <dc:creator>ds0929</dc:creator>
  <dc:description/>
  <dc:language>en-US</dc:language>
  <cp:lastModifiedBy>ds0929</cp:lastModifiedBy>
  <dcterms:modified xsi:type="dcterms:W3CDTF">2013-02-22T10:33:51Z</dcterms:modified>
  <cp:revision>1</cp:revision>
  <dc:subject/>
  <dc:title>Slide 1</dc:title>
</cp:coreProperties>
</file>