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F67-F8C7-466B-8F72-9AA8C6BC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0DF-722B-43AF-B3B0-7C10AB0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DB9-A97E-4D3C-BC1C-5DDBB633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384-FFC0-4A4A-9F83-9219B31A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D9B-DD1C-4F30-8F7C-08D50EF8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E39-071F-47BD-B2A9-E249C7D7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EA7-E4F7-4D3E-B95E-D9BB6F1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EB8-095E-42FD-AC66-83C3FBA9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7B3-338C-4C03-897F-A864737B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0FF-ADFC-420B-8429-7E2D3DA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C9A-DA34-4AD6-BEEC-6DB94A1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398-171E-411E-8A8D-EAAAA43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9D3-36E5-43FF-BA32-C6D65FD16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5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5:41Z</dcterms:created>
  <dc:creator>ds0929</dc:creator>
  <dc:description/>
  <dc:language>en-US</dc:language>
  <cp:lastModifiedBy>ds0929</cp:lastModifiedBy>
  <dcterms:modified xsi:type="dcterms:W3CDTF">2013-02-22T10:36:19Z</dcterms:modified>
  <cp:revision>1</cp:revision>
  <dc:subject/>
  <dc:title>Slide 1</dc:title>
</cp:coreProperties>
</file>