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37C-E2D9-45F5-BCDE-60B03247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D99-2629-412A-97E7-89B8B35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1B1-63BA-40AE-BEB3-48420B59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774-4F9A-4822-BC11-F51EBE20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437-8451-427D-8309-E417EB6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B88-5B05-4EFA-A5D7-3C69D99F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66C-5095-4F18-B9BE-DE05320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40B-E2F4-45C8-AD81-C051B31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F49-94ED-436C-99E4-05474F21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1AE-5FDC-42E0-B8CD-5D0E0C3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4EE-7AE3-448B-9543-063C95D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513-DD2A-4D51-9034-7F689C3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5F6E-4CC9-4F20-9E31-B259FCC7C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4:15Z</dcterms:created>
  <dc:creator>ds0929</dc:creator>
  <dc:description/>
  <dc:language>en-US</dc:language>
  <cp:lastModifiedBy>ds0929</cp:lastModifiedBy>
  <dcterms:modified xsi:type="dcterms:W3CDTF">2013-02-09T04:55:06Z</dcterms:modified>
  <cp:revision>1</cp:revision>
  <dc:subject/>
  <dc:title>Slide 1</dc:title>
</cp:coreProperties>
</file>