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2D8-AA25-45F2-9F3A-CD4E73C4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4F0-5EE1-4253-A6DA-1D422CF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492-3371-4D59-A5D8-26E3D8FD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C2C-9697-4B38-85D5-BB8AB136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229-918C-4EBF-9E6E-211169C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905-4D20-49FB-AAFD-7F6A32B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78C-9215-4DE9-B0F2-B66FEFB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8D6-1D88-44F6-A639-42B18A8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7DB-EEAD-46C2-B349-DD568499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AC4-8EE8-494B-BE83-1105911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D0E-4151-4FD2-B72E-1D9699F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277-96F6-4D65-8826-01AA3FA6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3B0F-5104-4562-9064-3FA315EE0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5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43:29Z</dcterms:created>
  <dc:creator>ds0929</dc:creator>
  <dc:description/>
  <dc:language>en-US</dc:language>
  <cp:lastModifiedBy>ds0929</cp:lastModifiedBy>
  <dcterms:modified xsi:type="dcterms:W3CDTF">2013-02-22T10:44:22Z</dcterms:modified>
  <cp:revision>1</cp:revision>
  <dc:subject/>
  <dc:title>Slide 1</dc:title>
</cp:coreProperties>
</file>