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195-AAE5-4CB3-BA75-88F7E957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267-D633-4F35-8376-5E660870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9F2-A0F9-4058-8CCA-0B2282B5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389-4C07-4935-9826-9FB1A994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4F6-1A30-4197-B125-8466CCB8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38D-62C6-48DE-8347-1616FCFD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95A-07F3-45F9-B190-7CD26309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FA2-53D4-4E5C-924C-52B9D3A3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64C-2B6B-4F56-81AC-37403907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61F-BE5A-4ED5-83F8-FD5F6F5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968-D385-4672-AE9C-9B9E766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D3D-32CF-4903-980A-EB5E4A3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825C-EB28-43DF-9942-BCFBCA04AE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1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38:07Z</dcterms:created>
  <dc:creator>ds0929</dc:creator>
  <dc:description/>
  <dc:language>en-US</dc:language>
  <cp:lastModifiedBy>ds0929</cp:lastModifiedBy>
  <dcterms:modified xsi:type="dcterms:W3CDTF">2013-02-22T10:38:44Z</dcterms:modified>
  <cp:revision>1</cp:revision>
  <dc:subject/>
  <dc:title>Slide 1</dc:title>
</cp:coreProperties>
</file>