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AA7-4DE7-4778-BEA9-1E5E56C9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4AE-8338-430B-ABFE-20E27F04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1B5-AD38-4899-BA65-D48EB33A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0F2-CC10-459E-935E-D9A5F943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610-501A-4102-9871-C4E01CC5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043-D6FA-4521-BF8D-12AFBC0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FA9-C9DB-4228-B208-F902ACF7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E69-4805-4730-BD8A-2003E4D5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FE0-7535-4C24-A3E3-1FEE96E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810-5789-4906-9B2B-392D7EEF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443-C678-48E8-BD77-67B6919A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5C8-7D3C-4701-9E57-AFF0FB1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46FE-93AD-4ADF-A91E-800C61AD2B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19:44Z</dcterms:created>
  <dc:creator>ds0929</dc:creator>
  <dc:description/>
  <dc:language>en-US</dc:language>
  <cp:lastModifiedBy>ds0929</cp:lastModifiedBy>
  <dcterms:modified xsi:type="dcterms:W3CDTF">2013-02-22T10:21:08Z</dcterms:modified>
  <cp:revision>1</cp:revision>
  <dc:subject/>
  <dc:title>Slide 1</dc:title>
</cp:coreProperties>
</file>