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286-572A-4F7E-B6EE-D94275F4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B5C-1643-4E45-9DE7-57D5D954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E7E-5132-4DDB-A1B8-798C885E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7BB-4378-4F4B-B183-D5F00FF2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1E6-6646-475E-B9A8-336648CE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210-B7F0-431D-8B2D-18D73342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00E8-038A-46AE-849F-5A4650C5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077-6F5F-4A68-B554-FE4EDDB9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E01-C4D7-43E5-A36E-FCE8DCED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4ED-0440-4282-82BA-5BE48A31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1386-DE2B-4065-9FF1-7BFB485B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C25-919F-4D86-9A53-1F90FA91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6251-9802-44A9-B2C7-892AB4F505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11805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0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05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38:49Z</dcterms:created>
  <dc:creator>ds0929</dc:creator>
  <dc:description/>
  <dc:language>en-US</dc:language>
  <cp:lastModifiedBy>ds0929</cp:lastModifiedBy>
  <dcterms:modified xsi:type="dcterms:W3CDTF">2013-02-22T10:40:05Z</dcterms:modified>
  <cp:revision>1</cp:revision>
  <dc:subject/>
  <dc:title>Slide 1</dc:title>
</cp:coreProperties>
</file>