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18E-7435-4C22-8435-53EE5DC0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923-317C-44F5-963E-C7A0E941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AFEB-F273-4C46-9082-7DEADD5C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063-A296-40F3-AA0D-53B8A74A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601-B976-462D-8386-2322D207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2BB-0ADE-4BCD-A2E3-B9F7EA38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5D8E-02F8-41A0-9FA8-85CF395E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DDD7-DDBD-463F-829F-DB0CAF3C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0A8B-0D24-49B0-8107-328389B1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8169-92A6-4FDC-809F-2C14D382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E1EA-EF81-4D2D-90C3-AE19DAA6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A44-709D-4BE5-8E3C-E96B1D33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248F-7D4C-4418-ADA3-EC812646C8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9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7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52:37Z</dcterms:created>
  <dc:creator>ds0929</dc:creator>
  <dc:description/>
  <dc:language>en-US</dc:language>
  <cp:lastModifiedBy>ds0929</cp:lastModifiedBy>
  <dcterms:modified xsi:type="dcterms:W3CDTF">2013-02-09T04:53:19Z</dcterms:modified>
  <cp:revision>1</cp:revision>
  <dc:subject/>
  <dc:title>Slide 1</dc:title>
</cp:coreProperties>
</file>