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8F0-D740-4A10-96EE-95C34060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AF5-6C5E-4D54-BED9-7DD068F5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242-48B4-4C57-A6EB-A70CE9E7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9C7-665E-482B-81F8-2E3C01CC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7C7-990F-462C-948E-555B8733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AE2-D08E-42D3-B0FD-26A7E5F8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F30-95A6-40F3-B46B-E351CC93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7C4-806B-48FA-BBD6-DC9CF4F5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7E5-BA9B-45B3-822E-09FF88C5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A0A-036D-4824-ADE0-BC9DB734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EA3-E28C-4907-9BE1-DE28AC48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FA1-91D9-445F-980C-2DF7F6D1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6A79-F083-49EA-B4E9-5B03EA156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85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30:04Z</dcterms:created>
  <dc:creator>ds0929</dc:creator>
  <dc:description/>
  <dc:language>en-US</dc:language>
  <cp:lastModifiedBy>ds0929</cp:lastModifiedBy>
  <dcterms:modified xsi:type="dcterms:W3CDTF">2013-02-09T04:31:04Z</dcterms:modified>
  <cp:revision>1</cp:revision>
  <dc:subject/>
  <dc:title>Slide 1</dc:title>
</cp:coreProperties>
</file>