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927-A138-4654-A664-C2B0CFAA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6C1C-A3CC-4797-B069-BC7B4710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45B-7E30-489D-8DBB-4C45AB5C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6DF-0561-4816-9CC3-5459CB28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1AB-F6F4-4104-91BB-9FCC9808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CEE4-CFD5-491A-8CA0-DF6E7483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019-88D4-4F87-A00E-9082762A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7DC-3259-4C81-8AD4-EDD69027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BFB-9239-4C54-8C98-3CB25667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A61-EC65-4259-8148-BBD682E0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D8B-8907-4FEC-B7C0-EFD17E96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BD9-BCE0-401A-992E-BC762BF1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79C2-8F5A-4C3F-9F1D-DB3A430195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64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28:15Z</dcterms:created>
  <dc:creator>ds0929</dc:creator>
  <dc:description/>
  <dc:language>en-US</dc:language>
  <cp:lastModifiedBy>ds0929</cp:lastModifiedBy>
  <dcterms:modified xsi:type="dcterms:W3CDTF">2013-02-09T04:29:06Z</dcterms:modified>
  <cp:revision>1</cp:revision>
  <dc:subject/>
  <dc:title>Slide 1</dc:title>
</cp:coreProperties>
</file>