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13C1-FEB8-46C2-8EDC-7B252113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D90-E237-48A4-B7F5-D24525A6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892-9514-4B9E-B2EC-0F8EEC5C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D49-632A-4B1E-AB3A-0E8E8AFA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71A-43E8-4FC2-9471-C8C93327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C69-D8FB-4C02-9B54-21C74190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21A-4B71-4ABF-82A6-E9B9E85E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61B-6968-4C89-81E9-06F6183E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636-7EAE-4D85-82B4-EAA8F86E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336-17C4-45ED-BCAA-8F82E277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D43-1BE2-450A-88DC-479153EB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CDF-CCC0-45C5-ABCD-40BCAC8C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30C0-55B3-4560-9573-1D3392705F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78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31:12Z</dcterms:created>
  <dc:creator>ds0929</dc:creator>
  <dc:description/>
  <dc:language>en-US</dc:language>
  <cp:lastModifiedBy>ds0929</cp:lastModifiedBy>
  <dcterms:modified xsi:type="dcterms:W3CDTF">2013-02-09T04:32:03Z</dcterms:modified>
  <cp:revision>1</cp:revision>
  <dc:subject/>
  <dc:title>Slide 1</dc:title>
</cp:coreProperties>
</file>