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38F-3EA8-45EC-8358-2223C872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584-732F-430D-BA2B-13889BBF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CFD-FAB0-4EDF-AE65-133B45DB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DFA-43E2-4365-97A2-B1CD8C10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CD3-C12D-43D2-9C1B-8DA6A019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116-741A-43D8-BC8A-A355A119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263-4936-4DE0-996B-3F94283A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D30-F982-4E85-B3C2-9D252989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214-D673-4AC5-84FD-60590574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BC7-053F-4AD6-B983-55BDE9DC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70D-143B-4B4D-9709-AC7F5CB5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C3D-393C-4F27-868B-8DDC33AD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A0A2-6A71-4B2B-9854-1A24F1101B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01:40Z</dcterms:created>
  <dc:creator>ds0929</dc:creator>
  <dc:description/>
  <dc:language>en-US</dc:language>
  <cp:lastModifiedBy>ds0929</cp:lastModifiedBy>
  <dcterms:modified xsi:type="dcterms:W3CDTF">2013-02-15T11:02:27Z</dcterms:modified>
  <cp:revision>1</cp:revision>
  <dc:subject/>
  <dc:title>Slide 1</dc:title>
</cp:coreProperties>
</file>