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277F-E5CB-4E41-84C5-821265D73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3C6C-A3B0-4032-94C2-5C872B619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BBCF-21C8-4FE5-98A2-0CD528181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FEA9-73ED-437B-B648-FBF991282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E069-5384-4D5D-9278-44E68391A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F974-5088-4CB2-BED8-EAD1B7043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87D2-CB19-4B4B-839A-73A194684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F436-F64E-4AE7-A47D-F1D6934A8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0F0A-AADC-4FB6-832D-83DB06E18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8E96-634A-4CFD-B765-8D422F8DA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E742-378B-42C4-BC6D-C26E858B5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C958-9833-4641-B563-8A8DBF8C2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83A79-D50A-41F9-AAC9-AC53E50A936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P118048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001_A_006_U Kyaw Naing.mp3" descr=""/>
          <p:cNvPicPr/>
          <p:nvPr/>
        </p:nvPicPr>
        <p:blipFill>
          <a:blip r:embed="rId2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78176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2T10:22:01Z</dcterms:created>
  <dc:creator>ds0929</dc:creator>
  <dc:description/>
  <dc:language>en-US</dc:language>
  <cp:lastModifiedBy>ds0929</cp:lastModifiedBy>
  <dcterms:modified xsi:type="dcterms:W3CDTF">2013-02-22T10:23:04Z</dcterms:modified>
  <cp:revision>1</cp:revision>
  <dc:subject/>
  <dc:title>Slide 1</dc:title>
</cp:coreProperties>
</file>