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87DE0-1225-4BD2-8BF9-7EF662BA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54D5-DF9B-40FB-92C0-11002953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45E4F-4997-43AC-9A6B-C25DAEFD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3AF2C-CFA4-4AF5-9A37-6571F2B98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AEDA-4F7A-4999-85B0-5CFF51A2D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11D0-F360-4C2B-8BFF-633740263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641B-D184-4EBA-968A-8461425F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96AC-F45A-4FC0-A381-95394CA2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FCE3-823A-4D8F-8C68-869A1020C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222E-02F5-422C-990A-9E593B9A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F472-2676-4935-9E41-FCB52AE56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3BCA-6115-4A29-A11A-6E4635767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22DA-631D-46A3-804C-526BB3B64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7</a:t>
            </a:r>
            <a:br>
              <a:rPr sz="4000"/>
            </a:br>
            <a:r>
              <a:rPr b="0" lang="en-US" sz="4000" spc="-1" strike="noStrike">
                <a:solidFill>
                  <a:srgbClr val="000000"/>
                </a:solidFill>
                <a:latin typeface="Arial"/>
              </a:rPr>
              <a:t>Propagatio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Ionosp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osphere is the region of the upper atmosphere where the Sun’s ultraviolet radiation can ionize oxygen molecules to create a positive ion and a free electr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osphere protects us from excessive ultraviolet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layers of the ionosphe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layer is 30 to 60 miles in altitude.  The ions in this layer recombine at 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y-wave signals due to fluctuations in the ionosphere which can create multiple paths for the signal (multipath).  The combination of multipath signals can cause some distortion or f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wave signals travel along the surface of the Earth.  The ground is a poor conductor so ground wave losses are high and increase with frequ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kip zone is the region between the maximum ground-wave and minimum sky-wave where a station can not be he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2743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ng Path and Short Pa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ath is the shorter distance between your location and the other station.  Long path is longer path, and is 180 degrees aw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over both long and short path can occur.  The longer delayed signal will create an echo.</a:t>
            </a:r>
            <a:endParaRPr b="0" lang="en-US" sz="2800" spc="-1" strike="noStrike">
              <a:solidFill>
                <a:srgbClr val="000000"/>
              </a:solidFill>
              <a:latin typeface="Arial"/>
            </a:endParaRPr>
          </a:p>
        </p:txBody>
      </p:sp>
      <p:pic>
        <p:nvPicPr>
          <p:cNvPr id="55" name="" descr=""/>
          <p:cNvPicPr/>
          <p:nvPr/>
        </p:nvPicPr>
        <p:blipFill>
          <a:blip r:embed="rId1"/>
          <a:stretch/>
        </p:blipFill>
        <p:spPr>
          <a:xfrm>
            <a:off x="2819520" y="3276720"/>
            <a:ext cx="3795480" cy="338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Su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UV radiation generated by the Sun is related to the sunspot activity of the Su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spots are a magnetic phenomenon that occurs at the top of the photosphere (the visible layer of the Sun, or solar dis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spot cycle, or solar cycle, is about 11 ye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spot cycle also has a 22 year cycle where the magnetic orientation of the sunspots returns to the same N-S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920"/>
            <a:ext cx="8229600" cy="1218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spot number is the number of sunspots on the solar disk at a given time.</a:t>
            </a:r>
            <a:endParaRPr b="0" lang="en-US" sz="3200" spc="-1" strike="noStrike">
              <a:solidFill>
                <a:srgbClr val="000000"/>
              </a:solidFill>
              <a:latin typeface="Arial"/>
            </a:endParaRPr>
          </a:p>
        </p:txBody>
      </p:sp>
      <p:pic>
        <p:nvPicPr>
          <p:cNvPr id="58" name="" descr=""/>
          <p:cNvPicPr/>
          <p:nvPr/>
        </p:nvPicPr>
        <p:blipFill>
          <a:blip r:embed="rId1"/>
          <a:stretch/>
        </p:blipFill>
        <p:spPr>
          <a:xfrm>
            <a:off x="838080" y="1828800"/>
            <a:ext cx="762012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nspot peak, the more intense UV radiation creates a denser ionization layer that allows sky-wave propagation into the upper HF and lower VHF frequenc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on 80 M and 160 M are worse during a sunspot pea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on 10 M can stay open well into the night at a sunspot pea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sunspot minimum, the 15 M and higher bands are “closed” and the lower bands have good propag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 M band, being in the “middle”, tends to have good propagation almost all th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 rotates once every 28 days. Actually the Sun is not a solid and rotates fastest at the equator and slowest at the poles.  This differential rotation is what gives rise to the sunspo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cycles are on about a 28 day cycle as sunspots rotate out of view, and then back into vie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primary indices for measuring solar activ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Flux Index (SFI) is a measure of the amount of 2800 MHz (10.7 cm) radiation coming from the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96252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 index measures the short term stability of the Earth’s magnetic 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 index is based on the previous eight K index values and measures the long term stability of the Earth’s magnetic field.</a:t>
            </a:r>
            <a:endParaRPr b="0" lang="en-US" sz="2800" spc="-1" strike="noStrike">
              <a:solidFill>
                <a:srgbClr val="000000"/>
              </a:solidFill>
              <a:latin typeface="Arial"/>
            </a:endParaRPr>
          </a:p>
        </p:txBody>
      </p:sp>
      <p:pic>
        <p:nvPicPr>
          <p:cNvPr id="62" name="" descr=""/>
          <p:cNvPicPr/>
          <p:nvPr/>
        </p:nvPicPr>
        <p:blipFill>
          <a:blip r:embed="rId1"/>
          <a:stretch/>
        </p:blipFill>
        <p:spPr>
          <a:xfrm>
            <a:off x="2895480" y="228600"/>
            <a:ext cx="3429000" cy="325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usable frequency (MUF) is the highest frequency at which propagation exists between two points.  Frequencies higher than the MUF pass through the ionsphere into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usable frequency (LUF) is the lowest frequency at which propagation exists between two points.  Frequencies lower than the LUF are absorbed in the iono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F and LUF are affected 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of 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solar rad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ospheric s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LUF is greater than the MUF, then sky-wave propagation is not possible between the two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 to beacon stations is an excellent way to determine propagation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ar Disturb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 flares are an explosion associated with a disturbance in the magnetic field.  Solar flares are associated with sunsp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nal holes are a weak spot in the Sun’s corona (the outer, irregular, layer seen during a solar eclipse) through which ionized gasses can e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onal Mass Ejections (CME) can occur during a solar flare and represent a very large ejection of material from the S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layer is 60 to 70 miles in altitude.  The ions in this layer also recombine at night, but last longer after suns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layer is 100 to 300 miles and is the least dense so it can stay partially ionized all nigh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layer splits into the F1 and F2 layers during the day.  The layers combine into a single F layer at nigh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n is directly overhead the F2 layer will be at its highest altitud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V and X-rays from a solar flare move at the speed of light and impact the Earth 8 minutes la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ization in the ionosphere increases rapidly and causes an increase in absorption.  This is sudden ionospheric disturbance (S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F communications, particularly the lower bands, can be cut off for minutes or h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s only affect the lit side of the Earth, so night time DX is not affe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14520" y="1017720"/>
            <a:ext cx="6114960" cy="48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 gives a stream of ionized particles called the solar wind.  The magnetosphere is formed from the interaction of the solar wind with the Earth’s magnetic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omagnetic storm occurs when there is a large amount of charged particles ejected from the Sun (during a CME, for inst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d particles from the Sun take from 20 to 40 hours to reach the Ea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rged particles travel along the magnetic field lines toward the poles of the Earth.  They increase ionization in the E layer and cause auroral display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geomagnetic storm, HF propagation at high latitudes and near the poles is wiped out for hours or day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roras are caused by the ionization of atmospheric gasses by the incoming charged particles.  VHF and UHF signals can be bounced off of auroras.  The rapidly changing aurora modulates the reflected signals rendering voice modulation unusable, but CW can still be he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catter M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osphere is not a uniform set of layers.  Both density and orientation can vary wide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adic E propagation on the VHF bands is an example of a scatter mo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s from HF scatter are weaker because only a small fraction of the transmitted signal will sca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aths cause signal distortion and fluctuating signal streng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tter and backscatter can fill in the skip zone where sky-wave and ground-wave propagation do not re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38080" y="762120"/>
            <a:ext cx="7696440" cy="536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ar Vertical Incidence Sky-W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Vertical Incidence Sky-Wave (NVIS) can occur for radio waves below the critical frequency, which is usually below 5 MHz for most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izontally polarized antennas must be mounted between 1/8 to ¼ of a wavelength above the ground to use NV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skip is usable up to 200 to 300 m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838080" y="990720"/>
            <a:ext cx="73152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8280" y="0"/>
            <a:ext cx="490248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onosphere is a weak conductor because of the ions and free electr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osphere can cause radio waves to bend (refr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dense the ionization the higher the degree of refraction, and at higher frequ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HF and higher radio waves usually pass through the ionosphere into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F radio waves are most affected by ref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380880"/>
            <a:ext cx="8229600" cy="243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 height is the height from which the radio wave appears to be reflecting.</a:t>
            </a:r>
            <a:endParaRPr b="0" lang="en-US" sz="3200" spc="-1" strike="noStrike">
              <a:solidFill>
                <a:srgbClr val="000000"/>
              </a:solidFill>
              <a:latin typeface="Arial"/>
            </a:endParaRPr>
          </a:p>
        </p:txBody>
      </p:sp>
      <p:pic>
        <p:nvPicPr>
          <p:cNvPr id="47" name="" descr=""/>
          <p:cNvPicPr/>
          <p:nvPr/>
        </p:nvPicPr>
        <p:blipFill>
          <a:blip r:embed="rId1"/>
          <a:stretch/>
        </p:blipFill>
        <p:spPr>
          <a:xfrm>
            <a:off x="1905120" y="2057400"/>
            <a:ext cx="5333760" cy="38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04920"/>
            <a:ext cx="8229600" cy="1752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itical angle is the angle at which a radio wave must hit the ionosphere to reflect back to the Earth.</a:t>
            </a:r>
            <a:endParaRPr b="0" lang="en-US" sz="3200" spc="-1" strike="noStrike">
              <a:solidFill>
                <a:srgbClr val="000000"/>
              </a:solidFill>
              <a:latin typeface="Arial"/>
            </a:endParaRPr>
          </a:p>
        </p:txBody>
      </p:sp>
      <p:pic>
        <p:nvPicPr>
          <p:cNvPr id="49" name="" descr=""/>
          <p:cNvPicPr/>
          <p:nvPr/>
        </p:nvPicPr>
        <p:blipFill>
          <a:blip r:embed="rId1"/>
          <a:stretch/>
        </p:blipFill>
        <p:spPr>
          <a:xfrm>
            <a:off x="2286000" y="2209680"/>
            <a:ext cx="4952880" cy="349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itical frequency is the highest frequency that a radio wave transmitted straight up will return to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 waves that pass through the denser D and E regions are partially absorbed.  Frequencies below about 10 MHz are completely absorb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0, 80, 60, and 40 meters provide the best DX at night when the D layer is g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wave broadcasters move to lower frequencies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ky-Wave and Ground-Wave Propo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y-wave propagation refers to radio wave propagation via the ionosphere.  Each reflection from the ionosphere is a hop.  Reception of sky-wave propagation is called sk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region in the ionosphere where the hop occurs, the greater the distance the wave can tra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2 skip can travel up to 2500 m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skip can travel up to 1200 m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y-wave propagation can include multiple hops between the Earth and the ionosp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ionosphere is very dense, then the critical angle is high and short skip is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kip distances are much shorter than the usual skip dista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kip on the 10 M band is a good indicator that sky-wave propagation is possible on 6 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21:54:12Z</dcterms:created>
  <dc:creator>Perry</dc:creator>
  <dc:description/>
  <dc:language>en-US</dc:language>
  <cp:lastModifiedBy>Perry</cp:lastModifiedBy>
  <dcterms:modified xsi:type="dcterms:W3CDTF">2012-03-19T03:15:39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