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4F7-88F5-48BC-9565-D2075D62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8C9-F89A-48C4-9F55-F9A6076D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66C-D0C9-4C4D-80A3-8B6C8A74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4FD-7EEC-4B4C-9146-8F7847C7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7D29-74DA-4B6C-AED3-F67A430D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0FA4-2104-4C7D-A8CC-D4392C43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CA08-57D3-4886-AB49-24D6329E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1FCD-89FC-485C-BA26-090A2D9E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88F2-9E94-47D6-8B06-9A7C833E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D86F-73E0-405E-B495-965355EE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F379-B452-42F5-B4C8-36DFC3B5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DDF-E9D7-4389-AC0C-1147895F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CAD4-021C-41D5-8554-26D6C81F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2874-B9A7-4B4C-8B5A-92CE869C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034A-558F-4A7C-8E7A-DF6E8069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ECCA-AC81-4AF4-B793-07903C03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7FBC-8CA5-4A55-BE7D-8944F138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779-E5AE-4789-AA4D-4D57376A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717-1F68-498C-A812-4BEBFBD7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FC5-B1E4-4F9E-AD68-F674DBD6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D19-C855-4BE2-B6C4-F557EC65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E77-957F-45C7-9507-5B28F6C2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762-C5B6-4BE9-B510-3236772E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B77-4D04-416B-AC30-64B4C96C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5781-883C-4FB8-AAAD-7B6E2ECF00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B29D-0623-4030-BD1C-52865AD7CC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Radio Propagat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ring 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S 527 – Lectur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mpirical 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-distance Path loss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the idea that both theoretical and empirical evidence suggests that average received signal strength decreases logarithmically with 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received signal strength near to transmitter and approximate to different distances based on above “reference” obser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-normal shado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es that the environment can be vastly different at two points with the same distance of sepa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rical data suggests that the power observed at a location is random and distributed log-normally about the “mean”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mall scale fa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pid fluctuations of the signal over short period of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alidates Large-scale path l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due to multi-path 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or more waves (e.g: reflected/diffracted/scattered wav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ch waves differ in amplitude and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combine constructively or destructively resulting in rapid signal strength fluctuation over small distance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2895480" cy="152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943600" y="3657600"/>
            <a:ext cx="2857680" cy="1552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175440" y="30481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00920" y="5410080"/>
            <a:ext cx="289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difference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and reflect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6477120"/>
            <a:ext cx="7086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ures borrowed from [http://www.iec.org/online/tutorials/smart_ant/topic05.html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ors affecting fa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ltipath propa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peed of mobile/surrounding objec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frequency of the signal varies if relative motion between transmitter and receive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.g: The difference of sound heard when train is moving towards you or away from yo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nsmission bandwid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3114720" cy="1695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" y="434340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ussion related to Lecture-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mobility increase/decrease the throughput while thinking about mobile compu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scale/ Small sca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477120"/>
            <a:ext cx="7086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ures borrowed from [http://www.glenbrook.k12.il.us/GBSSCI/PHYS/CLASS/waves/u10l3d3.gif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 measurement observ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4876920"/>
            <a:ext cx="82296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propagation disk shaped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ionality due to environme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it observe Free-space Propagation mode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657600" cy="2536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09480" y="6248520"/>
            <a:ext cx="7086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ure 1 borrowed from [Aguayo – Link level measurements in 802.11b mesh network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ure 2 borrowed from [Deepak Ganesan -- Complex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828880" cy="2235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032800" y="41911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: Contour of prob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acket reception wr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5360" y="434340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: SNR values v/s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ance v/s observed signal str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 measurement observ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ws packet reception rates of 4 different lin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mporal variations over a long time period (96 hours) is signific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te: This is not the signal strength, but packet reception rate (broadcast packe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6248520"/>
            <a:ext cx="7086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ure borrowed from [Cerpa – Temporal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mporal vari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601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act of protocol desig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C protoc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tant retransmissions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ighborhood discov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problems when we consider asymmetry of lin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 can talk to receiver but not vice-ver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ing protoc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-hop reliability is low after 4 to 5 ho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sider 5 links each with packet-throughput 95%. Overall throughput (assuming no ACK) is 95%. Overall throughput (assuming no ACK) is ~77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ffect of unpredictable packet losses on TCP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 other effects like packet delivery success based on relative motion between transmitter and recei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path effect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Over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ck diagram of a radi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al Propa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scale path l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 scale f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esting link measurement observ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cations of protocol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otivation for Wireless propag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reless channel is vastly different from wired counterpa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access mechanis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hannel bu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of channel at each node can vary drast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: Sender thinks that channel is free but receiver senses a busy channel – Packet drop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liable chann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sensitive to environment (surroundings) and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ffects of Propagation has a high impact on higher layer protoc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: Are the assumptions made by TCP protocol valid under wireless chann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Radio Block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today's clas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w does the signal propagate? What are the prominent effec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29600" y="1905120"/>
            <a:ext cx="914400" cy="1828800"/>
          </a:xfrm>
          <a:custGeom>
            <a:avLst/>
            <a:gdLst>
              <a:gd name="textAreaLeft" fmla="*/ 367200 w 914400"/>
              <a:gd name="textAreaRight" fmla="*/ 591480 w 914400"/>
              <a:gd name="textAreaTop" fmla="*/ 626400 h 1828800"/>
              <a:gd name="textAreaBottom" fmla="*/ 1202400 h 1828800"/>
            </a:gdLst>
            <a:ahLst/>
            <a:rect l="textAreaLeft" t="textAreaTop" r="textAreaRight" b="textAreaBottom"/>
            <a:pathLst>
              <a:path w="640" h="861">
                <a:moveTo>
                  <a:pt x="640" y="233"/>
                </a:moveTo>
                <a:lnTo>
                  <a:pt x="221" y="293"/>
                </a:lnTo>
                <a:lnTo>
                  <a:pt x="506" y="12"/>
                </a:lnTo>
                <a:lnTo>
                  <a:pt x="367" y="0"/>
                </a:lnTo>
                <a:lnTo>
                  <a:pt x="29" y="406"/>
                </a:lnTo>
                <a:lnTo>
                  <a:pt x="431" y="347"/>
                </a:lnTo>
                <a:lnTo>
                  <a:pt x="145" y="645"/>
                </a:lnTo>
                <a:lnTo>
                  <a:pt x="99" y="520"/>
                </a:lnTo>
                <a:lnTo>
                  <a:pt x="0" y="861"/>
                </a:lnTo>
                <a:lnTo>
                  <a:pt x="326" y="765"/>
                </a:lnTo>
                <a:lnTo>
                  <a:pt x="209" y="711"/>
                </a:lnTo>
                <a:lnTo>
                  <a:pt x="640" y="233"/>
                </a:lnTo>
                <a:lnTo>
                  <a:pt x="640" y="233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276720"/>
            <a:ext cx="7772400" cy="1371600"/>
          </a:xfrm>
          <a:prstGeom prst="roundRect">
            <a:avLst>
              <a:gd name="adj" fmla="val 116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57200" y="1295280"/>
            <a:ext cx="7772400" cy="1447920"/>
            <a:chOff x="457200" y="1295280"/>
            <a:chExt cx="7772400" cy="1447920"/>
          </a:xfrm>
        </p:grpSpPr>
        <p:sp>
          <p:nvSpPr>
            <p:cNvPr id="97" name=""/>
            <p:cNvSpPr/>
            <p:nvPr/>
          </p:nvSpPr>
          <p:spPr>
            <a:xfrm>
              <a:off x="608040" y="1763640"/>
              <a:ext cx="1828800" cy="685800"/>
            </a:xfrm>
            <a:prstGeom prst="roundRect">
              <a:avLst>
                <a:gd name="adj" fmla="val 231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723960"/>
                  <a:tab algn="l" pos="144792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52680" y="1752480"/>
              <a:ext cx="1828800" cy="685800"/>
            </a:xfrm>
            <a:prstGeom prst="roundRect">
              <a:avLst>
                <a:gd name="adj" fmla="val 231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723960"/>
                  <a:tab algn="l" pos="144792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od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781680" y="1295280"/>
              <a:ext cx="455400" cy="455760"/>
              <a:chOff x="6781680" y="1295280"/>
              <a:chExt cx="455400" cy="455760"/>
            </a:xfrm>
          </p:grpSpPr>
          <p:sp>
            <p:nvSpPr>
              <p:cNvPr id="100" name=""/>
              <p:cNvSpPr/>
              <p:nvPr/>
            </p:nvSpPr>
            <p:spPr>
              <a:xfrm>
                <a:off x="7008840" y="1295280"/>
                <a:ext cx="10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81680" y="1295280"/>
                <a:ext cx="22716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007400" y="1295280"/>
                <a:ext cx="22968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6095880" y="1752480"/>
              <a:ext cx="1828800" cy="685800"/>
            </a:xfrm>
            <a:prstGeom prst="roundRect">
              <a:avLst>
                <a:gd name="adj" fmla="val 231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723960"/>
                  <a:tab algn="l" pos="144792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1371600"/>
              <a:ext cx="7772400" cy="1371600"/>
            </a:xfrm>
            <a:prstGeom prst="roundRect">
              <a:avLst>
                <a:gd name="adj" fmla="val 116"/>
              </a:avLst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2209680"/>
              <a:ext cx="914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1480" y="2209680"/>
              <a:ext cx="914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33520" y="2971800"/>
            <a:ext cx="7315200" cy="1143000"/>
            <a:chOff x="533520" y="2971800"/>
            <a:chExt cx="7315200" cy="1143000"/>
          </a:xfrm>
        </p:grpSpPr>
        <p:sp>
          <p:nvSpPr>
            <p:cNvPr id="108" name=""/>
            <p:cNvSpPr/>
            <p:nvPr/>
          </p:nvSpPr>
          <p:spPr>
            <a:xfrm>
              <a:off x="3276720" y="3429000"/>
              <a:ext cx="1828800" cy="685800"/>
            </a:xfrm>
            <a:prstGeom prst="roundRect">
              <a:avLst>
                <a:gd name="adj" fmla="val 231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723960"/>
                  <a:tab algn="l" pos="144792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Demod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33520" y="2971800"/>
              <a:ext cx="7315200" cy="1143000"/>
              <a:chOff x="533520" y="2971800"/>
              <a:chExt cx="7315200" cy="11430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6705720" y="2971800"/>
                <a:ext cx="455400" cy="455760"/>
                <a:chOff x="6705720" y="2971800"/>
                <a:chExt cx="455400" cy="4557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932880" y="2971800"/>
                  <a:ext cx="1080" cy="45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705720" y="2971800"/>
                  <a:ext cx="22716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6931440" y="2971800"/>
                  <a:ext cx="22968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533520" y="3429000"/>
                <a:ext cx="1828800" cy="685800"/>
              </a:xfrm>
              <a:prstGeom prst="roundRect">
                <a:avLst>
                  <a:gd name="adj" fmla="val 231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723960"/>
                    <a:tab algn="l" pos="144792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Decod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19920" y="3429000"/>
                <a:ext cx="1828800" cy="685800"/>
              </a:xfrm>
              <a:prstGeom prst="roundRect">
                <a:avLst>
                  <a:gd name="adj" fmla="val 231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723960"/>
                    <a:tab algn="l" pos="144792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ten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5104080" y="3886200"/>
                <a:ext cx="917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360880" y="3886200"/>
                <a:ext cx="917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ignal Propagation Effec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rge scale Path l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rge distances (w.r.t. to wavelength of the wave) between transmitter and recei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mall scale F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luctuation in received signal strengths due to variations over short distances (w.r.t. to wavelength of the wav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sider the wavelength of radio signals for 802.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02.11 a: Frequency = 5.2 GHz Wavelength = 5.8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02.11 b/g: Frequency = 2.4 GHz Wavelength = 12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rge scale Path lo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Observ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distance increases, the signal strength  at receiver decre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ree-space Propagation mod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-of-Sight (LoS) b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: Satellite Communication, Microwave LoS Radio Li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al strength observed at receiver is inversel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portional to square of di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s it so simpl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in realistic settings, lot of factors act on the 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major reas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eflec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objects ve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(wrt to waveleng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he wav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ffrac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objects that ha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p irregularit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cat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bjects that are small (when compared to the waveleng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: Rough su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3353040" cy="1128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24280" y="3733920"/>
            <a:ext cx="2857680" cy="742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480" y="6477120"/>
            <a:ext cx="7086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ures borrowed from [1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counting for Ground Refl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ray (Ground reflection)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s LoS path + Ground reflected wave p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312408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5486400"/>
            <a:ext cx="571500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162920" y="396216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124080"/>
            <a:ext cx="5715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124080"/>
            <a:ext cx="358128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29200" y="3962160"/>
            <a:ext cx="21337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95680" y="5181480"/>
            <a:ext cx="1519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10440" y="5183280"/>
            <a:ext cx="151920" cy="45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1970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19709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51055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51055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312408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426708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5720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36576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2767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434340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6477120"/>
            <a:ext cx="7086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ures partially borrowed from [Rappaport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mpirical models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bove models are very simplistic in realistic sett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: Points 4 and 5 in the above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lternative Approach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mpirical data to construct propagatio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, can measurements at few places generalize to all scenari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environ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requenc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"patterns" in the empirical data and use statistical techniques for approxi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5334120" cy="121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09480" y="6477120"/>
            <a:ext cx="7086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ures borrowed from [1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4:32:27Z</dcterms:created>
  <dc:creator>Vinay</dc:creator>
  <dc:description/>
  <dc:language>en-US</dc:language>
  <cp:lastModifiedBy>Vinay</cp:lastModifiedBy>
  <dcterms:modified xsi:type="dcterms:W3CDTF">2007-01-31T20:19:39Z</dcterms:modified>
  <cp:revision>176</cp:revision>
  <dc:subject/>
  <dc:title>Radio Propagation</dc:title>
</cp:coreProperties>
</file>