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065-43CD-45DF-B386-5625B926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941-4533-4420-B3A4-A912F107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130-7A78-45D8-A0C5-BF4E0F48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515-3B21-4B7B-8023-8BC0232A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1A1-2B5E-4AF6-A258-E4B016D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555-982E-41FD-B845-EEFFB94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7E4-82DA-4074-A9EC-000AA20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90A-9037-4B39-BAD2-8122F1AB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31F-C609-40EC-9900-8D356AC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2C9-17E5-482E-A8E7-91E8757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308-5417-4A5A-8F30-D600F123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62C-10D3-417D-8242-A5BB8200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71FC-C6D2-4754-B2E7-894956EC244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260360" cy="11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stberg@kth.se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Lecture 2: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Radio Wave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nders Väst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08-790 44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stberg@kth.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Knife edge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Effective Earth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692760" cy="363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927840" y="62578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[Sliman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13400" y="5445000"/>
            <a:ext cx="217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=8500 km=4/3R</a:t>
            </a:r>
            <a:r>
              <a:rPr b="0" i="1" lang="sv-SE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Fresnel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4484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well's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4765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well's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field lines may either start and end on charges, or are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field lines are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field is produced by a time-varying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gnetic field is produced by a time-varying electric field or by a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764160" cy="296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59280" y="5084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Only accelerating charges produc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24600" y="625788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[Saunders, 1999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84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56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Reversing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Directio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00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Osscillating periodic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Propag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The highe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more radio waves resamble the properties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t lower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lectrical properties of obstacles are important (but we tend to express these in terms of optical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If the wave length is of the same order of magnitude (or larger), diffraction or surface effects do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Propag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hen the dimension of the objec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Very Large compared to the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Larger compared to the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mall compared to the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Very small compared to the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Un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5616720" cy="371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24600" y="625788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[Saunders, 1999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agation between two antennas (not to sc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280" y="580536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Ground Wave for Frequencies &gt; ~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onospheric Wave for Frequencies &gt; ~3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63640" y="1628640"/>
          <a:ext cx="56293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293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Free Space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2637000"/>
          <a:ext cx="3095640" cy="26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7000"/>
                    <a:ext cx="3095640" cy="26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089680" y="2673360"/>
                <a:ext cx="315576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8:34:09Z</dcterms:created>
  <dc:creator>Anders</dc:creator>
  <dc:description/>
  <dc:language>en-US</dc:language>
  <cp:lastModifiedBy>Anders</cp:lastModifiedBy>
  <dcterms:modified xsi:type="dcterms:W3CDTF">2010-01-21T08:48:33Z</dcterms:modified>
  <cp:revision>32</cp:revision>
  <dc:subject/>
  <dc:title>Lecture 2: Radio Wave Propagation</dc:title>
</cp:coreProperties>
</file>