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ACA-8FEF-4B40-AFBF-4DD25C3D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43C5-C52A-4CCD-A1EE-63A425C71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DB9-E1C7-4068-A012-2466772B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30F-1FE7-4293-80E4-45F770F1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C18-45E0-4E74-9D86-8DC8FC68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621-849C-47AD-8DC2-2990B3B6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883-7B0C-42E3-9BC2-AC3B19B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1B3-8A43-498F-910B-8503C865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933-AAE4-433B-B34B-D04AC32C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FA4-F2DB-4E65-8E80-65CD66B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CA2-CEF3-4879-A93D-A64EDE4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C02-839A-4A3F-B3B8-082DD9D7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522-7532-49F2-ABB9-DB22F34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71B-4E11-4C22-AD23-6A50247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b28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b28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b28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28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28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0044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28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28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b28f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D59C-660D-46F1-86A1-621C5D372DAD}" type="slidenum">
              <a:rPr b="0" lang="en-US" sz="1400" spc="-1" strike="noStrike">
                <a:solidFill>
                  <a:srgbClr val="1b28f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3428640"/>
            <a:ext cx="6400800" cy="1143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20f2"/>
                </a:solidFill>
                <a:latin typeface="Arial"/>
              </a:rPr>
              <a:t>Radio Waves</a:t>
            </a:r>
            <a:endParaRPr b="0" lang="en-US" sz="40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Electromagnetic Radiation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Radio Transmission and Reception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Modulation Techniqu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61000" y="533520"/>
            <a:ext cx="3925800" cy="268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038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Reception of Radio Waves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172200" y="3352680"/>
            <a:ext cx="76320" cy="1905120"/>
          </a:xfrm>
          <a:prstGeom prst="rect">
            <a:avLst/>
          </a:prstGeom>
          <a:solidFill>
            <a:srgbClr val="00cc00"/>
          </a:soli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676520"/>
            <a:ext cx="397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Times New Roman"/>
              </a:rPr>
              <a:t>Receiving antenna works best when ‘tuned’ to the wavelength of the signal, and has proper polarization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62680" y="4410000"/>
            <a:ext cx="228600" cy="12193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96040" y="4232160"/>
            <a:ext cx="45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Times New Roman"/>
              </a:rPr>
              <a:t>Electrons in antenna are “jiggled”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Times New Roman"/>
              </a:rPr>
              <a:t>by passage of electromagnetic wave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6840" y="1600200"/>
            <a:ext cx="3972600" cy="2721960"/>
            <a:chOff x="1986840" y="1600200"/>
            <a:chExt cx="3972600" cy="2721960"/>
          </a:xfrm>
        </p:grpSpPr>
        <p:sp>
          <p:nvSpPr>
            <p:cNvPr id="188" name=""/>
            <p:cNvSpPr/>
            <p:nvPr/>
          </p:nvSpPr>
          <p:spPr>
            <a:xfrm flipV="1">
              <a:off x="2362320" y="219672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514600" y="2168280"/>
              <a:ext cx="0" cy="2620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67240" y="2092320"/>
              <a:ext cx="0" cy="419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819520" y="2091960"/>
              <a:ext cx="0" cy="500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971800" y="2244240"/>
              <a:ext cx="0" cy="42876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124440" y="2472840"/>
              <a:ext cx="0" cy="28116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276720" y="2701800"/>
              <a:ext cx="0" cy="13320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429000" y="2854080"/>
              <a:ext cx="0" cy="619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81640" y="2974680"/>
              <a:ext cx="0" cy="1526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733920" y="3044880"/>
              <a:ext cx="0" cy="26640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86200" y="3109680"/>
              <a:ext cx="0" cy="3542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038840" y="3190680"/>
              <a:ext cx="0" cy="4255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191120" y="3279240"/>
              <a:ext cx="0" cy="260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343400" y="336816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496040" y="3481200"/>
              <a:ext cx="0" cy="3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648320" y="341100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800600" y="3387600"/>
              <a:ext cx="0" cy="257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953240" y="3387240"/>
              <a:ext cx="0" cy="338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105520" y="3463920"/>
              <a:ext cx="0" cy="3427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257800" y="3616200"/>
              <a:ext cx="0" cy="2714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410440" y="3768480"/>
              <a:ext cx="0" cy="20016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562720" y="3920760"/>
              <a:ext cx="0" cy="1285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715000" y="4073040"/>
              <a:ext cx="0" cy="572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867640" y="416988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2320920"/>
              <a:ext cx="3597120" cy="19270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78080" y="2320920"/>
              <a:ext cx="84240" cy="460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361960" y="2412720"/>
              <a:ext cx="152280" cy="604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438280" y="2503440"/>
              <a:ext cx="220680" cy="17604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46560" y="2549520"/>
              <a:ext cx="372960" cy="2826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765160" y="2663640"/>
              <a:ext cx="198360" cy="160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063960" y="2739960"/>
              <a:ext cx="60480" cy="601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284640" y="2761920"/>
              <a:ext cx="60480" cy="378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444840" y="2862000"/>
              <a:ext cx="68400" cy="460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581640" y="2908080"/>
              <a:ext cx="98280" cy="684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726000" y="2907720"/>
              <a:ext cx="206280" cy="1285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894120" y="2952360"/>
              <a:ext cx="212760" cy="1602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046760" y="2998440"/>
              <a:ext cx="220680" cy="19044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191120" y="3196800"/>
              <a:ext cx="106200" cy="98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351320" y="3327120"/>
              <a:ext cx="52560" cy="52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040" y="3433680"/>
              <a:ext cx="29880" cy="223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572000" y="3531960"/>
              <a:ext cx="68400" cy="763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678200" y="3632040"/>
              <a:ext cx="129960" cy="106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62440" y="3714480"/>
              <a:ext cx="182520" cy="1461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54240" y="3798720"/>
              <a:ext cx="235080" cy="206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97240" y="3882960"/>
              <a:ext cx="152280" cy="1443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64360" y="3975120"/>
              <a:ext cx="54000" cy="44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570640" y="3974760"/>
              <a:ext cx="30240" cy="44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22920" y="4051080"/>
              <a:ext cx="30240" cy="52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875560" y="4065120"/>
              <a:ext cx="83880" cy="1141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711400">
              <a:off x="2093040" y="281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8f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577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871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290600" y="579132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Times New Roman"/>
              </a:rPr>
              <a:t>Optimum antenna length is </a:t>
            </a:r>
            <a:r>
              <a:rPr b="0" lang="en-US" sz="2400" spc="-1" strike="noStrike">
                <a:solidFill>
                  <a:srgbClr val="1b28f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b28f6"/>
                </a:solidFill>
                <a:latin typeface="Times New Roman"/>
              </a:rPr>
              <a:t>/4: one-quarter wavelength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8F2-E14B-42FD-AD63-20A2FB252A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Encoding Information on Radio Waves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What quantities characterize a radio wave?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Two common ways to carry analog information with radio wav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Amplitude Modulation (AM)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Frequency Modulation (FM): “static free”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130-769A-44A0-A211-2317F87136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AM Radio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mplitude Modulation (AM) uses changes in the signal </a:t>
            </a:r>
            <a:r>
              <a:rPr b="0" i="1" lang="en-US" sz="2400" spc="-1" strike="noStrike">
                <a:solidFill>
                  <a:srgbClr val="1b28f6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to convey information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85560" y="298620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871f"/>
                </a:solidFill>
                <a:latin typeface="Times New Roman"/>
              </a:rPr>
              <a:t>pressure modulation (sound)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89880" y="501336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electromagnetic wave 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modulation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057400" y="1935000"/>
            <a:ext cx="3657600" cy="484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2CC-DF58-47AF-925D-810839404E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AM Radio in Practice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Uses frequency range from 530 kHz to 1700 kHz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each station uses 9 kHz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spacing is 10 kHz (a little breathing room) </a:t>
            </a: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 117 channel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9 kHz of bandwidth means 4.5 kHz is highest audio frequency that can be encoded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falls short of 20 kHz capability of human ear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Previous diagram is exaggerated: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audio signal changes slowly with respect to radio carrier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typical speech sound of 500 Hz varies 1000 times slower than carrier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thus will see 1000 cycles of carrier to every one cycle of audio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158-F93A-4082-810E-4ADAE5B348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FM Radio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Frequency Modulation (FM) uses changes in the wave’s </a:t>
            </a:r>
            <a:r>
              <a:rPr b="0" i="1" lang="en-US" sz="2400" spc="-1" strike="noStrike">
                <a:solidFill>
                  <a:srgbClr val="8c20f2"/>
                </a:solidFill>
                <a:latin typeface="Arial"/>
              </a:rPr>
              <a:t>frequency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to convey information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56960" y="298620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871f"/>
                </a:solidFill>
                <a:latin typeface="Times New Roman"/>
              </a:rPr>
              <a:t>pressure modulation (sound)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1640" y="5241960"/>
            <a:ext cx="24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electromagnetic wav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modulation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28800" y="1935000"/>
            <a:ext cx="3657600" cy="484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8BE-C3C7-4CA8-8157-6EA8EB76EC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FM Radio in Practice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Spans 87.8 MHz to 108.0 MHz in 200 kHz interval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101 possible station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example: 91X runs from 91.0–91.2 MHz (centered at 91.1)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Nominally uses 150 kHz around center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75 kHz on each sid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30 kHz for L + R (mono) </a:t>
            </a: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 15 kHz audio capability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30 kHz offset for stereo difference signal (L - R)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gain: figure exaggerated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75 kHz from band center, modulation is &gt; 1000 times slower than carrier, so many cycles go by before frequency noticeably change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905120" y="4497480"/>
            <a:ext cx="5043240" cy="22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E09-D21F-42B6-B289-C775BFB1BC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AM vs. FM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FM is not inherently higher frequency than AM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these are just choice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aviation band is 108–136 MHz uses AM techniqu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Besides the greater bandwidth (leading to stereo and higher audio frequencies), FM is superior in immunity to environmental influenc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there are lots of ways to mess with an EM-wave’s amplitud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pass under a bridge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re-orient the antenna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no natural processes mess with the frequency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FM still works in the face of amplitude foolery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539-4D4B-48E6-8E96-FA32A7C0159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Frequency Allocation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80" y="1071720"/>
            <a:ext cx="9182160" cy="2869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-7920" y="3992400"/>
            <a:ext cx="9156600" cy="28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EF0-06C4-4ECD-B49B-3D5E29603E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Converting back to sound: AM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M is easy: just pass the AC signal from the antenna into a diode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or better yet, a diode bridg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then use capacitor to smooth out bump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b28f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8f6"/>
                </a:solidFill>
                <a:latin typeface="Arial"/>
              </a:rPr>
              <a:t>but not so much as to smooth out audio bumps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3520" y="3962160"/>
            <a:ext cx="3542760" cy="2133720"/>
            <a:chOff x="533520" y="3962160"/>
            <a:chExt cx="3542760" cy="2133720"/>
          </a:xfrm>
        </p:grpSpPr>
        <p:grpSp>
          <p:nvGrpSpPr>
            <p:cNvPr id="265" name=""/>
            <p:cNvGrpSpPr/>
            <p:nvPr/>
          </p:nvGrpSpPr>
          <p:grpSpPr>
            <a:xfrm>
              <a:off x="533520" y="4724280"/>
              <a:ext cx="380880" cy="380880"/>
              <a:chOff x="533520" y="4724280"/>
              <a:chExt cx="380880" cy="3808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4724280"/>
                <a:ext cx="380880" cy="380880"/>
              </a:xfrm>
              <a:prstGeom prst="ellipse">
                <a:avLst/>
              </a:prstGeom>
              <a:solidFill>
                <a:srgbClr val="ffff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4560" y="4840200"/>
                <a:ext cx="3049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32"/>
                      <a:pt x="96" y="48"/>
                    </a:cubicBezTo>
                    <a:cubicBezTo>
                      <a:pt x="112" y="64"/>
                      <a:pt x="128" y="96"/>
                      <a:pt x="144" y="96"/>
                    </a:cubicBezTo>
                    <a:cubicBezTo>
                      <a:pt x="160" y="96"/>
                      <a:pt x="184" y="56"/>
                      <a:pt x="192" y="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923640" y="5257800"/>
              <a:ext cx="152640" cy="533520"/>
              <a:chOff x="3923640" y="5257800"/>
              <a:chExt cx="152640" cy="533520"/>
            </a:xfrm>
          </p:grpSpPr>
          <p:sp>
            <p:nvSpPr>
              <p:cNvPr id="269" name=""/>
              <p:cNvSpPr/>
              <p:nvPr/>
            </p:nvSpPr>
            <p:spPr>
              <a:xfrm>
                <a:off x="3999960" y="5257800"/>
                <a:ext cx="7596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3923640" y="5334120"/>
                <a:ext cx="15228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24000" y="5410440"/>
                <a:ext cx="15228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923640" y="5486400"/>
                <a:ext cx="15228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24000" y="5562720"/>
                <a:ext cx="15228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923640" y="5639040"/>
                <a:ext cx="15228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4000" y="5715000"/>
                <a:ext cx="7596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V="1">
              <a:off x="4000320" y="495252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0320" y="5791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586520" y="4941720"/>
              <a:ext cx="863280" cy="860400"/>
              <a:chOff x="1586520" y="4941720"/>
              <a:chExt cx="863280" cy="860400"/>
            </a:xfrm>
          </p:grpSpPr>
          <p:sp>
            <p:nvSpPr>
              <p:cNvPr id="279" name=""/>
              <p:cNvSpPr/>
              <p:nvPr/>
            </p:nvSpPr>
            <p:spPr>
              <a:xfrm flipH="1" flipV="1">
                <a:off x="1586520" y="4941720"/>
                <a:ext cx="863280" cy="860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8894600">
                <a:off x="1904040" y="529488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1991520" y="5342400"/>
                <a:ext cx="161640" cy="161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586520" y="4103640"/>
              <a:ext cx="863280" cy="860400"/>
              <a:chOff x="1586520" y="4103640"/>
              <a:chExt cx="863280" cy="86040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1586520" y="4103640"/>
                <a:ext cx="863280" cy="860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705400">
                <a:off x="1903680" y="4457520"/>
                <a:ext cx="228600" cy="153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91520" y="4401720"/>
                <a:ext cx="161640" cy="161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24600" y="4105080"/>
              <a:ext cx="862920" cy="860400"/>
              <a:chOff x="2424600" y="4105080"/>
              <a:chExt cx="862920" cy="860400"/>
            </a:xfrm>
          </p:grpSpPr>
          <p:sp>
            <p:nvSpPr>
              <p:cNvPr id="287" name=""/>
              <p:cNvSpPr/>
              <p:nvPr/>
            </p:nvSpPr>
            <p:spPr>
              <a:xfrm flipH="1" flipV="1">
                <a:off x="2424600" y="4105080"/>
                <a:ext cx="862920" cy="860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 rot="18894600">
                <a:off x="2741760" y="44575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2829600" y="4505760"/>
                <a:ext cx="161640" cy="161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424600" y="4940280"/>
              <a:ext cx="862920" cy="860400"/>
              <a:chOff x="2424600" y="4940280"/>
              <a:chExt cx="862920" cy="860400"/>
            </a:xfrm>
          </p:grpSpPr>
          <p:sp>
            <p:nvSpPr>
              <p:cNvPr id="291" name=""/>
              <p:cNvSpPr/>
              <p:nvPr/>
            </p:nvSpPr>
            <p:spPr>
              <a:xfrm flipH="1">
                <a:off x="2424600" y="4940280"/>
                <a:ext cx="862920" cy="860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705400">
                <a:off x="2741760" y="529488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29600" y="5238360"/>
                <a:ext cx="161640" cy="161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b28f6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400120" y="4084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00120" y="57405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62040" y="4908600"/>
              <a:ext cx="7560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38200" y="49086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400120" y="396216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23600" y="3962520"/>
              <a:ext cx="1676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600" y="3962520"/>
              <a:ext cx="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600" y="5105520"/>
              <a:ext cx="0" cy="838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579132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23600" y="5943600"/>
              <a:ext cx="1676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333440" y="4952880"/>
              <a:ext cx="228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33440" y="4952880"/>
              <a:ext cx="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3440" y="6095880"/>
              <a:ext cx="2666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14520" y="4952880"/>
              <a:ext cx="685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941920" y="41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3544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00" y="43434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871f"/>
                </a:solidFill>
                <a:latin typeface="Arial"/>
              </a:rPr>
              <a:t>radio signal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85640" y="52722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871f"/>
                </a:solidFill>
                <a:latin typeface="Arial"/>
              </a:rPr>
              <a:t>amplifier/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871f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3124080"/>
            <a:ext cx="152640" cy="11430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562720" y="4266360"/>
            <a:ext cx="152280" cy="11430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3200400"/>
            <a:ext cx="15228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867280" y="4267080"/>
            <a:ext cx="152640" cy="106704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3276720"/>
            <a:ext cx="152280" cy="99036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172200" y="4267080"/>
            <a:ext cx="15228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3352680"/>
            <a:ext cx="152640" cy="9144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477120" y="4267080"/>
            <a:ext cx="152280" cy="9144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76720"/>
            <a:ext cx="152280" cy="99036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781680" y="4267080"/>
            <a:ext cx="15264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3200400"/>
            <a:ext cx="15228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086600" y="4267080"/>
            <a:ext cx="152280" cy="106704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3200400"/>
            <a:ext cx="15264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391520" y="4267080"/>
            <a:ext cx="152280" cy="106704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43800" y="3276720"/>
            <a:ext cx="152280" cy="99036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696080" y="4267080"/>
            <a:ext cx="15264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3429000"/>
            <a:ext cx="152280" cy="8380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8001000" y="4266360"/>
            <a:ext cx="152280" cy="83844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53280" y="3657600"/>
            <a:ext cx="152640" cy="6094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305920" y="4267080"/>
            <a:ext cx="152280" cy="60984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5486400"/>
            <a:ext cx="152640" cy="11430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5486400"/>
            <a:ext cx="152280" cy="11430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5562720"/>
            <a:ext cx="15228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5562720"/>
            <a:ext cx="15264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5638680"/>
            <a:ext cx="15228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5638680"/>
            <a:ext cx="15228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5715000"/>
            <a:ext cx="152640" cy="9144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5715000"/>
            <a:ext cx="152280" cy="91440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5638680"/>
            <a:ext cx="15228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81680" y="5638680"/>
            <a:ext cx="15264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5562720"/>
            <a:ext cx="15228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5562720"/>
            <a:ext cx="15228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5562720"/>
            <a:ext cx="15264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562720"/>
            <a:ext cx="152280" cy="10666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5638680"/>
            <a:ext cx="15228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5638680"/>
            <a:ext cx="152640" cy="99072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48720" y="5791320"/>
            <a:ext cx="152280" cy="8380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01000" y="5791320"/>
            <a:ext cx="152280" cy="8380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53280" y="6019920"/>
            <a:ext cx="152640" cy="6094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05920" y="6019920"/>
            <a:ext cx="152280" cy="609480"/>
          </a:xfrm>
          <a:custGeom>
            <a:avLst/>
            <a:gdLst/>
            <a:ahLst/>
            <a:rect l="l" t="t" r="r" b="b"/>
            <a:pathLst>
              <a:path w="96" h="720">
                <a:moveTo>
                  <a:pt x="0" y="720"/>
                </a:moveTo>
                <a:cubicBezTo>
                  <a:pt x="16" y="360"/>
                  <a:pt x="32" y="0"/>
                  <a:pt x="48" y="0"/>
                </a:cubicBezTo>
                <a:cubicBezTo>
                  <a:pt x="64" y="0"/>
                  <a:pt x="80" y="360"/>
                  <a:pt x="96" y="720"/>
                </a:cubicBezTo>
              </a:path>
            </a:pathLst>
          </a:custGeom>
          <a:noFill/>
          <a:ln w="9360">
            <a:solidFill>
              <a:srgbClr val="1b28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42670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31240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10080" y="54864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662940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5486400"/>
            <a:ext cx="3048120" cy="609480"/>
          </a:xfrm>
          <a:custGeom>
            <a:avLst/>
            <a:gdLst/>
            <a:ahLst/>
            <a:rect l="l" t="t" r="r" b="b"/>
            <a:pathLst>
              <a:path w="1920" h="384">
                <a:moveTo>
                  <a:pt x="0" y="48"/>
                </a:moveTo>
                <a:cubicBezTo>
                  <a:pt x="24" y="24"/>
                  <a:pt x="48" y="0"/>
                  <a:pt x="96" y="0"/>
                </a:cubicBezTo>
                <a:cubicBezTo>
                  <a:pt x="144" y="0"/>
                  <a:pt x="224" y="24"/>
                  <a:pt x="288" y="48"/>
                </a:cubicBezTo>
                <a:cubicBezTo>
                  <a:pt x="352" y="72"/>
                  <a:pt x="416" y="128"/>
                  <a:pt x="480" y="144"/>
                </a:cubicBezTo>
                <a:cubicBezTo>
                  <a:pt x="544" y="160"/>
                  <a:pt x="608" y="152"/>
                  <a:pt x="672" y="144"/>
                </a:cubicBezTo>
                <a:cubicBezTo>
                  <a:pt x="736" y="136"/>
                  <a:pt x="800" y="112"/>
                  <a:pt x="864" y="96"/>
                </a:cubicBezTo>
                <a:cubicBezTo>
                  <a:pt x="928" y="80"/>
                  <a:pt x="992" y="56"/>
                  <a:pt x="1056" y="48"/>
                </a:cubicBezTo>
                <a:cubicBezTo>
                  <a:pt x="1120" y="40"/>
                  <a:pt x="1184" y="40"/>
                  <a:pt x="1248" y="48"/>
                </a:cubicBezTo>
                <a:cubicBezTo>
                  <a:pt x="1312" y="56"/>
                  <a:pt x="1376" y="72"/>
                  <a:pt x="1440" y="96"/>
                </a:cubicBezTo>
                <a:cubicBezTo>
                  <a:pt x="1504" y="120"/>
                  <a:pt x="1568" y="152"/>
                  <a:pt x="1632" y="192"/>
                </a:cubicBezTo>
                <a:cubicBezTo>
                  <a:pt x="1696" y="232"/>
                  <a:pt x="1776" y="304"/>
                  <a:pt x="1824" y="336"/>
                </a:cubicBezTo>
                <a:cubicBezTo>
                  <a:pt x="1872" y="368"/>
                  <a:pt x="1896" y="376"/>
                  <a:pt x="1920" y="384"/>
                </a:cubicBezTo>
              </a:path>
            </a:pathLst>
          </a:custGeom>
          <a:noFill/>
          <a:ln w="19080">
            <a:solidFill>
              <a:srgbClr val="ff2c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D51-1D6F-4625-92D5-7410A80950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Converting back to sound: FM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More sophisticated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need to compare instantaneous frequency to that of a reference sourc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then produce a voltage proportional to the difference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Compute L = [(L+R) + (L-R)]/2; R = [(L+R) - (L-R)]/2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amplify the L and R voltages to send to speaker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mplification is common to both schem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intrinsic signal is far too weak to drive speaker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E74-F794-4D9E-B52B-39CD82AEB3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Electromagnetism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Electricity and magnetism are different facets of </a:t>
            </a:r>
            <a:r>
              <a:rPr b="0" i="1" lang="en-US" sz="2400" spc="-1" strike="noStrike">
                <a:solidFill>
                  <a:srgbClr val="ff2c2c"/>
                </a:solidFill>
                <a:latin typeface="Arial"/>
              </a:rPr>
              <a:t>electromagnetism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recall that a static distribution of charges produces an electric field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charges in </a:t>
            </a:r>
            <a:r>
              <a:rPr b="0" i="1" lang="en-US" sz="2000" spc="-1" strike="noStrike">
                <a:solidFill>
                  <a:srgbClr val="0b871f"/>
                </a:solidFill>
                <a:latin typeface="Arial"/>
              </a:rPr>
              <a:t>motion</a:t>
            </a: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 (an electrical current) produce a magnetic field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b871f"/>
                </a:solidFill>
                <a:latin typeface="Arial"/>
              </a:rPr>
              <a:t>changing</a:t>
            </a: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 magnetic field produces an electric field, moving charge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Electric and Magnetic fields produce forces on charg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accelerating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charge produces electromagnetic waves (radiation)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Both electric and magnetic fields can transport energy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Electric field energy used in electrical circuits &amp; released in lightning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Magnetic field carries energy through transformer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9A2-152B-4F13-A475-29158F9C4B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HW5: 12.E.24, 13.E.13, 13.E.15, 13.E.16, 13.P.7, 13.P.9, 13.P.11, </a:t>
            </a:r>
            <a:r>
              <a:rPr b="0" lang="en-US" sz="2400" spc="-1" strike="noStrike">
                <a:solidFill>
                  <a:srgbClr val="ff2c2c"/>
                </a:solidFill>
                <a:latin typeface="Arial"/>
              </a:rPr>
              <a:t>plus additional required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problems available on website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29E-7062-49FC-BEA8-D89C93C26E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20f2"/>
                </a:solidFill>
                <a:latin typeface="Arial"/>
              </a:rPr>
              <a:t>Electromagnetic Radiation</a:t>
            </a:r>
            <a:endParaRPr b="0" lang="en-US" sz="36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Interrelated electric and magnetic fields traveling through space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ll electromagnetic radiation travels at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=  3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m/s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in vacuum – </a:t>
            </a:r>
            <a:r>
              <a:rPr b="0" i="1" lang="en-US" sz="2400" spc="-1" strike="noStrike">
                <a:solidFill>
                  <a:srgbClr val="1b28f6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cosmic speed limit!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b28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real number is 299792458.0 m/s </a:t>
            </a:r>
            <a:r>
              <a:rPr b="0" i="1" lang="en-US" sz="2000" spc="-1" strike="noStrike">
                <a:solidFill>
                  <a:srgbClr val="009900"/>
                </a:solidFill>
                <a:latin typeface="Arial"/>
              </a:rPr>
              <a:t>exactly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CB7-62B7-448A-871D-8C6E30B5E9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Examples of Electromagnetic Radiation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M and FM radio waves (including TV signals)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Cell phone communication link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Microwav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Infrared radiation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Light 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X-ray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Gamma ray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What distinguishes these from one another?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BBD-6B94-4E86-B561-73C16A2DD5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Wavelength (Frequency)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4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50920" y="5029200"/>
            <a:ext cx="6926400" cy="17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B0D-9672-4A85-A9DE-8AF9A76A0E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20f2"/>
                </a:solidFill>
                <a:latin typeface="Arial"/>
              </a:rPr>
              <a:t>The Electromagnetic Spectrum</a:t>
            </a:r>
            <a:endParaRPr b="0" lang="en-US" sz="32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Relationship between </a:t>
            </a:r>
            <a:r>
              <a:rPr b="0" lang="en-US" sz="2400" spc="-1" strike="noStrike">
                <a:solidFill>
                  <a:srgbClr val="8c20f2"/>
                </a:solidFill>
                <a:latin typeface="Arial"/>
              </a:rPr>
              <a:t>frequency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2c2c"/>
                </a:solidFill>
                <a:latin typeface="Arial"/>
              </a:rPr>
              <a:t>speed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b871f"/>
                </a:solidFill>
                <a:latin typeface="Arial"/>
              </a:rPr>
              <a:t>wavelength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                          </a:t>
            </a:r>
            <a:r>
              <a:rPr b="0" i="1" lang="en-US" sz="2400" spc="-1" strike="noStrike">
                <a:solidFill>
                  <a:srgbClr val="8c20f2"/>
                </a:solidFill>
                <a:latin typeface="Arial"/>
              </a:rPr>
              <a:t>f </a:t>
            </a:r>
            <a:r>
              <a:rPr b="0" i="1" lang="en-US" sz="2400" spc="-1" strike="noStrike">
                <a:solidFill>
                  <a:srgbClr val="1b28f6"/>
                </a:solidFill>
                <a:latin typeface="Arial"/>
                <a:ea typeface="Times New Roman"/>
              </a:rPr>
              <a:t>·</a:t>
            </a:r>
            <a:r>
              <a:rPr b="0" i="1" lang="en-US" sz="2400" spc="-1" strike="noStrike">
                <a:solidFill>
                  <a:srgbClr val="0b871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1b28f6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ff2c2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1b28f6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8c20f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8c20f2"/>
                </a:solidFill>
                <a:latin typeface="Arial"/>
              </a:rPr>
              <a:t>frequency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b871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b871f"/>
                </a:solidFill>
                <a:latin typeface="Arial"/>
              </a:rPr>
              <a:t>wavelength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2c2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2c2c"/>
                </a:solidFill>
                <a:latin typeface="Arial"/>
              </a:rPr>
              <a:t>speed of light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Different frequencies of electromagnetic radiation are better suited to different purpose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The frequency of a radio wave determines its propagation characteristics through various media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A65-C7A5-481C-92C0-E2A80B6657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20f2"/>
                </a:solidFill>
                <a:latin typeface="Arial"/>
              </a:rPr>
              <a:t>Generation of Radio Waves</a:t>
            </a:r>
            <a:endParaRPr b="0" lang="en-US" sz="36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Accelerating charges radiate EM energy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b28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8f6"/>
                </a:solidFill>
                <a:latin typeface="Arial"/>
              </a:rPr>
              <a:t>If charges oscillate back and forth, get time-varying fields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1080" y="3019320"/>
            <a:ext cx="152280" cy="266724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5b5b58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971800"/>
            <a:ext cx="152280" cy="266688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8d8d89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4160" y="3019320"/>
            <a:ext cx="152640" cy="2667240"/>
          </a:xfrm>
          <a:prstGeom prst="rect">
            <a:avLst/>
          </a:prstGeom>
          <a:gradFill rotWithShape="0">
            <a:gsLst>
              <a:gs pos="0">
                <a:srgbClr val="757571"/>
              </a:gs>
              <a:gs pos="100000">
                <a:srgbClr val="fffff7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971800"/>
            <a:ext cx="152280" cy="2666880"/>
          </a:xfrm>
          <a:prstGeom prst="rect">
            <a:avLst/>
          </a:prstGeom>
          <a:solidFill>
            <a:srgbClr val="fffff7"/>
          </a:soli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67280" y="2971800"/>
            <a:ext cx="152640" cy="2666880"/>
          </a:xfrm>
          <a:prstGeom prst="rect">
            <a:avLst/>
          </a:prstGeom>
          <a:gradFill rotWithShape="0">
            <a:gsLst>
              <a:gs pos="0">
                <a:srgbClr val="8d8d89"/>
              </a:gs>
              <a:gs pos="100000">
                <a:srgbClr val="fffff7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4520" y="4051440"/>
            <a:ext cx="36648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6840" y="3124080"/>
            <a:ext cx="3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886200"/>
            <a:ext cx="0" cy="914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505320"/>
            <a:ext cx="0" cy="1828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886200"/>
            <a:ext cx="0" cy="914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715000" y="3886200"/>
            <a:ext cx="0" cy="914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172200" y="3886200"/>
            <a:ext cx="0" cy="914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467480" y="3429000"/>
            <a:ext cx="0" cy="1828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8080" y="3505320"/>
            <a:ext cx="0" cy="1798560"/>
            <a:chOff x="838080" y="3505320"/>
            <a:chExt cx="0" cy="1798560"/>
          </a:xfrm>
        </p:grpSpPr>
        <p:sp>
          <p:nvSpPr>
            <p:cNvPr id="81" name=""/>
            <p:cNvSpPr/>
            <p:nvPr/>
          </p:nvSpPr>
          <p:spPr>
            <a:xfrm>
              <a:off x="838080" y="4572000"/>
              <a:ext cx="0" cy="73188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3505320"/>
              <a:ext cx="0" cy="5475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439720" y="3048120"/>
            <a:ext cx="3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88080" y="3048120"/>
            <a:ext cx="33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0920" y="3124080"/>
            <a:ext cx="33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476-7956-499B-AD65-BB9AE414BD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65880" y="401472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67680" y="442908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69120" y="484344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70920" y="525780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64440" y="360036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73320" y="388620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2680" y="461808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9160" y="391968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0960" y="433404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00" y="474804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4200" y="516240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7720" y="350532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20f2"/>
                </a:solidFill>
                <a:latin typeface="Arial"/>
              </a:rPr>
              <a:t>Generation of Radio Waves</a:t>
            </a:r>
            <a:endParaRPr b="0" lang="en-US" sz="3600" spc="-1" strike="noStrike">
              <a:solidFill>
                <a:srgbClr val="8c20f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If charges oscillate back and forth, get time-varying magnetic fields too.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Arial"/>
              </a:rPr>
              <a:t>Note that the magnetic fields are perpendicular to the electric field vectors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04760" y="3171960"/>
            <a:ext cx="152640" cy="266688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5b5b58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124080"/>
            <a:ext cx="152640" cy="266724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8d8d89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8200" y="3171960"/>
            <a:ext cx="152280" cy="2666880"/>
          </a:xfrm>
          <a:prstGeom prst="rect">
            <a:avLst/>
          </a:prstGeom>
          <a:gradFill rotWithShape="0">
            <a:gsLst>
              <a:gs pos="0">
                <a:srgbClr val="757571"/>
              </a:gs>
              <a:gs pos="100000">
                <a:srgbClr val="fffff7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3124080"/>
            <a:ext cx="152640" cy="2667240"/>
          </a:xfrm>
          <a:prstGeom prst="rect">
            <a:avLst/>
          </a:prstGeom>
          <a:solidFill>
            <a:srgbClr val="fffff7"/>
          </a:soli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1320" y="3123360"/>
            <a:ext cx="152280" cy="2667240"/>
          </a:xfrm>
          <a:prstGeom prst="rect">
            <a:avLst/>
          </a:prstGeom>
          <a:gradFill rotWithShape="0">
            <a:gsLst>
              <a:gs pos="0">
                <a:srgbClr val="8d8d89"/>
              </a:gs>
              <a:gs pos="100000">
                <a:srgbClr val="fffff7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4800600"/>
            <a:ext cx="3834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1920" y="373392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3720" y="414828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65160" y="456264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6960" y="497664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68400" y="539100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87520" y="411480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7240" y="484668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37160" y="399240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46880" y="4724280"/>
            <a:ext cx="685800" cy="2286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1360" y="422100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1080" y="495288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78640" y="382896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80440" y="424332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81880" y="465768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83320" y="507204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85120" y="5486400"/>
            <a:ext cx="228600" cy="1440"/>
          </a:xfrm>
          <a:custGeom>
            <a:avLst/>
            <a:gdLst/>
            <a:ahLst/>
            <a:rect l="l" t="t" r="r" b="b"/>
            <a:pathLst>
              <a:path w="144" h="1">
                <a:moveTo>
                  <a:pt x="0" y="0"/>
                </a:moveTo>
                <a:cubicBezTo>
                  <a:pt x="16" y="0"/>
                  <a:pt x="32" y="0"/>
                  <a:pt x="48" y="0"/>
                </a:cubicBezTo>
                <a:cubicBezTo>
                  <a:pt x="64" y="0"/>
                  <a:pt x="80" y="0"/>
                  <a:pt x="96" y="0"/>
                </a:cubicBezTo>
                <a:cubicBezTo>
                  <a:pt x="112" y="0"/>
                  <a:pt x="128" y="0"/>
                  <a:pt x="144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5840" y="3184560"/>
            <a:ext cx="3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58720" y="3108240"/>
            <a:ext cx="3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07080" y="3108240"/>
            <a:ext cx="33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9920" y="3184560"/>
            <a:ext cx="33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8f6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854-FC52-4FA3-9143-DCBE437FBA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20f2"/>
                </a:solidFill>
                <a:latin typeface="Arial"/>
              </a:rPr>
              <a:t>Polarization of Radio Waves</a:t>
            </a:r>
            <a:endParaRPr b="0" lang="en-US" sz="3600" spc="-1" strike="noStrike">
              <a:solidFill>
                <a:srgbClr val="8c20f2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53520" y="2590920"/>
            <a:ext cx="3972600" cy="2721960"/>
            <a:chOff x="3053520" y="2590920"/>
            <a:chExt cx="3972600" cy="2721960"/>
          </a:xfrm>
        </p:grpSpPr>
        <p:sp>
          <p:nvSpPr>
            <p:cNvPr id="129" name=""/>
            <p:cNvSpPr/>
            <p:nvPr/>
          </p:nvSpPr>
          <p:spPr>
            <a:xfrm flipV="1">
              <a:off x="3429000" y="318744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581280" y="3159000"/>
              <a:ext cx="0" cy="2620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733920" y="3083040"/>
              <a:ext cx="0" cy="419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86200" y="3082680"/>
              <a:ext cx="0" cy="500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38480" y="3234960"/>
              <a:ext cx="0" cy="42876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91120" y="3463560"/>
              <a:ext cx="0" cy="28116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343400" y="3692520"/>
              <a:ext cx="0" cy="13320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495680" y="3844800"/>
              <a:ext cx="0" cy="619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648320" y="3965400"/>
              <a:ext cx="0" cy="1526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800600" y="4035600"/>
              <a:ext cx="0" cy="26640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952880" y="4100400"/>
              <a:ext cx="0" cy="3542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05520" y="4181400"/>
              <a:ext cx="0" cy="4255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257800" y="4269960"/>
              <a:ext cx="0" cy="260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410080" y="435888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562720" y="4471920"/>
              <a:ext cx="0" cy="3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715000" y="440172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867280" y="4378320"/>
              <a:ext cx="0" cy="257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019920" y="4377960"/>
              <a:ext cx="0" cy="3380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172200" y="4454640"/>
              <a:ext cx="0" cy="3427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324480" y="4606920"/>
              <a:ext cx="0" cy="2714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477120" y="4759200"/>
              <a:ext cx="0" cy="20016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629400" y="4911480"/>
              <a:ext cx="0" cy="12852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781680" y="5063760"/>
              <a:ext cx="0" cy="5724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934320" y="5160600"/>
              <a:ext cx="0" cy="1522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3311640"/>
              <a:ext cx="3597120" cy="1927080"/>
            </a:xfrm>
            <a:prstGeom prst="line">
              <a:avLst/>
            </a:prstGeom>
            <a:ln w="9360">
              <a:solidFill>
                <a:srgbClr val="0b8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344760" y="3311640"/>
              <a:ext cx="84240" cy="460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428640" y="3403440"/>
              <a:ext cx="152280" cy="604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504960" y="3494160"/>
              <a:ext cx="220680" cy="17604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13240" y="3540240"/>
              <a:ext cx="372960" cy="2826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831840" y="3654360"/>
              <a:ext cx="198360" cy="160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30640" y="3730680"/>
              <a:ext cx="60480" cy="601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351320" y="3752640"/>
              <a:ext cx="60480" cy="378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11520" y="3852720"/>
              <a:ext cx="68400" cy="460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648320" y="3898800"/>
              <a:ext cx="98280" cy="684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792680" y="3898440"/>
              <a:ext cx="206280" cy="1285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960800" y="3943080"/>
              <a:ext cx="212760" cy="16020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113440" y="3989160"/>
              <a:ext cx="220680" cy="19044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257800" y="4187520"/>
              <a:ext cx="106200" cy="98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418000" y="4317840"/>
              <a:ext cx="52560" cy="52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562720" y="4424400"/>
              <a:ext cx="29880" cy="223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638680" y="4522680"/>
              <a:ext cx="68400" cy="763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744880" y="4622760"/>
              <a:ext cx="129960" cy="106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829120" y="4705200"/>
              <a:ext cx="182520" cy="1461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920920" y="4789440"/>
              <a:ext cx="235080" cy="206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63920" y="4873680"/>
              <a:ext cx="152280" cy="1443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431040" y="4965840"/>
              <a:ext cx="54000" cy="44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637320" y="4965480"/>
              <a:ext cx="30240" cy="4428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789600" y="5041800"/>
              <a:ext cx="30240" cy="5256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942240" y="5055840"/>
              <a:ext cx="83880" cy="114120"/>
            </a:xfrm>
            <a:prstGeom prst="line">
              <a:avLst/>
            </a:prstGeom>
            <a:ln w="19080">
              <a:solidFill>
                <a:srgbClr val="1b28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711400">
              <a:off x="3159720" y="380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8f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24440" y="2590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b871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1b28f6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3124080" y="2016000"/>
            <a:ext cx="76320" cy="1905120"/>
          </a:xfrm>
          <a:prstGeom prst="rect">
            <a:avLst/>
          </a:prstGeom>
          <a:gradFill rotWithShape="0">
            <a:gsLst>
              <a:gs pos="0">
                <a:srgbClr val="8d8d89"/>
              </a:gs>
              <a:gs pos="100000">
                <a:srgbClr val="fffff7"/>
              </a:gs>
            </a:gsLst>
            <a:lin ang="5400000"/>
          </a:gradFill>
          <a:ln w="9360">
            <a:solidFill>
              <a:srgbClr val="1b2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88880" y="251604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nsmitting 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ntenna</a:t>
            </a:r>
            <a:endParaRPr b="0" lang="en-US" sz="2400" spc="-1" strike="noStrike">
              <a:solidFill>
                <a:srgbClr val="1b28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: Physics 8;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90F-99B6-494D-8672-228B6C8D3D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pring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7:17:45Z</dcterms:created>
  <dc:creator>Physics UCSD</dc:creator>
  <dc:description/>
  <dc:language>en-US</dc:language>
  <cp:lastModifiedBy>Physics UCSD</cp:lastModifiedBy>
  <cp:lastPrinted>2005-05-09T03:16:06Z</cp:lastPrinted>
  <dcterms:modified xsi:type="dcterms:W3CDTF">2006-05-16T02:56:23Z</dcterms:modified>
  <cp:revision>47</cp:revision>
  <dc:subject/>
  <dc:title>PowerPoint Presentation</dc:title>
</cp:coreProperties>
</file>