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37F-41B9-4E41-8032-895A9A6D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F7E-4DF3-4513-A434-FBC852FE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893-24F9-4AF3-9863-F8DF116C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1CD-1310-4935-81F1-FEE219A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675-C92C-4B1A-9F42-2B1419B0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218-0D79-471A-BECE-F3527F2D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A71-9B28-4845-A3EE-5FD5955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00A-63AD-45B0-B7FB-B0A029B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001-634D-4767-B79A-1E799B6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377-F2BF-4759-82C4-733C6624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E4E-78C6-41BA-8295-F6C54B1E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4EE-A600-4595-811B-87FFCD4A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1F88-2622-46C9-863B-13A6C5836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29718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tropic antenna (idealiz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es power equally in all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ole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-wave dipole antenna (or Hertz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vertical antenna (or Marconi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olic Reflective Anten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9520" y="251460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Thomas Fronckowiak</cp:lastModifiedBy>
  <dcterms:modified xsi:type="dcterms:W3CDTF">2001-05-22T06:02:54Z</dcterms:modified>
  <cp:revision>50</cp:revision>
  <dc:subject/>
  <dc:title>Wireless Communications and Networks</dc:title>
</cp:coreProperties>
</file>