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1DD3-BEA8-4D8A-B423-7CB2A698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FD0-FDBB-4D13-9D3C-77A226C0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43B-FF45-4E67-860D-5B4E2763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B3E-2E69-4900-B971-36B7FB0A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6B11-D5FE-4E06-B366-FA94C81F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848A-433A-4160-9BC9-3DC53B56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C10B-3265-4F52-8E2D-D50FF8E9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5E77-F3BE-4D6A-82EA-D0853E82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F6AB-5F4F-4381-AD3C-2A20D64C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9829-2088-48EB-BE8C-0EA76BDE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E7DD-E4BE-4F93-BE23-CF026133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F14-9C17-432C-AB93-93DD65AD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A18C-FF55-4261-BAA0-B69180CD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EB47-6891-4E72-BC82-0F134D28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9848-3266-4717-B791-7DF98D55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AAD2-D740-44DC-867D-61BE1144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8BDC-FC5A-4E28-AEE6-1E25B5DC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FD5-CB84-44D1-8B7F-F7514BDC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A92-16E2-4982-810A-FA80B157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3934-1B70-46F3-AF97-C480A476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9AD-00C8-46D6-A2E8-68F256BC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F1C-7309-4DC6-BF32-B871AEE5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9476-034F-4C75-AFCA-E600C21C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8E4-B183-4EDB-B09B-B96FB32B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C639-65A4-41B7-A6BE-781E486D2A4D}" type="slidenum">
              <a:rPr b="0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7524-ED22-4028-9528-2F12CB168A56}" type="slidenum">
              <a:rPr b="0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prott.physics.wisc.edu/sprott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99"/>
                </a:solidFill>
                <a:latin typeface="Arial Narrow"/>
              </a:rPr>
              <a:t>Radio Communications</a:t>
            </a:r>
            <a:endParaRPr b="1" lang="en-US" sz="6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038120" y="182880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J. C. Sprot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Department of Phys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niversity of Wisconsin - Madis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ed 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hysics 20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April 6, 20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77880" y="6247440"/>
            <a:ext cx="53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ttp://sprott.physics.wisc.edu/lectures.ht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3429000" cy="484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Radio Wave Propagation</a:t>
            </a: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752480"/>
            <a:ext cx="6095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raction versus Line-of-S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Low Frequency / High Frequenc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le of Ionosph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UF (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= 9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600" spc="-1" strike="noStrike" baseline="30000">
                <a:solidFill>
                  <a:srgbClr val="003366"/>
                </a:solidFill>
                <a:latin typeface="Arial"/>
              </a:rPr>
              <a:t>1/2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n particles/m</a:t>
            </a:r>
            <a:r>
              <a:rPr b="0" lang="en-US" sz="26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ay/Night Variation (Skip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unspots (11-year Cycle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gnetic Storm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ultihop Propaga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Long-Delayed Echoes (?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Ionosphere</a:t>
            </a: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733920" y="6095880"/>
            <a:ext cx="2361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Ionosphe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Density versus Height</a:t>
            </a: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73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371600"/>
            <a:ext cx="7696440" cy="73915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09680" y="15228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Role of the Ionosphere</a:t>
            </a: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1752480"/>
            <a:ext cx="6858000" cy="655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2133720"/>
            <a:ext cx="6095880" cy="57909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600200" y="1066320"/>
            <a:ext cx="533520" cy="39625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905120" y="2209680"/>
            <a:ext cx="2514600" cy="914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8320" y="106560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00 MHz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981080" y="3276360"/>
            <a:ext cx="76212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9040" y="350424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 MHz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6960" y="236124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0 MHz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50840" y="47239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arth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171840" y="838080"/>
            <a:ext cx="228600" cy="6858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Annual Sunspot Numbers</a:t>
            </a: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53080" y="1143000"/>
            <a:ext cx="3938400" cy="5562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Radio Wave Reception</a:t>
            </a: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520" y="1752120"/>
            <a:ext cx="6324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ten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eciprocity Theorem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ize (Practical Limits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uperhetrodyn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F, AGC, AFC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modulator (Detecto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reo (Subcarrier - sum/differen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al-to-Noise Rat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Superhetrodyne Receiver</a:t>
            </a: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5029200"/>
            <a:ext cx="3657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686800" cy="2648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Demodulation</a:t>
            </a: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62520" y="990720"/>
            <a:ext cx="3757320" cy="586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Television</a:t>
            </a: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0-890 MHz (6 MHz Channel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M Audio, SSB Vide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25 Lines @ 30 Frames / seco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lacing (Alternating Lin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nch Pul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uminance / Chromin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-Definition TV (HDTV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ble versus On-Ai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Radar</a:t>
            </a: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8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lsed (Air Traffic Contro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8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ppler (Poli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8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wave Ovens (2.45 GHz / 12 cm wavelength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8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ather Rad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66720" y="457200"/>
            <a:ext cx="20574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520" y="1523520"/>
            <a:ext cx="6324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perties of EM Wa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ice of Frequen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dio Wave Prod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dio Wave Propag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dio Wave Rece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le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d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Properties of EM Waves</a:t>
            </a: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ver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pagates in Vacu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y Frequency Poss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quency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avelength =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= 3x10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/s (in vacuu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781680" y="2133720"/>
            <a:ext cx="0" cy="7617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400440" y="2514600"/>
            <a:ext cx="7621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3480" y="198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50320" y="2513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Transverse EM Wave</a:t>
            </a: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6248520" cy="319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The Electromagnetic Spectrum</a:t>
            </a: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Choice of Frequencies</a:t>
            </a: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Limit (~10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z, 3 k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Bandwidth (data rate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ntenna siz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roject ELF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per Limit (~10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z, 30 c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ropagation - line of sigh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ources and Detector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adar / Microwav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Radio Wave Production</a:t>
            </a: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mi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pectral purity (min interference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wer level (W to kW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ten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ize (~ wavelength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yp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lariza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ul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W, AM, FM, SSB, TV, Digita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Dipole Antenna</a:t>
            </a: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5734080" cy="4907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Types of Modulation</a:t>
            </a:r>
            <a:endParaRPr b="1" lang="en-US" sz="48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6324480" cy="297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8T16:58:32Z</dcterms:created>
  <dc:creator>J. C. Sprott</dc:creator>
  <dc:description/>
  <dc:language>en-US</dc:language>
  <cp:lastModifiedBy>Clint Sprott</cp:lastModifiedBy>
  <cp:lastPrinted>1997-05-28T20:34:04Z</cp:lastPrinted>
  <dcterms:modified xsi:type="dcterms:W3CDTF">2006-04-05T13:53:28Z</dcterms:modified>
  <cp:revision>132</cp:revision>
  <dc:subject/>
  <dc:title>Radio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sprott.physics.wisc.edu/</vt:lpwstr>
  </property>
  <property fmtid="{D5CDD505-2E9C-101B-9397-08002B2CF9AE}" pid="9" name="LinkColor">
    <vt:r8>16711782</vt:r8>
  </property>
  <property fmtid="{D5CDD505-2E9C-101B-9397-08002B2CF9AE}" pid="10" name="MailAddress">
    <vt:lpwstr>sprott@juno.physics.wisc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eb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