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5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31.wmf" ContentType="image/x-wmf"/>
  <Override PartName="/ppt/media/image2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23.wmf" ContentType="image/x-wmf"/>
  <Override PartName="/ppt/media/image35.png" ContentType="image/png"/>
  <Override PartName="/ppt/media/image5.jpeg" ContentType="image/jpeg"/>
  <Override PartName="/ppt/media/image39.png" ContentType="image/png"/>
  <Override PartName="/ppt/media/image41.png" ContentType="image/png"/>
  <Override PartName="/ppt/media/image42.png" ContentType="image/png"/>
  <Override PartName="/ppt/media/image43.wmf" ContentType="image/x-wmf"/>
  <Override PartName="/ppt/media/image13.jpeg" ContentType="image/jpeg"/>
  <Override PartName="/ppt/media/image44.wmf" ContentType="image/x-wmf"/>
  <Override PartName="/ppt/media/image34.png" ContentType="image/png"/>
  <Override PartName="/ppt/media/image12.jpeg" ContentType="image/jpeg"/>
  <Override PartName="/ppt/media/image29.wmf" ContentType="image/x-wmf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4.wmf" ContentType="image/x-wmf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B1DD-D394-42B7-AC83-5CEABBEDB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548E-1632-4A79-B315-D5F615B60BD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140C-81EB-423C-88C0-B154037E0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B9B8-6582-4602-9ED4-287BBC26A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F8D8-ED8C-45DF-9D32-BC1E69EAD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A890-489A-48DA-8F08-0FB23CC37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B0DE-9F7B-492E-B1E4-CB15F4E3A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7D69-D5B8-49CD-8AA0-47197834C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AE54-3C33-4B70-B5B1-2B1E1FFAC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53D1-6DB6-4212-AAA6-EB41F04C5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297E-88C0-4AC7-93B2-11AFF4150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E24C-B412-4FB8-9B7E-FDC715DFC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46C5-1D32-495F-A464-2DABB0B07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A59E-C7FD-4F25-AF11-1DEB27078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C1D8-7FCE-4F48-92F3-E1205D81F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4B0B-F115-4029-947E-07B4847CC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3436-3BE0-48A8-8797-F37BAB1A8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75F0-C185-4709-B1C6-3B7BE54BE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4C12-4972-491D-9D34-D3488223B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FA19-7E86-4D59-88B3-0E1C0CF20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BA23-A971-49DA-A9AD-0EA496CFF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5880-82C6-448E-82A9-20A070ECB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A6F9-57AC-4585-8821-B5143C974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EE13-B9A1-4205-8E4D-27611DFA4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A7AC-63E2-42B7-BD7E-F485F7C8D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C13E-6BCC-40DA-B638-105A62CBC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23F2-A435-4503-B249-844838BF5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E765-F7EF-43C3-821A-B3F41C914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B7AF-FEAB-416D-B106-22B8786F0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E50E-6814-4419-9C54-A0776A76F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B925E-5C38-4142-AF1A-FC716ADD1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04BD-9143-433D-8084-E7F61C9A6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6893-FB48-4342-9970-BED27060D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5822-B9CA-4F5B-8AF0-70EE40C2A9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A6E1-9933-4207-9CF8-7AA7844E81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47AD-AD35-460C-B9ED-056A61EE9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8FCE-03F7-4B57-8367-B8B53CD59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C4DA-9116-4CDF-ADED-DD44AB715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C377-561E-45D2-B514-B5BB0E660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671E-B19C-4741-9480-C0B9BE11D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0EDC-8F19-4BB9-9A45-9B6B185C9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CBDE-3789-4545-AAAF-A029787DE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6C1C-B3EE-4B0D-BE7E-F403556D4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9"/>
          <p:cNvSpPr/>
          <p:nvPr/>
        </p:nvSpPr>
        <p:spPr>
          <a:xfrm flipH="1">
            <a:off x="466560" y="152280"/>
            <a:ext cx="8143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0"/>
          <p:cNvSpPr/>
          <p:nvPr/>
        </p:nvSpPr>
        <p:spPr>
          <a:xfrm flipH="1">
            <a:off x="571320" y="6400800"/>
            <a:ext cx="807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rc 11"/>
          <p:cNvSpPr/>
          <p:nvPr/>
        </p:nvSpPr>
        <p:spPr>
          <a:xfrm>
            <a:off x="8610480" y="152280"/>
            <a:ext cx="381240" cy="384120"/>
          </a:xfrm>
          <a:custGeom>
            <a:avLst/>
            <a:gdLst>
              <a:gd name="textAreaLeft" fmla="*/ 0 w 381240"/>
              <a:gd name="textAreaRight" fmla="*/ 381600 w 3812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 flipH="1">
            <a:off x="8988120" y="533520"/>
            <a:ext cx="3240" cy="551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3"/>
          <p:cNvSpPr/>
          <p:nvPr/>
        </p:nvSpPr>
        <p:spPr>
          <a:xfrm flipV="1">
            <a:off x="228600" y="414000"/>
            <a:ext cx="0" cy="560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rc 14"/>
          <p:cNvSpPr/>
          <p:nvPr/>
        </p:nvSpPr>
        <p:spPr>
          <a:xfrm rot="10800000">
            <a:off x="228600" y="6019560"/>
            <a:ext cx="380880" cy="384120"/>
          </a:xfrm>
          <a:custGeom>
            <a:avLst/>
            <a:gdLst>
              <a:gd name="textAreaLeft" fmla="*/ 0 w 380880"/>
              <a:gd name="textAreaRight" fmla="*/ 381240 w 38088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6" descr="LOGOtelBLUE"/>
          <p:cNvPicPr/>
          <p:nvPr/>
        </p:nvPicPr>
        <p:blipFill>
          <a:blip r:embed="rId2"/>
          <a:srcRect l="0" t="0" r="0" b="26798"/>
          <a:stretch/>
        </p:blipFill>
        <p:spPr>
          <a:xfrm>
            <a:off x="95400" y="136440"/>
            <a:ext cx="661680" cy="4636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7"/>
          <p:cNvSpPr/>
          <p:nvPr/>
        </p:nvSpPr>
        <p:spPr>
          <a:xfrm>
            <a:off x="630360" y="6381720"/>
            <a:ext cx="407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6E28-A92D-487F-89DB-00C5F7018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0" descr="ut_uk_072-50proc"/>
          <p:cNvPicPr/>
          <p:nvPr/>
        </p:nvPicPr>
        <p:blipFill>
          <a:blip r:embed="rId3"/>
          <a:srcRect l="-3597" t="0" r="0" b="-7698"/>
          <a:stretch/>
        </p:blipFill>
        <p:spPr>
          <a:xfrm>
            <a:off x="6934320" y="6039000"/>
            <a:ext cx="2052360" cy="81900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21"/>
          <p:cNvSpPr/>
          <p:nvPr/>
        </p:nvSpPr>
        <p:spPr>
          <a:xfrm>
            <a:off x="1371600" y="64008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pter 14:  Electromagnetic Wave Propagation  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01560" y="1676520"/>
            <a:ext cx="793944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 to Telecommunic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9121009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Roeloff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85800" y="4495680"/>
            <a:ext cx="563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: Telecommunication engineering (EW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or 2 Carré  building (CR20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 489 28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c.g.h.roeloffzen@el.utwente.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LOGOtelBLUE"/>
          <p:cNvPicPr/>
          <p:nvPr/>
        </p:nvPicPr>
        <p:blipFill>
          <a:blip r:embed="rId1"/>
          <a:stretch/>
        </p:blipFill>
        <p:spPr>
          <a:xfrm>
            <a:off x="6400800" y="4495680"/>
            <a:ext cx="175248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992520" y="228600"/>
            <a:ext cx="71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s and Wavefronts: Isotropic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f09-03"/>
          <p:cNvPicPr/>
          <p:nvPr/>
        </p:nvPicPr>
        <p:blipFill>
          <a:blip r:embed="rId1"/>
          <a:srcRect l="16356" t="3386" r="16203" b="2920"/>
          <a:stretch/>
        </p:blipFill>
        <p:spPr>
          <a:xfrm>
            <a:off x="304920" y="1135080"/>
            <a:ext cx="4952880" cy="458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Object 14"/>
          <p:cNvGraphicFramePr/>
          <p:nvPr/>
        </p:nvGraphicFramePr>
        <p:xfrm>
          <a:off x="5367240" y="2944800"/>
          <a:ext cx="2448000" cy="9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7240" y="2944800"/>
                    <a:ext cx="2448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15"/>
          <p:cNvSpPr/>
          <p:nvPr/>
        </p:nvSpPr>
        <p:spPr>
          <a:xfrm>
            <a:off x="4822920" y="4114800"/>
            <a:ext cx="4139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power den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otal power radiated [W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adius of the 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6"/>
          <p:cNvGraphicFramePr/>
          <p:nvPr/>
        </p:nvGraphicFramePr>
        <p:xfrm>
          <a:off x="5524560" y="5249880"/>
          <a:ext cx="1677960" cy="113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24560" y="5249880"/>
                    <a:ext cx="167796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f09-04"/>
          <p:cNvPicPr/>
          <p:nvPr/>
        </p:nvPicPr>
        <p:blipFill>
          <a:blip r:embed="rId1"/>
          <a:srcRect l="15744" t="4167" r="16667" b="2776"/>
          <a:stretch/>
        </p:blipFill>
        <p:spPr>
          <a:xfrm>
            <a:off x="4343400" y="2438280"/>
            <a:ext cx="4267080" cy="3916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1098720" y="228600"/>
            <a:ext cx="69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 Wave Attenuation and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6"/>
          <p:cNvGraphicFramePr/>
          <p:nvPr/>
        </p:nvGraphicFramePr>
        <p:xfrm>
          <a:off x="6324480" y="990720"/>
          <a:ext cx="1992600" cy="9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990720"/>
                    <a:ext cx="19926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7"/>
          <p:cNvSpPr/>
          <p:nvPr/>
        </p:nvSpPr>
        <p:spPr>
          <a:xfrm>
            <a:off x="609480" y="914400"/>
            <a:ext cx="519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n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ue to spherical spreading of the wave,  non of the radiated power is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09480" y="274320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r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ue to energy transfer from the EM-wave to the atoms and molecules of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f09-05"/>
          <p:cNvPicPr/>
          <p:nvPr/>
        </p:nvPicPr>
        <p:blipFill>
          <a:blip r:embed="rId1"/>
          <a:srcRect l="5556" t="4167" r="5556" b="4167"/>
          <a:stretch/>
        </p:blipFill>
        <p:spPr>
          <a:xfrm>
            <a:off x="533520" y="1295280"/>
            <a:ext cx="7086600" cy="4872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028520" y="228600"/>
            <a:ext cx="70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of Radio Waves: Re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6"/>
          <p:cNvGraphicFramePr/>
          <p:nvPr/>
        </p:nvGraphicFramePr>
        <p:xfrm>
          <a:off x="4876920" y="4038480"/>
          <a:ext cx="3276360" cy="66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4038480"/>
                    <a:ext cx="327636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4579920" y="4648320"/>
            <a:ext cx="42606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efractive index materia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fractive index materia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ngle of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ngle of re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8"/>
          <p:cNvGraphicFramePr/>
          <p:nvPr/>
        </p:nvGraphicFramePr>
        <p:xfrm>
          <a:off x="7162920" y="762120"/>
          <a:ext cx="179532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762120"/>
                    <a:ext cx="1795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9"/>
          <p:cNvGraphicFramePr/>
          <p:nvPr/>
        </p:nvGraphicFramePr>
        <p:xfrm>
          <a:off x="4572000" y="1447920"/>
          <a:ext cx="2119320" cy="1090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1447920"/>
                    <a:ext cx="211932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10"/>
          <p:cNvSpPr/>
          <p:nvPr/>
        </p:nvSpPr>
        <p:spPr>
          <a:xfrm>
            <a:off x="4350600" y="2606760"/>
            <a:ext cx="45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umber of electrons per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frequency (k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606680" y="228600"/>
            <a:ext cx="59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on in a gradient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f09-06"/>
          <p:cNvPicPr/>
          <p:nvPr/>
        </p:nvPicPr>
        <p:blipFill>
          <a:blip r:embed="rId1"/>
          <a:srcRect l="10184" t="4167" r="11111" b="6942"/>
          <a:stretch/>
        </p:blipFill>
        <p:spPr>
          <a:xfrm>
            <a:off x="1333440" y="1219320"/>
            <a:ext cx="6477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f09-07"/>
          <p:cNvPicPr/>
          <p:nvPr/>
        </p:nvPicPr>
        <p:blipFill>
          <a:blip r:embed="rId1"/>
          <a:srcRect l="3705" t="4167" r="3705" b="8333"/>
          <a:stretch/>
        </p:blipFill>
        <p:spPr>
          <a:xfrm>
            <a:off x="990720" y="838080"/>
            <a:ext cx="7619760" cy="4800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051200" y="228600"/>
            <a:ext cx="70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of Radio Waves: 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5459400" y="5526000"/>
          <a:ext cx="1805040" cy="73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59400" y="5526000"/>
                    <a:ext cx="180504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7"/>
          <p:cNvGraphicFramePr/>
          <p:nvPr/>
        </p:nvGraphicFramePr>
        <p:xfrm>
          <a:off x="409680" y="4952880"/>
          <a:ext cx="4162320" cy="132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9680" y="4952880"/>
                    <a:ext cx="416232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f09-08"/>
          <p:cNvPicPr/>
          <p:nvPr/>
        </p:nvPicPr>
        <p:blipFill>
          <a:blip r:embed="rId1"/>
          <a:srcRect l="2778" t="13891" r="2778" b="13891"/>
          <a:stretch/>
        </p:blipFill>
        <p:spPr>
          <a:xfrm>
            <a:off x="685800" y="1066680"/>
            <a:ext cx="7772400" cy="3962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1220400" y="228600"/>
            <a:ext cx="67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on from a semirough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1219320" y="5257800"/>
          <a:ext cx="209700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5257800"/>
                    <a:ext cx="2097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7"/>
          <p:cNvSpPr/>
          <p:nvPr/>
        </p:nvSpPr>
        <p:spPr>
          <a:xfrm>
            <a:off x="3962520" y="5334120"/>
            <a:ext cx="374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leigh’s criterion for smooth su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f09-09a-c"/>
          <p:cNvPicPr/>
          <p:nvPr/>
        </p:nvPicPr>
        <p:blipFill>
          <a:blip r:embed="rId1"/>
          <a:srcRect l="37835" t="0" r="34283" b="49810"/>
          <a:stretch/>
        </p:blipFill>
        <p:spPr>
          <a:xfrm>
            <a:off x="2743200" y="533520"/>
            <a:ext cx="4127400" cy="49528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250560" y="228600"/>
            <a:ext cx="86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on: Huygen’s principle for a plan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805680" y="5867280"/>
            <a:ext cx="75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d.mind.net/~zona/mstm/physics/waves/propagation/huygen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f09-09a-c"/>
          <p:cNvPicPr/>
          <p:nvPr/>
        </p:nvPicPr>
        <p:blipFill>
          <a:blip r:embed="rId1"/>
          <a:srcRect l="29742" t="52782" r="29742" b="6463"/>
          <a:stretch/>
        </p:blipFill>
        <p:spPr>
          <a:xfrm>
            <a:off x="1104840" y="762120"/>
            <a:ext cx="6934320" cy="4651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796400" y="228600"/>
            <a:ext cx="55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on: Huygen’s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592000" y="518148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17436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84840" y="563868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hysics.nad.ru/Physics/English/1wd_tmp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84480" y="6019920"/>
            <a:ext cx="53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it.edu/~visualiz/projects/diffrac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f09-11"/>
          <p:cNvPicPr/>
          <p:nvPr/>
        </p:nvPicPr>
        <p:blipFill>
          <a:blip r:embed="rId1"/>
          <a:srcRect l="2778" t="27782" r="2778" b="27782"/>
          <a:stretch/>
        </p:blipFill>
        <p:spPr>
          <a:xfrm>
            <a:off x="304920" y="2066760"/>
            <a:ext cx="8610480" cy="2700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3398760" y="22860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911960" y="586728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hysics.nad.ru/Physics/English/2wa_tmp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f09-12"/>
          <p:cNvPicPr/>
          <p:nvPr/>
        </p:nvPicPr>
        <p:blipFill>
          <a:blip r:embed="rId1"/>
          <a:srcRect l="2778" t="6942" r="1850" b="8333"/>
          <a:stretch/>
        </p:blipFill>
        <p:spPr>
          <a:xfrm>
            <a:off x="685800" y="1066680"/>
            <a:ext cx="7848720" cy="46483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176120" y="2286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strial propagation of EM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144960" y="609480"/>
            <a:ext cx="30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: Lecture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23960" y="1981080"/>
            <a:ext cx="7696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4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magnetic Wave Propa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f09-13"/>
          <p:cNvPicPr/>
          <p:nvPr/>
        </p:nvPicPr>
        <p:blipFill>
          <a:blip r:embed="rId1"/>
          <a:srcRect l="2778" t="5558" r="2778" b="5558"/>
          <a:stretch/>
        </p:blipFill>
        <p:spPr>
          <a:xfrm>
            <a:off x="685800" y="990720"/>
            <a:ext cx="7772400" cy="48765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123280" y="22860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wave 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f09-14"/>
          <p:cNvPicPr/>
          <p:nvPr/>
        </p:nvPicPr>
        <p:blipFill>
          <a:blip r:embed="rId1"/>
          <a:srcRect l="2778" t="0" r="2778" b="5558"/>
          <a:stretch/>
        </p:blipFill>
        <p:spPr>
          <a:xfrm>
            <a:off x="685800" y="1066680"/>
            <a:ext cx="7772400" cy="5181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247480" y="228600"/>
            <a:ext cx="46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wave 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f09-15"/>
          <p:cNvPicPr/>
          <p:nvPr/>
        </p:nvPicPr>
        <p:blipFill>
          <a:blip r:embed="rId1"/>
          <a:srcRect l="2778" t="26391" r="2778" b="26391"/>
          <a:stretch/>
        </p:blipFill>
        <p:spPr>
          <a:xfrm>
            <a:off x="685800" y="2133720"/>
            <a:ext cx="7772400" cy="2590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3194640" y="228600"/>
            <a:ext cx="27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f09-16"/>
          <p:cNvPicPr/>
          <p:nvPr/>
        </p:nvPicPr>
        <p:blipFill>
          <a:blip r:embed="rId1"/>
          <a:srcRect l="2778" t="20833" r="2778" b="20833"/>
          <a:stretch/>
        </p:blipFill>
        <p:spPr>
          <a:xfrm>
            <a:off x="685800" y="1828800"/>
            <a:ext cx="777240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35440" y="228600"/>
            <a:ext cx="32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ct 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f09-17"/>
          <p:cNvPicPr/>
          <p:nvPr/>
        </p:nvPicPr>
        <p:blipFill>
          <a:blip r:embed="rId1"/>
          <a:srcRect l="12038" t="2776" r="12962" b="2776"/>
          <a:stretch/>
        </p:blipFill>
        <p:spPr>
          <a:xfrm>
            <a:off x="1295280" y="677880"/>
            <a:ext cx="6553440" cy="5500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483640" y="228600"/>
            <a:ext cx="41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y wave 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 rot="16200000">
            <a:off x="-111960" y="293364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f09-18origscan"/>
          <p:cNvPicPr/>
          <p:nvPr/>
        </p:nvPicPr>
        <p:blipFill>
          <a:blip r:embed="rId1"/>
          <a:srcRect l="1850" t="5558" r="1850" b="6942"/>
          <a:stretch/>
        </p:blipFill>
        <p:spPr>
          <a:xfrm>
            <a:off x="609480" y="990720"/>
            <a:ext cx="7925040" cy="4800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611520" y="228600"/>
            <a:ext cx="19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y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145880" y="5791320"/>
            <a:ext cx="65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RF frequencies are less refra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f09-19"/>
          <p:cNvPicPr/>
          <p:nvPr/>
        </p:nvPicPr>
        <p:blipFill>
          <a:blip r:embed="rId1"/>
          <a:srcRect l="7410" t="2776" r="10184" b="0"/>
          <a:stretch/>
        </p:blipFill>
        <p:spPr>
          <a:xfrm>
            <a:off x="1181160" y="914400"/>
            <a:ext cx="6781680" cy="5334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299040" y="228600"/>
            <a:ext cx="25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f09-20aborigscan"/>
          <p:cNvPicPr/>
          <p:nvPr/>
        </p:nvPicPr>
        <p:blipFill>
          <a:blip r:embed="rId1"/>
          <a:srcRect l="23150" t="4167" r="23150" b="42631"/>
          <a:stretch/>
        </p:blipFill>
        <p:spPr>
          <a:xfrm>
            <a:off x="609480" y="990720"/>
            <a:ext cx="7925040" cy="5235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2256120" y="228600"/>
            <a:ext cx="46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y wave: Skip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f09-20aborigscan"/>
          <p:cNvPicPr/>
          <p:nvPr/>
        </p:nvPicPr>
        <p:blipFill>
          <a:blip r:embed="rId1"/>
          <a:srcRect l="23110" t="64836" r="23110" b="7001"/>
          <a:stretch/>
        </p:blipFill>
        <p:spPr>
          <a:xfrm>
            <a:off x="380880" y="1965240"/>
            <a:ext cx="8382240" cy="2927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83640" y="228600"/>
            <a:ext cx="82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y wave: daytime vs. nighttime 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083240" y="228600"/>
            <a:ext cx="697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-space path loss (spreading lo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2666880" y="990720"/>
          <a:ext cx="340380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990720"/>
                    <a:ext cx="34038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6"/>
          <p:cNvSpPr/>
          <p:nvPr/>
        </p:nvSpPr>
        <p:spPr>
          <a:xfrm>
            <a:off x="2324880" y="2057400"/>
            <a:ext cx="44938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free-space path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tance (kilome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requency (her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wavelength (me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elocity of light in fre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7"/>
          <p:cNvGraphicFramePr/>
          <p:nvPr/>
        </p:nvGraphicFramePr>
        <p:xfrm>
          <a:off x="1952640" y="4038480"/>
          <a:ext cx="5238720" cy="19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4038480"/>
                    <a:ext cx="523872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437200" y="152280"/>
            <a:ext cx="42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 of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03360" y="746280"/>
            <a:ext cx="807516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 1 - 3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1:  Introduction to Electronic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2: Signal Analysis and Mix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 4 - 7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W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4: Amplitude modulation,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5: Amplitude modulation, Re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6: Single-side banded Communic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7: Angle Modulation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8: Angle Modulation Rece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 10 - 13: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12: Metallic Transmission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13: Optical Fiber Transmission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pter 14: Electromagnetic Wave 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15: Ante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 14 - 15: Digit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9: Digital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10: Digital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 16: ??????????????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pecific information se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l.utwente.nl/te/education/educatio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036440" y="304920"/>
            <a:ext cx="77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4: Electromagnetic Wave Propa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20720" y="1492200"/>
            <a:ext cx="77011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 Wa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e and Spherical w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tropic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 wave atten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raction and Ref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ygens princi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gation of EM Waves; sky, ground, space, 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 space path 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11-01"/>
          <p:cNvPicPr/>
          <p:nvPr/>
        </p:nvPicPr>
        <p:blipFill>
          <a:blip r:embed="rId1">
            <a:lum contrast="6000"/>
          </a:blip>
          <a:srcRect l="1850" t="25000" r="2279" b="25000"/>
          <a:stretch/>
        </p:blipFill>
        <p:spPr>
          <a:xfrm>
            <a:off x="266760" y="762120"/>
            <a:ext cx="8572320" cy="297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5"/>
          <p:cNvGraphicFramePr/>
          <p:nvPr/>
        </p:nvGraphicFramePr>
        <p:xfrm>
          <a:off x="1447920" y="3576600"/>
          <a:ext cx="106668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576600"/>
                    <a:ext cx="1066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6"/>
          <p:cNvSpPr/>
          <p:nvPr/>
        </p:nvSpPr>
        <p:spPr>
          <a:xfrm>
            <a:off x="948960" y="4740120"/>
            <a:ext cx="60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wavelength (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elocity of light (300.000.000 meters per seco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requency (her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099880" y="22860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rf-spectrum"/>
          <p:cNvPicPr/>
          <p:nvPr/>
        </p:nvPicPr>
        <p:blipFill>
          <a:blip r:embed="rId1"/>
          <a:stretch/>
        </p:blipFill>
        <p:spPr>
          <a:xfrm>
            <a:off x="838080" y="228600"/>
            <a:ext cx="77724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wap54gv1"/>
          <p:cNvPicPr/>
          <p:nvPr/>
        </p:nvPicPr>
        <p:blipFill>
          <a:blip r:embed="rId1"/>
          <a:stretch/>
        </p:blipFill>
        <p:spPr>
          <a:xfrm>
            <a:off x="6324480" y="457200"/>
            <a:ext cx="1973520" cy="180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umts"/>
          <p:cNvPicPr/>
          <p:nvPr/>
        </p:nvPicPr>
        <p:blipFill>
          <a:blip r:embed="rId2"/>
          <a:stretch/>
        </p:blipFill>
        <p:spPr>
          <a:xfrm>
            <a:off x="677880" y="1224000"/>
            <a:ext cx="1019160" cy="1859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WiFi-Symbol"/>
          <p:cNvPicPr/>
          <p:nvPr/>
        </p:nvPicPr>
        <p:blipFill>
          <a:blip r:embed="rId3"/>
          <a:stretch/>
        </p:blipFill>
        <p:spPr>
          <a:xfrm>
            <a:off x="6540480" y="2327400"/>
            <a:ext cx="1676520" cy="723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umts_logo"/>
          <p:cNvPicPr/>
          <p:nvPr/>
        </p:nvPicPr>
        <p:blipFill>
          <a:blip r:embed="rId4"/>
          <a:stretch/>
        </p:blipFill>
        <p:spPr>
          <a:xfrm>
            <a:off x="1828800" y="1295280"/>
            <a:ext cx="876240" cy="1086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bluetooth_symbol"/>
          <p:cNvPicPr/>
          <p:nvPr/>
        </p:nvPicPr>
        <p:blipFill>
          <a:blip r:embed="rId5"/>
          <a:stretch/>
        </p:blipFill>
        <p:spPr>
          <a:xfrm>
            <a:off x="3809880" y="2514600"/>
            <a:ext cx="1976400" cy="741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wireless_headset"/>
          <p:cNvPicPr/>
          <p:nvPr/>
        </p:nvPicPr>
        <p:blipFill>
          <a:blip r:embed="rId6"/>
          <a:stretch/>
        </p:blipFill>
        <p:spPr>
          <a:xfrm>
            <a:off x="3352680" y="1523880"/>
            <a:ext cx="2814840" cy="1060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dsn-dish"/>
          <p:cNvPicPr/>
          <p:nvPr/>
        </p:nvPicPr>
        <p:blipFill>
          <a:blip r:embed="rId7"/>
          <a:stretch/>
        </p:blipFill>
        <p:spPr>
          <a:xfrm>
            <a:off x="457200" y="3581280"/>
            <a:ext cx="2562120" cy="2586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broadband-uhf-tv-antenna-011027"/>
          <p:cNvPicPr/>
          <p:nvPr/>
        </p:nvPicPr>
        <p:blipFill>
          <a:blip r:embed="rId8"/>
          <a:stretch/>
        </p:blipFill>
        <p:spPr>
          <a:xfrm>
            <a:off x="3200400" y="358128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1377360" y="228600"/>
            <a:ext cx="63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s and Wavefronts: Plan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f09-01"/>
          <p:cNvPicPr/>
          <p:nvPr/>
        </p:nvPicPr>
        <p:blipFill>
          <a:blip r:embed="rId1"/>
          <a:srcRect l="2104" t="34462" r="2104" b="34462"/>
          <a:stretch/>
        </p:blipFill>
        <p:spPr>
          <a:xfrm>
            <a:off x="457200" y="1371600"/>
            <a:ext cx="845820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1832040" y="5562720"/>
            <a:ext cx="58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y.ntnu.edu.tw/java/emWave/emWav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469800" y="304920"/>
            <a:ext cx="8204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s and Wavefronts: Spherical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f09-02"/>
          <p:cNvPicPr/>
          <p:nvPr/>
        </p:nvPicPr>
        <p:blipFill>
          <a:blip r:embed="rId1"/>
          <a:srcRect l="18924" t="3386" r="19059" b="3360"/>
          <a:stretch/>
        </p:blipFill>
        <p:spPr>
          <a:xfrm>
            <a:off x="4875120" y="1981080"/>
            <a:ext cx="3926160" cy="39355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1911960" y="586728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hysics.nad.ru/Physics/English/1wa_tmp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suter01"/>
          <p:cNvPicPr/>
          <p:nvPr/>
        </p:nvPicPr>
        <p:blipFill>
          <a:blip r:embed="rId2"/>
          <a:stretch/>
        </p:blipFill>
        <p:spPr>
          <a:xfrm>
            <a:off x="609480" y="990720"/>
            <a:ext cx="42674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08:19:48Z</dcterms:created>
  <dc:creator>UT</dc:creator>
  <dc:description/>
  <dc:language>en-US</dc:language>
  <cp:lastModifiedBy>Tesecretary</cp:lastModifiedBy>
  <dcterms:modified xsi:type="dcterms:W3CDTF">2011-04-04T13:08:29Z</dcterms:modified>
  <cp:revision>170</cp:revision>
  <dc:subject/>
  <dc:title>Slide 1</dc:title>
</cp:coreProperties>
</file>