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9F2-2CE0-47E9-A6D8-FD351EB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C7A-D747-42F2-94EE-E5D074A9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976-5DCD-4519-9C84-9CA60280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4F4-A714-42CE-901B-54A2E5AA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960-10C8-4FF0-97B3-B94B3F7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24B-2195-490F-A3BD-79962D0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585-21EC-4BA5-AE24-FBEA5E4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89C-9A4B-40B6-B4F3-B6F4A8C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9E5-380E-43C1-B1D0-97D43DA2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501-E5C4-40CA-BAEF-37A0519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F2C-07E8-4257-86EF-5F8763C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610-B768-4D1F-921F-CD19A8F4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8922-2CD7-46BD-98F4-154FB6C96D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3-</a:t>
            </a:r>
            <a:fld id="{AA250559-364C-4FCC-A51B-22FD42465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pter 3  – Radio Phenomena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: How Signals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 On The HF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 Scatter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HF/UHF Propagation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Bending and Du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/UHF Signals Through The Io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B27-C167-4843-94D4-A203139BA9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ky-wave Propagation (Cont’d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 usable frequency (M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highest frequency at which the ionosphere bends radio waves back to a desired location on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F is dependant on level of solar radiation strength and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ximum usable frequency (MUF) tends to be higher during periods of high sunsp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100-6244-41BC-821C-ACBFDC4FBE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ky Wave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3" name="fig3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86840" cy="40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6A6-B062-424A-8986-7CCACD837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ions In The Ionospher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38102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th’s ionosphere contains several regions of charged particles which affect radio signal propa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onization regions change from day to night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0" y="3581280"/>
          <a:ext cx="4343400" cy="1694160"/>
        </p:xfrm>
        <a:graphic>
          <a:graphicData uri="http://schemas.openxmlformats.org/drawingml/2006/table">
            <a:tbl>
              <a:tblPr/>
              <a:tblGrid>
                <a:gridCol w="1652760"/>
                <a:gridCol w="26906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ght Above Su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 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60 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70 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310 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fig36" descr=""/>
          <p:cNvPicPr/>
          <p:nvPr/>
        </p:nvPicPr>
        <p:blipFill>
          <a:blip r:embed="rId1"/>
          <a:stretch/>
        </p:blipFill>
        <p:spPr>
          <a:xfrm>
            <a:off x="4495680" y="1397160"/>
            <a:ext cx="449604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0B8-0992-4528-A3F2-04F54F26A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ions In The Ionospher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about 35 to 60 miles abov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ionization at or near 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ation disappears by sun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s energy from radio waves.  Absorption on lower frequencies is greater than higher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 absorption is most pronounced at mid-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short daytime communication ranges on lower-frequency HF bands (160, 80 and 40 met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D29-DADE-4421-8F73-4406DA7DE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ions In The Ionosphere (Cont’d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about 50 to 70 miles abov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ation useful for bending radio waves when in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s maximum ionization level around mid-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ation reaches a minimum level just prior to sun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 propagation up to about 1250 miles in a single skip 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01B-AB8B-4620-8ED1-A808D6BB5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ions In The Ionosphere (Cont’d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ranges from 100 to 310 miles abov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ation reaches a maximum about noon and tapers off gradually toward sunset.  Minimum ionization is reached just prior to sun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region splits into two parts (F1 and F2) during the day and recombine a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 region forms about 140 miles abov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 region forms about 200 miles abov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 region is responsible for long distance HF band communication with distances of about 2500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E07-9E71-41E3-AB5C-8D31796C77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F Scatter Mod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ctromagnetic wave propagation is subject to scattering influences from the Earth’s atmosphere, ionospheric regions and objects in radio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ed signals may be received in sky-wave propagation skip z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 signals are generally weak and subject to echoes and distor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when operating near the MU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ideal conditions, scatter propagation is possible over 3000 miles or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288-8079-4DFF-B816-7B791D630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Scatter Mod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7" name="fig36" descr=""/>
          <p:cNvPicPr/>
          <p:nvPr/>
        </p:nvPicPr>
        <p:blipFill>
          <a:blip r:embed="rId1"/>
          <a:stretch/>
        </p:blipFill>
        <p:spPr>
          <a:xfrm>
            <a:off x="1371600" y="2013120"/>
            <a:ext cx="6400800" cy="2830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00440" y="1371600"/>
            <a:ext cx="354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ck Scatter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D19-29BC-4202-B830-8736DFB1E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HF/UHF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Of Sight (L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D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HF/UHF Signals Through The Ion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adic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C6F-71B5-48C5-915F-1D0F7C2E8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ne-Of-Sight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signals travel in a straight line from a transmitting antenna to the receiving anten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VHF/UHF communications within a 100 miles or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can be reflected by buildings, hills, airplanes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s vary the propagation path causing signal cancellation and reinforcement.  This results in a rapid fluttering sound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cket fenc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3C5-7A22-409B-9711-F898CAB080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dio Wave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dio waves travel to their destination in four way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of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from one point to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ng the ground, bending slightly to follow the Earth’s curv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Bending and Du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lower layer of the Earth’s atmosp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acted or bent back to the Earth’s surface by ionized layers in the ionosp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CAE-AE5E-4CEA-960B-98B323647B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ne-Of-Sight (LOS)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4" name="fig308" descr=""/>
          <p:cNvPicPr/>
          <p:nvPr/>
        </p:nvPicPr>
        <p:blipFill>
          <a:blip r:embed="rId1"/>
          <a:stretch/>
        </p:blipFill>
        <p:spPr>
          <a:xfrm>
            <a:off x="1371600" y="1538280"/>
            <a:ext cx="67057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B55-0550-4673-AEBF-E0AC1523B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opospheric Bend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ght bending of radio waves occur in the troposphere close to the Earth’s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lways a radio signal loss as radio waves travel through the trop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signal loss increases as the frequency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 path horiz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enerally 15 percent farther away than the visible horizon (typically 8 to 9 mi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distances can be increased by increasing the antenna height above the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bending propagation is most useful at 144 Mhz and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01F-8CE5-4A0E-B9BC-A3779644D9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dio Path Horiz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rthest point to which radio waves will travel 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the atmosphere near the Earth’s surface causes the radio waves to bend in a curved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dio horizon exceeds the geometric horizon by approximately 1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D24-6E4F-48E7-B538-48CD93B923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dio Path Horiz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0" name="fig303" descr=""/>
          <p:cNvPicPr/>
          <p:nvPr/>
        </p:nvPicPr>
        <p:blipFill>
          <a:blip r:embed="rId1"/>
          <a:stretch/>
        </p:blipFill>
        <p:spPr>
          <a:xfrm>
            <a:off x="1523880" y="1114560"/>
            <a:ext cx="5486400" cy="2393640"/>
          </a:xfrm>
          <a:prstGeom prst="rect">
            <a:avLst/>
          </a:prstGeom>
          <a:ln w="0">
            <a:noFill/>
          </a:ln>
        </p:spPr>
      </p:pic>
      <p:pic>
        <p:nvPicPr>
          <p:cNvPr id="91" name="fig304" descr=""/>
          <p:cNvPicPr/>
          <p:nvPr/>
        </p:nvPicPr>
        <p:blipFill>
          <a:blip r:embed="rId2"/>
          <a:stretch/>
        </p:blipFill>
        <p:spPr>
          <a:xfrm>
            <a:off x="1676520" y="3733920"/>
            <a:ext cx="5790960" cy="127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75560" y="5181480"/>
            <a:ext cx="46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tance D to the radio horizon is greater from a hig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tenna.  The maximum distance over which two stations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cate by space wave is equal to the sum of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ances to the horiz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760-0223-45E8-AA45-CAC1EA3AC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dio Path Horiz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35120" y="2209680"/>
          <a:ext cx="587232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2209680"/>
                    <a:ext cx="587232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0" y="1295280"/>
            <a:ext cx="47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t shows theoretical communication distance (in miles) to the radio horizon for various transmitter antenna heights above terrain (in fe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62320" y="5638680"/>
                <a:ext cx="10159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5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FAE-F76B-45ED-8FA9-3A2E935EBA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opospheric Duct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signals can also be trapped in the troposphere, traveling a long distance before returning to the Earth’s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when a “duct” is formed by a temperature inversion level (warm air over cold air) over land or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acent tropospheric regions having different densities will bend radio waves passing through th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useful at VHF/UHF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frequent during spring, summer and 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rovide contacts of 950 miles or more over land and up to 2500 miles over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14C-1865-4B6D-BD0E-EC895BEC94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opospheric Duct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1" name="fig310" descr=""/>
          <p:cNvPicPr/>
          <p:nvPr/>
        </p:nvPicPr>
        <p:blipFill>
          <a:blip r:embed="rId1"/>
          <a:stretch/>
        </p:blipFill>
        <p:spPr>
          <a:xfrm>
            <a:off x="704880" y="1523880"/>
            <a:ext cx="7734240" cy="28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668600" y="4724280"/>
            <a:ext cx="58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a cool air mass is overrun by a mass of warmer air, a “duct” may be formed, allowing VHF and UHF radio signals to travel great distances with little attenuation or signal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5FF-869A-4D85-9B2A-9570DB4F1F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HF/UHF Signals Through Ionospher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dic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e of sky-wave propagation that allows long distance communication on the VHF bands (6 meters, 2 meters and 220 Mhz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 the E 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only sporadically during certain times of th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type of VHF atmospheric propa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6 meter band is most likely experience sporadic-E propagation during the summer months ... even during periods of low sunspot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D6D-1681-4B11-8F13-0909CF37E9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mospheric Reg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295280"/>
          <a:ext cx="7772400" cy="4092840"/>
        </p:xfrm>
        <a:graphic>
          <a:graphicData uri="http://schemas.openxmlformats.org/drawingml/2006/table">
            <a:tbl>
              <a:tblPr/>
              <a:tblGrid>
                <a:gridCol w="1752480"/>
                <a:gridCol w="1371600"/>
                <a:gridCol w="464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p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mi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 where all weather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to 30 mi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 where atmospheric gases “spread out” horizontally.  The high speed jet stream travels in the stratosphe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n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to 400 mi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 where solar radiation from the sun creates ions.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influence on HF radio wave propag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2AB-2350-40AA-932F-6C472301A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mospheric Region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8" name="fig301" descr=""/>
          <p:cNvPicPr/>
          <p:nvPr/>
        </p:nvPicPr>
        <p:blipFill>
          <a:blip r:embed="rId1"/>
          <a:stretch/>
        </p:blipFill>
        <p:spPr>
          <a:xfrm>
            <a:off x="2590920" y="809640"/>
            <a:ext cx="4578120" cy="52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F19-8705-4B99-806A-F46C700FB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F Band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F Scatter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417-5FE9-4267-A4F1-217DD8DA92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ound-Wave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rom a radio wave diffraction along the Earth’s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ffects longer wavelength radio waves that have vertical polarization (electric field is oriented vertic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noticeable on AM broadcast band and the 160 meter and 80 meter amateur 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distances often extend to 120 miles or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useful during the day at 1.8 MHz and 3.5 MHz when the D-Region absorption makes sky-wave propagation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A35-9693-4E0C-87B3-7E795C0A7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ound-Wave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fig30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172200" cy="204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93600" y="4114800"/>
            <a:ext cx="537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urved surface of the Earth horizon can diffract long-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low frequency) radio waves.  The waves can follow the curvature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th for as much as several hundred m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77A-DA65-4E14-893D-2B9E8D49F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ky-wave Propag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ization levels in the Earth’s ionosphere can refract (bend) radio waves to return to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s in the Earth’s upper atmosphere are formed when ultraviolet (UV) radiation and other radiation from the sun knocks electrons from gas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onization regions in the Earth’s ionosphere is affected the sunspots on the sun’s surface.  The sunspots vary in number and size over a 11 yea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y-wave propagation is determined by radio wave frequency and level of ionization in the ion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CC0-9BB9-46C5-816D-288388091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ky-wave Propagation (Cont’d)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distances of 2500 miles are possible with 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i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 the ion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propagation has both minimum and maximum rang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between the maximum ground wave distance and the minimum skip distance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z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-wide communications is possible using several skips (or multi-h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ghest frequency that a radio wave transmitted straight up is reflected back to Earth is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al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915-DBE7-495C-A9E8-74DAE307D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4:09:49Z</dcterms:created>
  <dc:creator>John Reed</dc:creator>
  <dc:description/>
  <dc:language>en-US</dc:language>
  <cp:lastModifiedBy>John Reed</cp:lastModifiedBy>
  <dcterms:modified xsi:type="dcterms:W3CDTF">2005-09-10T02:26:26Z</dcterms:modified>
  <cp:revision>56</cp:revision>
  <dc:subject/>
  <dc:title>Chapter 3 - Radio Phenomina</dc:title>
</cp:coreProperties>
</file>