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0FD2-A24D-419D-A0B4-9CBF8D51B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C033-AD14-43C9-9F59-E75E01F1B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DD23-025E-435A-B477-B9BE71972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2012-ADD6-41AA-96E4-954EF696D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DCE8-B644-444C-A987-FBDC64193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86C9-16F9-46AF-BD0A-FA4347B44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FCC7-DF73-4BE1-A38A-3F0A1C9EF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8128-3CBE-41E6-BBB4-178016B1B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AB56-DF5D-4114-BAF1-321F1F1C9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DB7B-52CC-40F4-9D20-0DC0E9DD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48C3-DC30-49AD-B843-8CD8B537F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504B-D36D-448D-8A3D-9393B23F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d0e4"/>
            </a:gs>
            <a:gs pos="50000">
              <a:srgbClr val="ffffff"/>
            </a:gs>
            <a:gs pos="100000">
              <a:srgbClr val="98d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7884D-F27B-4B29-9673-C79582D407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d0e4"/>
            </a:gs>
            <a:gs pos="50000">
              <a:srgbClr val="ffffff"/>
            </a:gs>
            <a:gs pos="100000">
              <a:srgbClr val="98d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 ECE 5014 )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crowave Antenna and Radio Wave Propagation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ed by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aw Zin Mar Oo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pt:of Ec &amp; I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Y.T.U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8.8.2008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09A4-88D8-41EF-A875-92F02EBF98D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d0e4"/>
            </a:gs>
            <a:gs pos="50000">
              <a:srgbClr val="ffffff"/>
            </a:gs>
            <a:gs pos="100000">
              <a:srgbClr val="98d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33520" y="5331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matter how carefully the constructional details are followed, a slight readjustment of the dimensions will be necessary to improve efficien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incipal advantage of delta-matched feed system, which employs a balanced transmission line, is that the radiation from the line is kept at a minimum at the frequency for which it was design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this type of antenna feed, therefore, two transmitters can be operated simultaneously on adjacent frequency without detrimental interferen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D6B0-94B0-46E5-9C91-E01289AC6AC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d0e4"/>
            </a:gs>
            <a:gs pos="50000">
              <a:srgbClr val="ffffff"/>
            </a:gs>
            <a:gs pos="100000">
              <a:srgbClr val="98d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VE-GUIDE FEED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ation is accomplished by means of two resonant windows formed by a capacitive iris and an inductive ir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type of window is broadly resonant in much the same manner as a large-diameter dipole, and the feed is matched by means of a capacitive stu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type of feed is essentially a low-impedance device, and since the wave guide used for transmission operates at a higher impedance, a matching section must be u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tching section depends upon whether broad-band or narrow-band characteristics are requir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F048-6762-4A31-891F-FC2BD16FB61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d0e4"/>
            </a:gs>
            <a:gs pos="50000">
              <a:srgbClr val="ffffff"/>
            </a:gs>
            <a:gs pos="100000">
              <a:srgbClr val="98d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RIFICIAL-LINE MATCH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of the simplest methods of coupling a transmission line to an antenna at low, medium, or high frequencies is by the use of an artificial 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proper design of this type of coupling network, a wide range of transmission line impedances can be coupled to any range of antenna input impedances in a narrow band of frequenc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dvantage of an artificial line over the various type of matching stubs previously mentioned is that the components can be lumped and built  into a small weather-proofed enclosure and mounted at the antenna input; thus, it has negligible effect on the field radiation patte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CD26-E273-4D7D-B614-45FD7722C4B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d0e4"/>
            </a:gs>
            <a:gs pos="50000">
              <a:srgbClr val="ffffff"/>
            </a:gs>
            <a:gs pos="100000">
              <a:srgbClr val="98d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28600" y="838080"/>
            <a:ext cx="8610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upling network acts to cancel out the reactive components that would  exist if the transmission lines were coupled directly to the anten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, the network must contain inductive and capacitive reactances of the proper values to make the antenna appear to the line as a pure resistance equal in value to the characteristic impedance of the 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alues of inductance and capacity required can be found by calculation, if the antenna input impedance and transmission-line characteristic impedance are know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610320" y="25844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845E-4EA9-4FC5-B479-BAE9C34A636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d0e4"/>
            </a:gs>
            <a:gs pos="50000">
              <a:srgbClr val="ffffff"/>
            </a:gs>
            <a:gs pos="100000">
              <a:srgbClr val="98d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ductive reactance can be found by the formula: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2666880" y="4417920"/>
                <a:ext cx="2819520" cy="14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2209680" y="990720"/>
                <a:ext cx="3886200" cy="11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0" y="2562120"/>
            <a:ext cx="91440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antenna input imped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transmission-line characteristic imped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apacitive reactance can be found by the formu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F22A-9D6A-479B-A4B4-6B5F83C2422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d0e4"/>
            </a:gs>
            <a:gs pos="50000">
              <a:srgbClr val="ffffff"/>
            </a:gs>
            <a:gs pos="100000">
              <a:srgbClr val="98d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600200" y="1905120"/>
            <a:ext cx="61722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ff"/>
                </a:solidFill>
                <a:latin typeface="Impact"/>
              </a:rPr>
              <a:t>Thank You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ff"/>
              </a:solidFill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A32D-5C7D-428C-BB63-7DA5E9B6F78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d0e4"/>
            </a:gs>
            <a:gs pos="50000">
              <a:srgbClr val="ffffff"/>
            </a:gs>
            <a:gs pos="100000">
              <a:srgbClr val="98d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THODS OF FEED AT THE ANTEN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order to effect the maximum transfer of power the transmission line must be attached to the antenna in such a manner that its impedance sees an equivalent impedance at the point where it is connec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E6C9-38A0-41A3-8087-D5D8397F1FB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d0e4"/>
            </a:gs>
            <a:gs pos="50000">
              <a:srgbClr val="ffffff"/>
            </a:gs>
            <a:gs pos="100000">
              <a:srgbClr val="98d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THODS OF FEED WITH RESONANT 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sonant line is connected to an antenna at the highest or lowest impedance point, that is, at the voltage or current loop, respective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provides comparatively efficient transfer of power if its length is limited to one wave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methods of feeding a half-wave antenna with resonant li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) Half-wave length of resonant line connected directly to center of a half-wave anten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transmitter end of the line is a series tuned circuit, which has a low impedance at resonan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oad, which is approximately 73 ohms at the center of the anten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5B20-1E81-4473-949C-74ECEF340C6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d0e4"/>
            </a:gs>
            <a:gs pos="50000">
              <a:srgbClr val="ffffff"/>
            </a:gs>
            <a:gs pos="100000">
              <a:srgbClr val="98d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) A half wave length of a resonant line connected directly to the end of a half-wave anten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transmitter end of the line is a parallel-tuned circuit, which has a high impedance at reson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mpedance of approximately 2500 ohms exists at the end of the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2 antenn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enter-fed and an end-fed half-wave antenna, using quarter-wave tuned lin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enter-fed half-wave antenna, has a parallel-tuned circuit, at the transmitter end of the feed line, which develops a high imped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 the load or the center of the antenna which is a quarter wave length away sees a low imped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nd-fed antenna has a series-tuned or low-impedance circuit at the transmitter end of its feed 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F9F6-B86C-4393-B415-B31A0A90A80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d0e4"/>
            </a:gs>
            <a:gs pos="50000">
              <a:srgbClr val="ffffff"/>
            </a:gs>
            <a:gs pos="100000">
              <a:srgbClr val="98d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2296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 quarter-wave line inverts the impedance, the end of the antenna looking into the line sees a high impedance and, therefore, an approximate match is obtai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advantage of the tuned-line system, when a half or quarter wave length line is used, is that the length of the line may vary as much as 20% from the calculated length for the antenna resonant frequency and still operate efficient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nant or non-resonant condition of a transmission line is a direct function of the degree of mismatch between the antenna and the transmission 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 standing-wave ratio of 1.5 to 1 is obtained, for all practical purposes the feed line approaches a non-resonant condi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6806-2B7F-4EF9-94A8-2505F8C7C30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d0e4"/>
            </a:gs>
            <a:gs pos="50000">
              <a:srgbClr val="ffffff"/>
            </a:gs>
            <a:gs pos="100000">
              <a:srgbClr val="98d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NGLE-WIRE FEED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tage of simplicity of adjustment and ease of construc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line is properly terminated at the antenna, it can be extended to any reasonable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type of feed system should be employed only when the site has a moist or highly conductive ground, because the capacity of the antenna to ground acts as the return path for the radio-frequency currents flowing in the antenn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B924-D719-463D-B41A-C08F0E27758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d0e4"/>
            </a:gs>
            <a:gs pos="50000">
              <a:srgbClr val="ffffff"/>
            </a:gs>
            <a:gs pos="100000">
              <a:srgbClr val="98d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ISTED-PAIR FEED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feed system is easy to install and has a low r-f potential due to its low impedance , but it is the least desirable type of non-resonant feed system from an efficiency standpo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 twisted-pair feeder approximates 70 ohms, it may be used to feed the center of a half-wave anten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twisted-pair line is not weather-proofed, it is practically useless for damp-weather conditions and should be used only for emergenc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EBC6-5329-4A7A-B33D-BCF373A931E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d0e4"/>
            </a:gs>
            <a:gs pos="50000">
              <a:srgbClr val="ffffff"/>
            </a:gs>
            <a:gs pos="100000">
              <a:srgbClr val="98d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AXIAL-CABLE FEED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axial cable connected to the center of a half-wave antenna; this type of feed system finds universal 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dvantage of this system lies in the fact that the low impedance of the cable matches the low impedance at the center of the anten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axial cable can be used also for feeding an antenna array, provided that a matching system is used between the antenna and the 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8B2E-D3F4-444E-96CD-A7D899B07E3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d0e4"/>
            </a:gs>
            <a:gs pos="50000">
              <a:srgbClr val="ffffff"/>
            </a:gs>
            <a:gs pos="100000">
              <a:srgbClr val="98d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LTA-MATCHED FEED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aracteristic impedance of the transmission line is too high to match by direct attachment of the line to the center of the antenna, an impedance-transformation method must be u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mpedance of the transmission line is gradually transformed into a higher value equal to the impedance encountered at the anten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jor disadvantage of this type of feed system is the critical nature of the dimensions involv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53C1-7075-48B5-9F32-0CF8BF8B0D0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5T20:54:34Z</dcterms:created>
  <dc:creator>Santhit</dc:creator>
  <dc:description/>
  <dc:language>en-US</dc:language>
  <cp:lastModifiedBy>User</cp:lastModifiedBy>
  <dcterms:modified xsi:type="dcterms:W3CDTF">2008-08-27T14:28:06Z</dcterms:modified>
  <cp:revision>29</cp:revision>
  <dc:subject/>
  <dc:title>ECE 5014  Microwave Antenna and Radio Wave Propagation  Daw Zin Mar Oo  28.8.2008 </dc:title>
</cp:coreProperties>
</file>