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5.pct" ContentType="image/x-pict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EF28-DFFF-4A91-BFCF-190AD29BA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duled Time: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ntinuous waves - Rock falls into a pond of water.  The first wave produced is large, but then gets smaller and 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ave - no end, man made broadcast stations, celestial objects also “broadcast” continuou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requency of 3kHz, that means there are 3000 wave cycles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^-16 m to 100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batomic particles to marathon lengths, very broad spectrum therefore many different types of telescopes, instruments, and observing techniques.  Gamma and X-ray Space based telescopes.  Luckily there are windows for Ground based telescop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 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 and ignition coil with keying circuit, spark gap from the high voltage ignition to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is the medium through which this field propagates.  We can’t see the EM waves, but it’s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used as the detector of the EM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O receivers operated from 200 GHz to 9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, Nitrogen, Helium, Carbon, Oxygen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t blocks out optical light, but radio waves pass through the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distant galaxies that are not visible in the optical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O’s Atmospheric Transmission 200 GHz to 12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rs:  230 GHz, 350 GHz, 492 GHz, 650 GHz, 850 GHz, SHARCII, Bolocam,  FTS, HERTZ, SUZ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duled Time: 18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reveals that Orion KL is made up of different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Cont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view of the Arches Cluster in Sagittarius.  Near the center of the Milky Way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AAO (Anglo-Australian Observa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ull dimension l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view of Arches Cluster in Sagittarius.  High energy particles traveling along magnetic field lines.  “Trac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NRAO/VLA/C. L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mension 9.6 arcmin high x 8 arcmin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s Cluster in Sagittarius.  Credit: AAO / NRAO/VLA/C.L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optically on your left, and in radio on you right.  High energy particles traveling along magnetic field lines.  “Trac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ally different pictures of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lose up picture (outlined by the square in the previous slid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picture is optical and the right is what is seen by X-ray in blue and Infrared in green (do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 a very different look from the same object. [Credits: AAO / NASA/CXC/Northwestern / NASA/HST/NICMOS (0.6 arcmin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full-field, Radio full-field, X-Ray scaled/Infrared sc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ictures and movies from Chandra X-Ray Telescop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: Opt. - AAO, Radio - NRAO/VLA/C.Lang, X-Ray - NASA/CXC/Northwestern/F.Zadeh et al, IR - NASA/HST/NIC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of a black hole, with bisected close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Chandry X-Ray Telescop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k Gap transmitted damp or discontinuous waves.  Only good for short and long bursts of energy - Morse code or tele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ni transmitted only the letter “S” for his Atlantic Le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fined sound reproduction on this page is “CQ DE PN” - seek you from Polhdu, Cornwall, En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reproduced by John S. Belrose, but words are Fessenden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t Rock, Massachusetts was their s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Theissen telegraphed back immediately and confirmed that it was indeed snowing where he w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ave voice transmission wa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te Reber built his radio telescope in this back yard in Wheaton, Illino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the Galaxy at 160 MHz and 48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 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Melanie Le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83D-E789-4DF7-9C58-AB766028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250-80BF-43DF-A7E5-5B316E1A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EF1-58BB-4CB2-816F-196943D7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298-9E3A-480D-9855-879DCAB4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E43-82FB-476D-8459-D1A9E2F5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43C-54C6-4EC3-BD24-697A532E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C7D-D953-462F-81C5-8713949F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231-8151-4C9C-99BE-3A1DBF96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A3F-7345-4166-A48B-1C1F1CAB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2BE-C1BC-4DAD-A247-E5B8054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024-D423-4AC0-AB58-4612B4EE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F00-BDD5-4E0F-8843-2C89B3A4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CE3E-F2B4-4204-B90C-D178BFD4A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331040" y="533520"/>
            <a:ext cx="1112760" cy="1218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600200" y="1676520"/>
            <a:ext cx="586728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magnetic Wave Propa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chool Science De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anie Le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e 25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nation of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 you see, and can’t see, resonate at a specific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ies are sinusoidal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of Light = Frequency x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The wavelength of a signal resonating at 3kHz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/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0 kilometers or ~ 62 mil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frequencies have longer wavelengths.  This characteristic allows these frequencies to be used for Morse code and amateur ra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41911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of Waves &amp;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732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54380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ing what we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waves propagate through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n excitation - electrical discharge, what do you predict will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waves will propagate from its source to throughout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eans a detector placed anywhere in this room will indicate that the waves have propag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of 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3581280"/>
            <a:ext cx="762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6483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1148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096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4320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5053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343400"/>
            <a:ext cx="4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96920" y="50292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9720" y="43657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5880" y="43196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63200" y="388476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gnition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523880" y="3352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352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410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523880" y="5410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590920"/>
            <a:ext cx="2438280" cy="317520"/>
          </a:xfrm>
          <a:custGeom>
            <a:avLst/>
            <a:gdLst/>
            <a:ahLst/>
            <a:rect l="l" t="t" r="r" b="b"/>
            <a:pathLst>
              <a:path w="1920" h="200">
                <a:moveTo>
                  <a:pt x="0" y="200"/>
                </a:moveTo>
                <a:cubicBezTo>
                  <a:pt x="304" y="108"/>
                  <a:pt x="608" y="16"/>
                  <a:pt x="720" y="8"/>
                </a:cubicBezTo>
                <a:cubicBezTo>
                  <a:pt x="832" y="0"/>
                  <a:pt x="536" y="136"/>
                  <a:pt x="672" y="152"/>
                </a:cubicBezTo>
                <a:cubicBezTo>
                  <a:pt x="808" y="168"/>
                  <a:pt x="1368" y="120"/>
                  <a:pt x="1536" y="104"/>
                </a:cubicBezTo>
                <a:cubicBezTo>
                  <a:pt x="1704" y="88"/>
                  <a:pt x="1616" y="56"/>
                  <a:pt x="1680" y="56"/>
                </a:cubicBezTo>
                <a:cubicBezTo>
                  <a:pt x="1744" y="56"/>
                  <a:pt x="1832" y="80"/>
                  <a:pt x="192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286000"/>
            <a:ext cx="2438640" cy="317520"/>
          </a:xfrm>
          <a:custGeom>
            <a:avLst/>
            <a:gdLst/>
            <a:ahLst/>
            <a:rect l="l" t="t" r="r" b="b"/>
            <a:pathLst>
              <a:path w="1920" h="200">
                <a:moveTo>
                  <a:pt x="0" y="200"/>
                </a:moveTo>
                <a:cubicBezTo>
                  <a:pt x="304" y="108"/>
                  <a:pt x="608" y="16"/>
                  <a:pt x="720" y="8"/>
                </a:cubicBezTo>
                <a:cubicBezTo>
                  <a:pt x="832" y="0"/>
                  <a:pt x="536" y="136"/>
                  <a:pt x="672" y="152"/>
                </a:cubicBezTo>
                <a:cubicBezTo>
                  <a:pt x="808" y="168"/>
                  <a:pt x="1368" y="120"/>
                  <a:pt x="1536" y="104"/>
                </a:cubicBezTo>
                <a:cubicBezTo>
                  <a:pt x="1704" y="88"/>
                  <a:pt x="1616" y="56"/>
                  <a:pt x="1680" y="56"/>
                </a:cubicBezTo>
                <a:cubicBezTo>
                  <a:pt x="1744" y="56"/>
                  <a:pt x="1832" y="80"/>
                  <a:pt x="192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4114800"/>
            <a:ext cx="9144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315200" y="3504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1320" y="464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3352680"/>
            <a:ext cx="152640" cy="152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819160" y="3200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971800" y="3047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200400" y="30477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76720" y="3200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park gap generator transmits broadband emissions - It covers a large band of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radio tuned to an AM or Shortwave station, noise will be heard when the spark gap transmitter is energized. (530kHz to 4200k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e to another AM/Shortwave station, you should get the same electrical discharge no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ignal is regulated, or tuned,  to one band of frequencies, communication can be g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Coverage (p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 powerful discharge and you walked outside and down the street.  Will the noise still be detected?   Y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why full time activation is prohibited by the F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Wa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Wavelength - Distance of One Cycle (peak to pe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Frequency - Number of Cycles in One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of Light = Wavelength x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Waves propagate through space from an electrical dis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Wave Propagation Uses - Communications, Astronomy, and much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Radio Astronom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the study of electromagnetic emissions from celestial objects in the radio spectrum 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nd molecules in space emit their own unique electromagnetic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telescopes can see “cold” objects, they do not emit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le to detect radio sources behind interstellar clouds hidden from optical vie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tect distant galaxies at the edge of the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O Atmospheric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104040" rIns="104040" tIns="60840" bIns="60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Radio to Radio Astronomy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rief History of Radio &amp; A Quick Introduction to Radio Astr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izuka Visitor Center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anie Le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5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0 µm Survey of Orion K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85341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ittarius A - Galactic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55308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645000" cy="4699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06440" y="9144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es Cluster in Sagittarius - O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14920" cy="464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3840" y="91440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es Cluster in Sagittarius -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ittarius Arches in Optical &amp;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645000" cy="4699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76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r Arches in Optical &amp; X-Ray/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104040" rIns="104040" tIns="60840" bIns="60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104040" rIns="104040" tIns="60840" bIns="60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645000" cy="469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733920" y="53352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94040" y="15228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ittarius - Arches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0040" y="525780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0360" y="586728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Ray/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8200" y="58672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cintosh HD:Users:leong:Documents:ClassConfTalks:ElectromagDemo:ChandraPics_Movies:black_hole_lg.mpg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’s much more out there than visible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een in radio waves is very different than op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waves detected by Radio Telescopes tell us more about what else is going on out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pectrum bands are used to observe, measure, and interpret what is going on out in the Unive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ground based and space based telescopes are made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 History of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Electromagnetic Waves and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Wave Propagation - Spark Gap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Introduction to Radio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rief History of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is a new subject in terms of science &amp;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ceive transmitted radio waves for enjoyment, entertainment, an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years ago Radio, as we know it, did no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4, James Clerk Max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d the speed electromagnetic waves travel is approximately the speed of l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ble light forms only a small part of the spectrum of electromagnetic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Radio (p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8, Heinrich He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ed that electricity could be transformed into electromagnetic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waves travel at the speed of l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96, Guglielmo Marc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a wireless telegraph, a spark gap transmitter &amp;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December 12, 1901, accomplished the “Atlantic Leap” from Poldhu, Cornwall, England to Signal Hill, Newfound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Radio (p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0, Reginald Fess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Waves necessary to transmit speech and mu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ember 23, 1900, First wireless voice message to colle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o Br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.  Two.  Three.  F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t snowing where you are Mr. Theiss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is, telegraph back and let me know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 and receive stations were only 1 mile apart, but this heralded the beginning of radio telepho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Christmas Day 1906, Ships 100 miles away heard Fessenden’s voice and “O Holy Night” playing on their morse code recei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06-1912, Radio Broadcas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Radio (p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4, Spark transmission was phas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70’s-1920’s, Telephone developed and i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2, Karl Ja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doing research for Bell Labs for transatlantic radio service, he observed radio waves coming from the center of the Milky Way Galax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llowed to investigate more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1, Grote R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1933, Read about Jansky’s work, published in the NY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1939, Built the first radio telescope in his backy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1941, Measured and recorded the first radio sky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te Reber’s Radio Sky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104040" rIns="104040" tIns="60840" bIns="60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010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Electromagnetic Wa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omagnetic wave is an energy wave produced from an electrical dis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magnetic waves have rise and fall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rise and fall cycles per second is its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’t see or feel them, but they are around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3:44:50Z</dcterms:created>
  <dc:creator>Melanie Leong</dc:creator>
  <dc:description>Initially created for a high school Spark Gap DemonstrationEdited and refined for presentation at the Onizuka Visitor Center</dc:description>
  <dc:language>en-US</dc:language>
  <cp:lastModifiedBy>Melanie Leong</cp:lastModifiedBy>
  <dcterms:modified xsi:type="dcterms:W3CDTF">2004-03-02T22:17:41Z</dcterms:modified>
  <cp:revision>180</cp:revision>
  <dc:subject>Radio to Radio Astronomy</dc:subject>
  <dc:title>Electromagnetic Propagation</dc:title>
</cp:coreProperties>
</file>