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5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5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5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675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675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675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5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675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675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5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Fiftee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o-Wave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enuation of Free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sotropic radiator would produce spherical wa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density of an isotropic radiator is simply be the total power divided by the surface area of the sphere, according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quare-la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09880" y="4572000"/>
                <a:ext cx="14479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p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tting Antenna 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al communication systems, it is important to know the signal strength at the receiver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epends on the transmitter power and the distance from the transmitter to the receiver, but also upon the transmitting and receiving 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mportant antenna characteristic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in for the transmitting ant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area for the receiving ant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s are said to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ose directions in which the most power is radi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eiving Antenna 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eiving antenna absorbs some of the energy from radio waves that pas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rger antenna receives more power than a smaller antenna (in relation to surface ar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ing antennas are considered to have gain just as transmitting antennas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extracted from a receiving antenna is a function of its physical size and its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 L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-space attenuation is the ratio of received power to transmitted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ibel gain between transmitter and receiver is negative (loss) and the loss found this way is called free-space loss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, Refraction, and Diff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three properties are shared by light and radio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oth reflection and refraction, it is assumed that the surfaces involved are much larger than the wavelength; if not, diffraction will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ion of waves from a smooth surfa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cular ref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results in the angle of reflection being equal to the angle of inc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52372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ypes of 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ner refl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bolic  refl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2743200" cy="1873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276720" y="2819520"/>
            <a:ext cx="2514600" cy="1873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943600" y="3200400"/>
            <a:ext cx="28954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86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ition from one medium to another results in the bending of radio waves, just as it does with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ell’s Law governs the behavior of electromagnetic waves being refrac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19320" y="5943600"/>
                <a:ext cx="19810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2997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result of diffraction, electromagnetic waves can appear to “go around corn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 is more apparent when the object has sharp edges, that is when the dimensions are small in comparison to the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9816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nd-Wave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time, radio waves are not quite in fre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restrial propagation mod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-of-sight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-wave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y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waves are one form of electromagnetic 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radiation has a dual na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ome cases, it behaves as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cases, it behaves as particles (phot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adio frequencies the wave model is generally more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waves can be generated by many means, but all them involve the movement of electrical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ospheric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range communication in the high-frequency band is possible because of refraction in a region of the upper atmosphere calle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on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onosphere is divided into three regions known as the D, E, and F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ization is different at different heights above the earth and is affected by time of day and solar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s in the VHF and higher range are not usually returned to earth by the ion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terrestrial communication at these frequencies uses direct radiation from the transmitter to the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propagation is referred to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ce-wave, line-of-sigh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opospheric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52480" y="5257800"/>
            <a:ext cx="58057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agation in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le/Portabl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ath propagation creates interference for communic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environments are often so cluttered that the square-law attenuation of free space does not apply (for example, in a city with many build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ers and Cellular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mobile systems have relatively small antenna heights, systems must be in place to improve signal strength and reception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units make us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ea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re full-duplex and use resonant cavities called a du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systems do not use the horizon as the limit of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s may still be mounted high, but the range is deliberately limited by using as low a transmitter power as i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676520"/>
            <a:ext cx="8839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f Fading in Mob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ding is a problem with mobile systems and increasing power and typical frequency diversity are not workable solutions to this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-spectrum systems can correct fading through alternative frequency diversity systems such as C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ke recei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CDMA system can receive several data streams at o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pagation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pospheric Scatter - makes use of the scattering of radio waves in the troposphere to propagate signals in the 250 MHz –5 GHz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14600" y="3962520"/>
            <a:ext cx="44197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certain conditions, especially over water,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errefra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yer can form in the troposphere and return signals to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gnals can then propagate over long distances by alternately reflecting from the earth and refracting from the superrefractive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ed condition involves a thin tropospheric layer with a high refractive index, so that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Du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80409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eor-Trail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27428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ors are constantly entering the earth’s atmosphere and being destr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eors that enter the atmosphere leave behind an ionized trail that can be used for communication.  It is not suitable for voice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80280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transmissions move in spac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s are characterized by frequency and wavel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33720" y="4572000"/>
                <a:ext cx="12189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fλ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6576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 and Magnetic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lectromagnetic wave propagating through space consists of electric and magnetic fields, perpendicular both to each other and to the direction of travel of th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ship between electric and magnetic field intensities is analogous to the relation between voltage and current in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lationship is express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045120" y="5486400"/>
                <a:ext cx="939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density in space is the amount of power that flows through each square meter of a surface perpendicular to the direction of tra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55960" y="4554360"/>
                <a:ext cx="14781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e and Spherical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mplest source of electromagnetic waves would be a point in space, with waves radiating equally in all directions. This is called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otropic ra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vefro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has a surface on which all the waves are the same phase would be a 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arization of a plane wave is simply the direction of its electric field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ve can rotate in either direction - it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ght-ha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rotates 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52480" y="3657600"/>
            <a:ext cx="59436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-Space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waves propagate through free space in a straight line with a velocity of the speed of light (300,000,000 m/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loss of energy in free space, but there is attenuation due to the spreading of the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1:41:27Z</dcterms:created>
  <dc:creator>Don Arney</dc:creator>
  <dc:description/>
  <dc:language>en-US</dc:language>
  <cp:lastModifiedBy>chrism</cp:lastModifiedBy>
  <dcterms:modified xsi:type="dcterms:W3CDTF">2003-04-16T20:17:32Z</dcterms:modified>
  <cp:revision>54</cp:revision>
  <dc:subject/>
  <dc:title>Chapter Fifteen: Radio-Wave Propagation</dc:title>
</cp:coreProperties>
</file>