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0" y="358128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Feasibility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 Requirement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Minimize Ris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286000"/>
            <a:ext cx="74674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S 501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target levels of functional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, desirable,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software process: intermediate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ommunication within team an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Good processes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51814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asibility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600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writte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eneral audience: client, financial manag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manage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enough that everybody read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enough that no important topics are sk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S 501, I am looking for a well written, well presented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Definition and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400" y="1973160"/>
            <a:ext cx="18770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Library of Congre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 Partial Failu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819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utlin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brary of Congress requires a repository system to store and make accessible very large amounts of highly varied material over long periods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ronolo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133720"/>
            <a:ext cx="815328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-94   CNRI carries out research on architectur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5-97   CNRI implements prototype reposito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of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         CNRI and Library of Congress carry ou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37160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1880" y="4896000"/>
            <a:ext cx="1768320" cy="946080"/>
            <a:chOff x="1901880" y="4896000"/>
            <a:chExt cx="1768320" cy="946080"/>
          </a:xfrm>
        </p:grpSpPr>
        <p:sp>
          <p:nvSpPr>
            <p:cNvPr id="89" name=""/>
            <p:cNvSpPr/>
            <p:nvPr/>
          </p:nvSpPr>
          <p:spPr>
            <a:xfrm>
              <a:off x="3571920" y="5037120"/>
              <a:ext cx="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1880" y="4898880"/>
              <a:ext cx="220680" cy="327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51200" y="4925880"/>
              <a:ext cx="136440" cy="33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1160" y="4940280"/>
              <a:ext cx="4730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5120" y="4896000"/>
              <a:ext cx="511200" cy="9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52760" y="4908600"/>
              <a:ext cx="473040" cy="96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52760" y="5038560"/>
              <a:ext cx="473040" cy="23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2760" y="5300640"/>
              <a:ext cx="473040" cy="520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54200" y="505944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56000" y="508968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0" y="51213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7440" y="51530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8880" y="517860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4200" y="52466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53760" y="4991040"/>
              <a:ext cx="1047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0600" y="4997520"/>
              <a:ext cx="0" cy="223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471840" y="4925880"/>
              <a:ext cx="193680" cy="112680"/>
              <a:chOff x="3471840" y="4925880"/>
              <a:chExt cx="193680" cy="1126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471840" y="4925880"/>
                <a:ext cx="160200" cy="84240"/>
                <a:chOff x="3471840" y="4925880"/>
                <a:chExt cx="160200" cy="84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471840" y="499104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471840" y="4935600"/>
                  <a:ext cx="16020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475080" y="492588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505320" y="4957920"/>
                <a:ext cx="160200" cy="80640"/>
                <a:chOff x="3505320" y="4957920"/>
                <a:chExt cx="160200" cy="806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05320" y="5025960"/>
                  <a:ext cx="15696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05320" y="4971960"/>
                  <a:ext cx="16020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08200" y="4957920"/>
                  <a:ext cx="157320" cy="15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3476520" y="5164200"/>
              <a:ext cx="193680" cy="114120"/>
              <a:chOff x="3476520" y="5164200"/>
              <a:chExt cx="193680" cy="1141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476520" y="5164200"/>
                <a:ext cx="160560" cy="84240"/>
                <a:chOff x="3476520" y="5164200"/>
                <a:chExt cx="160560" cy="84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476520" y="522936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76520" y="5175360"/>
                  <a:ext cx="160560" cy="5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79760" y="516420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510000" y="5194440"/>
                <a:ext cx="160200" cy="83880"/>
                <a:chOff x="3510000" y="5194440"/>
                <a:chExt cx="160200" cy="83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10000" y="5264280"/>
                  <a:ext cx="15696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10000" y="5210280"/>
                  <a:ext cx="160200" cy="52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13240" y="5194440"/>
                  <a:ext cx="156960" cy="19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3475080" y="5394240"/>
              <a:ext cx="193680" cy="112680"/>
              <a:chOff x="3475080" y="5394240"/>
              <a:chExt cx="193680" cy="1126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475080" y="5394240"/>
                <a:ext cx="160200" cy="82800"/>
                <a:chOff x="3475080" y="5394240"/>
                <a:chExt cx="160200" cy="82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475080" y="5459400"/>
                  <a:ext cx="1569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75080" y="5405400"/>
                  <a:ext cx="160200" cy="55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78320" y="539424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08200" y="5424480"/>
                <a:ext cx="160560" cy="82440"/>
                <a:chOff x="3508200" y="5424480"/>
                <a:chExt cx="160560" cy="82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08200" y="5495760"/>
                  <a:ext cx="15732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508200" y="5440320"/>
                  <a:ext cx="16056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11440" y="5424480"/>
                  <a:ext cx="15732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3476520" y="5624640"/>
              <a:ext cx="193680" cy="112680"/>
              <a:chOff x="3476520" y="5624640"/>
              <a:chExt cx="193680" cy="11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3476520" y="5624640"/>
                <a:ext cx="160560" cy="82440"/>
                <a:chOff x="3476520" y="5624640"/>
                <a:chExt cx="160560" cy="82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476520" y="5689440"/>
                  <a:ext cx="1573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476520" y="5634000"/>
                  <a:ext cx="16056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79760" y="562464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510000" y="5654520"/>
                <a:ext cx="160200" cy="82800"/>
                <a:chOff x="3510000" y="5654520"/>
                <a:chExt cx="160200" cy="828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10000" y="5726160"/>
                  <a:ext cx="15696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510000" y="5668920"/>
                  <a:ext cx="160200" cy="540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513240" y="5654520"/>
                  <a:ext cx="15696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971800" y="5227560"/>
              <a:ext cx="235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6240" y="5234040"/>
              <a:ext cx="0" cy="4158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2720" y="5657760"/>
              <a:ext cx="2174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98920" y="5692680"/>
              <a:ext cx="74592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14200" y="5692680"/>
              <a:ext cx="700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017800" y="5198760"/>
              <a:ext cx="0" cy="5000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6000" y="52149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0320" y="5227560"/>
              <a:ext cx="1602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226120" y="2463840"/>
            <a:ext cx="2997000" cy="1854000"/>
            <a:chOff x="5226120" y="2463840"/>
            <a:chExt cx="2997000" cy="1854000"/>
          </a:xfrm>
        </p:grpSpPr>
        <p:sp>
          <p:nvSpPr>
            <p:cNvPr id="150" name=""/>
            <p:cNvSpPr/>
            <p:nvPr/>
          </p:nvSpPr>
          <p:spPr>
            <a:xfrm>
              <a:off x="5226120" y="2463840"/>
              <a:ext cx="2997000" cy="185400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6635880" y="2895480"/>
              <a:ext cx="9270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6006960" y="30798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254640" y="3371760"/>
              <a:ext cx="3873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658840" y="190980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0160" y="5943600"/>
            <a:ext cx="320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dent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7600" y="2806560"/>
            <a:ext cx="86364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162080" y="2819520"/>
            <a:ext cx="101520" cy="3808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695600" y="2806560"/>
            <a:ext cx="101520" cy="432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6120" y="2311560"/>
            <a:ext cx="541440" cy="768240"/>
            <a:chOff x="546120" y="2311560"/>
            <a:chExt cx="541440" cy="768240"/>
          </a:xfrm>
        </p:grpSpPr>
        <p:sp>
          <p:nvSpPr>
            <p:cNvPr id="160" name=""/>
            <p:cNvSpPr/>
            <p:nvPr/>
          </p:nvSpPr>
          <p:spPr>
            <a:xfrm>
              <a:off x="660240" y="231156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6120" y="2444760"/>
              <a:ext cx="0" cy="596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200" y="2819520"/>
              <a:ext cx="253800" cy="1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76240" y="2838600"/>
              <a:ext cx="0" cy="228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960" y="2406600"/>
              <a:ext cx="103320" cy="344520"/>
            </a:xfrm>
            <a:custGeom>
              <a:avLst/>
              <a:gdLst/>
              <a:ahLst/>
              <a:rect l="l" t="t" r="r" b="b"/>
              <a:pathLst>
                <a:path w="65" h="217">
                  <a:moveTo>
                    <a:pt x="64" y="0"/>
                  </a:moveTo>
                  <a:lnTo>
                    <a:pt x="0" y="104"/>
                  </a:lnTo>
                  <a:lnTo>
                    <a:pt x="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8560" y="27622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33480" y="2787480"/>
              <a:ext cx="25200" cy="2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84240" y="3041640"/>
              <a:ext cx="507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520" y="2533680"/>
              <a:ext cx="446040" cy="9036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0" y="0"/>
                  </a:moveTo>
                  <a:lnTo>
                    <a:pt x="136" y="56"/>
                  </a:lnTo>
                  <a:lnTo>
                    <a:pt x="28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362320" y="2438280"/>
            <a:ext cx="289548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2743200"/>
            <a:ext cx="762120" cy="1949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26120" y="5270400"/>
            <a:ext cx="1041480" cy="559080"/>
            <a:chOff x="5226120" y="5270400"/>
            <a:chExt cx="1041480" cy="559080"/>
          </a:xfrm>
        </p:grpSpPr>
        <p:sp>
          <p:nvSpPr>
            <p:cNvPr id="172" name=""/>
            <p:cNvSpPr/>
            <p:nvPr/>
          </p:nvSpPr>
          <p:spPr>
            <a:xfrm flipH="1">
              <a:off x="5365800" y="56386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632560" y="5276880"/>
              <a:ext cx="6350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226120" y="5270400"/>
              <a:ext cx="2412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518080" y="5429160"/>
              <a:ext cx="6350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4833360" y="5910120"/>
            <a:ext cx="22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arch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3282840" cy="244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5240" y="3243240"/>
            <a:ext cx="99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posi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3623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49280" y="2400480"/>
            <a:ext cx="2574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1295280"/>
            <a:ext cx="77724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646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rage and Representation of Complex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Coolidge2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621160" cy="3048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2057400"/>
            <a:ext cx="3353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re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mbnai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enc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chiv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epresentation may have its own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600" y="1447920"/>
            <a:ext cx="8686800" cy="203040"/>
            <a:chOff x="228600" y="1447920"/>
            <a:chExt cx="8686800" cy="203040"/>
          </a:xfrm>
        </p:grpSpPr>
        <p:sp>
          <p:nvSpPr>
            <p:cNvPr id="187" name=""/>
            <p:cNvSpPr/>
            <p:nvPr/>
          </p:nvSpPr>
          <p:spPr>
            <a:xfrm>
              <a:off x="228600" y="1547640"/>
              <a:ext cx="8458200" cy="10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1447920"/>
              <a:ext cx="8458200" cy="1029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38080" y="1447920"/>
            <a:ext cx="74678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ository: Research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981080"/>
            <a:ext cx="8381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ORBA implementation of repository access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tegration of persistent naming through hand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Use of structural metadata to describe complex objects, elementary typ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Access management framework and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Applet-based middleware for user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Information visualization program to view the structure of  large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28600" y="1447920"/>
            <a:ext cx="8686800" cy="203040"/>
            <a:chOff x="228600" y="1447920"/>
            <a:chExt cx="8686800" cy="203040"/>
          </a:xfrm>
        </p:grpSpPr>
        <p:sp>
          <p:nvSpPr>
            <p:cNvPr id="193" name=""/>
            <p:cNvSpPr/>
            <p:nvPr/>
          </p:nvSpPr>
          <p:spPr>
            <a:xfrm>
              <a:off x="228600" y="1547640"/>
              <a:ext cx="8458200" cy="10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1447920"/>
              <a:ext cx="8458200" cy="1029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d Discoveries During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590920"/>
            <a:ext cx="7010280" cy="30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ing complex information in digital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riven digital library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object-oriented, relational, an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stor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and identification of librar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 of required reposit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d Discoveries During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43828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to change within Library of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weakness of Library of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 in CNRI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905120"/>
            <a:ext cx="716256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gnment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ook on the cours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ject te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have definitely chosen a project, please notify the Teaching Assistants with the names of your team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 not have a team you can meet 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's recitations session will be to help the people who do not have projects form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y ask teams to add extr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aching Assistant will be added to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on of objectives (research and 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involve all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-ambitious (no proper feasibility stu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quirements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203" name="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8400" y="21463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as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82800" y="2119320"/>
            <a:ext cx="3733920" cy="869760"/>
            <a:chOff x="1882800" y="2119320"/>
            <a:chExt cx="3733920" cy="869760"/>
          </a:xfrm>
        </p:grpSpPr>
        <p:sp>
          <p:nvSpPr>
            <p:cNvPr id="206" name="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2800" y="216360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67080" y="2895480"/>
            <a:ext cx="2514600" cy="847440"/>
            <a:chOff x="4267080" y="2895480"/>
            <a:chExt cx="2514600" cy="847440"/>
          </a:xfrm>
        </p:grpSpPr>
        <p:sp>
          <p:nvSpPr>
            <p:cNvPr id="209" name="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080" y="29174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53080" y="3505320"/>
            <a:ext cx="2440080" cy="850680"/>
            <a:chOff x="6553080" y="3505320"/>
            <a:chExt cx="2440080" cy="850680"/>
          </a:xfrm>
        </p:grpSpPr>
        <p:sp>
          <p:nvSpPr>
            <p:cNvPr id="212" name="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3530520"/>
              <a:ext cx="24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9000" y="3619440"/>
            <a:ext cx="190476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46280" y="400860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426708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7440" y="5765760"/>
            <a:ext cx="243828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pec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791320"/>
            <a:ext cx="205740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2743200"/>
            <a:ext cx="75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igh-level abstract description of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external system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hensible by customer, management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uld reflect accurately what the customer w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that the system will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under which it will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8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rary of Congress Requirements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590920"/>
            <a:ext cx="838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m (all experienced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brarian, Software Engineer (CNRI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Project Leader (Library of Congress), + 2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o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iling list of about 20 knowledgeable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eliminary report (2 months).  Final report (1 mon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94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14600"/>
            <a:ext cx="5943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: Library of Congress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omplex digit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protocols and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with other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c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1143000"/>
            <a:ext cx="76201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52800" y="3594240"/>
            <a:ext cx="57960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42840" y="4219560"/>
            <a:ext cx="0" cy="5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945720" y="2673360"/>
            <a:ext cx="180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936720" y="1158840"/>
            <a:ext cx="144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346560" y="6335280"/>
            <a:ext cx="1025280" cy="324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390320" y="6356520"/>
            <a:ext cx="1025640" cy="288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40440" y="2649600"/>
            <a:ext cx="1805040" cy="4874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584680" y="1208160"/>
            <a:ext cx="2310120" cy="14032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000" y="3478320"/>
            <a:ext cx="3284280" cy="12808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18080" y="3575160"/>
            <a:ext cx="139212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02240" y="1130400"/>
            <a:ext cx="0" cy="49032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97160" y="3595680"/>
            <a:ext cx="2106720" cy="1238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057040" y="3514680"/>
            <a:ext cx="2011320" cy="60480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10160" y="2662200"/>
            <a:ext cx="0" cy="738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0440" y="1846440"/>
            <a:ext cx="0" cy="6490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229360" y="1166760"/>
            <a:ext cx="893520" cy="6350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152440" y="1801800"/>
            <a:ext cx="2509560" cy="779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920" y="2379600"/>
            <a:ext cx="189972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orage Struc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Unix files, by aggreg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833640"/>
            <a:ext cx="18586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pre-process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400" y="4714920"/>
            <a:ext cx="23860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merican Memory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trieval, navigation, &amp; disp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87000" y="2459160"/>
            <a:ext cx="216036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 Administr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6640" y="3348000"/>
            <a:ext cx="89100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74760" y="1616040"/>
            <a:ext cx="13557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DLP Work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cking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59440" y="6208560"/>
            <a:ext cx="111024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-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880" y="71748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read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52520" y="71748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91880" y="717480"/>
            <a:ext cx="137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idg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repository t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02040" y="71748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LP col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560" y="6400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5400" y="64008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19240" y="4714920"/>
            <a:ext cx="1430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S OPAC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10400" y="4714920"/>
            <a:ext cx="22564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User Interf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.g.  RLG, OCLC, DLF part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57760" y="717480"/>
            <a:ext cx="13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82120" y="3014640"/>
            <a:ext cx="409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75120" y="5884920"/>
            <a:ext cx="13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 assign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1000" y="604188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72800" y="561816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orting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" y="96840"/>
            <a:ext cx="646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F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VIEW OF ITS SUPPOR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NDLP PRODUCTION AND DELIVERY OF AMERICA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11480" y="4714920"/>
            <a:ext cx="16164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 user interface pl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bjects/col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n-function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2209680"/>
            <a:ext cx="7239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of sizes, numbers of us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 and performance measures and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fer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: Library of Congress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nd software systems (e.g., IBM/U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ystems (e.g., Ora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languages (e.g., C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olution of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209680"/>
            <a:ext cx="78487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quirements definition is wrong, the system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mplex systems, understanding of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ontinues to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fo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efinition must ev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ocumentation must be kept current (but clea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vers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asibility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98108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beginning a project, a short, low-cost study to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nee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, time, equip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here are the risks?  How can they be minim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asibility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6095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asibility study leads to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go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duction projects, the feasibility study often leads to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udget 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search, a feasibility study is often in the form of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ropo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S 501: 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2590920"/>
            <a:ext cx="5790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S 501, you have two cl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for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fessor for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n you satisfy them bo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0968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are the boundaries of th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S 501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web pages with open access on the Web [Web Profil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the general public [Digital Collec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ying data formats [Legal Informa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sands of sensors [Data minin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Windows, Mac, Unix [SALS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tential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209680"/>
            <a:ext cx="807696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are you doing this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marketabl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efficiency of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a system that is too complex to control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r improv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or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715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et a good grade on CS 5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8458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s: CS 5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f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5 to 7 students, with some help.  How many hours per week? What skills do people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ust be completed by end of semester, including operational system, documentation,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quipment and softwa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hat special needs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ill the client be sufficiently available and help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ta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28600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01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rt-up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reating a team, scheduling meetings, acquiring software, learning new system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siness consider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icenses, trade-secre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o ambitio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othing to show at the  end of the sem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ging circumstanc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lient leaves the university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8-31T12:28:29Z</dcterms:modified>
  <cp:revision>157</cp:revision>
  <dc:subject/>
  <dc:title>Digital Library Architecture- Key Principles </dc:title>
</cp:coreProperties>
</file>