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C556-1B47-425D-ACC9-8C976F2F49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3809880"/>
            <a:ext cx="4648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in Softwar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to Stop Gracefull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057400"/>
            <a:ext cx="8229600" cy="36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harder to cancel a project than to star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harder to withdraw a service than introduc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ponents of the system must now reverse their public 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Management of expec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of the service need a migration strate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staff must have a graceful path for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me to Complete a Software Proj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362320"/>
            <a:ext cx="77724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rge software projects typically take at least two years from start to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ve phase -- changes of plan are easy to accommo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phase -- fundamental changes are almost im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et many things can change in two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ense of Urgenc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981080"/>
            <a:ext cx="762012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not-for-profit corporation is developing a system for a government organiz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96 all research had been completed and the system demonstrated successfully with real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000, the system is still not in full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Incremental improvements to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Repeated requests for more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Reluctance to reorganize clerical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body had a sense of ur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vertaken by Eve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133720"/>
            <a:ext cx="7924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University C has a project to develop a digital library system, with funds from Company Z , private foundations and the governm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93 an extensive system is running at the university and Z is marketing the technology to its custo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94 it is clear that web browsers and web formats (though technically weak) are becoming widely adop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What should the university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What should the company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nging Requirements and Desig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286000"/>
            <a:ext cx="7924680" cy="41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CNRI Handle System -- a high performance, distributed system to map names to resources (1994-9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4 only web browser was Mosa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4 Java did not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4 mirroring and caching utilities were not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4 commercial interest was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decisions made in 1994 had to be changed.  Software was rewritten and greatly improved in 1998/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a job's worth doing, it's worth doing twic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nges of Leadershi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057400"/>
            <a:ext cx="8153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ny projects are wasted because of managemen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 1988, Company W gave University D $1,000,000 to port a new operating system to its personal computers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 was well done, on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W changed its president and senior technical staff during the project.  The work was wa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cade later and several presidents later, Company W is releasing a modern version of the sam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graduate student from University D is now Senior Vice President of Company W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ent Overs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133720"/>
            <a:ext cx="8001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work is out-sourced, the client must be vigi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 G was the world's leader in software for optimization (e.g., linear and integer programming).  G had implemented several packages for various manufactur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erating system Company H contracted with G to develop an optimization package for its new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ckage was late, performed badly and disliked by custo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went wrong? What can we lea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o Difficult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2133720"/>
            <a:ext cx="73911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development team at University E was given government funds to build a high-performance gateway from protoco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toco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mising young developer was hired and assigned to this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was too difficult for him, but he hid his problems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produced nothing of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can we learn from this exper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gineering and Market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286000"/>
            <a:ext cx="82296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rporate engineering &amp; marketing divisions at cross purpo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erox's Palo Alto Research Center pioneered window managers, Etherne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al user interfaces, font managers, et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Apple, Adobe, Digital, etc. brought them to t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would not bring its first Unix workstation to the market until the software had been largely re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Sun's early workstations were unreliable but sold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nior Management Dynam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057400"/>
            <a:ext cx="83059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s and shareholders appoint the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The President does not want to admit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ident appoints the Chief Information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The CIO does not want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t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O appoints the computing 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The computing mangers do not want to admit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uting managers appoint the 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The developers do not want to admit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body pretends that things are going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top Return Ti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2133720"/>
            <a:ext cx="35053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 Dec 6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:30 - 11:00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30 U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. Dec 11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30 - 3:00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30 U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. Dec 13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:30 - 11:00 A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30 U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nior Management Dynam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057400"/>
            <a:ext cx="78483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 last the troubles can not be hidden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s and shareholders try to blame the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ident tries to blame the Chief Information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O tries to blame the computing manag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d grumbles about the Presi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uting managers try to blame the develop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d grumble about the 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velopers grumble about their manag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can we do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bering Though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057400"/>
            <a:ext cx="81532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computing projects are very complex.  Inevitab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delays and fail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 organizations know how to manage risk &amp; uncertai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CIO'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Manage to minimiz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Have the confidence of their staff who keep th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ruthfully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Have the self-confidence to keep their senio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ruthfully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362320"/>
            <a:ext cx="685800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l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ive is to reward those people who were regular in attending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ilures and Risk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209680"/>
            <a:ext cx="71629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ftware development projects can fail in many 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d softwar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, over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function, full of bugs, bad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ging circum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of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biggest single source of problems is poor understanding of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aging Ris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514600"/>
            <a:ext cx="6400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age projects to avoid ris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and visible softwar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Avoid su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l review of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ingness to modify or cancel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celing a Proj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362320"/>
            <a:ext cx="76964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rew Window Manager (w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ly superior to X (MIT's Athena project) in 19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... Digital Equipment Corporation turning X into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with massive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ody ready to support w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wm cancelled in 1986, Andrew user interfa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pplications ported 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ilure to Cancel a Proj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133720"/>
            <a:ext cx="7543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University F developed a novel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1985 to 1989, this was a promising language for simple programming of window-base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90, clearly not gaining acceptance beyond University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development continued for many more years (about $500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cancelled becaus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o Big to Cancel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133720"/>
            <a:ext cx="80773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University A has antiquated administrative systems. Senior management decides to replace them all with commercial packages from X.  The timetable and budget are hopelessly optim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 get dispiri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ief Information Officer finds another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w Chief Information Officer is appoi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hould she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are doing it the Wrong Way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2209680"/>
            <a:ext cx="7543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iversity B has a (big) joint project with Company Y to develop a new computer operating sys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wo years work, a junior software developer persuades the university leader that the technical approach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hould the university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hould the company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1-28T16:21:18Z</dcterms:modified>
  <cp:revision>617</cp:revision>
  <dc:subject/>
  <dc:title>Digital Library Architecture- Key Principles </dc:title>
</cp:coreProperties>
</file>