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Web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35040" y="1752480"/>
            <a:ext cx="7458120" cy="228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6880" y="6858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6400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E613-7A04-4483-9B95-6CA7D8DA84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20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CS 501: Software Engineering</a:t>
            </a:r>
            <a:br>
              <a:rPr sz="3600"/>
            </a:b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Fall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90920" y="3886200"/>
            <a:ext cx="39621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cture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-Oriented Design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4581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ass Inheritance Dia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11360" y="2057400"/>
            <a:ext cx="1676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21080" y="3581280"/>
            <a:ext cx="1676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08480" y="5105520"/>
            <a:ext cx="1676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32640" y="2743200"/>
            <a:ext cx="1676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608880" y="4419720"/>
            <a:ext cx="1676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08880" y="5867280"/>
            <a:ext cx="1676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lo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205160" y="2517840"/>
            <a:ext cx="0" cy="107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4800" y="253512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205160" y="4044600"/>
            <a:ext cx="0" cy="104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14800" y="406224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370640" y="32000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80280" y="321804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7370280" y="4876920"/>
            <a:ext cx="1800" cy="99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280280" y="489420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191200" y="2930760"/>
            <a:ext cx="1406520" cy="217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2781800">
            <a:off x="5081400" y="506376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3557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3809880"/>
            <a:ext cx="278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-95400" y="39528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048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quence Diagram:Painting Mechan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280" y="2514600"/>
            <a:ext cx="1524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05120" y="2514600"/>
            <a:ext cx="15238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Toolk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57600" y="2514600"/>
            <a:ext cx="2438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ComponentP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2514600"/>
            <a:ext cx="2438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arget:Hello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298440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93800" y="30193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08520" y="301608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467480" y="298296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5880" y="3594240"/>
            <a:ext cx="204840" cy="196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600" y="37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400" y="3249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490840" y="3556080"/>
            <a:ext cx="22860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620800" y="4033800"/>
            <a:ext cx="274680" cy="13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95840" y="4724280"/>
            <a:ext cx="257040" cy="121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29600" y="5300640"/>
            <a:ext cx="29052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38862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95280" y="3505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3962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2680" y="3962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895120" y="4343400"/>
            <a:ext cx="44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14600" y="3505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back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95480" y="5141880"/>
            <a:ext cx="176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66880" y="4648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eExp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5638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1500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tivity Diagram: Process Mode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133720" y="2286000"/>
            <a:ext cx="2057400" cy="838080"/>
            <a:chOff x="2133720" y="2286000"/>
            <a:chExt cx="2057400" cy="838080"/>
          </a:xfrm>
        </p:grpSpPr>
        <p:sp>
          <p:nvSpPr>
            <p:cNvPr id="220" name=""/>
            <p:cNvSpPr/>
            <p:nvPr/>
          </p:nvSpPr>
          <p:spPr>
            <a:xfrm>
              <a:off x="2133720" y="2286000"/>
              <a:ext cx="2057400" cy="838080"/>
            </a:xfrm>
            <a:prstGeom prst="roundRect">
              <a:avLst>
                <a:gd name="adj" fmla="val 3981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10040" y="2286000"/>
              <a:ext cx="198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lease work or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2057400" y="5410080"/>
            <a:ext cx="2057400" cy="838440"/>
            <a:chOff x="2057400" y="5410080"/>
            <a:chExt cx="2057400" cy="838440"/>
          </a:xfrm>
        </p:grpSpPr>
        <p:sp>
          <p:nvSpPr>
            <p:cNvPr id="223" name=""/>
            <p:cNvSpPr/>
            <p:nvPr/>
          </p:nvSpPr>
          <p:spPr>
            <a:xfrm>
              <a:off x="2057400" y="5410080"/>
              <a:ext cx="2057400" cy="838440"/>
            </a:xfrm>
            <a:prstGeom prst="roundRect">
              <a:avLst>
                <a:gd name="adj" fmla="val 3981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57400" y="55627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ssign tas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629400" y="3886200"/>
            <a:ext cx="2057400" cy="838080"/>
            <a:chOff x="6629400" y="3886200"/>
            <a:chExt cx="2057400" cy="838080"/>
          </a:xfrm>
        </p:grpSpPr>
        <p:sp>
          <p:nvSpPr>
            <p:cNvPr id="226" name=""/>
            <p:cNvSpPr/>
            <p:nvPr/>
          </p:nvSpPr>
          <p:spPr>
            <a:xfrm>
              <a:off x="6629400" y="3886200"/>
              <a:ext cx="2057400" cy="838080"/>
            </a:xfrm>
            <a:prstGeom prst="roundRect">
              <a:avLst>
                <a:gd name="adj" fmla="val 3981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29400" y="40384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chedu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401920" y="3976560"/>
            <a:ext cx="129528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8120" y="31240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8120" y="4572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703680" y="4279680"/>
            <a:ext cx="291312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3733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aterials not ready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48006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aterials ready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52880" y="5029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guard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4959360" y="4084560"/>
            <a:ext cx="53352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14400" y="3276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52480" y="3657600"/>
            <a:ext cx="91440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tivity Diagram: Parallel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048120" y="2666880"/>
            <a:ext cx="2514600" cy="685800"/>
            <a:chOff x="3048120" y="2666880"/>
            <a:chExt cx="2514600" cy="685800"/>
          </a:xfrm>
        </p:grpSpPr>
        <p:sp>
          <p:nvSpPr>
            <p:cNvPr id="240" name=""/>
            <p:cNvSpPr/>
            <p:nvPr/>
          </p:nvSpPr>
          <p:spPr>
            <a:xfrm>
              <a:off x="3048120" y="2666880"/>
              <a:ext cx="2514600" cy="68580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00400" y="27432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compr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648320" y="4495680"/>
            <a:ext cx="2514600" cy="685800"/>
            <a:chOff x="4648320" y="4495680"/>
            <a:chExt cx="2514600" cy="685800"/>
          </a:xfrm>
        </p:grpSpPr>
        <p:sp>
          <p:nvSpPr>
            <p:cNvPr id="243" name=""/>
            <p:cNvSpPr/>
            <p:nvPr/>
          </p:nvSpPr>
          <p:spPr>
            <a:xfrm>
              <a:off x="4648320" y="4495680"/>
              <a:ext cx="2514600" cy="68580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00600" y="45720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ream aud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447920" y="4495680"/>
            <a:ext cx="2514600" cy="685800"/>
            <a:chOff x="1447920" y="4495680"/>
            <a:chExt cx="2514600" cy="685800"/>
          </a:xfrm>
        </p:grpSpPr>
        <p:sp>
          <p:nvSpPr>
            <p:cNvPr id="246" name=""/>
            <p:cNvSpPr/>
            <p:nvPr/>
          </p:nvSpPr>
          <p:spPr>
            <a:xfrm>
              <a:off x="1447920" y="4495680"/>
              <a:ext cx="2514600" cy="68580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600200" y="45720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ream vide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26708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3886200"/>
            <a:ext cx="6095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71600" y="5791320"/>
            <a:ext cx="6095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4320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4360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114800" y="5791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670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41800" y="19940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3962520" y="6324480"/>
            <a:ext cx="304560" cy="304920"/>
            <a:chOff x="3962520" y="6324480"/>
            <a:chExt cx="304560" cy="304920"/>
          </a:xfrm>
        </p:grpSpPr>
        <p:sp>
          <p:nvSpPr>
            <p:cNvPr id="259" name=""/>
            <p:cNvSpPr/>
            <p:nvPr/>
          </p:nvSpPr>
          <p:spPr>
            <a:xfrm>
              <a:off x="4001760" y="6364080"/>
              <a:ext cx="2282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962520" y="6324480"/>
              <a:ext cx="30456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60948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562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23880" y="1981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tar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971800" y="2133360"/>
            <a:ext cx="106668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23880" y="61722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top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6400800"/>
            <a:ext cx="83808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te Dia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43000" y="3246480"/>
            <a:ext cx="175248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19320" y="58672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tate diagram for class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28600" y="331776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borrow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95480" y="3551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895480" y="3932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10040" y="3094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e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62720" y="19810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e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67360" y="2595600"/>
            <a:ext cx="121932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51520" y="3635280"/>
            <a:ext cx="1219320" cy="129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638680" y="3262320"/>
            <a:ext cx="175284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38680" y="351324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row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7170840" y="4253040"/>
            <a:ext cx="0" cy="6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182000" y="3201840"/>
            <a:ext cx="1440" cy="5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724280" y="4952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rowed()[not last copy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725560" y="39020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rowed()[last copy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00200" y="4952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guard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657600" y="4343040"/>
            <a:ext cx="121932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mplementation Mode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2209680"/>
            <a:ext cx="76960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ouping of elements that specifies what a part of a system should 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mponent (UML defin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A distributable piece of implementation of a system, including software code (source, binary, or executable) but also including business documents, etc., in a human system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on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thought of as an implementation of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b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exterior500-10" descr=""/>
          <p:cNvPicPr/>
          <p:nvPr/>
        </p:nvPicPr>
        <p:blipFill>
          <a:blip r:embed="rId1"/>
          <a:stretch/>
        </p:blipFill>
        <p:spPr>
          <a:xfrm>
            <a:off x="3484440" y="4789440"/>
            <a:ext cx="1416240" cy="1839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onent Dia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895480" y="3000240"/>
            <a:ext cx="2971440" cy="1218960"/>
            <a:chOff x="2895480" y="3000240"/>
            <a:chExt cx="2971440" cy="1218960"/>
          </a:xfrm>
        </p:grpSpPr>
        <p:sp>
          <p:nvSpPr>
            <p:cNvPr id="290" name=""/>
            <p:cNvSpPr/>
            <p:nvPr/>
          </p:nvSpPr>
          <p:spPr>
            <a:xfrm>
              <a:off x="3174120" y="3000240"/>
              <a:ext cx="2692800" cy="1218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900520" y="3338280"/>
              <a:ext cx="504720" cy="15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895480" y="3700080"/>
              <a:ext cx="504720" cy="152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895480" y="31240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loWorld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86240" y="4789440"/>
            <a:ext cx="141444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53000" y="4713120"/>
            <a:ext cx="32364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651200" y="4789440"/>
            <a:ext cx="24768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649760" y="4794120"/>
            <a:ext cx="144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51200" y="4989600"/>
            <a:ext cx="24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165800" y="327672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75520" y="34290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157880" y="35812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167600" y="37339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176960" y="388620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705720" y="2286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lo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685800" y="3276720"/>
            <a:ext cx="1406520" cy="1828800"/>
            <a:chOff x="685800" y="3276720"/>
            <a:chExt cx="1406520" cy="1828800"/>
          </a:xfrm>
        </p:grpSpPr>
        <p:sp>
          <p:nvSpPr>
            <p:cNvPr id="306" name=""/>
            <p:cNvSpPr/>
            <p:nvPr/>
          </p:nvSpPr>
          <p:spPr>
            <a:xfrm>
              <a:off x="685800" y="3352680"/>
              <a:ext cx="1330200" cy="175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787400" y="327672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781280" y="3352680"/>
              <a:ext cx="23328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78040" y="3352680"/>
              <a:ext cx="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81280" y="3514680"/>
              <a:ext cx="23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941400" y="481644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42840" y="451152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952560" y="466416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exterior500-10" descr=""/>
          <p:cNvPicPr/>
          <p:nvPr/>
        </p:nvPicPr>
        <p:blipFill>
          <a:blip r:embed="rId2"/>
          <a:stretch/>
        </p:blipFill>
        <p:spPr>
          <a:xfrm>
            <a:off x="1066680" y="3581280"/>
            <a:ext cx="581040" cy="762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53352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lo.h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4343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lo.j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057400" y="3962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6910560" y="2666880"/>
            <a:ext cx="1406520" cy="1828800"/>
            <a:chOff x="6910560" y="2666880"/>
            <a:chExt cx="1406520" cy="1828800"/>
          </a:xfrm>
        </p:grpSpPr>
        <p:sp>
          <p:nvSpPr>
            <p:cNvPr id="319" name=""/>
            <p:cNvSpPr/>
            <p:nvPr/>
          </p:nvSpPr>
          <p:spPr>
            <a:xfrm>
              <a:off x="6910560" y="2742840"/>
              <a:ext cx="1330200" cy="175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12160" y="266688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006040" y="2742840"/>
              <a:ext cx="23328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002800" y="2742840"/>
              <a:ext cx="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006040" y="2904840"/>
              <a:ext cx="23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2057400" y="464832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43520" y="3581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2133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xecutable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onents and Cla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743200" y="2514600"/>
            <a:ext cx="2971440" cy="1218960"/>
            <a:chOff x="2743200" y="2514600"/>
            <a:chExt cx="2971440" cy="1218960"/>
          </a:xfrm>
        </p:grpSpPr>
        <p:sp>
          <p:nvSpPr>
            <p:cNvPr id="329" name=""/>
            <p:cNvSpPr/>
            <p:nvPr/>
          </p:nvSpPr>
          <p:spPr>
            <a:xfrm>
              <a:off x="3021840" y="2514600"/>
              <a:ext cx="2692800" cy="1218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48240" y="2852640"/>
              <a:ext cx="504720" cy="15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43200" y="3214440"/>
              <a:ext cx="504720" cy="152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3505320" y="2590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.d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676520" y="4724280"/>
            <a:ext cx="1828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660680" y="4754520"/>
            <a:ext cx="19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86200" y="5638680"/>
            <a:ext cx="15238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248520" y="4800600"/>
            <a:ext cx="1981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tern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2666880" y="3733920"/>
            <a:ext cx="10670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95680" y="37339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257800" y="373392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onents and Cla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600200" y="2514600"/>
            <a:ext cx="4114080" cy="2133360"/>
            <a:chOff x="1600200" y="2514600"/>
            <a:chExt cx="4114080" cy="2133360"/>
          </a:xfrm>
        </p:grpSpPr>
        <p:sp>
          <p:nvSpPr>
            <p:cNvPr id="342" name=""/>
            <p:cNvSpPr/>
            <p:nvPr/>
          </p:nvSpPr>
          <p:spPr>
            <a:xfrm>
              <a:off x="1985760" y="2514600"/>
              <a:ext cx="3728520" cy="2133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607040" y="3106080"/>
              <a:ext cx="699120" cy="266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600200" y="3739320"/>
              <a:ext cx="699120" cy="267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2819520" y="2666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.d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313000" y="3187800"/>
            <a:ext cx="337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362320" y="312408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tern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876920" y="5181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xtended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4952880" y="4800600"/>
            <a:ext cx="60984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onents and Cla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85800" y="2590920"/>
            <a:ext cx="8001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as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present logical abstractions.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pon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present physical thing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pon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y live o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as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attributes and operations directly.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ponen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operations that are reachable only through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terfa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47920" y="5257800"/>
            <a:ext cx="22860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5720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209680"/>
            <a:ext cx="792468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idterm exa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day, October 16, 7:30 to 8:30 pm, Phillips 2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ed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ut 5 questions on the material covered in le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304920" y="2971800"/>
            <a:ext cx="2590200" cy="1218960"/>
            <a:chOff x="304920" y="2971800"/>
            <a:chExt cx="2590200" cy="1218960"/>
          </a:xfrm>
        </p:grpSpPr>
        <p:sp>
          <p:nvSpPr>
            <p:cNvPr id="354" name=""/>
            <p:cNvSpPr/>
            <p:nvPr/>
          </p:nvSpPr>
          <p:spPr>
            <a:xfrm>
              <a:off x="547560" y="2971800"/>
              <a:ext cx="2347560" cy="1218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09240" y="3309840"/>
              <a:ext cx="439920" cy="15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04920" y="3671640"/>
              <a:ext cx="439920" cy="152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838080" y="31240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ion.e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6477120" y="2971800"/>
            <a:ext cx="2437920" cy="1218960"/>
            <a:chOff x="6477120" y="2971800"/>
            <a:chExt cx="2437920" cy="1218960"/>
          </a:xfrm>
        </p:grpSpPr>
        <p:sp>
          <p:nvSpPr>
            <p:cNvPr id="359" name=""/>
            <p:cNvSpPr/>
            <p:nvPr/>
          </p:nvSpPr>
          <p:spPr>
            <a:xfrm>
              <a:off x="6705720" y="2971800"/>
              <a:ext cx="2209320" cy="1218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481080" y="3309840"/>
              <a:ext cx="414000" cy="15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477120" y="3671640"/>
              <a:ext cx="414000" cy="152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705720" y="3048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der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038480" y="3276720"/>
            <a:ext cx="60984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09880" y="3809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895480" y="3581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648320" y="35812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523880" y="4648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depend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2895480" y="3657240"/>
            <a:ext cx="4572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5334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4343400" y="4343400"/>
            <a:ext cx="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56272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e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5638680" y="3657240"/>
            <a:ext cx="53352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pplication Programming Interface (AP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57200" y="2209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I is an interface that is realized by one or more compon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743200" y="2971800"/>
            <a:ext cx="2971440" cy="1218960"/>
            <a:chOff x="2743200" y="2971800"/>
            <a:chExt cx="2971440" cy="1218960"/>
          </a:xfrm>
        </p:grpSpPr>
        <p:sp>
          <p:nvSpPr>
            <p:cNvPr id="376" name=""/>
            <p:cNvSpPr/>
            <p:nvPr/>
          </p:nvSpPr>
          <p:spPr>
            <a:xfrm>
              <a:off x="3021840" y="2971800"/>
              <a:ext cx="2692800" cy="1218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748240" y="3309840"/>
              <a:ext cx="504720" cy="15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743200" y="3671640"/>
              <a:ext cx="504720" cy="152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3505320" y="3048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ion.e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124080" y="4876920"/>
            <a:ext cx="60984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0524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09680" y="55627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800600" y="4876920"/>
            <a:ext cx="60948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08176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86200" y="5562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ig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0" y="3276720"/>
            <a:ext cx="60948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742000" y="3544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629400" y="3809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onents and Replace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2362320"/>
            <a:ext cx="76201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allow system to be assembled from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inary replaceable el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ponent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ys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- bits not conc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pon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plac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ny other component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conforms to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terfa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ponent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rt of a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ponent provides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al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 se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erfa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ments on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2286000"/>
            <a:ext cx="79246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of graphics has been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ext too small (diagrams, screen dum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of d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v.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client defines the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ell done, but time is short.  What is your critical pat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deling Dynamic Aspects of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2362320"/>
            <a:ext cx="76197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raction diagram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of objects and their relationships including messages that may be dispatched among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quence diagram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 ordering of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llaboration diagram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ructural organization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that send and receive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ctivity diagra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low chart showing flow of control from activity to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tatechart diagram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a stat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uncing Ball Diagr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1981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http://www.cs.cornell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2666880"/>
            <a:ext cx="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66880" y="6400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                                   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3809880"/>
            <a:ext cx="7086600" cy="0"/>
          </a:xfrm>
          <a:prstGeom prst="line">
            <a:avLst/>
          </a:prstGeom>
          <a:ln w="93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5029200"/>
            <a:ext cx="7010280" cy="0"/>
          </a:xfrm>
          <a:prstGeom prst="line">
            <a:avLst/>
          </a:prstGeom>
          <a:ln w="93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2819520"/>
            <a:ext cx="152388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ai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P conn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 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43800" y="24382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2743200"/>
            <a:ext cx="44193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48120" y="3048120"/>
            <a:ext cx="441936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3276720"/>
            <a:ext cx="449568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8120" y="3581280"/>
            <a:ext cx="4495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3809880"/>
            <a:ext cx="44193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048120" y="4114800"/>
            <a:ext cx="441936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4343400"/>
            <a:ext cx="449568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048120" y="4648320"/>
            <a:ext cx="4495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5029200"/>
            <a:ext cx="4495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048120" y="5410080"/>
            <a:ext cx="44193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tions on Obj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2209680"/>
            <a:ext cx="2362320" cy="41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r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24382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7600" y="1905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py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38480" y="47242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5410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6172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3962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73400" y="274320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2743200"/>
            <a:ext cx="0" cy="53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073040" y="327492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2743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ToBorrow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03880" y="3556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81280" y="4267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fyReturn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24480" y="42670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synchronous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46400" y="49989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&lt;create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57513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&lt;destroy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55627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tereo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562720" y="5791320"/>
            <a:ext cx="91440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5715000" y="5257800"/>
            <a:ext cx="91440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5713200" y="464004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751360" y="6004080"/>
            <a:ext cx="304920" cy="304560"/>
            <a:chOff x="5751360" y="6004080"/>
            <a:chExt cx="304920" cy="304560"/>
          </a:xfrm>
        </p:grpSpPr>
        <p:sp>
          <p:nvSpPr>
            <p:cNvPr id="93" name=""/>
            <p:cNvSpPr/>
            <p:nvPr/>
          </p:nvSpPr>
          <p:spPr>
            <a:xfrm>
              <a:off x="5751360" y="6045120"/>
              <a:ext cx="30492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5783040" y="6004080"/>
              <a:ext cx="22860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n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603840" y="2122560"/>
            <a:ext cx="1676160" cy="1015920"/>
            <a:chOff x="6603840" y="2122560"/>
            <a:chExt cx="1676160" cy="1015920"/>
          </a:xfrm>
        </p:grpSpPr>
        <p:sp>
          <p:nvSpPr>
            <p:cNvPr id="97" name=""/>
            <p:cNvSpPr/>
            <p:nvPr/>
          </p:nvSpPr>
          <p:spPr>
            <a:xfrm flipH="1">
              <a:off x="6603840" y="2122560"/>
              <a:ext cx="1676160" cy="101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p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6603840" y="257976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6603840" y="280836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 flipH="1">
            <a:off x="1193760" y="2198520"/>
            <a:ext cx="2286000" cy="193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y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borrowCopy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returnCopy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93760" y="29005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193760" y="325116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79760" y="273204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555360" y="21985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765760" y="22748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936960" y="227484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7680" y="5124600"/>
            <a:ext cx="3276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bMem:Library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37240" y="5048280"/>
            <a:ext cx="1700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: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794040" y="53532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75280" y="520056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38480" y="46483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rowCopy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2819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42670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5334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14680" y="4059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11440" y="55198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962520" y="2692440"/>
            <a:ext cx="4680" cy="2878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quence Diagram: Change in Cornell Pr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838080" y="1981080"/>
            <a:ext cx="380880" cy="662040"/>
            <a:chOff x="838080" y="1981080"/>
            <a:chExt cx="380880" cy="662040"/>
          </a:xfrm>
        </p:grpSpPr>
        <p:sp>
          <p:nvSpPr>
            <p:cNvPr id="120" name=""/>
            <p:cNvSpPr/>
            <p:nvPr/>
          </p:nvSpPr>
          <p:spPr>
            <a:xfrm>
              <a:off x="914040" y="198108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28520" y="2205000"/>
              <a:ext cx="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8080" y="2243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889920" y="2409840"/>
              <a:ext cx="133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033200" y="2414520"/>
              <a:ext cx="133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0" y="2666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rnell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3200400"/>
            <a:ext cx="15228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2209680"/>
            <a:ext cx="2361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MEng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86200" y="3581280"/>
            <a:ext cx="152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6576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32767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: getNam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11360" y="4867200"/>
            <a:ext cx="5410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7005240" y="4952880"/>
            <a:ext cx="4680" cy="117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60958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equence numbers added to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21440" y="4638600"/>
            <a:ext cx="2133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PhD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85800" y="420696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3809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1 :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01720" y="4410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: new PhDStudent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85800" y="5557680"/>
            <a:ext cx="3176640" cy="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5105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: &lt;&lt;destroy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797280" y="5373360"/>
            <a:ext cx="380520" cy="380520"/>
            <a:chOff x="3797280" y="5373360"/>
            <a:chExt cx="380520" cy="380520"/>
          </a:xfrm>
        </p:grpSpPr>
        <p:sp>
          <p:nvSpPr>
            <p:cNvPr id="141" name=""/>
            <p:cNvSpPr/>
            <p:nvPr/>
          </p:nvSpPr>
          <p:spPr>
            <a:xfrm>
              <a:off x="3797280" y="5424840"/>
              <a:ext cx="380520" cy="285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836520" y="5373360"/>
              <a:ext cx="285480" cy="38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000920" y="2693880"/>
            <a:ext cx="4680" cy="343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29200" y="3429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28954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quence Diagram: Borrow copy of a Bo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838080" y="2286000"/>
            <a:ext cx="380880" cy="662040"/>
            <a:chOff x="838080" y="2286000"/>
            <a:chExt cx="380880" cy="662040"/>
          </a:xfrm>
        </p:grpSpPr>
        <p:sp>
          <p:nvSpPr>
            <p:cNvPr id="148" name=""/>
            <p:cNvSpPr/>
            <p:nvPr/>
          </p:nvSpPr>
          <p:spPr>
            <a:xfrm>
              <a:off x="914040" y="22860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28520" y="2509920"/>
              <a:ext cx="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8080" y="25480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889920" y="2714760"/>
              <a:ext cx="133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33200" y="2719440"/>
              <a:ext cx="133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0" y="2971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okBorr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505320"/>
            <a:ext cx="15228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33720" y="2057400"/>
            <a:ext cx="23619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bMem: Library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2971800"/>
            <a:ext cx="2209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Copy: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220968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Book: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71800" y="3886200"/>
            <a:ext cx="15228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52880" y="4419720"/>
            <a:ext cx="152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10560" y="5087880"/>
            <a:ext cx="161640" cy="62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4191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36576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row(theCo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419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123720" y="4572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60560" y="4040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ToBor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5334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52680" y="4876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99040" y="55087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4120" y="50292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8:43:44Z</dcterms:created>
  <dc:creator>payette</dc:creator>
  <dc:description/>
  <dc:language>en-US</dc:language>
  <cp:lastModifiedBy> </cp:lastModifiedBy>
  <cp:lastPrinted>1999-09-14T17:00:20Z</cp:lastPrinted>
  <dcterms:modified xsi:type="dcterms:W3CDTF">2000-10-05T10:06:02Z</dcterms:modified>
  <cp:revision>499</cp:revision>
  <dc:subject/>
  <dc:title>Digital Library Architecture- Key Principles </dc:title>
</cp:coreProperties>
</file>