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4925-FE6B-433A-ACCB-84FF8C850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8098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-Oriented Desig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286000"/>
            <a:ext cx="7772400" cy="28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OfSta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OfSta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em not needed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514240" y="2514240"/>
            <a:ext cx="1576440" cy="153000"/>
            <a:chOff x="2514240" y="2514240"/>
            <a:chExt cx="1576440" cy="153000"/>
          </a:xfrm>
        </p:grpSpPr>
        <p:sp>
          <p:nvSpPr>
            <p:cNvPr id="65" name=""/>
            <p:cNvSpPr/>
            <p:nvPr/>
          </p:nvSpPr>
          <p:spPr>
            <a:xfrm flipH="1">
              <a:off x="2514240" y="2590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5395200">
              <a:off x="3899880" y="24760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09840" y="1981080"/>
            <a:ext cx="2261880" cy="1015920"/>
            <a:chOff x="609840" y="1981080"/>
            <a:chExt cx="2261880" cy="1015920"/>
          </a:xfrm>
        </p:grpSpPr>
        <p:sp>
          <p:nvSpPr>
            <p:cNvPr id="69" name=""/>
            <p:cNvSpPr/>
            <p:nvPr/>
          </p:nvSpPr>
          <p:spPr>
            <a:xfrm flipH="1">
              <a:off x="609480" y="1981080"/>
              <a:ext cx="226188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mberOf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09840" y="2438280"/>
              <a:ext cx="22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09840" y="2666880"/>
              <a:ext cx="22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910560" y="5257800"/>
            <a:ext cx="1676160" cy="1015920"/>
            <a:chOff x="6910560" y="5257800"/>
            <a:chExt cx="1676160" cy="1015920"/>
          </a:xfrm>
        </p:grpSpPr>
        <p:sp>
          <p:nvSpPr>
            <p:cNvPr id="73" name=""/>
            <p:cNvSpPr/>
            <p:nvPr/>
          </p:nvSpPr>
          <p:spPr>
            <a:xfrm flipH="1">
              <a:off x="6910560" y="5257800"/>
              <a:ext cx="167616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910560" y="571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910560" y="5943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710160" y="5257800"/>
            <a:ext cx="1676160" cy="1015920"/>
            <a:chOff x="3710160" y="5257800"/>
            <a:chExt cx="1676160" cy="1015920"/>
          </a:xfrm>
        </p:grpSpPr>
        <p:sp>
          <p:nvSpPr>
            <p:cNvPr id="77" name=""/>
            <p:cNvSpPr/>
            <p:nvPr/>
          </p:nvSpPr>
          <p:spPr>
            <a:xfrm flipH="1">
              <a:off x="3710160" y="5257800"/>
              <a:ext cx="167616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p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710160" y="571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710160" y="5943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195560" y="5257800"/>
            <a:ext cx="1676160" cy="1015920"/>
            <a:chOff x="1195560" y="5257800"/>
            <a:chExt cx="1676160" cy="1015920"/>
          </a:xfrm>
        </p:grpSpPr>
        <p:sp>
          <p:nvSpPr>
            <p:cNvPr id="81" name=""/>
            <p:cNvSpPr/>
            <p:nvPr/>
          </p:nvSpPr>
          <p:spPr>
            <a:xfrm flipH="1">
              <a:off x="1195560" y="5257800"/>
              <a:ext cx="167616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ur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195560" y="571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1195560" y="5943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>
            <a:off x="5325840" y="5284800"/>
            <a:ext cx="159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cop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.*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386320" y="5867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091400" y="2057400"/>
            <a:ext cx="2285640" cy="1015920"/>
            <a:chOff x="4091400" y="2057400"/>
            <a:chExt cx="2285640" cy="1015920"/>
          </a:xfrm>
        </p:grpSpPr>
        <p:sp>
          <p:nvSpPr>
            <p:cNvPr id="87" name=""/>
            <p:cNvSpPr/>
            <p:nvPr/>
          </p:nvSpPr>
          <p:spPr>
            <a:xfrm flipH="1">
              <a:off x="4091040" y="2057400"/>
              <a:ext cx="228564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braryMe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091400" y="251460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091400" y="274320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00544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8104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85316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03364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302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6680" y="3048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54824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576440" y="3886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ugh Sketch: Wholesal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05740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holesale merchant supplies retail stores from stocks of goods in a war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classes would you use to model this busines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ugh Sketch: Wholesal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5146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72428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12408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56272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4191120"/>
            <a:ext cx="152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334120"/>
            <a:ext cx="1752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65760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ugh Sketch: Wholesal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74320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4290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556272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038480"/>
            <a:ext cx="152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04804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2209680"/>
            <a:ext cx="1828800" cy="2478960"/>
            <a:chOff x="685800" y="2209680"/>
            <a:chExt cx="1828800" cy="2478960"/>
          </a:xfrm>
        </p:grpSpPr>
        <p:sp>
          <p:nvSpPr>
            <p:cNvPr id="115" name=""/>
            <p:cNvSpPr/>
            <p:nvPr/>
          </p:nvSpPr>
          <p:spPr>
            <a:xfrm>
              <a:off x="685800" y="2209680"/>
              <a:ext cx="1828800" cy="247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ail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act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ncial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2743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" y="4343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019920" y="2286000"/>
            <a:ext cx="2590560" cy="2418120"/>
            <a:chOff x="6019920" y="2286000"/>
            <a:chExt cx="2590560" cy="2418120"/>
          </a:xfrm>
        </p:grpSpPr>
        <p:sp>
          <p:nvSpPr>
            <p:cNvPr id="119" name=""/>
            <p:cNvSpPr/>
            <p:nvPr/>
          </p:nvSpPr>
          <p:spPr>
            <a:xfrm>
              <a:off x="6019920" y="2286000"/>
              <a:ext cx="2590560" cy="241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ponsibil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track status of shipped 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9920" y="281916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9920" y="320040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358128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124080" y="4800600"/>
            <a:ext cx="1752840" cy="184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ag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Ite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5181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4100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4648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sponsibility (text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anding a Clas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ing Financial Inform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5800" y="2514600"/>
            <a:ext cx="1828800" cy="1381680"/>
            <a:chOff x="685800" y="2514600"/>
            <a:chExt cx="1828800" cy="1381680"/>
          </a:xfrm>
        </p:grpSpPr>
        <p:sp>
          <p:nvSpPr>
            <p:cNvPr id="129" name=""/>
            <p:cNvSpPr/>
            <p:nvPr/>
          </p:nvSpPr>
          <p:spPr>
            <a:xfrm>
              <a:off x="685800" y="2514600"/>
              <a:ext cx="1828800" cy="138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ail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800" y="30481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05320" y="304812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760560" y="3605040"/>
            <a:ext cx="152640" cy="1576440"/>
            <a:chOff x="3760560" y="3605040"/>
            <a:chExt cx="152640" cy="1576440"/>
          </a:xfrm>
        </p:grpSpPr>
        <p:sp>
          <p:nvSpPr>
            <p:cNvPr id="137" name=""/>
            <p:cNvSpPr/>
            <p:nvPr/>
          </p:nvSpPr>
          <p:spPr>
            <a:xfrm>
              <a:off x="3836880" y="3809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4800">
              <a:off x="3760560" y="360504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982760" y="3495240"/>
            <a:ext cx="751320" cy="1245600"/>
            <a:chOff x="4982760" y="3495240"/>
            <a:chExt cx="751320" cy="1245600"/>
          </a:xfrm>
        </p:grpSpPr>
        <p:sp>
          <p:nvSpPr>
            <p:cNvPr id="140" name=""/>
            <p:cNvSpPr/>
            <p:nvPr/>
          </p:nvSpPr>
          <p:spPr>
            <a:xfrm flipH="1" flipV="1">
              <a:off x="5029560" y="3523320"/>
              <a:ext cx="704520" cy="12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19839600">
              <a:off x="5028840" y="35175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505320" y="5181480"/>
            <a:ext cx="1600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4419720"/>
            <a:ext cx="2286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1972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lass is responsible for the financial records for a st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95960" y="459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ing Invo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209680"/>
            <a:ext cx="236232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3352680"/>
            <a:ext cx="1295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886200"/>
            <a:ext cx="2362320" cy="193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goodsShipp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endInvoic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3809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Shi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34340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47242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do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- 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286000"/>
            <a:ext cx="2057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105520" y="274284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90920" y="2514240"/>
            <a:ext cx="21333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43959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4952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25146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is empirical.  There is no single correct design.  During the desig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i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lements are hidden to simplify th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lements may be mi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nsis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The model may not be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agram is not the whole design.  Diagrams must be backed up with specif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vels of Abs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51460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complexity of a model depends on its level of abstr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levels of abstraction show the overall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-levels of abstraction are needed for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wo appro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entire system at same level of abstraction, but present diagrams with different levels of d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parts of system at different levels of abst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exterior500-10" descr=""/>
          <p:cNvPicPr/>
          <p:nvPr/>
        </p:nvPicPr>
        <p:blipFill>
          <a:blip r:embed="rId1"/>
          <a:stretch/>
        </p:blipFill>
        <p:spPr>
          <a:xfrm>
            <a:off x="3484440" y="4789440"/>
            <a:ext cx="1416240" cy="18399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895480" y="3000240"/>
            <a:ext cx="2971440" cy="1218960"/>
            <a:chOff x="2895480" y="3000240"/>
            <a:chExt cx="2971440" cy="1218960"/>
          </a:xfrm>
        </p:grpSpPr>
        <p:sp>
          <p:nvSpPr>
            <p:cNvPr id="169" name=""/>
            <p:cNvSpPr/>
            <p:nvPr/>
          </p:nvSpPr>
          <p:spPr>
            <a:xfrm>
              <a:off x="3174120" y="3000240"/>
              <a:ext cx="2692800" cy="1218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0520" y="3338280"/>
              <a:ext cx="504720" cy="152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95480" y="3700080"/>
              <a:ext cx="504720" cy="152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86240" y="4789440"/>
            <a:ext cx="14144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53000" y="4713120"/>
            <a:ext cx="3236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51200" y="4789440"/>
            <a:ext cx="2476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9760" y="479412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51200" y="4989600"/>
            <a:ext cx="24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65800" y="32767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75520" y="3429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57880" y="35812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7600" y="3733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76960" y="3886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5800" y="3276720"/>
            <a:ext cx="1406520" cy="1828800"/>
            <a:chOff x="685800" y="3276720"/>
            <a:chExt cx="1406520" cy="1828800"/>
          </a:xfrm>
        </p:grpSpPr>
        <p:sp>
          <p:nvSpPr>
            <p:cNvPr id="185" name=""/>
            <p:cNvSpPr/>
            <p:nvPr/>
          </p:nvSpPr>
          <p:spPr>
            <a:xfrm>
              <a:off x="685800" y="3352680"/>
              <a:ext cx="1330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87400" y="32767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81280" y="3352680"/>
              <a:ext cx="233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78040" y="33526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81280" y="351468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941400" y="481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42840" y="45115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52560" y="4664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exterior500-10" descr=""/>
          <p:cNvPicPr/>
          <p:nvPr/>
        </p:nvPicPr>
        <p:blipFill>
          <a:blip r:embed="rId2"/>
          <a:stretch/>
        </p:blipFill>
        <p:spPr>
          <a:xfrm>
            <a:off x="1066680" y="3581280"/>
            <a:ext cx="581040" cy="762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h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910560" y="2666880"/>
            <a:ext cx="1406520" cy="1828800"/>
            <a:chOff x="6910560" y="2666880"/>
            <a:chExt cx="1406520" cy="1828800"/>
          </a:xfrm>
        </p:grpSpPr>
        <p:sp>
          <p:nvSpPr>
            <p:cNvPr id="198" name=""/>
            <p:cNvSpPr/>
            <p:nvPr/>
          </p:nvSpPr>
          <p:spPr>
            <a:xfrm>
              <a:off x="6910560" y="2742840"/>
              <a:ext cx="1330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2160" y="26668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6040" y="2742840"/>
              <a:ext cx="233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02800" y="27428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06040" y="290484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057400" y="46483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43520" y="3581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xecutable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54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will have three presentations this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body in the team should present at leas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se study: a new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satisfaction is the first requirem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or and Use Case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2666880"/>
            <a:ext cx="380880" cy="662040"/>
            <a:chOff x="1371600" y="2666880"/>
            <a:chExt cx="380880" cy="662040"/>
          </a:xfrm>
        </p:grpSpPr>
        <p:sp>
          <p:nvSpPr>
            <p:cNvPr id="208" name=""/>
            <p:cNvSpPr/>
            <p:nvPr/>
          </p:nvSpPr>
          <p:spPr>
            <a:xfrm>
              <a:off x="1447560" y="26668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62040" y="289080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600" y="2928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423440" y="309564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66720" y="310032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590920" y="2666880"/>
            <a:ext cx="5257800" cy="32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user of a system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or can be human or an ex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a task that an 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perform with the help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495680"/>
            <a:ext cx="21337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2760" y="4684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3352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Cases and 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209680"/>
            <a:ext cx="8229600" cy="29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enari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instance of 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or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a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librarian can have many ro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or must be a "beneficiary" of the u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not librarian who processes book when borrow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UML, the system boundary is the set of us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Cases for Borrowing Boo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71600" y="2666880"/>
            <a:ext cx="380880" cy="662040"/>
            <a:chOff x="1371600" y="2666880"/>
            <a:chExt cx="380880" cy="662040"/>
          </a:xfrm>
        </p:grpSpPr>
        <p:sp>
          <p:nvSpPr>
            <p:cNvPr id="221" name=""/>
            <p:cNvSpPr/>
            <p:nvPr/>
          </p:nvSpPr>
          <p:spPr>
            <a:xfrm>
              <a:off x="1447560" y="26668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62040" y="289080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928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423440" y="309564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6720" y="310032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216320" y="227808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92640" y="23241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 copy of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3352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44920" y="3573360"/>
            <a:ext cx="21337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35812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opy of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64040" y="486900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4876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e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20840" y="555480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55627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819520" y="2819520"/>
            <a:ext cx="12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3581280"/>
            <a:ext cx="1447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396252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3962520"/>
            <a:ext cx="3049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905120" y="3794040"/>
            <a:ext cx="1447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onships Between Use Cases: &lt;&lt;uses&gt;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38080" y="3032280"/>
            <a:ext cx="380880" cy="661320"/>
            <a:chOff x="838080" y="3032280"/>
            <a:chExt cx="380880" cy="661320"/>
          </a:xfrm>
        </p:grpSpPr>
        <p:sp>
          <p:nvSpPr>
            <p:cNvPr id="242" name=""/>
            <p:cNvSpPr/>
            <p:nvPr/>
          </p:nvSpPr>
          <p:spPr>
            <a:xfrm>
              <a:off x="914040" y="3032280"/>
              <a:ext cx="228600" cy="22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28520" y="325584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3294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889920" y="3460680"/>
              <a:ext cx="1335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33200" y="3465360"/>
              <a:ext cx="1332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0" y="3809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54960" y="3252960"/>
            <a:ext cx="213336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260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124080" y="2651040"/>
            <a:ext cx="2133720" cy="841320"/>
            <a:chOff x="3124080" y="2651040"/>
            <a:chExt cx="2133720" cy="841320"/>
          </a:xfrm>
        </p:grpSpPr>
        <p:sp>
          <p:nvSpPr>
            <p:cNvPr id="251" name=""/>
            <p:cNvSpPr/>
            <p:nvPr/>
          </p:nvSpPr>
          <p:spPr>
            <a:xfrm>
              <a:off x="3124080" y="2651040"/>
              <a:ext cx="2133720" cy="83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52680" y="26668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end lo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V="1">
            <a:off x="1905120" y="310788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30800" y="3033360"/>
            <a:ext cx="1452240" cy="47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6465000">
            <a:off x="6485760" y="33465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302080" y="3709440"/>
            <a:ext cx="1387800" cy="45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4279200">
            <a:off x="6484680" y="36259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3946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uses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4120" y="2803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uses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51160" y="3772080"/>
            <a:ext cx="213372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38098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 copy of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811160" y="406224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onships Between Use Cases: &lt;&lt;extends&gt;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14400" y="3352680"/>
            <a:ext cx="380880" cy="662040"/>
            <a:chOff x="914400" y="3352680"/>
            <a:chExt cx="380880" cy="662040"/>
          </a:xfrm>
        </p:grpSpPr>
        <p:sp>
          <p:nvSpPr>
            <p:cNvPr id="265" name=""/>
            <p:cNvSpPr/>
            <p:nvPr/>
          </p:nvSpPr>
          <p:spPr>
            <a:xfrm>
              <a:off x="990360" y="3352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04840" y="357660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3614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966240" y="378144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09520" y="378612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276720" y="4038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 copy of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267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51160" y="400068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30920" y="3573360"/>
            <a:ext cx="21337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3581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us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87040" y="3947040"/>
            <a:ext cx="1391400" cy="532080"/>
            <a:chOff x="5387040" y="3947040"/>
            <a:chExt cx="1391400" cy="532080"/>
          </a:xfrm>
        </p:grpSpPr>
        <p:sp>
          <p:nvSpPr>
            <p:cNvPr id="276" name=""/>
            <p:cNvSpPr/>
            <p:nvPr/>
          </p:nvSpPr>
          <p:spPr>
            <a:xfrm flipH="1">
              <a:off x="5390640" y="3947040"/>
              <a:ext cx="1387800" cy="4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5079200">
              <a:off x="5443200" y="425592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876920" y="3581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extends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Cases in the Development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216684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s are a tool in 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ve -- easy to discuss with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s are often hard to translate into clas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s are useful to validat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: the Long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057400"/>
            <a:ext cx="77724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lieve that your software will be in use 5 years from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at end of semes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ing and hand-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's technical preferences (C++,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ystem decisions based on short-term consid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ormats, protocols, etc. do you think will last?  (IIOP, RMI, SNMP, ..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, Design and Imple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6232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ember the defin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sistency between two players of a board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ment is 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sign is 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is a requiremen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ing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887120"/>
            <a:ext cx="8153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iven a real-life system, how do you decide what classes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erms do the users and implementers use to describe the system?  They are candidates for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ach candidate class crisply defined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lass, what is its set of responsibilities?  Are the responsibilities evenly balanced among the clas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ttributes and operations does each class need to carry out its responsibil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un Identification: A Library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81080"/>
            <a:ext cx="761976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brary contains books and journals.  It may have several copies of a given book.  Some of the books are reserved for short-term loans only.  All others may be borrowed by any library member for three weeks.  Members of the library can normally borrow up to six items at a time, but members of staff may borrow up to 12 items at one time.  Only members of staff may borrow jour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must keep track of when books and journals are borrowed and returned and enforce the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un Identification: A Library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761976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o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our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t may have severa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p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given book.  Some of the books are reserved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hort-term lo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ly.  All others may be borrowed by an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brary 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re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mbers of the 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normally borrow up to si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a time, bu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mbers of sta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borrow up to 12 items at one time.  Only members of staff may borrow jour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keep track of when books and journals are borrowed and returned and enforce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didate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828800"/>
            <a:ext cx="7162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TermLo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Of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or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Of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ons between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286000"/>
            <a:ext cx="77724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copy of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OfSta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Item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0-03T16:26:37Z</dcterms:modified>
  <cp:revision>464</cp:revision>
  <dc:subject/>
  <dc:title>Digital Library Architecture- Key Principles </dc:title>
</cp:coreProperties>
</file>