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621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621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44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901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77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621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901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77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621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44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621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cc99"/>
              </a:buClr>
              <a:buFont typeface="Web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635040" y="1752480"/>
            <a:ext cx="7458120" cy="2286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28600" y="60958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BDDF4-E2E2-428C-9953-FDEAA778A6B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204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CS 501: Software Engineering</a:t>
            </a:r>
            <a:br>
              <a:rPr sz="3600"/>
            </a:b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Fall 2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286000" y="3581280"/>
            <a:ext cx="39625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cture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Software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5800" y="2666880"/>
            <a:ext cx="745812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73200" y="39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gramming and Unit Tes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66680" y="2666880"/>
            <a:ext cx="71629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oftware design is realized as a set of programs or program units.  (Written specifically, acquired from elsewhere, or modified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vidual components are tested against specifi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tegration and System Tes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71600" y="2743200"/>
            <a:ext cx="62485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ndividual program units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lett"/>
                <a:ea typeface="Marlett"/>
              </a:rPr>
              <a:t>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rated and tested as a complet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lett"/>
                <a:ea typeface="Marlett"/>
              </a:rPr>
              <a:t>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ed against the requirements as specif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lett"/>
                <a:ea typeface="Marlett"/>
              </a:rPr>
              <a:t>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ivered to the 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60240" y="374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peration and Mainten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220968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2209680"/>
            <a:ext cx="746748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lett"/>
                <a:ea typeface="Marlett"/>
              </a:rPr>
              <a:t>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pera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The system is put into practical 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lett"/>
                <a:ea typeface="Marlett"/>
              </a:rPr>
              <a:t>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intenanc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Errors and problems are identified and fix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lett"/>
                <a:ea typeface="Marlett"/>
              </a:rPr>
              <a:t>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olu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The system evolves over time as requirements change, to add new functions or adapt the technical environ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lett"/>
                <a:ea typeface="Marlett"/>
              </a:rPr>
              <a:t>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hase ou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The system is withdrawn from ser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4640" y="325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iscussion of the Waterfal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47920" y="2209680"/>
            <a:ext cx="5486400" cy="40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dvanta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lett"/>
                <a:ea typeface="Marlett"/>
              </a:rPr>
              <a:t>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 vis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lett"/>
                <a:ea typeface="Marlett"/>
              </a:rPr>
              <a:t>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endence on individu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lett"/>
                <a:ea typeface="Marlett"/>
              </a:rPr>
              <a:t>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lity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lett"/>
                <a:ea typeface="Marlett"/>
              </a:rPr>
              <a:t>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isadvanta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stage in the process reveals new understanding of the previous stages, that requires the earlier stages to be revi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edback in the Waterfal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4640" y="1973160"/>
            <a:ext cx="18770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2971800"/>
            <a:ext cx="2209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95640" y="3916440"/>
            <a:ext cx="23623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Unit 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114880" y="4910040"/>
            <a:ext cx="21337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ration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 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567480" y="5886360"/>
            <a:ext cx="20574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tion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en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09680" y="2362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8620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486400" y="4343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259760" y="5356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2362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02240" y="3438360"/>
            <a:ext cx="4680" cy="465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172200" y="4343400"/>
            <a:ext cx="46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940520" y="5372280"/>
            <a:ext cx="5040" cy="525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914040" y="6400800"/>
            <a:ext cx="5638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914400" y="2808000"/>
            <a:ext cx="1440" cy="359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2438280" y="380952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114800" y="472392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58672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terative Refinement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Evolutionary Developmen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2120" y="2209680"/>
            <a:ext cx="77724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cep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Initial implementation for user comment, followed by refinement until system is comple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lett"/>
                <a:ea typeface="Marlett"/>
              </a:rPr>
              <a:t>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porware:  user interface mock-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lett"/>
                <a:ea typeface="Marlett"/>
              </a:rPr>
              <a:t>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ow-away softwar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lett"/>
                <a:ea typeface="Marlett"/>
              </a:rPr>
              <a:t>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mmy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lett"/>
                <a:ea typeface="Marlett"/>
              </a:rPr>
              <a:t>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pid prototy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lett"/>
                <a:ea typeface="Marlett"/>
              </a:rPr>
              <a:t>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ccessive 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terative Refin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19720" y="2209680"/>
            <a:ext cx="0" cy="44197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828800" y="4191120"/>
            <a:ext cx="52578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705720" y="21337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57150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548640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rototyp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38080" y="22096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19720" y="3809880"/>
            <a:ext cx="68580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105520" y="3809880"/>
            <a:ext cx="0" cy="7621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809520" y="4572000"/>
            <a:ext cx="129564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3809880" y="3352320"/>
            <a:ext cx="0" cy="12193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97280" y="3390840"/>
            <a:ext cx="16765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5479920" y="3402000"/>
            <a:ext cx="6480" cy="15429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3428640" y="4952880"/>
            <a:ext cx="20574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3429000" y="2967120"/>
            <a:ext cx="0" cy="19857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429000" y="2971800"/>
            <a:ext cx="2438280" cy="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867280" y="2971800"/>
            <a:ext cx="0" cy="23623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047760" y="5334120"/>
            <a:ext cx="2819160" cy="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300560" y="4052880"/>
            <a:ext cx="228600" cy="228600"/>
          </a:xfrm>
          <a:prstGeom prst="ellipse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4419720" y="3809520"/>
            <a:ext cx="0" cy="30492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553080" y="4419720"/>
            <a:ext cx="198144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77120" y="4343400"/>
            <a:ext cx="198108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terative Refin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33440" y="4319640"/>
            <a:ext cx="19051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3124080"/>
            <a:ext cx="2971800" cy="3353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971800" y="2133720"/>
            <a:ext cx="2590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cur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048120" y="3276720"/>
            <a:ext cx="266688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48120" y="4343400"/>
            <a:ext cx="266688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48120" y="5410080"/>
            <a:ext cx="2666880" cy="838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346536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124080" y="44956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00400" y="560556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400800" y="2971800"/>
            <a:ext cx="198108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400800" y="4267080"/>
            <a:ext cx="198108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5562720"/>
            <a:ext cx="198108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6720" y="306396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230880" y="433872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medi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475320" y="563256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362320" y="47242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86200" y="4114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797280" y="5157720"/>
            <a:ext cx="1440" cy="30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952880" y="4114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94200" y="5154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3429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867280" y="4724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867280" y="6019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terative Refinement &amp; Software Proc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3200400"/>
            <a:ext cx="19051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3124080"/>
            <a:ext cx="2971800" cy="3353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971800" y="2133720"/>
            <a:ext cx="2590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cur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48120" y="3276720"/>
            <a:ext cx="266688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048120" y="4343400"/>
            <a:ext cx="266688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48120" y="5410080"/>
            <a:ext cx="2666880" cy="838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200400" y="346536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124080" y="44956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560556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400800" y="5562720"/>
            <a:ext cx="198108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75320" y="563256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86080" y="360504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86200" y="4114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797280" y="5157720"/>
            <a:ext cx="1440" cy="30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952880" y="4114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94200" y="5154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867280" y="6019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terative Refin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38080" y="21337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n is iterative refinement appropria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dminist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36232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2590920"/>
            <a:ext cx="8610480" cy="19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lett"/>
                <a:ea typeface="Marlett"/>
              </a:rPr>
              <a:t>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t URL i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s.cornell.edu/Courses/cs501/2000fa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lett"/>
                <a:ea typeface="Marlett"/>
              </a:rPr>
              <a:t>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 planning -- any ques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terative Refinement + Waterfall Model: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raphics for Bas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90720" y="2666880"/>
            <a:ext cx="68580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utline Descrip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dd vector graphics to Dartmouth Bas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hase 1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Extend current language with a preprocessor and run-time support package.  (1976/7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hase 2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rite new compiler and run-time system incorporating graphics elements.  (1978/8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240" y="336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terative Refinement + Waterfall Model: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raphics for Bas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" y="2514600"/>
            <a:ext cx="84582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sign Issu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lett"/>
                <a:ea typeface="Marlett"/>
              </a:rPr>
              <a:t>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torial subprograms: coordinate systems, window/viewport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lett"/>
                <a:ea typeface="Marlett"/>
              </a:rPr>
              <a:t>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specification of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sign Strategy: (Iterative Refine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lett"/>
                <a:ea typeface="Marlett"/>
              </a:rPr>
              <a:t>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 a series of prototypes with various proposed seman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lett"/>
                <a:ea typeface="Marlett"/>
              </a:rPr>
              <a:t>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luate with a set of programming task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terative Refinement + Waterfall Model: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raphics for Bas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38080" y="2514600"/>
            <a:ext cx="74678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hase 1: Implementation (Waterf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lett"/>
                <a:ea typeface="Marlett"/>
              </a:rPr>
              <a:t>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the final specification was agreed, the entire preprocessor and run-time support were recod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lett"/>
                <a:ea typeface="Marlett"/>
              </a:rPr>
              <a:t>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ystem was almost entirely bug-fr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hase 2: New compiler (Waterf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se 1 was used as the requirements definition for the final ver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bservations about Software Proces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2514600"/>
            <a:ext cx="807732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leted projects should look like the Waterfal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ut ..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development process is always partly evolutiona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sk is lowered by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lett"/>
                <a:ea typeface="Marlett"/>
              </a:rPr>
              <a:t>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rototyp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key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lett"/>
                <a:ea typeface="Marlett"/>
              </a:rPr>
              <a:t>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ding into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h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lett"/>
                <a:ea typeface="Marlett"/>
              </a:rPr>
              <a:t>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llowing a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isibl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lett"/>
                <a:ea typeface="Marlett"/>
              </a:rPr>
              <a:t>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use of reusabl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o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2514600"/>
            <a:ext cx="746784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lett"/>
                <a:ea typeface="Marlett"/>
              </a:rPr>
              <a:t>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derick P. Brooks, Jr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ythical Man Month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son-Wesley, 1972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lett"/>
                <a:ea typeface="Marlett"/>
              </a:rPr>
              <a:t>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an Sommervill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ftware Enginee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6th edition.  Addison-Wesley, 20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lett"/>
                <a:ea typeface="Marlett"/>
              </a:rPr>
              <a:t>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y Booch, James Rumbach, Ivar Jacobson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Unified Modeling Languag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ddison-Wesley 199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ee the Readings page on the CS 501 Web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ftware Proc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3048120"/>
            <a:ext cx="5715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ndamental Assump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 processes lead to good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 processes reduce r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isk Manag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66680" y="2057400"/>
            <a:ext cx="6553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can go wrong in a software projec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can the risk be reduc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Software Process (Simplifie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27920" y="2590920"/>
            <a:ext cx="187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324480" y="541008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tion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en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52680" y="56386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5880" y="5334120"/>
            <a:ext cx="236232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411480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228600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asibility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971800" y="2362320"/>
            <a:ext cx="266688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90920" y="2819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791320" y="5943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19720" y="3429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1972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3886200"/>
            <a:ext cx="2667240" cy="99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24080" y="5410080"/>
            <a:ext cx="2667240" cy="99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2209680"/>
            <a:ext cx="236232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895480" y="2133720"/>
            <a:ext cx="3048120" cy="441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terfal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14640" y="1973160"/>
            <a:ext cx="18770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676520" y="2971800"/>
            <a:ext cx="2209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95640" y="3916440"/>
            <a:ext cx="23623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Unit 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114880" y="4910040"/>
            <a:ext cx="21337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ration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 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567480" y="5886360"/>
            <a:ext cx="20574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tion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en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09680" y="2362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8620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486400" y="4343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259760" y="5356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95480" y="2362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602240" y="3438360"/>
            <a:ext cx="4680" cy="465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72200" y="4343400"/>
            <a:ext cx="46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940520" y="5372280"/>
            <a:ext cx="5040" cy="525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quirements Analysis and Defin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2133720"/>
            <a:ext cx="8077320" cy="39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ystem's services, constraints and goals are established by consultation with system users.  They are then defined in a manner that is understandable by both users and development sta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hase can be divided in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Marlett"/>
                <a:ea typeface="Marlett"/>
              </a:rPr>
              <a:t>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asibility study (often carried out separate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Marlett"/>
                <a:ea typeface="Marlett"/>
              </a:rPr>
              <a:t>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ments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Marlett"/>
                <a:ea typeface="Marlett"/>
              </a:rPr>
              <a:t>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ments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Marlett"/>
                <a:ea typeface="Marlett"/>
              </a:rPr>
              <a:t>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ments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60240" y="41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ystem and Software Desig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4400" y="2590920"/>
            <a:ext cx="723888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ystem desig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artition the requirements to hardware or software systems.  Establishes an overall system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ftware desig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present the software system functions in a form that can be transformed into one or more executable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lett"/>
                <a:ea typeface="Marlett"/>
              </a:rPr>
              <a:t>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fied Modeling Language (UM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02T18:43:44Z</dcterms:created>
  <dc:creator>payette</dc:creator>
  <dc:description/>
  <dc:language>en-US</dc:language>
  <cp:lastModifiedBy> </cp:lastModifiedBy>
  <cp:lastPrinted>1998-11-05T17:35:05Z</cp:lastPrinted>
  <dcterms:modified xsi:type="dcterms:W3CDTF">2000-08-31T12:05:44Z</dcterms:modified>
  <cp:revision>143</cp:revision>
  <dc:subject/>
  <dc:title>Digital Library Architecture- Key Principles </dc:title>
</cp:coreProperties>
</file>