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905120" y="358128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Softwar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1981080"/>
            <a:ext cx="678204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oftware products require good programm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quality is the means to the end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the 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C's optical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as a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209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expensiv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895480"/>
            <a:ext cx="624852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software project has a trade-off betwe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 (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console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ent (a.k.a Custom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59092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ent provides resources and expects some product in retur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atisfaction is the primary measurement 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ho is the client for Microsoft Exc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iety of Softwar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egories of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514600"/>
            <a:ext cx="655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ies of client and software produ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(e.g., Microsoft Exc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poke (customized)  (e.g., IRS internal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ystems are customized versions of generic packages (e.g., Cornell's payroll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iety of Softwar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860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ducts are very va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&gt;  Client requirements are ver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&gt;  There is no standard process for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&gt;  There is no best language, operating system, platform, database system, development environme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killed software developer knows about a wide variety of approaches, methods, tools. 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oftware engineering is to select appropriate methods for each project and apply them eff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fessional Responsi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0574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tions put trust in software develop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ence:  Software that does not work effectively can destroy an 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dentiality:  Software developers and systems administrators may have access to highly confidential information (e.g., trade secrets, personal da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environment:  Software exists in a complex legal environment (e.g., intellectual property, obsceni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use and misuse: Computer abuse can paralyze an organization (e.g., the Internet wor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286000"/>
            <a:ext cx="7619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 -- send message to TAs and they will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tation section Monday at 7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rse 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28600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b si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ww.cs.cornell.edu/cs501-fa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truct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illiam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aching assista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Ken Hopkinson, Amy S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ista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osemary Ade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uter la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uter Science Undergraduate Lab, Upson Hall, Room 315/3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de of Con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gineering is a collaborative activity.  You are encouraged to work together, bu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asks may require individual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give credit to your sources and collabo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professional prac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make use of the expertise of others and to build on previous work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 at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thical and academic plagiaris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use the efforts of oth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 at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133720"/>
            <a:ext cx="845820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teams, about 5 to 7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your own project, any branch of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roject for real client who intends to use the software in 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study and plan:  September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ct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133720"/>
            <a:ext cx="716292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ggested projects on th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tation section on Monday to suggest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ct potential cl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 idea of their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scope and complexity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business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mbl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 on th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vious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3320" y="2276640"/>
            <a:ext cx="701028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gest program that you have writ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gest program that you have work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gest project team that you have been part o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st project that you have worke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who have used you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st that your project has been in produ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4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096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will you be doing one year from now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 years from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rse Th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4800" y="200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Leadership of large softwar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514600"/>
            <a:ext cx="56008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as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 and thei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, legal, and social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rse Th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133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Large and very lar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819520"/>
            <a:ext cx="56386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8-11-05T17:35:05Z</cp:lastPrinted>
  <dcterms:modified xsi:type="dcterms:W3CDTF">2000-08-24T12:39:51Z</dcterms:modified>
  <cp:revision>125</cp:revision>
  <dc:subject/>
  <dc:title>Digital Library Architecture- Key Principles </dc:title>
</cp:coreProperties>
</file>