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Web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35040" y="1752480"/>
            <a:ext cx="745812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688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324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4179-1352-4E2D-8070-B5A4EE1039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0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CS 501: Software Engineering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Fall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14600" y="3581280"/>
            <a:ext cx="3581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) 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) Requirements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4581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quirements Analys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2209680"/>
            <a:ext cx="8229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.  Understand the requirements in dep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ain 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ote Investors, Philips light bul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k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ndrew pro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iewpoint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1905120"/>
            <a:ext cx="6933960" cy="47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ample:  University Admissions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 admin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ssions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ncial aid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offices (e.g., athletics, develop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ing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development and maint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ademic depar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erviews with Cli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2209680"/>
            <a:ext cx="76964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lients may have only a vague concept of requir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 before you meet with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full 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don't understand, delve fur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group meetings are often most 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s often confuse the current system with the underlying requir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quirements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2362320"/>
            <a:ext cx="7086600" cy="30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  Organize the requir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cation into coherent clu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.g., legal requirem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ze and resolve confli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.g., functionality v. cost v. timelin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Dartmouth general ledge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quirements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2362320"/>
            <a:ext cx="4648320" cy="40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. Model the requir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-centric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cedural Models: Flowch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05120" y="2438280"/>
            <a:ext cx="990360" cy="609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3429000"/>
            <a:ext cx="83808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4495680"/>
            <a:ext cx="609840" cy="457200"/>
          </a:xfrm>
          <a:prstGeom prst="flowChartManualOpera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5486400"/>
            <a:ext cx="533520" cy="5335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2666880"/>
            <a:ext cx="320040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al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lowchart: University Admi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0" y="2666880"/>
            <a:ext cx="1676520" cy="825480"/>
            <a:chOff x="0" y="2666880"/>
            <a:chExt cx="1676520" cy="825480"/>
          </a:xfrm>
        </p:grpSpPr>
        <p:sp>
          <p:nvSpPr>
            <p:cNvPr id="127" name=""/>
            <p:cNvSpPr/>
            <p:nvPr/>
          </p:nvSpPr>
          <p:spPr>
            <a:xfrm>
              <a:off x="0" y="2742840"/>
              <a:ext cx="1600200" cy="685800"/>
            </a:xfrm>
            <a:prstGeom prst="flowChartManualOperat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2666880"/>
              <a:ext cx="167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rm receiv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752480" y="2819520"/>
            <a:ext cx="153036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89080" y="2895480"/>
            <a:ext cx="9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3124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3429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752480" y="4038480"/>
            <a:ext cx="1447560" cy="825480"/>
            <a:chOff x="1752480" y="4038480"/>
            <a:chExt cx="1447560" cy="825480"/>
          </a:xfrm>
        </p:grpSpPr>
        <p:sp>
          <p:nvSpPr>
            <p:cNvPr id="134" name=""/>
            <p:cNvSpPr/>
            <p:nvPr/>
          </p:nvSpPr>
          <p:spPr>
            <a:xfrm>
              <a:off x="1904760" y="4038480"/>
              <a:ext cx="1143000" cy="7617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52480" y="4038480"/>
              <a:ext cx="1447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base recor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43828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5181480"/>
            <a:ext cx="1295280" cy="9144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510552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fy 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3828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00400" y="2743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581280" y="2743200"/>
            <a:ext cx="1447560" cy="825480"/>
            <a:chOff x="3581280" y="2743200"/>
            <a:chExt cx="1447560" cy="825480"/>
          </a:xfrm>
        </p:grpSpPr>
        <p:sp>
          <p:nvSpPr>
            <p:cNvPr id="143" name=""/>
            <p:cNvSpPr/>
            <p:nvPr/>
          </p:nvSpPr>
          <p:spPr>
            <a:xfrm>
              <a:off x="3733560" y="2743200"/>
              <a:ext cx="1143000" cy="7617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81280" y="2743200"/>
              <a:ext cx="1447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pdate databas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5181480" y="2819520"/>
            <a:ext cx="190512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008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76920" y="3124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8660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3809880"/>
            <a:ext cx="1295280" cy="9144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38098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fy 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72200" y="3352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67480" y="28195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67480" y="3581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cedural Models: Pseudo-co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20574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ample:  Check project project pl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2590920"/>
            <a:ext cx="78487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eck_pl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p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(date_tim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e_date_tim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(too_lat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(client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rror (no_cl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(team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_tea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_te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(bad_t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(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n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d_report (rep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mments (text), comments (grad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se 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rror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ata-Flow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05120" y="2438280"/>
            <a:ext cx="380880" cy="3812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76520" y="3352680"/>
            <a:ext cx="761760" cy="457200"/>
          </a:xfrm>
          <a:prstGeom prst="roundRect">
            <a:avLst>
              <a:gd name="adj" fmla="val 29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6520" y="4343400"/>
            <a:ext cx="761760" cy="457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76520" y="5410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2438280"/>
            <a:ext cx="533412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ing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stores or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 University Admi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7120" y="3610080"/>
            <a:ext cx="381240" cy="3808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55680" y="3417840"/>
            <a:ext cx="1536840" cy="773280"/>
          </a:xfrm>
          <a:prstGeom prst="roundRect">
            <a:avLst>
              <a:gd name="adj" fmla="val 29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76160" y="3794040"/>
            <a:ext cx="137664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3809880"/>
            <a:ext cx="147168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5120" y="4444920"/>
            <a:ext cx="380880" cy="3812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543800" y="2971800"/>
            <a:ext cx="380880" cy="3808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340320" y="3127320"/>
            <a:ext cx="1144800" cy="42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35640" y="4025880"/>
            <a:ext cx="114948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038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3429000"/>
            <a:ext cx="1328760" cy="773280"/>
          </a:xfrm>
          <a:prstGeom prst="roundRect">
            <a:avLst>
              <a:gd name="adj" fmla="val 2986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41320" y="335916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41520" y="2965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05520" y="3581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27432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4267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madic Computing Experi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209680"/>
            <a:ext cx="8001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ITATION SESSION, MONDAY SEPTEMBER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ll laptops with wireless cards available for CS 501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or 4 laptops per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or 2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dditio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reless cards per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s at beginning and end of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Each project as part of the Feasibility Study and Plan must identify which students will take responsibility for the equip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 University Admiss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semble Application St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7120" y="3610080"/>
            <a:ext cx="381240" cy="3808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2720" y="3416400"/>
            <a:ext cx="1536480" cy="772920"/>
          </a:xfrm>
          <a:prstGeom prst="roundRect">
            <a:avLst>
              <a:gd name="adj" fmla="val 29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09880"/>
            <a:ext cx="13366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92440" y="3886200"/>
            <a:ext cx="147168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038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7520" y="302256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49520" y="35798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95720" y="303516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5791320"/>
            <a:ext cx="381240" cy="3808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762120" y="4079520"/>
            <a:ext cx="1315800" cy="17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8769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00160" y="5842080"/>
            <a:ext cx="1752840" cy="76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24200" y="58420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432160" y="4178160"/>
            <a:ext cx="1440" cy="16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3043080" y="4177800"/>
            <a:ext cx="0" cy="163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24520" y="3492360"/>
            <a:ext cx="1536480" cy="773280"/>
          </a:xfrm>
          <a:prstGeom prst="roundRect">
            <a:avLst>
              <a:gd name="adj" fmla="val 29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756400" y="23252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27800" y="1944720"/>
            <a:ext cx="380880" cy="3808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23623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knowled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71880" y="349236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5715000"/>
            <a:ext cx="1752480" cy="762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29400" y="57150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51440" y="4278240"/>
            <a:ext cx="1235160" cy="143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553080" y="38862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29400" y="31240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19920" y="3124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4191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708280" y="2249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79680" y="1868400"/>
            <a:ext cx="380880" cy="3812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66880" y="2362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knowled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597880" y="3719520"/>
            <a:ext cx="318960" cy="325440"/>
          </a:xfrm>
          <a:prstGeom prst="flowChartConnector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 University Admiss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cess Completed Application St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38862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3505320"/>
            <a:ext cx="1536840" cy="772920"/>
          </a:xfrm>
          <a:prstGeom prst="roundRect">
            <a:avLst>
              <a:gd name="adj" fmla="val 29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886200" y="2285640"/>
            <a:ext cx="16765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27800" y="1944720"/>
            <a:ext cx="380880" cy="3808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9880" y="2286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62320" y="36576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14800" y="5638680"/>
            <a:ext cx="1752480" cy="762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38480" y="56386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75080" y="4292640"/>
            <a:ext cx="74124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3963960" y="4266720"/>
            <a:ext cx="765360" cy="136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3886200"/>
            <a:ext cx="192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0960" y="3719520"/>
            <a:ext cx="319320" cy="325440"/>
          </a:xfrm>
          <a:prstGeom prst="flowChartConnector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29718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6708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19920" y="3505320"/>
            <a:ext cx="1536480" cy="772920"/>
          </a:xfrm>
          <a:prstGeom prst="roundRect">
            <a:avLst>
              <a:gd name="adj" fmla="val 29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19920" y="350532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n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521320" y="4255920"/>
            <a:ext cx="1347840" cy="135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029200" y="4309920"/>
            <a:ext cx="1362240" cy="1328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610480" y="3657600"/>
            <a:ext cx="381240" cy="3808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543800" y="3886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4380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6095880"/>
            <a:ext cx="380880" cy="3812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990720" y="4267080"/>
            <a:ext cx="167616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464832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quirements Analysis v. System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3520" y="2286000"/>
            <a:ext cx="784836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lem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analysis should make minimal assumptions about the system desig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 requirements definition must be consistent with computing technology and the resources avai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, analysis and design are interwoven.  However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o not to allow the analysis tools to prejudge the system desig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sign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2362320"/>
            <a:ext cx="830592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tember 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sibility and 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October 4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Requirement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roup/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ober 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term ex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 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/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 29 - Dec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present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 wee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exami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tails are subject to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signment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133720"/>
            <a:ext cx="7924680" cy="37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dnesday, September 13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ject plan due -- re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tle of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/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line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status (e.g., previous wor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 (e.g., major stages, assignment to tasks, 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, schedule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other relevan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j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2438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s that are planning to carry out the Internet Butler project, please meet with me after the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905120"/>
            <a:ext cx="746748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s for docum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bility  (e.g., project plan, interim rep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support  (e.g., user manu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 communication (e.g., interface specific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enance and evolution (e.g., requirements)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stics of docum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and kept 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priate for 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ed online (usu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but professional in style and appea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cumentation is expensive --&gt; Quality not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m of Docum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2286000"/>
            <a:ext cx="58672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context (e.g., copyright noti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quirements Definition and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8400" y="1973160"/>
            <a:ext cx="187704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97180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95640" y="3916440"/>
            <a:ext cx="2362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Unit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14880" y="4910040"/>
            <a:ext cx="2133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io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67480" y="5886360"/>
            <a:ext cx="20574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0968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4343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59760" y="5356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02240" y="3438360"/>
            <a:ext cx="4680" cy="46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2200" y="4343400"/>
            <a:ext cx="46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940520" y="5372280"/>
            <a:ext cx="5040" cy="52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914040" y="64008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914400" y="2808000"/>
            <a:ext cx="1440" cy="359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438280" y="38095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114800" y="47239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8672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Requirements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-68400" y="2133720"/>
            <a:ext cx="2743200" cy="838080"/>
            <a:chOff x="-68400" y="2133720"/>
            <a:chExt cx="2743200" cy="838080"/>
          </a:xfrm>
        </p:grpSpPr>
        <p:sp>
          <p:nvSpPr>
            <p:cNvPr id="77" name=""/>
            <p:cNvSpPr/>
            <p:nvPr/>
          </p:nvSpPr>
          <p:spPr>
            <a:xfrm>
              <a:off x="100080" y="2133720"/>
              <a:ext cx="213336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-68400" y="2146320"/>
              <a:ext cx="27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easib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u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1882800" y="2119320"/>
            <a:ext cx="3733920" cy="869760"/>
            <a:chOff x="1882800" y="2119320"/>
            <a:chExt cx="3733920" cy="869760"/>
          </a:xfrm>
        </p:grpSpPr>
        <p:sp>
          <p:nvSpPr>
            <p:cNvPr id="80" name=""/>
            <p:cNvSpPr/>
            <p:nvPr/>
          </p:nvSpPr>
          <p:spPr>
            <a:xfrm>
              <a:off x="2570400" y="2119320"/>
              <a:ext cx="213336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882800" y="2163600"/>
              <a:ext cx="373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aly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267080" y="2895480"/>
            <a:ext cx="2514600" cy="847440"/>
            <a:chOff x="4267080" y="2895480"/>
            <a:chExt cx="2514600" cy="847440"/>
          </a:xfrm>
        </p:grpSpPr>
        <p:sp>
          <p:nvSpPr>
            <p:cNvPr id="83" name=""/>
            <p:cNvSpPr/>
            <p:nvPr/>
          </p:nvSpPr>
          <p:spPr>
            <a:xfrm>
              <a:off x="4452840" y="2895480"/>
              <a:ext cx="213372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267080" y="2917440"/>
              <a:ext cx="251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fin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6553080" y="3505320"/>
            <a:ext cx="2440080" cy="850680"/>
            <a:chOff x="6553080" y="3505320"/>
            <a:chExt cx="2440080" cy="850680"/>
          </a:xfrm>
        </p:grpSpPr>
        <p:sp>
          <p:nvSpPr>
            <p:cNvPr id="86" name=""/>
            <p:cNvSpPr/>
            <p:nvPr/>
          </p:nvSpPr>
          <p:spPr>
            <a:xfrm>
              <a:off x="6711840" y="3505320"/>
              <a:ext cx="2133720" cy="837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553080" y="3530520"/>
              <a:ext cx="2440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ecif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89000" y="3619440"/>
            <a:ext cx="19047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46280" y="4008600"/>
            <a:ext cx="1600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4267080"/>
            <a:ext cx="2133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37440" y="5765760"/>
            <a:ext cx="2438280" cy="8254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pecific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5791320"/>
            <a:ext cx="2057400" cy="8254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72400" y="4341960"/>
            <a:ext cx="0" cy="141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562720" y="3763800"/>
            <a:ext cx="7920" cy="47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2984400"/>
            <a:ext cx="0" cy="10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2514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91240" y="3252960"/>
            <a:ext cx="106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24280" y="2514600"/>
            <a:ext cx="82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67640" y="3247920"/>
            <a:ext cx="0" cy="2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54800" y="2521080"/>
            <a:ext cx="0" cy="41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866920" y="3962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730680" y="3352680"/>
            <a:ext cx="68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73392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867280" y="36576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459240" y="4843440"/>
            <a:ext cx="1440" cy="89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723920" y="5105520"/>
            <a:ext cx="1800" cy="68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194080" y="6227640"/>
            <a:ext cx="1143000" cy="0"/>
          </a:xfrm>
          <a:prstGeom prst="line">
            <a:avLst/>
          </a:prstGeom>
          <a:ln w="936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8:43:44Z</dcterms:created>
  <dc:creator>payette</dc:creator>
  <dc:description/>
  <dc:language>en-US</dc:language>
  <cp:lastModifiedBy> </cp:lastModifiedBy>
  <cp:lastPrinted>1998-11-05T17:35:05Z</cp:lastPrinted>
  <dcterms:modified xsi:type="dcterms:W3CDTF">2000-09-11T19:35:37Z</dcterms:modified>
  <cp:revision>174</cp:revision>
  <dc:subject/>
  <dc:title>Digital Library Architecture- Key Principles </dc:title>
</cp:coreProperties>
</file>