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2FBC-66EC-4011-8CDE-CF3A2820E1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3526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able System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iples for Dependable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666880"/>
            <a:ext cx="77724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quality has to be built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Each stage of development must be don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Testing and correction does not lead to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Changes should be incorporated into th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lity Management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286000"/>
            <a:ext cx="6705360" cy="38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ump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rocesses lead to goo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importance of rout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terminolo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requirements, specification, des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standards (naming convention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and external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ing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lity Management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438280"/>
            <a:ext cx="6781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manag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ode management and ver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ing of change requests and bug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for changing requirements specifications, designs and other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ign and Code Re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438280"/>
            <a:ext cx="83055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agues review each other's 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pplied to any stage of softwa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formal or in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veloper provides colleague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(e.g., specification or design), or code lis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s through the work while answering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effective when developer and reviewers prepare 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efits of Design and Code Re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905120"/>
            <a:ext cx="708660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eyes spot mistakes, suggest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agues share expertise; helps with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ccasion to tidy loose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atibilities between modules can be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scheduling and management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damental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team members must show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helpful, not threa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cess (Plan) Re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057400"/>
            <a:ext cx="73915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view progress against plan (formal or inform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just plan (schedule, team assignments, functionality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act on qu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quality systems usually result from plans that are demanding but 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od people like to be stretched and to work hard, but must not be pressed beyond their cap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stical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43828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operational profile of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or generate a profile of tes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est data to system, record failure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statistical values of metrics under test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stical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209680"/>
            <a:ext cx="822960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est with very large numbers of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est with extreme cases (high loads, restarts, disrup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peat after system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in operational profile (unlikely inpu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ever prove high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Dartmouth Time Sharing (19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133720"/>
            <a:ext cx="853416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central computer serves the entire campus.  Any failure is seri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.   Gather data on every fail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years of data in a simple dat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failure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(defa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(e.g., power, air conditio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(e.g., operator e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Dartmouth Time Sharing (19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209680"/>
            <a:ext cx="7315200" cy="38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.  Analyze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ly, monthly, and annua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failures and inter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of trends by component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rates of disk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failures after power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es caused by software bugs in eac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924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due tomorrow at 5 p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oup design with individual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s Wednesday through Fri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 group member must present during the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Dartmouth Time Sharing (19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5909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.  Invest resources where benefit will be maximum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ly shut down after power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order for software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 procedures for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ment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s for Fault Free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05120"/>
            <a:ext cx="83059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, unambiguo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lt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that expects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 to software design and implementation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des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structured design, object-oriented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ftware to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restrict or detect errors (e.g., strongly typed languages, source control systems, debugg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ming sty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emphasizes simplicity, readability, and avoidance of dangerous con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reme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ror Avoid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2209680"/>
            <a:ext cx="64008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sky programming con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-poin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 are valuable in certain circumstances, but should be used with dis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133720"/>
            <a:ext cx="7848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rphy's Law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thing can go wrong, it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ensive Programm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code is incorporated to check system state after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assumptions are t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438280"/>
            <a:ext cx="7086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rtion chec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debugging code into program with a switch to display values a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hecking codes in data, e.g., checksum or 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Notable B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209680"/>
            <a:ext cx="7696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-in function in Fortran compiler (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ese microcode for Honeywell DPS virtual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crofilm plotter with the missing byte (1:10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n 3 page fault that IBM paid to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handed rotation in the graphics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Good people work around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best people track them down and fix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133720"/>
            <a:ext cx="769608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ilur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oftware does not deliver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ice expected by the 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mistake in requir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gramming or design error whereby the delivered system does no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form to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i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bability of a failure occurring in operational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ceived reli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pends up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 of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iability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209680"/>
            <a:ext cx="632484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failure on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failure occurrence (failure intens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time between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 (up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pothetical 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s are safer than airplane in accidents (failures) per hour, but less safe in failures per m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iability Metrics for Distributed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86000"/>
            <a:ext cx="8458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ditional metrics are hard to apply in multi-component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big network, at a given moment something will be gi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, but very few users will se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ystem that has excellent average reliability may g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ble service to certain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o many components that system administra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y on automatic reporting systems to identify problem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Perception of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7724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A personal computer that crashes frequently v. a machine that is out of service for two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A database system that crashes frequently but comes back quickly with no loss of data v. a system that fails once in three years but data has to be restored from back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A system that does not fail but has unpredictable periods when it runs very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st of Improved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4800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37840" y="-1296360"/>
            <a:ext cx="56296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211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211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40080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34340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54864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you spend your money on new functionality or improved relia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cification of System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981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ATM card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743200"/>
            <a:ext cx="853452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lure 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ystem fails to ope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er 1,00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rrup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with any card -- re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ystem can not r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1,000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rrup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n undamage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up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 pattern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co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743200"/>
            <a:ext cx="84582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27432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27432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1911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105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iples for Dependable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209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971800"/>
            <a:ext cx="7772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uman mind can encompass only limited complex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Compreh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Simp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Partitioning of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07T19:49:34Z</dcterms:modified>
  <cp:revision>392</cp:revision>
  <dc:subject/>
  <dc:title>Digital Library Architecture- Key Principles </dc:title>
</cp:coreProperties>
</file>