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82C-DFD6-4708-BE40-12AB39B3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F40-929A-4865-9FAB-98CDDDCA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285-651B-4FF5-9873-3792D1F7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509-5763-4FAA-823D-C1620A33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A58-3143-48FB-95F7-802D7D40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9A8-F994-4CE3-87C7-32071F1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5DC-8311-4C16-A19E-2CDEBECA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08B-150F-4D58-B3CE-D0FA40E2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6E3-E893-411B-8E0D-5BAA9C7C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E03-1DCC-47F3-BC66-1F93261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DC7-B1E8-4837-B41C-CEEAB122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B79-DFB2-4A7D-ADB7-9C8E432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62DD-EA0D-4786-9B2B-B9C253102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bysoft.com/javaCodingStandards.html" TargetMode="External"/><Relationship Id="rId2" Type="http://schemas.openxmlformats.org/officeDocument/2006/relationships/hyperlink" Target="http://www.ambysoft.com/javaCodingStandards.html" TargetMode="External"/><Relationship Id="rId3" Type="http://schemas.openxmlformats.org/officeDocument/2006/relationships/hyperlink" Target="http://www.ambysoft.com/javaCodingStandards.html" TargetMode="External"/><Relationship Id="rId4" Type="http://schemas.openxmlformats.org/officeDocument/2006/relationships/hyperlink" Target="http://www.ambysoft.com/javaCodingStandards.html" TargetMode="External"/><Relationship Id="rId5" Type="http://schemas.openxmlformats.org/officeDocument/2006/relationships/hyperlink" Target="http://www.ambysoft.com/javaCodingStandards.html" TargetMode="External"/><Relationship Id="rId6" Type="http://schemas.openxmlformats.org/officeDocument/2006/relationships/hyperlink" Target="http://www.swtech.com/java/codestd/" TargetMode="External"/><Relationship Id="rId7" Type="http://schemas.openxmlformats.org/officeDocument/2006/relationships/hyperlink" Target="http://www.swtech.com/java/codestd/" TargetMode="External"/><Relationship Id="rId8" Type="http://schemas.openxmlformats.org/officeDocument/2006/relationships/hyperlink" Target="http://www.swtech.com/java/codestd/" TargetMode="External"/><Relationship Id="rId9" Type="http://schemas.openxmlformats.org/officeDocument/2006/relationships/hyperlink" Target="http://www.swtech.com/java/codestd/" TargetMode="External"/><Relationship Id="rId10" Type="http://schemas.openxmlformats.org/officeDocument/2006/relationships/hyperlink" Target="http://www.swtech.com/java/codestd/" TargetMode="External"/><Relationship Id="rId11" Type="http://schemas.openxmlformats.org/officeDocument/2006/relationships/hyperlink" Target="http://www.swtech.com/java/codestd/" TargetMode="External"/><Relationship Id="rId12" Type="http://schemas.openxmlformats.org/officeDocument/2006/relationships/hyperlink" Target="http://www.swtech.com/java/codestd/" TargetMode="External"/><Relationship Id="rId13" Type="http://schemas.openxmlformats.org/officeDocument/2006/relationships/hyperlink" Target="http://ccs.hst.nasa.gov/ccspages/policies/standards/coding_standards.html" TargetMode="External"/><Relationship Id="rId14" Type="http://schemas.openxmlformats.org/officeDocument/2006/relationships/hyperlink" Target="http://ccs.hst.nasa.gov/ccspages/policies/standards/coding_standards.html" TargetMode="External"/><Relationship Id="rId15" Type="http://schemas.openxmlformats.org/officeDocument/2006/relationships/hyperlink" Target="http://ccs.hst.nasa.gov/ccspages/policies/standards/coding_standards.html" TargetMode="External"/><Relationship Id="rId16" Type="http://schemas.openxmlformats.org/officeDocument/2006/relationships/hyperlink" Target="http://ccs.hst.nasa.gov/ccspages/policies/standards/coding_standards.html" TargetMode="External"/><Relationship Id="rId17" Type="http://schemas.openxmlformats.org/officeDocument/2006/relationships/hyperlink" Target="http://ccs.hst.nasa.gov/ccspages/policies/standards/coding_standards.html" TargetMode="External"/><Relationship Id="rId18" Type="http://schemas.openxmlformats.org/officeDocument/2006/relationships/hyperlink" Target="http://ccs.hst.nasa.gov/ccspages/policies/standards/coding_standards.html" TargetMode="External"/><Relationship Id="rId19" Type="http://schemas.openxmlformats.org/officeDocument/2006/relationships/hyperlink" Target="http://ccs.hst.nasa.gov/ccspages/policies/standards/coding_standards.html" TargetMode="External"/><Relationship Id="rId20" Type="http://schemas.openxmlformats.org/officeDocument/2006/relationships/hyperlink" Target="http://ccs.hst.nasa.gov/ccspages/policies/standards/coding_standards.html" TargetMode="External"/><Relationship Id="rId21" Type="http://schemas.openxmlformats.org/officeDocument/2006/relationships/hyperlink" Target="http://ccs.hst.nasa.gov/ccspages/policies/standards/coding_standards.html" TargetMode="External"/><Relationship Id="rId22" Type="http://schemas.openxmlformats.org/officeDocument/2006/relationships/hyperlink" Target="http://ccs.hst.nasa.gov/ccspages/policies/standards/coding_standards.html" TargetMode="External"/><Relationship Id="rId23" Type="http://schemas.openxmlformats.org/officeDocument/2006/relationships/hyperlink" Target="http://ccs.hst.nasa.gov/ccspages/policies/standards/coding_standards.html" TargetMode="External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057400"/>
            <a:ext cx="6629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cture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ols for Debugging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62532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oding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209988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ull English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ixed case to make names rea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bbreviations sparingly and consist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long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leading/trailing under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the purpose of every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why something is done not just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7840" y="0"/>
            <a:ext cx="8605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etVar() and setVar() functions on all class variab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l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is being used solely as a data structure (O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nd why member function does what i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/ retur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unction modifies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ditions /Post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Stru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 well as what the code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or complex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 needn’t be onerous - find a standard that works for your t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 early - the effort to bring your old work into the standard will be too great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a culture where standards are follow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62532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Co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209988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"/>
              </a:rPr>
              <a:t>ambysoft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3"/>
              </a:rPr>
              <a:t>.com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4"/>
              </a:rPr>
              <a:t>javaCodingStandard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5"/>
              </a:rPr>
              <a:t>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7"/>
              </a:rPr>
              <a:t>swtech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8"/>
              </a:rPr>
              <a:t>.com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9"/>
              </a:rPr>
              <a:t>jav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0"/>
              </a:rPr>
              <a:t>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1"/>
              </a:rPr>
              <a:t>codestd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3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4"/>
              </a:rPr>
              <a:t>cc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6"/>
              </a:rPr>
              <a:t>hst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8"/>
              </a:rPr>
              <a:t>nas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9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0"/>
              </a:rPr>
              <a:t>gov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1"/>
              </a:rPr>
              <a:t>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2"/>
              </a:rPr>
              <a:t>ccspage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3"/>
              </a:rPr>
              <a:t>/policies/standards/coding_standard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scriptics.com/doc/styleGuide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ound all of your odd-shaped programmers into a one size fits all 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think there may be a bug in Joe’s Code - Please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 GreenEggsNHam(Not SamIAm, Green 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ach Green TryThem in SamI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atThem(TryThem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nACarNotOnABus(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 NotInACarNotOnABus(Green 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Them(EggsNHam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OnAPlane(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ach NotLikeThem SamIAm of EggsNHam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EatThem(SamIAm)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nACarNotOnABus(SamI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oNotLikeThem(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oe’s Code Following a Sane Coding Standar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 DepthFirstSearch(graph G, vertex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ach vertex w in 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ncountered(w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DFS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 RecursiveDFS(vertex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ntered(v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sit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ach neighbor w of v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Encountered(w)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DFS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Visit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 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uidelines for code style and document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ream is that any developer familiar with the guidelines can work on any code that followed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range from a simple series of statements to involved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s Typically Cov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ng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ting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y Even Licen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8200" y="609480"/>
            <a:ext cx="860580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Have Co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00240"/>
            <a:ext cx="86058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ater consistency between develo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sier to develop and maint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ves time and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 Dir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cument every time you violate a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is perfect for every application, but failure to comply with your standards requires a com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62532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ler’s Law of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209988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 Standards &gt; organizational standards &gt; project standards &gt; no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commonly accepted a standard the easier it is for team members to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 standards when necessary, but don’t waste time creating something that you won’t be able to use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anguages have recommended coding standards available.  It is well worth your effort to find and use indust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for organizational standards whenever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03:33:27Z</dcterms:created>
  <dc:creator>Ken Hopkinson</dc:creator>
  <dc:description/>
  <dc:language>en-US</dc:language>
  <cp:lastModifiedBy> </cp:lastModifiedBy>
  <dcterms:modified xsi:type="dcterms:W3CDTF">2000-11-08T23:36:21Z</dcterms:modified>
  <cp:revision>16</cp:revision>
  <dc:subject/>
  <dc:title>Coding Standards</dc:title>
</cp:coreProperties>
</file>