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88C-9CC2-468D-9986-75CFDA73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77B-376D-4097-A0D4-2A1E12E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6BC-3FE5-47D0-8CD3-AD4E59CB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F80-C605-4818-87DC-CD3C4002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A63-3B8B-442C-AAAA-FC55CFB6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2B7-9EE5-425B-BD2B-9219BB68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7C3-EDEF-48EF-BA8C-5AADA6AF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1F8-87B2-410C-9619-24009068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E46-1716-4360-B109-F59DBD52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30A-4ABC-41BF-AF45-C1AF19B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87F-149F-44AD-8B5B-795ED36F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EDC-BE74-4F77-B81D-E6EDA4C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D39-F55E-412A-BBFF-1A03FAF53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nagemen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 Management: How I learned to Stop Worrying and Hate My Co-workers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ople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committing changes, each user merges their copy with the latest copy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rmally done automatically by the system and usually works, but you should not blindly accept the result of the 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all the files in the source base that make up a product at each mil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fore and just after a major change (eg. changing several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in the database has a vers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ranch off the version tree to allow separate development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 main path (trunk) for the next major version and branches off of shipped versions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6000"/>
          </a:blip>
          <a:srcRect l="43550" t="30092" r="19357" b="23622"/>
          <a:stretch/>
        </p:blipFill>
        <p:spPr>
          <a:xfrm>
            <a:off x="5486400" y="4800600"/>
            <a:ext cx="210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, typically create a branch in the version tree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update: fix a defect in the latest version and then merge the changes (often by hand) into the maintenance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reate personal versions so you can make a change against a stable source base and then merge in the latest vers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is: man rcsi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is: man c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yclic.com/cvs/info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Source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dn.microsoft.com/S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rationa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managemen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and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in and un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support for bi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 on top of R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little support for bi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can be 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ocking: merge before co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with ema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a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’s entry in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out-edit-checki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-in web site cre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with MS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r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case is configuration management on ster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reat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database with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fig sp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describes how to select files from th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et a view, Clearcase creates a virtual filesystem containing only those versions of the files selected by the config 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rcase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groups at different locations can work on the sam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nstall trig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e-mail the author of a file when some one makes a change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merging model like CVS, but can also lock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n as Configur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Managers are tools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e your developmen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 as a single point of entry/exit when adding or updating developmen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learcase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with MS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s to rebuild out-of-date files even if your makefile does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and a bit bug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ful Rules for Version Control Bli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ed Files Should Always Comp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Review Files Before Check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 and run latest archived files       *as a set* before Check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heating (even “simple bug fixes” need to undergo this proc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ou Want A Source Contro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concurrent development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diverging source code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s file/release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all previous re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c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revision was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 disk spac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’ll end up doing something equivalent anyway so it may as well be auto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nagement Tools Are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stitute for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lacement for developer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y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database of source code, documentation, 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stored only once - all other versions are diffs of that one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a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the latest version of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need old versions of the tools to build old versions of th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s software is rebuilt exactly as the customer receive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u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else you might want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ies ship several products from the same source base (ie Win NT and  Windows 2000 versions of MS Off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cking down bugs you want to examine the code as it was when the product shipp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eople can work on the same source base without coll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Locks individual files so only one person at a time can modify it *OR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Allows multiple people to modify a source file and the system will automatically merge the changes (usu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son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fairly well if developers work on different areas of the project and don’t conflict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 People forget to unlock files when they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 People work around locking by editing a private copy and checking in when the file is finally unlocked - easy to goof and los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03:21:43Z</dcterms:created>
  <dc:creator>Ken Hopkinson</dc:creator>
  <dc:description/>
  <dc:language>en-US</dc:language>
  <cp:lastModifiedBy> </cp:lastModifiedBy>
  <dcterms:modified xsi:type="dcterms:W3CDTF">2000-09-14T16:10:53Z</dcterms:modified>
  <cp:revision>9</cp:revision>
  <dc:subject/>
  <dc:title>Source Code Management AKA Configuration Management Or How I learned to Stop Worrying (As Much) and Hate My Co-workers Less</dc:title>
</cp:coreProperties>
</file>