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35812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Requirements Analysi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 Format for Monographs (Book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9810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  89-16879 r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5  Campus strategies for libraries and electron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0  {Bedford, Mass.} : Digital Press, c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 Academic libraries--United States--Auto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 Libraries and electronic publishing--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 Arms, Caroline R. (Caroline R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765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ity-Relation Diagram for MA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44956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2971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715000"/>
            <a:ext cx="1828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5240" y="447984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og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276720"/>
            <a:ext cx="1828800" cy="838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5520" y="344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5791320"/>
            <a:ext cx="18288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nu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51814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048120"/>
            <a:ext cx="1828800" cy="838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8880" y="4444920"/>
            <a:ext cx="1828800" cy="838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32600" y="4422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h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03800" y="4597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89040" y="487692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3960" y="2455920"/>
            <a:ext cx="11019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057400"/>
            <a:ext cx="1828800" cy="838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2666880"/>
            <a:ext cx="1447920" cy="5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322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2209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34545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2666880"/>
            <a:ext cx="117144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 Diction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362320"/>
            <a:ext cx="80773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 data dictionary is a list of names used by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definition (e.g., what is "date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 (e.g., number, 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it used (e.g., source, used by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mbined with a glo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 the system is implemented, the data dictionary in the requirements is input to the system data dictionary, which is a formal part of the system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Note on Object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51460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urse teaches object models as a tool for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recommend object models for requirements analysis, but it is difficult to use them without constraining the system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n-Functional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28600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duc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, reliability, portability,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ganiza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, training, standards,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ter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, interoperability,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Non-Functional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905120"/>
            <a:ext cx="80769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rivacy (Mercury digital libra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requir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data for management of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functional requir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data must not identify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inimizing records (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requir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 all required reco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functional requir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all other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spoken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438280"/>
            <a:ext cx="5410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 to change at 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purpose of the Requirements Spec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Specification: 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590920"/>
            <a:ext cx="815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It describes the requirements to th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 the terms that the stakeholders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hensible from many view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ed by stakeholders so that they understand i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clear about assumptions (things left 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Specification: 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362320"/>
            <a:ext cx="6782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It describes the requirements to the implem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precise and specific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 terms that they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hensible to new team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36232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André Allav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date for Assignment 1 is Wednesday 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Assistant assignment to projects will be made on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Specification: 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3623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 It records the requirements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sential part of system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 If may be a contractua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you in cou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Specification: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438280"/>
            <a:ext cx="571500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natur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escrip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 Sommerville, Chapter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reless Lapt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13372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http://www.nomad.cornell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art of Assignment 1, each project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 list the people who will be issued with laptops,  up to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per project + one alter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 list people who will be issued with wireless cards, up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p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times and plac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 Thursday, September 14th, 2:30 - 4:00 pm, Upson 5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  Friday, September 15th, 10:00 - 11:30 am, Upson 5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equirements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49" name="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68400" y="21463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as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u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882800" y="2119320"/>
            <a:ext cx="3733920" cy="869760"/>
            <a:chOff x="1882800" y="2119320"/>
            <a:chExt cx="3733920" cy="869760"/>
          </a:xfrm>
        </p:grpSpPr>
        <p:sp>
          <p:nvSpPr>
            <p:cNvPr id="52" name="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82800" y="216360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267080" y="2895480"/>
            <a:ext cx="2514600" cy="847440"/>
            <a:chOff x="4267080" y="2895480"/>
            <a:chExt cx="2514600" cy="847440"/>
          </a:xfrm>
        </p:grpSpPr>
        <p:sp>
          <p:nvSpPr>
            <p:cNvPr id="55" name="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67080" y="291744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53080" y="3505320"/>
            <a:ext cx="2440080" cy="850680"/>
            <a:chOff x="6553080" y="3505320"/>
            <a:chExt cx="2440080" cy="850680"/>
          </a:xfrm>
        </p:grpSpPr>
        <p:sp>
          <p:nvSpPr>
            <p:cNvPr id="58" name="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3530520"/>
              <a:ext cx="244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89000" y="3619440"/>
            <a:ext cx="1904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6280" y="4008600"/>
            <a:ext cx="1600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26708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37440" y="5765760"/>
            <a:ext cx="2438280" cy="825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ec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791320"/>
            <a:ext cx="2057400" cy="825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2209680"/>
            <a:ext cx="7238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hods for data modeling an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-relatio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ic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f these methods blur the distinction between analysis and desig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ity-Re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2362320"/>
            <a:ext cx="6324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sign Methodology for Rel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base of entities and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for displaying and manipulating entity-relatio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for manipulating the database (e.g., as input to database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rning: There is much confusion about definitions and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ity-Relation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286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572000"/>
            <a:ext cx="1904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867280"/>
            <a:ext cx="1676160" cy="152280"/>
            <a:chOff x="1600200" y="5867280"/>
            <a:chExt cx="1676160" cy="152280"/>
          </a:xfrm>
        </p:grpSpPr>
        <p:sp>
          <p:nvSpPr>
            <p:cNvPr id="89" name=""/>
            <p:cNvSpPr/>
            <p:nvPr/>
          </p:nvSpPr>
          <p:spPr>
            <a:xfrm>
              <a:off x="1600200" y="5943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1960" y="586728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25480" y="384984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429000"/>
            <a:ext cx="1828800" cy="838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438280"/>
            <a:ext cx="28195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on between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ity or relation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heritanc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29400" y="2743200"/>
            <a:ext cx="107784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705720" y="396216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105520" y="26668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CS 501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8596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1240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5029200"/>
            <a:ext cx="1676160" cy="825480"/>
            <a:chOff x="685800" y="5029200"/>
            <a:chExt cx="1676160" cy="825480"/>
          </a:xfrm>
        </p:grpSpPr>
        <p:sp>
          <p:nvSpPr>
            <p:cNvPr id="101" name=""/>
            <p:cNvSpPr/>
            <p:nvPr/>
          </p:nvSpPr>
          <p:spPr>
            <a:xfrm>
              <a:off x="685800" y="5105160"/>
              <a:ext cx="16761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50292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501 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521000" y="3805200"/>
            <a:ext cx="2880" cy="13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191120"/>
            <a:ext cx="60948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1905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2000" y="20858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06840" y="323676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5440" y="3313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368960" y="3922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74920" y="541008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76600" y="49928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to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4989600"/>
            <a:ext cx="1828800" cy="838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7520" y="5192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4191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327672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34120" y="339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133720"/>
            <a:ext cx="1828800" cy="838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343400"/>
            <a:ext cx="1828800" cy="838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003640" y="392580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2286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60880" y="265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504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MARC Catalog Rec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133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oline R. Arms, edito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mpus strategies for libraries and electronic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Bedford, MA: Digital Press,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8-11-05T17:35:05Z</cp:lastPrinted>
  <dcterms:modified xsi:type="dcterms:W3CDTF">2000-09-12T12:22:18Z</dcterms:modified>
  <cp:revision>188</cp:revision>
  <dc:subject/>
  <dc:title>Digital Library Architecture- Key Principles </dc:title>
</cp:coreProperties>
</file>