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DE99-BC6C-429D-89E7-C9E99BF8A9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657600"/>
            <a:ext cx="3962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i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057400"/>
            <a:ext cx="66294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chen, smokers' doorway, after work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about (t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meetings (non-techn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k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of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ve Leader (Manag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057400"/>
            <a:ext cx="662940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ing, promot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,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with other teams and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plan and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ring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133720"/>
            <a:ext cx="632484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ivity is a combination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nalytic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erbal ability and communication ski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pplication domai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daptability and inquisi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ality and at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tform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ramming language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ff Re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1760" y="1909800"/>
            <a:ext cx="65530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ly interesting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date hardware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ies to learn an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ling of ap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and 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, light, noise, p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m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286000"/>
            <a:ext cx="7772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agers must be firm when nee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f tasks must be equitable and open; everybody will have to tackle some of the dreary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ots are better than sticks, but poor performance must be add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is indispensable; nobody should be allowed to think that they are indispen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chnical 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3623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ing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he Andrew window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of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he World Wid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tinkering v. needed re-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rning a Group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57400"/>
            <a:ext cx="7848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urn a weak group into a strong one is the greatest challenge of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t of th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ion of the best over the old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opportunities to reorgan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gnations and ter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 people who try, yet refuse to accept 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rutal and abrupt rarely equals persistent and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o be 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286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 a junior member of a team, what can you do to make it produ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urn of laptops and wireless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Dates for return will be announced on "Notic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All equipment must be returned befor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tion.  Bring the receipt to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If an extension granted, (e.g., indepen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) must return and be  issued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 repairs needed, please swap for replacement since warranty runs out on December 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286000"/>
            <a:ext cx="73911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7, 10:00 to 11:30, Upson 5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email to rosemary@cs.cornell.edu if you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ake the early examinatio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Decembe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 laptops and wireless cards must be retur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fore the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09680"/>
            <a:ext cx="8381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e "Assignments" for information about final presentation and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 Schedule time with client and teaching as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 Must demonstrate oper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 Presentation must include hand-over procedure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ing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438280"/>
            <a:ext cx="6095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oret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psych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slow's Hierarchy of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30400" y="3254400"/>
            <a:ext cx="375300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3390840"/>
            <a:ext cx="265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realization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51440" y="4071960"/>
            <a:ext cx="167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em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23440" y="4751280"/>
            <a:ext cx="153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06160" y="5430960"/>
            <a:ext cx="155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71640" y="6110280"/>
            <a:ext cx="243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ic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081160" y="2287440"/>
            <a:ext cx="2641680" cy="4338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2840" y="2263680"/>
            <a:ext cx="2641680" cy="4338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81160" y="6626160"/>
            <a:ext cx="180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81160" y="6626160"/>
            <a:ext cx="52833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84600" y="3984480"/>
            <a:ext cx="20746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6600" y="4645080"/>
            <a:ext cx="2878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30400" y="5305320"/>
            <a:ext cx="36547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52760" y="5965920"/>
            <a:ext cx="44100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Engineering Ba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2209680"/>
            <a:ext cx="731520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taff are the major cost of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taff vary greatly in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ducation and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teraction with colleagues and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ork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are productive when happy and happy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is Built by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905120"/>
            <a:ext cx="716292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size for a team is 3 to 8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members may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s (from trainee to ex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 or interface desig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brar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must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leadership (mana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p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438280"/>
            <a:ext cx="4038480" cy="3733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27720" y="2413080"/>
            <a:ext cx="0" cy="378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662200" y="3600360"/>
            <a:ext cx="186552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5053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819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419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21T17:57:24Z</dcterms:modified>
  <cp:revision>517</cp:revision>
  <dc:subject/>
  <dc:title>Digital Library Architecture- Key Principles </dc:title>
</cp:coreProperties>
</file>