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29600" y="6324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406-17C3-4D28-9819-7204E9674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5812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35053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350532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0120" y="335268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6939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4400" y="27432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2743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105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gle server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2800" y="36910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92640" y="369108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02120" y="369108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1600" y="36910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8195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03800" y="266688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8200" y="3879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800" y="292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34000" y="292896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53200" y="368784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22880" y="353520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72280" y="455616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440388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562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-server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209680"/>
            <a:ext cx="7010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eue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stimates of congestion can be made for single-server queues wit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als that are independent, random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isson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times that follow families of distrib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negative exponential, ga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 results can be extended to multi-server que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tilization: Rule of Th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8800" y="2895480"/>
            <a:ext cx="5575320" cy="825480"/>
            <a:chOff x="1828800" y="2895480"/>
            <a:chExt cx="5575320" cy="825480"/>
          </a:xfrm>
        </p:grpSpPr>
        <p:sp>
          <p:nvSpPr>
            <p:cNvPr id="115" name=""/>
            <p:cNvSpPr/>
            <p:nvPr/>
          </p:nvSpPr>
          <p:spPr>
            <a:xfrm>
              <a:off x="1828800" y="3100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tilization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7920" y="289548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 service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 inter-arrival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6840" y="33289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52480" y="41911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tilization of any system component exceeds 30%, be prepared for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ior of Queues: Ut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971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6400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7520" y="2703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943600" y="2895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480" y="1676520"/>
            <a:ext cx="5639040" cy="4916520"/>
            <a:chOff x="609480" y="1676520"/>
            <a:chExt cx="5639040" cy="4916520"/>
          </a:xfrm>
        </p:grpSpPr>
        <p:sp>
          <p:nvSpPr>
            <p:cNvPr id="127" name=""/>
            <p:cNvSpPr/>
            <p:nvPr/>
          </p:nvSpPr>
          <p:spPr>
            <a:xfrm>
              <a:off x="876240" y="1676520"/>
              <a:ext cx="5372280" cy="4856040"/>
            </a:xfrm>
            <a:custGeom>
              <a:avLst/>
              <a:gdLst/>
              <a:ahLst/>
              <a:rect l="l" t="t" r="r" b="b"/>
              <a:pathLst>
                <a:path w="1928" h="2560">
                  <a:moveTo>
                    <a:pt x="0" y="2448"/>
                  </a:moveTo>
                  <a:cubicBezTo>
                    <a:pt x="472" y="2504"/>
                    <a:pt x="944" y="2560"/>
                    <a:pt x="1248" y="2208"/>
                  </a:cubicBezTo>
                  <a:cubicBezTo>
                    <a:pt x="1552" y="1856"/>
                    <a:pt x="1720" y="672"/>
                    <a:pt x="1824" y="336"/>
                  </a:cubicBezTo>
                  <a:cubicBezTo>
                    <a:pt x="1928" y="0"/>
                    <a:pt x="1832" y="552"/>
                    <a:pt x="1872" y="1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6046920"/>
              <a:ext cx="160524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24480" y="1981080"/>
              <a:ext cx="80172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81080" y="6400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981080"/>
            <a:ext cx="7391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l the system as set of states an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 simulated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ich events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tate and ev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rete time sim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me is advanced in fixed steps (e.g., 1 millise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xt event sim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me is advanced to next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can be simulated by random variables (e.g., arrival of next customer, completion of disk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438280"/>
            <a:ext cx="800100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instru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5,000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,000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-up mod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6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286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286000"/>
            <a:ext cx="7315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surements on Operation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59092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marks:  Run system on standard problem sets, sample inputs, or a simulated load on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:  Clock specific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ial and Paralle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590920"/>
            <a:ext cx="4876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thread v. multi-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Un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ularity of lock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record 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back-of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erformance of Disk Ar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09680"/>
            <a:ext cx="754380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mu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specific disk pl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I/O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to move heads on disk pl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I/O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se for disk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agreement between: results from queueing theory, simulation, and direct measurement (within 15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01000" y="595476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oftwar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932240" y="5342040"/>
            <a:ext cx="972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06388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iginal ver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nsity of transistors in an integrated circuit will double every year. (Gordon Moore, Intel, 196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/performance of silicon chips doubles every 18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 and System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362320"/>
            <a:ext cx="82296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syst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on u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 from produ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speed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siz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capac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o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7339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1055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:  Rules of Th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0638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ning 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ye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/performance of silicon chips improves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/performance of magnetic media improves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 years  =       100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 years  =  10,000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kinson'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3623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igin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ork expands to fill the time available.  (C. Northcote Parkin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ning 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 Demand will expand to use all the hardware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 Low prices will create new de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 Your software will be used on equipment that you have not envis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lse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514600"/>
            <a:ext cx="8381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file system will never exceed 2 Gbytes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alk networks will never have more than 256 hosts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 software will not last 1024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at Dartmouth will ever earn more than $10,000 per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, etc.,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-1827360" y="-914760"/>
            <a:ext cx="6551280" cy="700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77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77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 and the Long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60958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10800000">
            <a:off x="4011120" y="2259720"/>
            <a:ext cx="655128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77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77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133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06640" y="61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6640" y="19558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e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200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ithin your working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028840" y="4038480"/>
            <a:ext cx="15238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dicting System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81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743200"/>
            <a:ext cx="6095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 require detailed understanding of the interaction between software and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31T14:37:56Z</dcterms:modified>
  <cp:revision>302</cp:revision>
  <dc:subject/>
  <dc:title>Digital Library Architecture- Key Principles </dc:title>
</cp:coreProperties>
</file>