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E738-2E02-4C59-9E28-63B190651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0040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ns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29600" y="37339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 Processing:  Master Fil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52880" y="3962520"/>
            <a:ext cx="1041480" cy="558720"/>
            <a:chOff x="4952880" y="3962520"/>
            <a:chExt cx="1041480" cy="558720"/>
          </a:xfrm>
        </p:grpSpPr>
        <p:sp>
          <p:nvSpPr>
            <p:cNvPr id="160" name=""/>
            <p:cNvSpPr/>
            <p:nvPr/>
          </p:nvSpPr>
          <p:spPr>
            <a:xfrm flipH="1">
              <a:off x="5092560" y="43304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359320" y="396864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952880" y="396252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244840" y="412092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4668840" y="4645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88620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2240" y="4616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403848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32840" y="41292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36080" y="421956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38960" y="430992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2767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733920"/>
            <a:ext cx="1218960" cy="825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25780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819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0481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943600" y="274284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2860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52578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Batch Up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47176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ransactions for an account are process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 and recovery have fixed chec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management control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use of staff and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132760" y="388944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824200" y="3693960"/>
            <a:ext cx="1365120" cy="927000"/>
            <a:chOff x="2824200" y="3693960"/>
            <a:chExt cx="1365120" cy="927000"/>
          </a:xfrm>
        </p:grpSpPr>
        <p:sp>
          <p:nvSpPr>
            <p:cNvPr id="189" name=""/>
            <p:cNvSpPr/>
            <p:nvPr/>
          </p:nvSpPr>
          <p:spPr>
            <a:xfrm>
              <a:off x="3325680" y="418896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40160" y="420192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973320" y="418896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824200" y="3693960"/>
              <a:ext cx="540720" cy="768240"/>
              <a:chOff x="2824200" y="3693960"/>
              <a:chExt cx="540720" cy="76824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7960" y="369396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4200" y="382716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42920" y="420192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53960" y="422100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3680" y="37890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06280" y="414468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1200" y="416988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261960" y="442404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19240" y="391608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573360" y="374472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7360" y="378288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8960" y="3965400"/>
            <a:ext cx="838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05000" y="3995640"/>
            <a:ext cx="759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3880" y="42703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9840" y="434664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6160" y="4422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ine Inqui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5320" y="482760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58960" y="3838680"/>
            <a:ext cx="1365120" cy="927000"/>
            <a:chOff x="2658960" y="3838680"/>
            <a:chExt cx="1365120" cy="927000"/>
          </a:xfrm>
        </p:grpSpPr>
        <p:sp>
          <p:nvSpPr>
            <p:cNvPr id="212" name=""/>
            <p:cNvSpPr/>
            <p:nvPr/>
          </p:nvSpPr>
          <p:spPr>
            <a:xfrm>
              <a:off x="3160440" y="43336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274920" y="43466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08080" y="433368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658960" y="3838680"/>
              <a:ext cx="540720" cy="768240"/>
              <a:chOff x="2658960" y="3838680"/>
              <a:chExt cx="540720" cy="7682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72720" y="38386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58960" y="39718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77680" y="43466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88720" y="43657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28440" y="39337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1040" y="42894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5960" y="43146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96720" y="45687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54000" y="40608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408120" y="388944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62120" y="392760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41840" y="4118040"/>
            <a:ext cx="1041480" cy="558720"/>
            <a:chOff x="5541840" y="4118040"/>
            <a:chExt cx="1041480" cy="558720"/>
          </a:xfrm>
        </p:grpSpPr>
        <p:sp>
          <p:nvSpPr>
            <p:cNvPr id="228" name=""/>
            <p:cNvSpPr/>
            <p:nvPr/>
          </p:nvSpPr>
          <p:spPr>
            <a:xfrm flipH="1">
              <a:off x="5681520" y="4485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5948280" y="412416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5541840" y="411804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5833800" y="427644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52578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2640" y="4118040"/>
            <a:ext cx="838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28680" y="4148280"/>
            <a:ext cx="763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7560" y="4422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3880" y="44989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9840" y="457524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4803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03360" y="4422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70240" y="43466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56440" y="40417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61160" y="4346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15400" y="4772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32760" y="41940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36000" y="428472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39240" y="437508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42120" y="446580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81480" y="2133720"/>
            <a:ext cx="1365480" cy="926640"/>
            <a:chOff x="5181480" y="2133720"/>
            <a:chExt cx="1365480" cy="926640"/>
          </a:xfrm>
        </p:grpSpPr>
        <p:sp>
          <p:nvSpPr>
            <p:cNvPr id="249" name=""/>
            <p:cNvSpPr/>
            <p:nvPr/>
          </p:nvSpPr>
          <p:spPr>
            <a:xfrm>
              <a:off x="5683320" y="26290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797080" y="2641680"/>
              <a:ext cx="10188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330960" y="2628720"/>
              <a:ext cx="10152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181480" y="2133720"/>
              <a:ext cx="541440" cy="768240"/>
              <a:chOff x="5181480" y="2133720"/>
              <a:chExt cx="541440" cy="768240"/>
            </a:xfrm>
          </p:grpSpPr>
          <p:sp>
            <p:nvSpPr>
              <p:cNvPr id="253" name=""/>
              <p:cNvSpPr/>
              <p:nvPr/>
            </p:nvSpPr>
            <p:spPr>
              <a:xfrm>
                <a:off x="5295600" y="213372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81480" y="226692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00560" y="2641680"/>
                <a:ext cx="25380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11600" y="266076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51320" y="2228760"/>
                <a:ext cx="10332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63920" y="25844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68840" y="2609640"/>
                <a:ext cx="2520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619600" y="2863800"/>
                <a:ext cx="5076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76880" y="235584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5931000" y="2184480"/>
              <a:ext cx="38088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85000" y="222264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09588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2400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2133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2: A Small-town Stockbro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2514600"/>
            <a:ext cx="56390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by mail or ov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mmediate or late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customer inqui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competitiv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atabase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259092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base(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and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products (e.g., account types, pension plans, savings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databases (e.g., stock markets, mutual funds, insurance compan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base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277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291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5800" y="2971800"/>
            <a:ext cx="1364760" cy="926640"/>
            <a:chOff x="685800" y="2971800"/>
            <a:chExt cx="1364760" cy="926640"/>
          </a:xfrm>
        </p:grpSpPr>
        <p:sp>
          <p:nvSpPr>
            <p:cNvPr id="300" name=""/>
            <p:cNvSpPr/>
            <p:nvPr/>
          </p:nvSpPr>
          <p:spPr>
            <a:xfrm>
              <a:off x="1187280" y="346716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30140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1834560" y="346680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85800" y="2971800"/>
              <a:ext cx="540720" cy="768240"/>
              <a:chOff x="685800" y="2971800"/>
              <a:chExt cx="540720" cy="768240"/>
            </a:xfrm>
          </p:grpSpPr>
          <p:sp>
            <p:nvSpPr>
              <p:cNvPr id="304" name=""/>
              <p:cNvSpPr/>
              <p:nvPr/>
            </p:nvSpPr>
            <p:spPr>
              <a:xfrm>
                <a:off x="79956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80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452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1556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528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6788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07280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112356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084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434960" y="3022560"/>
              <a:ext cx="38052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88960" y="306072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572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8862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962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3571920"/>
            <a:ext cx="2751120" cy="1152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943600" y="3962160"/>
            <a:ext cx="685800" cy="6094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 Transactions &amp; Batch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326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85800" y="2971800"/>
            <a:ext cx="1364760" cy="926640"/>
            <a:chOff x="685800" y="2971800"/>
            <a:chExt cx="1364760" cy="926640"/>
          </a:xfrm>
        </p:grpSpPr>
        <p:sp>
          <p:nvSpPr>
            <p:cNvPr id="335" name=""/>
            <p:cNvSpPr/>
            <p:nvPr/>
          </p:nvSpPr>
          <p:spPr>
            <a:xfrm>
              <a:off x="1187280" y="346716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30140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834560" y="346680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85800" y="2971800"/>
              <a:ext cx="540720" cy="768240"/>
              <a:chOff x="685800" y="2971800"/>
              <a:chExt cx="540720" cy="768240"/>
            </a:xfrm>
          </p:grpSpPr>
          <p:sp>
            <p:nvSpPr>
              <p:cNvPr id="339" name=""/>
              <p:cNvSpPr/>
              <p:nvPr/>
            </p:nvSpPr>
            <p:spPr>
              <a:xfrm>
                <a:off x="79956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580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452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1556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528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788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7280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2356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084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434960" y="3022560"/>
              <a:ext cx="38052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88960" y="306072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206880" y="2971800"/>
            <a:ext cx="1365120" cy="927000"/>
            <a:chOff x="3206880" y="2971800"/>
            <a:chExt cx="1365120" cy="927000"/>
          </a:xfrm>
        </p:grpSpPr>
        <p:sp>
          <p:nvSpPr>
            <p:cNvPr id="351" name=""/>
            <p:cNvSpPr/>
            <p:nvPr/>
          </p:nvSpPr>
          <p:spPr>
            <a:xfrm>
              <a:off x="3708360" y="346680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82284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356000" y="346680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206880" y="2971800"/>
              <a:ext cx="540720" cy="768240"/>
              <a:chOff x="3206880" y="2971800"/>
              <a:chExt cx="540720" cy="768240"/>
            </a:xfrm>
          </p:grpSpPr>
          <p:sp>
            <p:nvSpPr>
              <p:cNvPr id="355" name=""/>
              <p:cNvSpPr/>
              <p:nvPr/>
            </p:nvSpPr>
            <p:spPr>
              <a:xfrm>
                <a:off x="332064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0688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560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3664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7636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8896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388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364464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0192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956040" y="302256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10040" y="306072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572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133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8862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5640" y="3809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3962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5800" y="3571920"/>
            <a:ext cx="2751120" cy="1152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38680" y="3200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943600" y="3962160"/>
            <a:ext cx="685800" cy="6094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5029200"/>
            <a:ext cx="761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ctur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133720"/>
            <a:ext cx="716292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 during scheduled hours + batch processing over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information from sever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consistency after any type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phase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oad from checkpoint +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audit t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ransaction errors be avoi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ransaction errors be corr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Merger of Two B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514600"/>
            <a:ext cx="8305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ank has a database with its customer accounts.  The databases are used by staff at many branches and for back-office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 is to integrate the two banks so that they appear to the customers to be a single organization and to provide integrated service from all bra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 examination, October 16, 7:30 to 8:30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Hollister B14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note change of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ee course notices for sampl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rger of Two Banks: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867280" y="4876920"/>
            <a:ext cx="1536840" cy="774720"/>
            <a:chOff x="5867280" y="4876920"/>
            <a:chExt cx="1536840" cy="774720"/>
          </a:xfrm>
        </p:grpSpPr>
        <p:sp>
          <p:nvSpPr>
            <p:cNvPr id="384" name=""/>
            <p:cNvSpPr/>
            <p:nvPr/>
          </p:nvSpPr>
          <p:spPr>
            <a:xfrm>
              <a:off x="6527880" y="4876920"/>
              <a:ext cx="8762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4889520"/>
              <a:ext cx="40032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78600" y="4902120"/>
              <a:ext cx="39996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02400" y="4925880"/>
              <a:ext cx="31284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040520" y="4938840"/>
              <a:ext cx="301680" cy="187200"/>
              <a:chOff x="7040520" y="4938840"/>
              <a:chExt cx="301680" cy="187200"/>
            </a:xfrm>
          </p:grpSpPr>
          <p:sp>
            <p:nvSpPr>
              <p:cNvPr id="389" name=""/>
              <p:cNvSpPr/>
              <p:nvPr/>
            </p:nvSpPr>
            <p:spPr>
              <a:xfrm>
                <a:off x="7040520" y="5076720"/>
                <a:ext cx="3016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40520" y="496404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40520" y="493884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040520" y="5164200"/>
              <a:ext cx="301680" cy="187200"/>
              <a:chOff x="7040520" y="5164200"/>
              <a:chExt cx="301680" cy="187200"/>
            </a:xfrm>
          </p:grpSpPr>
          <p:sp>
            <p:nvSpPr>
              <p:cNvPr id="393" name=""/>
              <p:cNvSpPr/>
              <p:nvPr/>
            </p:nvSpPr>
            <p:spPr>
              <a:xfrm>
                <a:off x="7040520" y="5302440"/>
                <a:ext cx="30168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40520" y="518940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53120" y="5164200"/>
                <a:ext cx="2890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053120" y="5389560"/>
              <a:ext cx="301680" cy="187200"/>
              <a:chOff x="7053120" y="5389560"/>
              <a:chExt cx="301680" cy="187200"/>
            </a:xfrm>
          </p:grpSpPr>
          <p:sp>
            <p:nvSpPr>
              <p:cNvPr id="397" name=""/>
              <p:cNvSpPr/>
              <p:nvPr/>
            </p:nvSpPr>
            <p:spPr>
              <a:xfrm>
                <a:off x="7053120" y="5526000"/>
                <a:ext cx="3016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53120" y="5413320"/>
                <a:ext cx="301680" cy="138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53120" y="538956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602400" y="5151600"/>
              <a:ext cx="299880" cy="187200"/>
              <a:chOff x="6602400" y="5151600"/>
              <a:chExt cx="299880" cy="187200"/>
            </a:xfrm>
          </p:grpSpPr>
          <p:sp>
            <p:nvSpPr>
              <p:cNvPr id="401" name=""/>
              <p:cNvSpPr/>
              <p:nvPr/>
            </p:nvSpPr>
            <p:spPr>
              <a:xfrm>
                <a:off x="6602400" y="5289480"/>
                <a:ext cx="2998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02400" y="5176800"/>
                <a:ext cx="29988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02400" y="515160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615000" y="5376960"/>
              <a:ext cx="299880" cy="187200"/>
              <a:chOff x="6615000" y="5376960"/>
              <a:chExt cx="299880" cy="187200"/>
            </a:xfrm>
          </p:grpSpPr>
          <p:sp>
            <p:nvSpPr>
              <p:cNvPr id="405" name=""/>
              <p:cNvSpPr/>
              <p:nvPr/>
            </p:nvSpPr>
            <p:spPr>
              <a:xfrm>
                <a:off x="6615000" y="5513400"/>
                <a:ext cx="2872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15000" y="5402160"/>
                <a:ext cx="2998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15000" y="537696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5867280" y="50292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114960" y="532116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133720" y="4876920"/>
            <a:ext cx="1536120" cy="774720"/>
            <a:chOff x="2133720" y="4876920"/>
            <a:chExt cx="1536120" cy="774720"/>
          </a:xfrm>
        </p:grpSpPr>
        <p:sp>
          <p:nvSpPr>
            <p:cNvPr id="411" name=""/>
            <p:cNvSpPr/>
            <p:nvPr/>
          </p:nvSpPr>
          <p:spPr>
            <a:xfrm>
              <a:off x="2793600" y="4876920"/>
              <a:ext cx="876240" cy="774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9160" y="488952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4680" y="490248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68480" y="4926240"/>
              <a:ext cx="31212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306600" y="4938840"/>
              <a:ext cx="301320" cy="187560"/>
              <a:chOff x="3306600" y="4938840"/>
              <a:chExt cx="301320" cy="187560"/>
            </a:xfrm>
          </p:grpSpPr>
          <p:sp>
            <p:nvSpPr>
              <p:cNvPr id="416" name=""/>
              <p:cNvSpPr/>
              <p:nvPr/>
            </p:nvSpPr>
            <p:spPr>
              <a:xfrm>
                <a:off x="3306600" y="507708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06600" y="496440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06600" y="493884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06600" y="5164200"/>
              <a:ext cx="301320" cy="187560"/>
              <a:chOff x="3306600" y="5164200"/>
              <a:chExt cx="301320" cy="18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3306600" y="530244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306600" y="518976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18840" y="5164200"/>
                <a:ext cx="2887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19200" y="5389920"/>
              <a:ext cx="301320" cy="187200"/>
              <a:chOff x="3319200" y="5389920"/>
              <a:chExt cx="301320" cy="187200"/>
            </a:xfrm>
          </p:grpSpPr>
          <p:sp>
            <p:nvSpPr>
              <p:cNvPr id="424" name=""/>
              <p:cNvSpPr/>
              <p:nvPr/>
            </p:nvSpPr>
            <p:spPr>
              <a:xfrm>
                <a:off x="3319200" y="5526360"/>
                <a:ext cx="30132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19200" y="5413680"/>
                <a:ext cx="301320" cy="137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19200" y="538992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2868480" y="5151600"/>
              <a:ext cx="299520" cy="187200"/>
              <a:chOff x="2868480" y="5151600"/>
              <a:chExt cx="299520" cy="187200"/>
            </a:xfrm>
          </p:grpSpPr>
          <p:sp>
            <p:nvSpPr>
              <p:cNvPr id="428" name=""/>
              <p:cNvSpPr/>
              <p:nvPr/>
            </p:nvSpPr>
            <p:spPr>
              <a:xfrm>
                <a:off x="2868480" y="5289840"/>
                <a:ext cx="29952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68480" y="517716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68480" y="515160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81080" y="5376960"/>
              <a:ext cx="299520" cy="187560"/>
              <a:chOff x="2881080" y="5376960"/>
              <a:chExt cx="299520" cy="187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81080" y="5513400"/>
                <a:ext cx="28692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81080" y="540252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81080" y="537696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5" name="" descr=""/>
            <p:cNvPicPr/>
            <p:nvPr/>
          </p:nvPicPr>
          <p:blipFill>
            <a:blip r:embed="rId4"/>
            <a:stretch/>
          </p:blipFill>
          <p:spPr>
            <a:xfrm>
              <a:off x="2133720" y="502956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381040" y="532152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019920" y="2438280"/>
            <a:ext cx="1364760" cy="926640"/>
            <a:chOff x="6019920" y="2438280"/>
            <a:chExt cx="1364760" cy="926640"/>
          </a:xfrm>
        </p:grpSpPr>
        <p:sp>
          <p:nvSpPr>
            <p:cNvPr id="438" name=""/>
            <p:cNvSpPr/>
            <p:nvPr/>
          </p:nvSpPr>
          <p:spPr>
            <a:xfrm>
              <a:off x="6521400" y="293364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635520" y="29462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168680" y="293328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019920" y="2438280"/>
              <a:ext cx="540720" cy="768240"/>
              <a:chOff x="6019920" y="2438280"/>
              <a:chExt cx="540720" cy="768240"/>
            </a:xfrm>
          </p:grpSpPr>
          <p:sp>
            <p:nvSpPr>
              <p:cNvPr id="442" name=""/>
              <p:cNvSpPr/>
              <p:nvPr/>
            </p:nvSpPr>
            <p:spPr>
              <a:xfrm>
                <a:off x="6133680" y="24382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19920" y="25714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38640" y="29462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49680" y="29653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89400" y="25333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02000" y="28890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406920" y="29142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457680" y="31683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14960" y="26604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6769080" y="2489040"/>
              <a:ext cx="380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23080" y="252720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86000" y="2362320"/>
            <a:ext cx="1365120" cy="927000"/>
            <a:chOff x="2286000" y="2362320"/>
            <a:chExt cx="1365120" cy="927000"/>
          </a:xfrm>
        </p:grpSpPr>
        <p:sp>
          <p:nvSpPr>
            <p:cNvPr id="454" name=""/>
            <p:cNvSpPr/>
            <p:nvPr/>
          </p:nvSpPr>
          <p:spPr>
            <a:xfrm>
              <a:off x="2787480" y="285732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901960" y="287028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3435120" y="285732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286000" y="2362320"/>
              <a:ext cx="540720" cy="768240"/>
              <a:chOff x="2286000" y="2362320"/>
              <a:chExt cx="540720" cy="768240"/>
            </a:xfrm>
          </p:grpSpPr>
          <p:sp>
            <p:nvSpPr>
              <p:cNvPr id="458" name=""/>
              <p:cNvSpPr/>
              <p:nvPr/>
            </p:nvSpPr>
            <p:spPr>
              <a:xfrm>
                <a:off x="2399760" y="236232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86000" y="249552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04720" y="287028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15760" y="288936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55480" y="245736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68080" y="281304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73000" y="283824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723760" y="309240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81040" y="258444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035160" y="241308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89160" y="245124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934320" y="3276720"/>
            <a:ext cx="0" cy="137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3352680"/>
            <a:ext cx="0" cy="13716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276720"/>
            <a:ext cx="2438640" cy="152388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733920" y="3352320"/>
            <a:ext cx="2438280" cy="129564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7339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5257800"/>
            <a:ext cx="182880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50292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3429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5812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rger of Two Banks: Architectura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2096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2246400"/>
            <a:ext cx="6781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vert everything to System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System A (software and hard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System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Build an interface between the databases in System A and System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 Extend client software so that it can interact with either System A or System B 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ed Computing: General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2057400"/>
            <a:ext cx="7620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ication that is running on one computer wishes to use data or services provided by ano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, public, or virtual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ire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, multicast,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, RPC, distribu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ful or stat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2209680"/>
            <a:ext cx="65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Intern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itous --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vate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ab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protocols  (e.g., IBM's S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of Network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286000"/>
            <a:ext cx="647712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s in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media (e.g., au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shooting and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330800" y="2209680"/>
            <a:ext cx="241200" cy="5590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6000" y="2438280"/>
            <a:ext cx="2057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91080" y="2460600"/>
            <a:ext cx="20574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2133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81680" y="2057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3429000"/>
            <a:ext cx="8001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mputer at the junction of two network segment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s every packet that attempts to cross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s any packet that does not satisfy certain criteria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coming request to open a TCP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known packe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514600"/>
            <a:ext cx="83059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verall design of a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and networks (e.g., monolithic, distrib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 and protocols (e.g., http, 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 (e.g., relational, distrib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(e.g., smart card authentication, S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(e.g., backup, archiving, audit tr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vironments (e.g., languages, source contro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Intensiv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438280"/>
            <a:ext cx="6934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utility customer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 company call recording and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rental reservations (e.g., Her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market brokerage (e.g., Charles Schw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ales (e.g., Amazon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153280" y="32767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352680"/>
            <a:ext cx="838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5520" y="3382920"/>
            <a:ext cx="763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7339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1: Electricity Utility Bi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 attem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5840" y="421488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79840" y="3225960"/>
            <a:ext cx="1365120" cy="927000"/>
            <a:chOff x="2679840" y="3225960"/>
            <a:chExt cx="1365120" cy="927000"/>
          </a:xfrm>
        </p:grpSpPr>
        <p:sp>
          <p:nvSpPr>
            <p:cNvPr id="62" name=""/>
            <p:cNvSpPr/>
            <p:nvPr/>
          </p:nvSpPr>
          <p:spPr>
            <a:xfrm>
              <a:off x="3181320" y="372096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295800" y="373392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828960" y="372096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679840" y="3225960"/>
              <a:ext cx="540720" cy="768240"/>
              <a:chOff x="2679840" y="3225960"/>
              <a:chExt cx="540720" cy="768240"/>
            </a:xfrm>
          </p:grpSpPr>
          <p:sp>
            <p:nvSpPr>
              <p:cNvPr id="66" name=""/>
              <p:cNvSpPr/>
              <p:nvPr/>
            </p:nvSpPr>
            <p:spPr>
              <a:xfrm>
                <a:off x="2793600" y="322596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79840" y="335916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98560" y="373392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09600" y="375300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49320" y="33210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61920" y="367668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6840" y="370188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117600" y="395604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74880" y="344808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429000" y="327672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83000" y="331488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62720" y="3505320"/>
            <a:ext cx="1040760" cy="558720"/>
            <a:chOff x="5562720" y="3505320"/>
            <a:chExt cx="1040760" cy="558720"/>
          </a:xfrm>
        </p:grpSpPr>
        <p:sp>
          <p:nvSpPr>
            <p:cNvPr id="78" name=""/>
            <p:cNvSpPr/>
            <p:nvPr/>
          </p:nvSpPr>
          <p:spPr>
            <a:xfrm flipH="1">
              <a:off x="5701680" y="387324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5968800" y="3511440"/>
              <a:ext cx="63468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562720" y="350532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854320" y="3663720"/>
              <a:ext cx="63468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5278320" y="4187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80988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9625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34290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41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358128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6520" y="36720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9760" y="376236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63000" y="385272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handled as it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isms of First Attem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133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s this first attempt wea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requirements have not been specifie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nsactio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209680"/>
            <a:ext cx="51814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ccount / close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r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redits / de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cleared / check b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 of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, etc.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ic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438280"/>
            <a:ext cx="746748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yments to be credited on day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must be able to query account b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ting off service for non-payment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put staff should proc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actions per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rate must be below 0.0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vailable 99.9% of business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36920" y="3084480"/>
            <a:ext cx="1365120" cy="927000"/>
            <a:chOff x="2536920" y="3084480"/>
            <a:chExt cx="1365120" cy="927000"/>
          </a:xfrm>
        </p:grpSpPr>
        <p:sp>
          <p:nvSpPr>
            <p:cNvPr id="106" name=""/>
            <p:cNvSpPr/>
            <p:nvPr/>
          </p:nvSpPr>
          <p:spPr>
            <a:xfrm>
              <a:off x="3038400" y="35794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52880" y="35924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686040" y="357948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536920" y="3084480"/>
              <a:ext cx="540720" cy="768240"/>
              <a:chOff x="2536920" y="3084480"/>
              <a:chExt cx="540720" cy="768240"/>
            </a:xfrm>
          </p:grpSpPr>
          <p:sp>
            <p:nvSpPr>
              <p:cNvPr id="110" name=""/>
              <p:cNvSpPr/>
              <p:nvPr/>
            </p:nvSpPr>
            <p:spPr>
              <a:xfrm>
                <a:off x="2650680" y="30844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6920" y="32176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55640" y="35924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66680" y="36115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06400" y="31795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19000" y="35352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23920" y="35604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974680" y="38145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31960" y="33066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286080" y="313524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317340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 Processing: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18040" y="421812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71680" y="3228840"/>
            <a:ext cx="1365120" cy="927000"/>
            <a:chOff x="2371680" y="3228840"/>
            <a:chExt cx="1365120" cy="927000"/>
          </a:xfrm>
        </p:grpSpPr>
        <p:sp>
          <p:nvSpPr>
            <p:cNvPr id="124" name=""/>
            <p:cNvSpPr/>
            <p:nvPr/>
          </p:nvSpPr>
          <p:spPr>
            <a:xfrm>
              <a:off x="2873160" y="372384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87640" y="373680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520800" y="372384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371680" y="3228840"/>
              <a:ext cx="540720" cy="768240"/>
              <a:chOff x="2371680" y="3228840"/>
              <a:chExt cx="540720" cy="76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5440" y="322884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71680" y="336204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90400" y="373680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01440" y="375588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41160" y="332388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53760" y="367956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58680" y="370476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809440" y="395892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66720" y="345096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120840" y="327960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74840" y="331776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089680" y="5353200"/>
            <a:ext cx="1040760" cy="558720"/>
            <a:chOff x="5089680" y="5353200"/>
            <a:chExt cx="1040760" cy="558720"/>
          </a:xfrm>
        </p:grpSpPr>
        <p:sp>
          <p:nvSpPr>
            <p:cNvPr id="140" name=""/>
            <p:cNvSpPr/>
            <p:nvPr/>
          </p:nvSpPr>
          <p:spPr>
            <a:xfrm flipH="1">
              <a:off x="5228640" y="572112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495760" y="5359320"/>
              <a:ext cx="63468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5089680" y="535320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381280" y="5511600"/>
              <a:ext cx="63468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805280" y="6035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2960" y="3736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48320" y="37958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7040" y="3303720"/>
            <a:ext cx="1447920" cy="825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&amp;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10240" y="42530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72160" y="4557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10240" y="2424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76160" y="2424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6520" y="242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2576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352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80" y="3349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12T17:00:56Z</dcterms:modified>
  <cp:revision>331</cp:revision>
  <dc:subject/>
  <dc:title>Digital Library Architecture- Key Principles </dc:title>
</cp:coreProperties>
</file>