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AD0B-1BA3-4E14-B989-587D740BEB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3657600"/>
            <a:ext cx="3962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and Legal Aspects of Software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2362320"/>
            <a:ext cx="57150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sions of priv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ion of name or lik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reasonable publ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 very careful about collecting personal data without the knowledge of the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ftware Business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057400"/>
            <a:ext cx="75438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employed for company X writing software.  When you leave, who owns your work? What use can you make of the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free-lance for company X.  When you finish, who owns your work? What use can you make of the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a student on CS 502.  What you finish what use can you make of your project work?  What use can Cornell make of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ad the contrac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r Next Job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971800"/>
            <a:ext cx="7772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ment contract may restrict your next job (not working for competitor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-secret information (non-disclosure agre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k when you are interview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ade Secrets and Non-Disclosure Agre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209680"/>
            <a:ext cx="81532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rade Sec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... information, including a formula, pattern, compilation, program, device, method, technique, or process that derives independent economic value from not being generally known and not being readily ascertainable and is subject to reasonable efforts to maintain secrecy.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form Trade Secrets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Non-Disclosure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agreement not to disclose trade secr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Business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2133720"/>
            <a:ext cx="7696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developed in-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age licensed to customer, binary only (Microsoft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age licensed to customer, source code for customer's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poke software for customer (may be owned by supplier or custom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bundled with hardware product (PalmPil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ree-Lance Softwar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43828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nd a few friends create a company to develop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should you charge per ho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plan to work 40 hours a week for 50 weeks of the year and want to earn $50,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urly rate = $50,000 / (40 x 50) = $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ut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ree-Lance Softwar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0574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es and benef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t, equipment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s, services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vel and mis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EXP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$1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39625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4419720"/>
            <a:ext cx="51818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urs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minist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rk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ABLE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1,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urly rate = $100,000 /1,250 = $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55627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xed and Variable Cost: Packaged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2133720"/>
            <a:ext cx="6858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itial development cost of a software product is $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st of packaging and distribution of each copy is $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support costs average $15 per cop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ckage sells for $200 per cop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cost = $10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cost = $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xed and Variable Costs: Profit or L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19810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61722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828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4290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48006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20574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124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200400" y="19810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029200" y="19810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858000" y="19810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77320" y="571500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609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609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6095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371600" y="3124080"/>
            <a:ext cx="548640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371600" y="2057400"/>
            <a:ext cx="5486400" cy="411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munity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514600"/>
            <a:ext cx="6400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(e.g., Linux, Apache, Perl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Shared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Market pene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CP/IP for Vax/VM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ftware may be open source, but  packaging and services can be profitable busi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209680"/>
            <a:ext cx="73911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instructions for Assign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and individual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office hours next Tu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citation session on Mon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Notices for Teaching Assistant assignments to pro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n Sour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590920"/>
            <a:ext cx="7315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 re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ed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ity of the author's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iscrimination against persons o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n Sour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2895480"/>
            <a:ext cx="7315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iscrimination against fields of ende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lic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cense must not be specific to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cense must not contaminate other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opensource.org/osd.htm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actical Ad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2590920"/>
            <a:ext cx="7162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 aware of the law, but do not pretend to be a lawyer.  Use a professional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s and lice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bles (complaints, injunctions, subpoena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l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n doubt, ask hel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gal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2057400"/>
            <a:ext cx="662940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ftware is developed in a complex legal and economic framework.  Changes in laws follow changes in technical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risdi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ed States Co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tional tre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eral and state stat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e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reme Co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establishing prece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gal Top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209680"/>
            <a:ext cx="7696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ectual property (copyright, patent, con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rt (e.g., liability of Internet service provi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 speech and its limitations (government secrets, obscenity, blasphemy, h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Information Institute: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law.cornell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362320"/>
            <a:ext cx="6400800" cy="40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pyright gives the owner the exclusive right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c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lly extended to cover text, music, photographs, designs, software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2209680"/>
            <a:ext cx="4800600" cy="43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pyright at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for h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s and lice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ingement (contam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national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ftware Pa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590920"/>
            <a:ext cx="78487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: non-obvious, novel, us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years from award (20 years from appl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quality of examining can lead to broad patents for routine computing concep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tional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pyright applies to the expression of ideas, patents to the ideas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racts and Lic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286000"/>
            <a:ext cx="7620120" cy="36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tracts allow intellectual property to be sold or licen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ise in exchange for adequate 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ten document with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anent or temporary, whole or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lusive or non-exclu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on, problems and difficul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s and conditions as agr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forceable by cou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rivativ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133720"/>
            <a:ext cx="7848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software is derived from other softw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ode is owned by new 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 that apply to old code apply to derive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write S, which is derived from A, B, C and D, you can not distribute or licenses S unless you have right to distribute each of A, B, C and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create a software product, you must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cume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ights to use every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09-14T15:29:23Z</dcterms:modified>
  <cp:revision>505</cp:revision>
  <dc:subject/>
  <dc:title>Digital Library Architecture- Key Principles </dc:title>
</cp:coreProperties>
</file>