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818-F3F0-453F-A359-FF345C25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26F-D706-4EAF-BAA9-354D772D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0B4-968B-4CE8-A5E1-2399F2F1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B66-1698-4CB8-9F3C-CE2FEDC5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1C9C-E415-4052-8D5D-67521C76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5AE-E3AF-4FF8-BB56-92629D7E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A3D-36A6-4C3D-8F97-A9FBDD00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4BD-E0B7-4D53-A58A-944AC142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87D-FE19-427F-B1F3-474FC768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1A1-FD1E-4775-9662-00255A12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2E4-0256-459F-8B63-361D062B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8DF-C992-4FB3-A4D5-95D35371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E19B-D9AC-4B76-9C74-1703961412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90480" y="4762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lient/Server Netwo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854280" y="1056240"/>
            <a:ext cx="559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mputer network is referred to as client/server if (at least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ne of the computers is used to "serve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computers referred to as "clients". Besides the computers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ypes of devices can be part of the network</a:t>
            </a:r>
            <a:r>
              <a:rPr b="0" lang="en-A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www.functionx.com/illustrations/network2.gif"/>
          <p:cNvPicPr/>
          <p:nvPr/>
        </p:nvPicPr>
        <p:blipFill>
          <a:blip r:embed="rId1"/>
          <a:stretch/>
        </p:blipFill>
        <p:spPr>
          <a:xfrm>
            <a:off x="2411280" y="2205000"/>
            <a:ext cx="40482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2:44Z</dcterms:created>
  <dc:creator>ukyawnaing</dc:creator>
  <dc:description/>
  <dc:language>en-US</dc:language>
  <cp:lastModifiedBy>ukyawnaing</cp:lastModifiedBy>
  <dcterms:modified xsi:type="dcterms:W3CDTF">2012-10-11T04:34:07Z</dcterms:modified>
  <cp:revision>1</cp:revision>
  <dc:subject/>
  <dc:title>Slide 1</dc:title>
</cp:coreProperties>
</file>