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D2A-2A7E-4CE2-90C6-5E92D66D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F00-9A5A-4321-93FB-DE4D9F1D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0BC-BF51-45B1-9E4F-8CEE92D7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36B-7818-4ED3-8FA7-E44BDCA7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305-DB5E-4B9C-B68F-D97AAA43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40C-1A90-4586-986D-57CF6C2D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0BB-D3AA-4019-AB97-87F56F50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96E-1606-4E45-8528-78B56F61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1E3F-DA1E-4E93-A5F0-11700E59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549A-CE3C-4F77-88A2-B7E36C27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019-47C7-4493-8578-139BDC9B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293-49A1-43A5-8943-87598A96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20ED-9EB0-435C-A897-3B1BA26AB9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onnect3"/>
          <p:cNvPicPr/>
          <p:nvPr/>
        </p:nvPicPr>
        <p:blipFill>
          <a:blip r:embed="rId1"/>
          <a:stretch/>
        </p:blipFill>
        <p:spPr>
          <a:xfrm>
            <a:off x="755640" y="882720"/>
            <a:ext cx="648036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03:53Z</dcterms:created>
  <dc:creator>ukyawnaing</dc:creator>
  <dc:description/>
  <dc:language>en-US</dc:language>
  <cp:lastModifiedBy>ukyawnaing</cp:lastModifiedBy>
  <dcterms:modified xsi:type="dcterms:W3CDTF">2012-10-11T05:04:39Z</dcterms:modified>
  <cp:revision>1</cp:revision>
  <dc:subject/>
  <dc:title>Slide 1</dc:title>
</cp:coreProperties>
</file>