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975-7803-419E-99F5-DBF41BC8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495-882E-49B6-8525-3D157578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B90-11E5-4E82-881F-CBCE1F6D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878-E813-4EC9-9C58-D19DD148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222-AC92-42B7-A73E-20437041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3F2-27FD-40F2-B209-18DEDC7F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2BD-53B5-4AB1-807B-D20365AC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123E-695F-4A2A-A8FF-9C211B0E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CED-1C29-486E-8E95-0060F1E5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DD5-4F55-4213-8EFF-19111A4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F0A-279D-403B-8513-29AB2630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B58-EFD4-4B61-938F-77485B2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570-9F9C-4CB9-B887-81E57E17AB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Necessary Hardware and Softwar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Server Machin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n Lesson 1, we saw that a server was another computer that can participate in a client/server network, as opposed to a peer-to-peer network. A server is used to hold resources and items that other computers would need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351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network4"/>
          <p:cNvPicPr/>
          <p:nvPr/>
        </p:nvPicPr>
        <p:blipFill>
          <a:blip r:embed="rId1"/>
          <a:stretch/>
        </p:blipFill>
        <p:spPr>
          <a:xfrm>
            <a:off x="900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A processor with 133-MHz or higher speed; 550-MHz recommended; up to eight processors supported on one server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28 MB of RAM minimum required; 256 MB or more recommended; 32 GB maximum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1.25 to 2 GB of available hard disk space </a:t>
            </a: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CD-ROM or DVD-ROM drive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VGA or hardware that supports console redirection required; Super VGA supporting 800 x 600 or higher-resolution monitor recommended 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ff0000"/>
                </a:solidFill>
                <a:latin typeface="Calibri"/>
              </a:rPr>
              <a:t>If necessary, you can purchase additional items to meet these requirements. </a:t>
            </a:r>
            <a:br>
              <a:rPr sz="2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4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7:48Z</dcterms:created>
  <dc:creator>ukyawnaing</dc:creator>
  <dc:description/>
  <dc:language>en-US</dc:language>
  <cp:lastModifiedBy>ukyawnaing</cp:lastModifiedBy>
  <dcterms:modified xsi:type="dcterms:W3CDTF">2012-10-11T05:39:59Z</dcterms:modified>
  <cp:revision>1</cp:revision>
  <dc:subject/>
  <dc:title>Necessary Hardware and Software    Server Machines In Lesson 1, we saw that a server was another computer that can participate in a client/server network, as opposed to a peer-to-peer network. A server is used to hold resources and items that other computers would need: </dc:title>
</cp:coreProperties>
</file>