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A6ED-28F2-433D-B4DA-DD3286C8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2D1-B1DF-4E15-AC67-09392D1E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3C5-8BBB-4069-A75A-C8491CB5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370-7186-4424-9177-5F64597B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162C-8558-404D-87E5-66AF4B03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A09-E445-4F25-B122-2D45B9CC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EC6-0212-49A4-9BEE-2FF1C79D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356-E367-4E5C-AE72-9A288FBF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D87-DBC5-4DBB-9E34-622C27BD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646-50D7-4ECD-9464-B5FA715F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BA7-5D02-4254-AD3F-36F19193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AABA-9142-4903-B32A-922E637B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9CF8-0746-4835-8FC5-B112C36BB3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9400" y="5493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Wired Network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68360" y="981000"/>
            <a:ext cx="410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 order to connect to a network, a computer must be equipped with a device called a network  card. A network card, or a network adapter, also called a network interface card, or NIC,  allows a computer to connect to the exterior. If you buy a computer from one of those popular  stores or big companies on the Internet, most of their computers have a network card tested and alrea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You can reliably use it. If you go to a store that sells or manufactures comput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you can ask them to install or make sure that the computer has a network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nic1"/>
          <p:cNvPicPr/>
          <p:nvPr/>
        </p:nvPicPr>
        <p:blipFill>
          <a:blip r:embed="rId1"/>
          <a:stretch/>
        </p:blipFill>
        <p:spPr>
          <a:xfrm>
            <a:off x="4716360" y="2133720"/>
            <a:ext cx="3969000" cy="2232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611280" y="5084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 network card could also be used or installed externally. This can be done using US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usb1"/>
          <p:cNvPicPr/>
          <p:nvPr/>
        </p:nvPicPr>
        <p:blipFill>
          <a:blip r:embed="rId2"/>
          <a:stretch/>
        </p:blipFill>
        <p:spPr>
          <a:xfrm>
            <a:off x="5364000" y="4724280"/>
            <a:ext cx="1381320" cy="1225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usb2"/>
          <p:cNvPicPr/>
          <p:nvPr/>
        </p:nvPicPr>
        <p:blipFill>
          <a:blip r:embed="rId3"/>
          <a:stretch/>
        </p:blipFill>
        <p:spPr>
          <a:xfrm>
            <a:off x="7093080" y="4508640"/>
            <a:ext cx="15922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45:14Z</dcterms:created>
  <dc:creator>ukyawnaing</dc:creator>
  <dc:description/>
  <dc:language>en-US</dc:language>
  <cp:lastModifiedBy>ukyawnaing</cp:lastModifiedBy>
  <dcterms:modified xsi:type="dcterms:W3CDTF">2012-10-11T04:50:26Z</dcterms:modified>
  <cp:revision>2</cp:revision>
  <dc:subject/>
  <dc:title>Slide 1</dc:title>
</cp:coreProperties>
</file>