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5A5B8-814A-4046-8B93-89E433170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466E8-5595-422A-9C17-9C1862811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CF601-D2B7-49E8-B89A-0A3EED597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90FB4-B62B-4A6D-B09D-5BA7D7B44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342C6-9ACF-4EF7-A2DB-3A7E58F3D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29A8E-1120-441F-BFEC-5ABDD8EF1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74831-8127-4962-8C38-5A220567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516F-7E20-4EFA-B6D9-C9FD027AD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8CED-FA90-4AC2-AC5F-1C167F80A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FDC78-1C52-444B-8BD5-12D244457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62B84-6B49-42AE-97B5-7C5644CBF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513A-6C07-4E65-9751-1DD03C23E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8427-CDC4-401F-9673-E3E06E887758}"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75920"/>
            <a:ext cx="5256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u="sng">
                <a:solidFill>
                  <a:srgbClr val="ff0000"/>
                </a:solidFill>
                <a:uFillTx/>
                <a:latin typeface="Calibri"/>
              </a:rPr>
              <a:t>Wiring the Network</a:t>
            </a:r>
            <a:br>
              <a:rPr sz="40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78920" y="907920"/>
            <a:ext cx="8713800" cy="208944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f0"/>
                </a:solidFill>
                <a:latin typeface="Calibri"/>
              </a:rPr>
              <a:t>Shut down all computers and the router (if necessar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0000"/>
                </a:solidFill>
                <a:latin typeface="Calibri"/>
              </a:rPr>
              <a:t>Turn on one computer you will use to setup the router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b050"/>
                </a:solidFill>
                <a:latin typeface="Calibri"/>
              </a:rPr>
              <a:t>You router should have come equipped with a piece of paper or a brochure    of just a few pages that lists the instructions to follow to setup the router. One of the early instructions may ask you to insert the CD that came with the router, in the CD drive and wait for the instructions. Follow these instructions faithfully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7030a0"/>
                </a:solidFill>
                <a:latin typeface="Calibri"/>
              </a:rPr>
              <a:t>After setting up and configuring the router, turn it off and turn off the computer you used to set it up (this step is optional)  Connect each of the other computers to the router using an RJ-45 cable for each connec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3" name="Picture 2" descr="connect1"/>
          <p:cNvPicPr/>
          <p:nvPr/>
        </p:nvPicPr>
        <p:blipFill>
          <a:blip r:embed="rId1"/>
          <a:stretch/>
        </p:blipFill>
        <p:spPr>
          <a:xfrm>
            <a:off x="2268360" y="2565360"/>
            <a:ext cx="4391280" cy="40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4:58:08Z</dcterms:created>
  <dc:creator>ukyawnaing</dc:creator>
  <dc:description/>
  <dc:language>en-US</dc:language>
  <cp:lastModifiedBy>ukyawnaing</cp:lastModifiedBy>
  <dcterms:modified xsi:type="dcterms:W3CDTF">2012-10-11T05:03:36Z</dcterms:modified>
  <cp:revision>1</cp:revision>
  <dc:subject/>
  <dc:title>Wiring the Network </dc:title>
</cp:coreProperties>
</file>