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8B7E-2D19-4555-AFC1-DE0F2913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107-B3AE-4670-9094-D8409E8B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992-0918-4F64-87FF-E6D95275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BF7-0FBA-4EF0-8EF0-0B55AE1E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6992-0C48-42B0-8F13-95614EFF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7BC-E35F-463D-80C5-90C421F1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0B96-1E7C-4ED8-9E69-0CCB2DC9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1A1-FDA4-4C0E-91D1-8FD2D8E1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AC1-D380-4D2E-B1CD-886600D3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862-D399-46EC-83DD-23F1F7D1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893-7E34-4E78-8A61-E8DA6648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191-9681-402C-9B7E-9709C6DE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99D0-8660-4A1F-B601-E6BFB95B52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unctionx.com/networking/Lesson01.ht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433160" y="747000"/>
            <a:ext cx="6075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 </a:t>
            </a:r>
            <a:r>
              <a:rPr b="0" lang="en-AU" sz="18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  <a:hlinkClick r:id="rId1"/>
              </a:rPr>
              <a:t>computer network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can be two computers connect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http://www.functionx.com/illustrations/connect2pc1.gif"/>
          <p:cNvPicPr/>
          <p:nvPr/>
        </p:nvPicPr>
        <p:blipFill>
          <a:blip r:embed="rId2"/>
          <a:stretch/>
        </p:blipFill>
        <p:spPr>
          <a:xfrm>
            <a:off x="1979640" y="1341360"/>
            <a:ext cx="3762360" cy="94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1545480" y="2567160"/>
            <a:ext cx="63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mputer network can also consist of, and is usually made for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more than two computer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www.functionx.com/illustrations/network1.gif"/>
          <p:cNvPicPr/>
          <p:nvPr/>
        </p:nvPicPr>
        <p:blipFill>
          <a:blip r:embed="rId3"/>
          <a:stretch/>
        </p:blipFill>
        <p:spPr>
          <a:xfrm>
            <a:off x="2411280" y="3429000"/>
            <a:ext cx="302436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4:26:38Z</dcterms:created>
  <dc:creator>ukyawnaing</dc:creator>
  <dc:description/>
  <dc:language>en-US</dc:language>
  <cp:lastModifiedBy>ukyawnaing</cp:lastModifiedBy>
  <dcterms:modified xsi:type="dcterms:W3CDTF">2012-10-11T04:30:07Z</dcterms:modified>
  <cp:revision>1</cp:revision>
  <dc:subject/>
  <dc:title>Slide 1</dc:title>
</cp:coreProperties>
</file>