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1C4-0AB4-42E4-B27B-58615FB3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F6B-D2A5-4E37-8138-787810EB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37B-B682-475D-9A35-23700C62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8CB-67EC-473F-9315-D6CB7F4B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0AB-83BD-4D74-8B93-E7C9513E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1FD-2959-400C-A65D-A3983E16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CA3-FA10-4A05-9D0C-DDA6496D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0C8-7880-41C0-97EC-5DDC7335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F13-909D-48BB-9D1B-86A40EAC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704-00A6-4A4F-A5BD-45EDCD71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109-EC1E-4096-B3B5-E56A3A14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D78-ACFE-4C3A-A5A0-7DF32CB8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9234-97EC-46D5-B3BF-B998FCF0C1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7960" y="62064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Wireless Network C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wirelessnic1"/>
          <p:cNvPicPr/>
          <p:nvPr/>
        </p:nvPicPr>
        <p:blipFill>
          <a:blip r:embed="rId1"/>
          <a:stretch/>
        </p:blipFill>
        <p:spPr>
          <a:xfrm>
            <a:off x="1187280" y="1989000"/>
            <a:ext cx="3600720" cy="2602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wirelessnic2"/>
          <p:cNvPicPr/>
          <p:nvPr/>
        </p:nvPicPr>
        <p:blipFill>
          <a:blip r:embed="rId2"/>
          <a:stretch/>
        </p:blipFill>
        <p:spPr>
          <a:xfrm>
            <a:off x="5940360" y="2060640"/>
            <a:ext cx="22320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48:53Z</dcterms:created>
  <dc:creator>ukyawnaing</dc:creator>
  <dc:description/>
  <dc:language>en-US</dc:language>
  <cp:lastModifiedBy>ukyawnaing</cp:lastModifiedBy>
  <dcterms:modified xsi:type="dcterms:W3CDTF">2012-10-11T04:51:32Z</dcterms:modified>
  <cp:revision>1</cp:revision>
  <dc:subject/>
  <dc:title>Slide 1</dc:title>
</cp:coreProperties>
</file>