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0F6C-5B65-4737-9EC6-EB97AEDB4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#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D89B-7E15-41B6-A0D5-C8AB58694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7A73B-EB4F-4F1F-8342-2010F9DB3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CE5A0-4757-4E06-ACF2-2082851FD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7A3DC-0A73-4788-96D7-54681D326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749A5-88F8-4DF2-AF69-4F0F18BE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F63FF-9678-41AF-A525-65EC327F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9BE5B-65D4-43D3-8C09-DC233F63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0DA24-442E-471C-B747-DA2FC95F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5C59A-A3B3-43A1-A313-3A666D00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EAFEA-914D-4406-84A7-FE384FEB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0B848-E156-4C13-87E1-20A134DE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D81F-18B7-43F7-A12B-56D943F7C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A75CE-DC2D-47AB-8ACA-DAC81C3E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05028-E905-4653-82BC-8258F1A6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4B142-86D1-419B-B55A-D144606E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367CF-2834-46B9-BAAE-5A1DA75F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7F7DC-F2D3-4465-A046-C8377EEE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963A-A1FA-4648-A864-EEB979A2B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EAC9-BD3F-43BD-A512-FA634AF7B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C16A-7A64-4B1F-88AF-BBE09740D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21889-CDD5-4BD7-B982-34972969F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A446B-7D99-4D7B-98F1-B7658AFAD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A225-B2E7-41AA-BC56-15D829051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1F52B-2611-4136-86BE-C9C0B6D7D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DE8B11E0-CF94-4FC3-B082-B5EE41647B33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8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9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2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Text Box 17"/>
          <p:cNvSpPr/>
          <p:nvPr/>
        </p:nvSpPr>
        <p:spPr>
          <a:xfrm>
            <a:off x="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McGraw-Hil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4572000" y="65530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McGrawHill-Italic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cGrawHill-Italic"/>
              </a:rPr>
              <a:t>The McGraw-Hill Companies, Inc., 2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E26F-469D-4B9A-9434-DDFF22149B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2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D87DD163-BEC8-4FDC-92B8-E24D4234A4DC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Forouzan4e07_banner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1143000" y="2514600"/>
            <a:ext cx="6858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pter 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0" y="65070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The McGraw-Hill Companies, Inc. Permission required for reproduction or displa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A1FCD933-CAA2-4540-91B8-7EA70390619C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99160" y="380880"/>
            <a:ext cx="64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5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fully connected mesh topology (five devic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1927080" y="1652760"/>
            <a:ext cx="48546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63DF1B5B-3359-41D7-B453-A18BDD7058DF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99160" y="380880"/>
            <a:ext cx="58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6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star topology connecting four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1562040" y="1881360"/>
            <a:ext cx="59054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C49BBAB4-8BB5-4E76-8BB0-C887BFF6F428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99880" y="457200"/>
            <a:ext cx="59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7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bus topology connecting three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569880" y="2362320"/>
            <a:ext cx="788832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46B6A409-C50B-4CBD-B25C-E18B967BE414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00240" y="457200"/>
            <a:ext cx="57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8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ring topology connecting six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246240" y="1922400"/>
            <a:ext cx="85928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074A832E-DA87-450B-BBC5-54B74747BD68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95200" y="380880"/>
            <a:ext cx="78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9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hybrid topology: a star backbone with three bus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736560" y="1490760"/>
            <a:ext cx="688356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E0C2BABF-87AC-418C-8C0F-00E77F9AED63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67560" y="361800"/>
            <a:ext cx="42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egories of Net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457200" y="152388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ocal Area Networks (LA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hort dista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esigned to provide local interconn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ide Area Networks (WA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ong dista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vide connectivity over larg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tropolitan Area Networks (MA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vide connectivity over areas such as a city, a camp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8F68DEB3-289F-4284-8FFD-1D33199B3691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95920" y="380880"/>
            <a:ext cx="83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10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n isolated LAN connecting 12 computers to a hub in a clo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1239840" y="1622520"/>
            <a:ext cx="615168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579EA5C7-0B56-44DE-B16F-733D20492C57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98440" y="380880"/>
            <a:ext cx="717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1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ANs: a switched WAN and a point-to-point W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tretch/>
        </p:blipFill>
        <p:spPr>
          <a:xfrm>
            <a:off x="1117440" y="1116000"/>
            <a:ext cx="711216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6AFEA049-9B24-4514-98DA-4B5FE4557B76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95560" y="22860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1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heterogeneous network made of four WANs and two L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1824120" y="990720"/>
            <a:ext cx="5740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4A345C38-EDDE-4146-8C04-323D8AFBA8C7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26080" y="152280"/>
            <a:ext cx="41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3   THE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6320" y="121932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nterne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has revolutionized many aspects of our daily lives. It has affected the way we do business as well as the way we spend our leisure time. The Internet is a communication system that has brought a wealth of information to our fingertips and organized it for our us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228600" y="5045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Organization of the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Internet Service Providers (ISP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241200" y="45115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64FD3E03-D32C-4907-96CB-39839B7D7FF5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23920" y="195120"/>
            <a:ext cx="626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1   DATA COMMUN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6320" y="99108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term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elecommunicatio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means communication at a distance. The wor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at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refers to information presented in whatever form is agreed upon by the parties creating and using the data.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ata communication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are the exchange of data between two devices via some form of transmission medium such as a wire cabl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228600" y="50482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Components of a data communications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ata F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241200" y="457200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91DF2365-8EE7-4605-8699-5A74EF2C68B4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"/>
          <p:cNvSpPr/>
          <p:nvPr/>
        </p:nvSpPr>
        <p:spPr>
          <a:xfrm>
            <a:off x="152280" y="763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00240" y="304920"/>
            <a:ext cx="61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1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ierarchical organization of the Int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668600" y="1095480"/>
            <a:ext cx="54943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C6F08647-FC86-45B7-A518-A2A766746B77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6800" y="152280"/>
            <a:ext cx="35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4   PROTOC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228600" y="108252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protocol is synonymous with rule. It consists of a set of rules that govern data communications. It determines what is communicated, how it is communicated and when it is communicated. The key elements of a protocol are syntax, semantics and ti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228600" y="44956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Synta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Seman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Tim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241200" y="396252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1C9D26B1-E11F-45B6-B738-1AF93D4BCD9C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68640" y="361800"/>
            <a:ext cx="41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ments of a Protoc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457200" y="152388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tructure or format of th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dicates how to read the bits - field deline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man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nterprets the meaning of the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Knows which fields define what 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en data should be sent and wh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peed at which data should be sent or speed at which it is being receiv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71869147-6A45-4886-8DDE-4496948936B4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04920" y="380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mponents of a data communication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782640" y="2593800"/>
            <a:ext cx="7066080" cy="18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A8A26511-3514-4E15-A066-EE460842BBC7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94840" y="38088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ata flow (simplex, half-duplex, and full-duple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1219320" y="1171440"/>
            <a:ext cx="64897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21DF8CBA-CE46-4B98-9B2C-2BCED496B6B6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6800" y="15228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2   NETWO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822960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228600" y="121968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etwor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is a set of devices (often referred to a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de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connected by communication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ink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 A node can be a computer, printer, or any other device capable of sending and/or receiving data generated by other nodes on the network. A link can be a cable, air, optical fiber, or any medium which can transport a signal carrying informa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04920" y="4876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33cc"/>
                </a:solidFill>
                <a:latin typeface="Times New Roman"/>
              </a:rPr>
              <a:t>Network Crite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hysical 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117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ategories of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06360" y="434340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pics discussed in this se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AD30F1D2-9241-4376-B4CA-AB199304B65C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02040" y="361800"/>
            <a:ext cx="32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Criter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457200" y="152388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epends on Network E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easured in terms of Delay and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Failure rate of network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easured in terms of availability/robust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ata protection against corruption/loss of data due 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Erro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alicious 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887B83AE-1930-485A-9540-C73694039FD3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70440" y="361800"/>
            <a:ext cx="35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ysical Struc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57200" y="152388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ype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oint to Point - single transmitt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ultipoint - multiple recipients of single 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ysical Top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nnection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ype of transmission - unicast, mulitcast, broadca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68F7E84B-D0F2-4B18-8C1C-C1963BED056D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"/>
          <p:cNvSpPr/>
          <p:nvPr/>
        </p:nvSpPr>
        <p:spPr>
          <a:xfrm>
            <a:off x="152280" y="22860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97000" y="45720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3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ypes of connections: point-to-point and multi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020600" y="1717560"/>
            <a:ext cx="682812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fld id="{2A90D29D-0C9D-4BB9-AF2D-B4FA46B6E279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"/>
          <p:cNvSpPr/>
          <p:nvPr/>
        </p:nvSpPr>
        <p:spPr>
          <a:xfrm>
            <a:off x="152280" y="15228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1320" y="380880"/>
            <a:ext cx="40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igure 1.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ategories of top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152280" y="6248520"/>
            <a:ext cx="87631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1154160" y="2317680"/>
            <a:ext cx="63896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4:28:17Z</dcterms:created>
  <dc:creator>Magda El Zarki</dc:creator>
  <dc:description/>
  <dc:language>en-US</dc:language>
  <cp:lastModifiedBy>ukyawnaing</cp:lastModifiedBy>
  <dcterms:modified xsi:type="dcterms:W3CDTF">2012-10-11T02:55:21Z</dcterms:modified>
  <cp:revision>5</cp:revision>
  <dc:subject/>
  <dc:title>PowerPoint Presentation</dc:title>
</cp:coreProperties>
</file>