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6.pct" ContentType="image/x-pict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ct" ContentType="image/x-pict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827A-4728-40C2-8776-A8477202D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F252-F9BD-4345-B8EA-51E9970EB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52B0-55A3-4502-B336-7A16E98A2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450F-99C3-4E7A-82F6-AE203F0FA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33920-0CD3-4EAB-8716-33F145B2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43CEB-D584-44FE-82A1-0C24331D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784F0-E2DA-482E-A662-3FE98017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2B97-8B2D-480B-88DC-4ECB1473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65E32-395A-49F1-A627-C6528833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6755C-D0ED-4363-B615-7C85D300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522DB-727F-4ECA-B947-28681252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0402-2DE3-43D4-9A51-30FB10A76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DD0DA-2600-4596-A26E-E9A5E507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6CD22-1AD9-44DB-A5AD-69EDE00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DCDFE-7FEF-4F70-9FF8-12173F72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2FE6-9613-4352-BF15-5DAF8BC0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9EB1A-0308-43CE-A000-1035CBD4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030C-1F0F-49A7-A327-C46018FF2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7FA7-7F8B-41C0-8A2B-EA2654CBD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255D-A9D0-4D98-A333-AB9E7A8CB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3D76-D354-4914-AC51-51B1109A7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BBF7-1913-4D58-B592-8685712F8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0B17-C6DD-488E-80D0-F607F0D39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0E90-9402-4AFA-A6A8-7DFE3DF5E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.</a:t>
            </a:r>
            <a:fld id="{4DA3310D-8D27-493E-9476-A6A793872D63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8BB8-16C7-4597-8F1B-59CBBCF02E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mission Med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F1CD-220A-4496-9AEB-701FB2DCD0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3840" y="76212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axial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7400" y="1957320"/>
            <a:ext cx="814572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423E-DCEF-427F-AAC3-168EB5E3C4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757160" y="1828800"/>
            <a:ext cx="44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coaxial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23960" y="2316240"/>
            <a:ext cx="5894280" cy="202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A7EA-C6C0-41C5-B4CC-656F6DD81B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560" y="76212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NC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725560"/>
            <a:ext cx="7925040" cy="19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AF7C7-261A-4D8F-B14B-64C9E36230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600" y="76212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axial cabl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00240" y="1627200"/>
            <a:ext cx="6114960" cy="446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202B-1DCF-42E3-9B48-18093125E3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680" y="762120"/>
            <a:ext cx="56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0  Fiber optics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ending of light 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3680" y="2362320"/>
            <a:ext cx="8070840" cy="227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B2F7-81ED-4CEB-BFA8-5FB7A0D15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560" y="7621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tical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78000" y="2987640"/>
            <a:ext cx="8308800" cy="15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72B78-F3FB-4E52-83F8-31187AECA4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0960" y="762120"/>
            <a:ext cx="38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pagation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49160" y="2133720"/>
            <a:ext cx="763272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6A71-745D-4847-9C6A-37F543F18D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049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73240" y="1035000"/>
            <a:ext cx="6370560" cy="528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F3C0-0FBF-4356-BA88-1276AD001C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48480" y="167652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7080" y="2286000"/>
            <a:ext cx="8940600" cy="20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0D6F-CE94-4FD8-9AD7-6191596EDE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200" y="76212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49280" y="1843200"/>
            <a:ext cx="6499440" cy="39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64CE-E91B-4CE2-B915-70FD9E7CBA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9520" y="76212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ransmission medium and physical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5760" y="2584440"/>
            <a:ext cx="8729640" cy="25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577B-1C9F-42EE-8555-9DEB3E4BE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2400" y="7621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iber-optic cable conn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890720"/>
            <a:ext cx="8593200" cy="39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0A77-D28D-4C53-8473-AAEE2EF757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1320" y="76212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tical fibe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82680" y="1676520"/>
            <a:ext cx="5575320" cy="44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BDD1-4276-4009-8822-BB65516A49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20" y="406440"/>
            <a:ext cx="71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2   UNGUIDED MEDIA: WI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13860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guided media transport electromagnetic waves without using a physical conductor. This type of communication is often referred to as wireless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icro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8353-749C-4DC1-AF32-09A8CDEC17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0240" y="762120"/>
            <a:ext cx="75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lectromagnetic spectrum for wireless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9520" y="2590920"/>
            <a:ext cx="8400960" cy="21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9610-4394-4735-9AC1-BA073A4C4E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1680" y="76212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opaga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38040" y="1917720"/>
            <a:ext cx="8501040" cy="356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19E2-DBBC-4EF3-A290-8DCE61595F8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95600" y="66816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1201680"/>
            <a:ext cx="779796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0AF0-EB34-45CF-86C3-1265465966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200" y="76212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1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ireless transmission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2520" y="2043000"/>
            <a:ext cx="8238960" cy="27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ECC3-F817-4EE1-8440-69F5B503EC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6668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8640" y="441972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360" y="2771640"/>
            <a:ext cx="8077320" cy="30186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o waves are used for multicast communications, such as radio and television, and paging systems. They can penetrate through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y regulated. Use omni directional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" y="2023920"/>
            <a:ext cx="1143000" cy="567000"/>
            <a:chOff x="457200" y="2023920"/>
            <a:chExt cx="1143000" cy="56700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9220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7CCC-1480-4780-A52F-20C59FDA67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120" y="76212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mnidirectional 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79840" y="2039760"/>
            <a:ext cx="3263760" cy="36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C9CE-8B51-4422-AB96-78CA14D9D4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39544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513864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360" y="2487600"/>
            <a:ext cx="8077320" cy="3993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waves are used for unicast communication such as cellular telephones, satellite network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wireless 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frequency ranges cannot penetrate wa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directional antennas - point to point line of sight commun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1752480"/>
            <a:ext cx="1143000" cy="567000"/>
            <a:chOff x="457200" y="1752480"/>
            <a:chExt cx="1143000" cy="56700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92200" y="17524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EF2E-406A-449B-97A0-D3A83D4BB0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76212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asses of transmissio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100240"/>
            <a:ext cx="7715160" cy="31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3F94-7F06-4891-B862-AF782BA7EA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3120" y="76212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2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directional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8880" y="2050920"/>
            <a:ext cx="7394400" cy="35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3945-6EEE-4EF0-B75D-DD600E428B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6668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640" y="487692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360" y="2759040"/>
            <a:ext cx="8077320" cy="2043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rared signals can be used for short-range communication in a closed area using line-of-sight propag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200" y="2023920"/>
            <a:ext cx="1143000" cy="567000"/>
            <a:chOff x="457200" y="2023920"/>
            <a:chExt cx="1143000" cy="5670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457200" y="202392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92200" y="20239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12CE-6742-42FC-BEAD-1938BF6C2B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reless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subject to a lot more errors than guided media chann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 is one cause for errors, can be circumvented with high SN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gher the SNR the less capacity is available for transmission due to the broadcast nature of the chann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so subject to fading and no coverage ho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60F2-EAC5-4065-8B36-077C606E22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5360" y="406440"/>
            <a:ext cx="41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1   GUIDED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5238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uided media, which are those that provide a conduit from one device to another, include twisted-pair cable, coaxial cable, and fiber-optic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wisted-Pair Cabl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axial Cable</a:t>
            </a:r>
            <a:br>
              <a:rPr sz="2400"/>
            </a:b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Fiber-Optic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140B-43EB-4A84-8F32-7C928E560A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762120"/>
            <a:ext cx="35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wisted-pair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986200"/>
            <a:ext cx="8610480" cy="12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D521-3E4C-48B0-97EF-66952143E0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040" y="76212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and STP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8040" y="2112840"/>
            <a:ext cx="8501040" cy="33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01A3-6534-4BAE-9CA3-F10452B104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1120" y="228600"/>
            <a:ext cx="61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able 7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unshielded twisted-pair 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39720" y="685800"/>
            <a:ext cx="7742160" cy="58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5EE8-11FA-4A79-B38C-F02EFB813D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200" y="7621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conn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19200" y="2244600"/>
            <a:ext cx="6481800" cy="270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F2AA-7265-4299-AF99-5C2F942B14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00" y="762120"/>
            <a:ext cx="35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7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TP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124680" cy="44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86E1-AE33-45C1-912E-E310EC58DC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29T14:14:54Z</dcterms:modified>
  <cp:revision>166</cp:revision>
  <dc:subject/>
  <dc:title>PowerPoint Presentation</dc:title>
</cp:coreProperties>
</file>