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8C1-D0B0-4FA8-837B-FA72B59B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F7C-3F1E-4562-8598-6C1ADC5F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63F-BC1A-4A97-8F9D-F13797CB6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CE6-7923-44C2-A593-9CA6F316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1EC-5561-4141-8B5B-FF968273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2CF-B380-47ED-B739-B4EE2DE2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913-3ED5-48BA-AEFE-36309DFA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897-0A95-44F2-9B43-D8E76691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25C-3AAC-4CB8-8189-80E12EAE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4C8-0892-4000-820D-905E5745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656-3E0B-4B81-818E-C27F6A72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E0F-DF9D-4BD7-B83C-1ECC512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FC73-0313-4759-AE38-79642DCCED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901440" y="40464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eer-to-Peer Networ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28480" y="795600"/>
            <a:ext cx="7105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ased on their layout (not the physical but the imagined layout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lso referred to as topology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here are two types of networks. A network is referred to as peer-to-pe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f most computers are similar and run workstation operating system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ttp://www.functionx.com/illustrations/network1.gif"/>
          <p:cNvPicPr/>
          <p:nvPr/>
        </p:nvPicPr>
        <p:blipFill>
          <a:blip r:embed="rId1"/>
          <a:stretch/>
        </p:blipFill>
        <p:spPr>
          <a:xfrm>
            <a:off x="2195640" y="2133720"/>
            <a:ext cx="3943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30:16Z</dcterms:created>
  <dc:creator>ukyawnaing</dc:creator>
  <dc:description/>
  <dc:language>en-US</dc:language>
  <cp:lastModifiedBy>ukyawnaing</cp:lastModifiedBy>
  <dcterms:modified xsi:type="dcterms:W3CDTF">2012-10-11T04:32:37Z</dcterms:modified>
  <cp:revision>1</cp:revision>
  <dc:subject/>
  <dc:title>Slide 1</dc:title>
</cp:coreProperties>
</file>