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2D6F-0C17-4B61-8A2D-9D78F2B62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8CE1-00B0-4BFC-806E-F9EAC0EC5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C3C3-70C5-46A5-8FEB-6E8ED9B1E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F2CD-1FEA-4053-A605-95407D3E7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A09B-ECA4-41C8-B1F6-362789272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8C85-6BCB-41DA-8B17-27888A7BD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5A51-B997-47C4-854A-689AB98E3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25C6-F72C-40F3-87A6-5F75C6176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4095-5782-4CBD-872E-968FB5A8F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02FC-4D50-4DC8-8D6E-5271C4471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D87A-7030-48ED-8904-CAC1EFFA4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B041-F1B3-477D-849A-C5334C8CD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AF4FE-6D59-41DB-9AC4-64B3D51C538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395280" y="260280"/>
            <a:ext cx="7272360" cy="30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alibri"/>
              </a:rPr>
              <a:t>Network Setup on Additional Compute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After setting up the network on one computer, you can continue with the next computer. You two alternatives: you can use the same network wizard or you can use the setup disk you would have creat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To setup the network on the other computer(s) that will be part of your network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alibri"/>
              </a:rPr>
              <a:t>Practical Learning: Connecting Additional Compute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On the next computer, click Start -&gt; Network Place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Under Network Tasks, click Set Up A Home Or Office Network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In the first page of the wizard, read the text and click Next</a:t>
            </a:r>
            <a:br>
              <a:rPr sz="1600"/>
            </a:b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networkwiz1"/>
          <p:cNvPicPr/>
          <p:nvPr/>
        </p:nvPicPr>
        <p:blipFill>
          <a:blip r:embed="rId1"/>
          <a:stretch/>
        </p:blipFill>
        <p:spPr>
          <a:xfrm>
            <a:off x="1763640" y="2711520"/>
            <a:ext cx="5329440" cy="41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networkwiz2"/>
          <p:cNvPicPr/>
          <p:nvPr/>
        </p:nvPicPr>
        <p:blipFill>
          <a:blip r:embed="rId1"/>
          <a:stretch/>
        </p:blipFill>
        <p:spPr>
          <a:xfrm>
            <a:off x="0" y="0"/>
            <a:ext cx="874872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networkwiz20"/>
          <p:cNvPicPr/>
          <p:nvPr/>
        </p:nvPicPr>
        <p:blipFill>
          <a:blip r:embed="rId1"/>
          <a:stretch/>
        </p:blipFill>
        <p:spPr>
          <a:xfrm>
            <a:off x="0" y="0"/>
            <a:ext cx="874872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networkwiz21"/>
          <p:cNvPicPr/>
          <p:nvPr/>
        </p:nvPicPr>
        <p:blipFill>
          <a:blip r:embed="rId1"/>
          <a:stretch/>
        </p:blipFill>
        <p:spPr>
          <a:xfrm>
            <a:off x="0" y="0"/>
            <a:ext cx="8459640" cy="66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networkwiz22"/>
          <p:cNvPicPr/>
          <p:nvPr/>
        </p:nvPicPr>
        <p:blipFill>
          <a:blip r:embed="rId1"/>
          <a:stretch/>
        </p:blipFill>
        <p:spPr>
          <a:xfrm>
            <a:off x="0" y="0"/>
            <a:ext cx="8532720" cy="66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networkwiz23"/>
          <p:cNvPicPr/>
          <p:nvPr/>
        </p:nvPicPr>
        <p:blipFill>
          <a:blip r:embed="rId1"/>
          <a:stretch/>
        </p:blipFill>
        <p:spPr>
          <a:xfrm>
            <a:off x="0" y="0"/>
            <a:ext cx="8675640" cy="68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networkwiz14"/>
          <p:cNvPicPr/>
          <p:nvPr/>
        </p:nvPicPr>
        <p:blipFill>
          <a:blip r:embed="rId1"/>
          <a:stretch/>
        </p:blipFill>
        <p:spPr>
          <a:xfrm>
            <a:off x="0" y="0"/>
            <a:ext cx="8604360" cy="66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networkwiz15"/>
          <p:cNvPicPr/>
          <p:nvPr/>
        </p:nvPicPr>
        <p:blipFill>
          <a:blip r:embed="rId1"/>
          <a:stretch/>
        </p:blipFill>
        <p:spPr>
          <a:xfrm>
            <a:off x="0" y="0"/>
            <a:ext cx="874872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1T05:30:59Z</dcterms:created>
  <dc:creator>ukyawnaing</dc:creator>
  <dc:description/>
  <dc:language>en-US</dc:language>
  <cp:lastModifiedBy>ukyawnaing</cp:lastModifiedBy>
  <dcterms:modified xsi:type="dcterms:W3CDTF">2012-10-11T05:34:42Z</dcterms:modified>
  <cp:revision>1</cp:revision>
  <dc:subject/>
  <dc:title>Slide 1</dc:title>
</cp:coreProperties>
</file>