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5F8F-FFA5-4676-880F-6A225910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20C-988F-49B0-83DC-1D0278C6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647-6C41-4E9C-984A-4ACD2163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863-55D6-4EA0-922C-DF06CDAD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429-AC82-49FE-988B-65D79BBF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217B-6316-4537-A006-EFD0C88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7A9-78CF-44A1-B2FD-115F4D50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8E10-3A57-4250-91DE-947B8C7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48D-55CF-4B39-AA0F-A06BBF59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8DA-D7F3-4CB2-B9A9-0736133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6B9-0351-43DE-A863-7FB7A652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893-84B7-4E45-B1B6-CB9CE3DB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F211-7875-4C91-8DFC-7FF7374C5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549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4360" y="1268280"/>
            <a:ext cx="648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rewall is a security measure that consists of protecting your network from intruders. This is primarily important if you plan to connect your network to the Internet. There are two types of firewalls: hardware and softw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Installing Window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f0"/>
                </a:solidFill>
                <a:latin typeface="Calibri"/>
              </a:rPr>
              <a:t>http://highlightcomputergroup3.zoomshare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roduction to computer network 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ge 37 to 4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51:38Z</dcterms:created>
  <dc:creator>ukyawnaing</dc:creator>
  <dc:description/>
  <dc:language>en-US</dc:language>
  <cp:lastModifiedBy>ukyawnaing</cp:lastModifiedBy>
  <dcterms:modified xsi:type="dcterms:W3CDTF">2012-10-11T04:58:03Z</dcterms:modified>
  <cp:revision>1</cp:revision>
  <dc:subject/>
  <dc:title>Slide 1</dc:title>
</cp:coreProperties>
</file>