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57C8-465B-420E-87A5-2EFD52D2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3C69-BF6F-4584-9B3B-90A0E358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AFAB-A979-47CB-866F-9FF9FA88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EF46-683B-4197-BAF2-3475BC22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8294-EE37-42B2-8F20-5C0F4E2B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ACC6-6DDD-4B62-B5D4-60D991A6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4D67-C7C3-4C02-8A0D-3B7CEC5D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F3AF-F78E-4D14-B1F3-701514D6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88D3-10E5-4B89-B8D7-71507BD6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5E5D-C846-4D39-A699-57AFB59A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BE2F-9424-417D-8D1C-D36BAFEC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EBF1-2DB6-4684-80B3-4966AD29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01A1-120B-4D53-8E80-521C0B837A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472680" y="47628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0000"/>
                </a:solidFill>
                <a:latin typeface="Calibri"/>
              </a:rPr>
              <a:t>Network C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414000" y="983520"/>
            <a:ext cx="850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able is used to connect computers. Although we are planning to use as much wireless as possible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you should always have one or more cables around. In our network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we will use Category 5 cable RJ-45. The ends of the cable appear as follow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able1"/>
          <p:cNvPicPr/>
          <p:nvPr/>
        </p:nvPicPr>
        <p:blipFill>
          <a:blip r:embed="rId1"/>
          <a:stretch/>
        </p:blipFill>
        <p:spPr>
          <a:xfrm>
            <a:off x="900000" y="1989000"/>
            <a:ext cx="1584360" cy="874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able2"/>
          <p:cNvPicPr/>
          <p:nvPr/>
        </p:nvPicPr>
        <p:blipFill>
          <a:blip r:embed="rId2"/>
          <a:stretch/>
        </p:blipFill>
        <p:spPr>
          <a:xfrm>
            <a:off x="3851280" y="1773360"/>
            <a:ext cx="1174680" cy="1224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network3"/>
          <p:cNvPicPr/>
          <p:nvPr/>
        </p:nvPicPr>
        <p:blipFill>
          <a:blip r:embed="rId3"/>
          <a:stretch/>
        </p:blipFill>
        <p:spPr>
          <a:xfrm>
            <a:off x="1619280" y="2924280"/>
            <a:ext cx="482760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39:18Z</dcterms:created>
  <dc:creator>ukyawnaing</dc:creator>
  <dc:description/>
  <dc:language>en-US</dc:language>
  <cp:lastModifiedBy>ukyawnaing</cp:lastModifiedBy>
  <dcterms:modified xsi:type="dcterms:W3CDTF">2012-10-11T04:41:49Z</dcterms:modified>
  <cp:revision>1</cp:revision>
  <dc:subject/>
  <dc:title>Slide 1</dc:title>
</cp:coreProperties>
</file>