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B57B-11E5-4CA8-ACAC-3B3EA933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298C-ACF6-40C0-8C81-568E9426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078A-B248-4414-A616-46214C97B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866E-9AA7-4770-9610-39A276692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C5C4-2074-414B-AA30-206B990A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6FC2-5CF3-4344-9191-94909F3A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EF11-EEF0-418C-8AFE-57768A27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462D-E2CD-45AD-A689-F1DA6FD1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1885-1BE8-438B-8252-913B6E83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1EA6-02BD-4F85-9B8E-5B7DB28B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7265-C50E-4817-A723-056F0A4C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2560-6885-4A2A-98F3-8B99498F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042E-397A-449D-8387-782B5D9067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alibri"/>
              </a:rPr>
              <a:t>Viewing Network Connections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  </a:t>
            </a:r>
            <a:br>
              <a:rPr sz="1600"/>
            </a:br>
            <a:r>
              <a:rPr b="1" lang="en-AU" sz="1600" spc="-1" strike="noStrike">
                <a:solidFill>
                  <a:srgbClr val="000000"/>
                </a:solidFill>
                <a:latin typeface="Calibri"/>
              </a:rPr>
              <a:t>My Network Places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Once you have built a computer network, from time to time, you will need to check what computers are available and/or what files or folders have been shared. To assist you with this, Microsoft Windows XP provides a window named My Network Places.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To view the available connected computers:</a:t>
            </a:r>
            <a:br>
              <a:rPr sz="1600"/>
            </a:br>
            <a:br>
              <a:rPr sz="1600"/>
            </a:br>
            <a:r>
              <a:rPr b="1" lang="en-AU" sz="1600" spc="-1" strike="noStrike">
                <a:solidFill>
                  <a:srgbClr val="000000"/>
                </a:solidFill>
                <a:latin typeface="Calibri"/>
              </a:rPr>
              <a:t>Practical Learning: Viewing the Connected Computers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On one of the computers, click Start -&gt; My Network Places.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If you don't see that option in the right column of the Start menu, depending of your configuration, click Start -&gt; Settings -&gt; Network Connections. Then, under Other Places, click My Network Places.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As an alternative, you can click Start -&gt; Control Panel or Start -&gt; Settings -&gt; Control Panel. Under Other Places, click My Network Places. 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Under Network Tasks, click View Workgroup Computer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Viewing Workgroup Computers With 3 Nodes"/>
          <p:cNvPicPr/>
          <p:nvPr/>
        </p:nvPicPr>
        <p:blipFill>
          <a:blip r:embed="rId1"/>
          <a:stretch/>
        </p:blipFill>
        <p:spPr>
          <a:xfrm>
            <a:off x="0" y="0"/>
            <a:ext cx="838836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5:35:09Z</dcterms:created>
  <dc:creator>ukyawnaing</dc:creator>
  <dc:description/>
  <dc:language>en-US</dc:language>
  <cp:lastModifiedBy>ukyawnaing</cp:lastModifiedBy>
  <dcterms:modified xsi:type="dcterms:W3CDTF">2012-10-11T05:37:44Z</dcterms:modified>
  <cp:revision>2</cp:revision>
  <dc:subject/>
  <dc:title>Viewing Network Connections    My Network Places Once you have built a computer network, from time to time, you will need to check what computers are available and/or what files or folders have been shared. To assist you with this, Microsoft Windows XP provides a window named My Network Places. To view the available connected computers:  Practical Learning: Viewing the Connected Computers On one of the computers, click Start -&gt; My Network Places. If you don't see that option in the right column of the Start menu, depending of your configuration, click Start -&gt; Settings -&gt; Network Connections. Then, under Other Places, click My Network Places. As an alternative, you can click Start -&gt; Control Panel or Start -&gt; Settings -&gt; Control Panel. Under Other Places, click My Network Places.  Under Network Tasks, click View Workgroup Computers </dc:title>
</cp:coreProperties>
</file>