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BDD5D-ED82-43F1-A113-DFF5A225FB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CFE52-E963-4AB2-8A71-C0D0F6A47F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F7E12-D461-401A-81B0-E204E20697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A604A-721F-4D4C-8C84-37020AA298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3127CC-6FF2-418B-BB63-DF3AFA5F4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99B914-CC0B-4795-9676-4042DBEC0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CA361C-5C73-4CA1-BFC8-5DF26BBC7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242FE0-A806-4DBD-AD10-DF0A83220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856B4E-A280-4B22-833F-293F7B6E2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2250B9-30D0-4356-8418-64828B7B5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177403-9CD8-4F6D-98F4-19EA61D4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D2016-1C1D-4187-9DCA-43398D2941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D8FA25-F3F8-45BD-9581-0150F34F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B9C5D1-1C0B-4CAE-A2A0-78C45F10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368BAE-EFC4-46CB-A93A-BCEB11D28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F03761-4501-4F54-A9B7-363A73276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6A1DA4-D9A4-4904-8623-5D000C451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21271-7FDC-49B6-84D6-D22AF5DC82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A3473-5E0D-489E-9B2D-8CAD1F62D2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BD228-C960-474C-A951-C1B427E4EB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86EF5-04EB-4468-95B9-0FAD9C9D94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2D1E6-F306-4F65-9FDD-55D67F6119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F7F07-0633-4C43-9E01-D2DEB5EC6C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8DC2B-D648-4296-97BD-48C2132D24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6.</a:t>
            </a:r>
            <a:fld id="{4374ED0C-D8D8-4260-8395-CF0561B5E572}" type="slidenum">
              <a:rPr b="1" lang="en-US" sz="20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45079-3F14-4DCF-AA92-67CFF7E6374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5530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cGrawHill-Italic"/>
              </a:rPr>
              <a:t>McGraw-Hi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655308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cGrawHill-Italic"/>
              <a:buChar char="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cGrawHill-Italic"/>
              </a:rPr>
              <a:t>The McGraw-Hill Companies, Inc.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969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143000" y="2514600"/>
            <a:ext cx="6858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hapter 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ndwidth Utilizatio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ultiplexing and Sprea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65070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The McGraw-Hill Companies, Inc. Permission required for reproduction or displ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312CB-4B3D-4684-A229-76D6F0FDFA3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2760" y="762120"/>
            <a:ext cx="33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6.33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SSS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6320" y="2057400"/>
            <a:ext cx="8875440" cy="3519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C37B1-8328-4470-9244-A2AF3A84B80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7200" y="22860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-1   SPREAD SPECTR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229600" y="640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99072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 spread spectrum (SS), we combine signals from different sources to fit into a larger bandwidth, but our goals are to prevent eavesdropping and jamming. To achieve these goals, spread spectrum techniques add redundan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477216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SzPct val="117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Frequency Hopping Spread Spectrum (FH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SzPct val="117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Direct Sequence Spread Spectrum (DS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4880" y="4295880"/>
            <a:ext cx="48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Topics discussed in this se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46670-2BB4-41E6-9A1F-D556E1F9DB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read Spectr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ignal that occupies a bandwidth of B, is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prea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to occupy a bandwidth of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signals are spread to occupy the same bandwidth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are spread with different codes so that they can be separated at the receiv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can be spread in the frequency domain or in the time domai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35BA1-7AB5-4119-BC76-038EF879274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3480" y="762120"/>
            <a:ext cx="35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6.27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pread spectr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93640" y="2351160"/>
            <a:ext cx="7788240" cy="3058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7769C-FAC5-4CC1-B97B-9EC3F05B694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97720" y="762120"/>
            <a:ext cx="653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6.28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requency hopping spread spectrum (FH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00280" y="1693800"/>
            <a:ext cx="7277040" cy="4402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4B21F-E3BB-4336-9FC8-0D50CCD0EF0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3480" y="762120"/>
            <a:ext cx="49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6.29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requency selection in FH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7321680" cy="4359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87FD8-CCC3-41BD-8B66-E4B267CB16E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5640" y="762120"/>
            <a:ext cx="314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6.30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HSS cyc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170000" y="1676520"/>
            <a:ext cx="6983280" cy="4387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7EBE9-DC04-41EE-8A54-76ACAB87578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3120" y="762120"/>
            <a:ext cx="38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6.31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andwidth sha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28600" y="2001960"/>
            <a:ext cx="8656560" cy="3865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9AC93-2CEF-4E5F-BE4E-C19DFB366A5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762120"/>
            <a:ext cx="24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6.32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S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84200" y="2490840"/>
            <a:ext cx="8126280" cy="2766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F8B3A-5054-485C-9D97-0598B4AAF8D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5T04:50:39Z</dcterms:created>
  <dc:creator>Valued Gateway Client</dc:creator>
  <dc:description/>
  <dc:language>en-US</dc:language>
  <cp:lastModifiedBy>Magda El Zarki</cp:lastModifiedBy>
  <dcterms:modified xsi:type="dcterms:W3CDTF">2007-11-20T06:11:55Z</dcterms:modified>
  <cp:revision>161</cp:revision>
  <dc:subject/>
  <dc:title>PowerPoint Presentation</dc:title>
</cp:coreProperties>
</file>