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F53-7661-4DB0-9F9A-E923D6E4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F17-F18C-4FFB-86DA-4BDD0222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8FC-DE78-4575-BB3C-D1F5E5B3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0EF-BD18-489F-B160-1D56FD60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26E-6C19-40F1-8393-8C1479B5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F09-7EE4-43DD-8868-96E8A750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02B-567F-4C25-BA8B-58FDA016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103-AE93-4136-9581-92589396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260-00DC-4E0F-91F2-481F1D3F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8D01-590D-4B25-90BD-86170714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34E-E967-4100-86EA-D15B34A2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A308-54B4-4A05-954C-4EFC256C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3435-9772-4105-AEF3-3FBF83BAAA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71600" y="33336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712440" y="768960"/>
            <a:ext cx="713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hub is rectangular box that is used as the central object on which computer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devices are connect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o make this possible, a hub is equipped with small holes called por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ere is an example of a hub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ub1"/>
          <p:cNvPicPr/>
          <p:nvPr/>
        </p:nvPicPr>
        <p:blipFill>
          <a:blip r:embed="rId1"/>
          <a:stretch/>
        </p:blipFill>
        <p:spPr>
          <a:xfrm>
            <a:off x="2195640" y="2133720"/>
            <a:ext cx="30970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8520" y="37893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Routers: Wired or Wirel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router2"/>
          <p:cNvPicPr/>
          <p:nvPr/>
        </p:nvPicPr>
        <p:blipFill>
          <a:blip r:embed="rId2"/>
          <a:stretch/>
        </p:blipFill>
        <p:spPr>
          <a:xfrm>
            <a:off x="2268360" y="4797360"/>
            <a:ext cx="3353040" cy="18860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770760" y="4150800"/>
            <a:ext cx="795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ike a hub, a router is another type of device that acts as the central point among compute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nd other devices that are part of a network. Here is an example of a wired route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42:00Z</dcterms:created>
  <dc:creator>ukyawnaing</dc:creator>
  <dc:description/>
  <dc:language>en-US</dc:language>
  <cp:lastModifiedBy>ukyawnaing</cp:lastModifiedBy>
  <dcterms:modified xsi:type="dcterms:W3CDTF">2012-10-11T04:45:08Z</dcterms:modified>
  <cp:revision>1</cp:revision>
  <dc:subject/>
  <dc:title>Slide 1</dc:title>
</cp:coreProperties>
</file>