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7344D-CED8-4678-B150-17B09DFB7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0DDE-BD4C-4DDD-9DC9-F82F75B50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15A3D-7C03-4C8B-B64E-5A9D2EC12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1B26-7CD6-4E06-9614-B05FEA051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96FE2-AB77-4435-9EC6-AED1C2D3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438B0-D3A3-44FC-818F-FE5D2DA4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612A6-5BA2-485F-9D55-440CC49A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022E7-8939-47AB-82CA-07D7E676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33A82-D78C-49CD-B494-720F773E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ADBCD-51EF-418F-AAC8-BBB50EC7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94A1D-6F5E-4980-8C14-10AD2339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32F22-1B38-43A2-88A6-5DB2BCAFC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B6702-BB55-4117-9311-5543D02D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6E3C9-FD44-4FAF-8E24-A46E5C0F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563FD-91DA-4089-A5EA-C0B5EB8F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1C2F7-EF16-431F-9083-BFE68368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B6EC6-0433-46E1-B074-01B68764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1F19-8AB9-4A4F-8A69-C90F86FBD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BDFB-2BB9-42D2-BC9B-88AEC6361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7D63-B5A9-4A03-BEFE-95E37B9EB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CA48-9777-4BD3-A0B1-6C0D7C20B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6A12-9E46-4A0E-A6DB-6B51A9C2A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C0D4-927E-4C5B-938F-C57473474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7D3BC-5F02-4D30-BAE0-C664D99D7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5.</a:t>
            </a:r>
            <a:fld id="{203DB682-67AC-41CB-A6DF-8F69656088BB}" type="slidenum">
              <a:rPr b="1" lang="en-US" sz="20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52BD-2192-4DE5-AC3A-526FC2C551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2514600"/>
            <a:ext cx="6858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og 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FCDF-B263-405B-89B3-B4D16B1A94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3120" y="76212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equency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320" y="1676520"/>
            <a:ext cx="8839080" cy="43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E13A-0166-45B0-B22D-D8E7ABCF16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3120" y="7621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M band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47840" y="3089160"/>
            <a:ext cx="7934040" cy="110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FF02-5C98-4B05-B4BD-2D1E8B8100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ase Modulation (PM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ting signal only changes the phase of the carrier sig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hase change manifests itself as a frequency change but the instantaneous frequency change is proportional to the derivative of the amplitu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andwidth is higher than for AM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08B1-8025-4515-BCE6-F20809D659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3120" y="762120"/>
            <a:ext cx="37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2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hase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3360" y="1600200"/>
            <a:ext cx="8775720" cy="417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CD92-DC98-4E99-86F7-E425DB7159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36232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8640" y="502920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5360" y="2454120"/>
            <a:ext cx="8077320" cy="3085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otal bandwidth required for PM can be determined from the bandwid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maximum amplitude of the modulating signal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(1 + β)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 most of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7200" y="1752480"/>
            <a:ext cx="1143000" cy="567000"/>
            <a:chOff x="457200" y="1752480"/>
            <a:chExt cx="1143000" cy="56700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1143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592200" y="175248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243A-96D6-4B04-8B53-75B8EA3969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120" y="406440"/>
            <a:ext cx="60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2   ANALOG AND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38456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alog-to-analog conversion is the representation of analog information by an analog signal. One may ask why we need to modulate an analog signal; it is already analog. Modulation is needed if the medium is bandpass in nature or if only a bandpass channel is available to u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46800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mplitude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Frequency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Phase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4880" y="42037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F82E-CF40-4FD4-8C9D-56EAEECD16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6640" y="762120"/>
            <a:ext cx="58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ypes of analog-to-analog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5200" y="2486160"/>
            <a:ext cx="8391600" cy="216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1C770-934B-47CC-B603-CBC8C05693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rrier signal is modulated only in amplitude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ating signal is the envelope of the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quired bandwidth is 2B, where B is the bandwidth of the modulatin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on both sides of the carrier freq.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he spectrum is identical, we can discard one half, thus requiring a smaller bandwidth for transmis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4A7B-9F97-460F-BD8A-70C410AC69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3120" y="762120"/>
            <a:ext cx="41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mplitude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9920" y="1763640"/>
            <a:ext cx="8821800" cy="395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090C-E5B7-444C-8758-40A080DD38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54808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8640" y="529128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360" y="2685960"/>
            <a:ext cx="8077320" cy="2598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otal bandwidth required for A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be determ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bandwidth of the audi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al: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A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1905120"/>
            <a:ext cx="1143000" cy="566640"/>
            <a:chOff x="457200" y="1905120"/>
            <a:chExt cx="1143000" cy="56664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57200" y="190512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92200" y="19051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061C-7762-4A26-A062-0E0AABF091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533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3120" y="7621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5.1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M band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3246480"/>
            <a:ext cx="6919920" cy="109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B634-8656-40AA-91CD-3B5C8CDCBA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equency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ting signal changes the freq.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the carrier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bandwidth for FM is hi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pprox. 10x the signal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A095-BB36-4936-BC8A-F4D386AC3C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6684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916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068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040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4572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136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800" y="53352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971800"/>
            <a:ext cx="815328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8640" y="4724280"/>
            <a:ext cx="8153640" cy="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360" y="3063960"/>
            <a:ext cx="8077320" cy="21110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otal bandwidth required for FM can be determined from the bandwid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audio signal: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F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(1 + β)B. Wher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usually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57200" y="2362320"/>
            <a:ext cx="1143000" cy="566640"/>
            <a:chOff x="457200" y="2362320"/>
            <a:chExt cx="1143000" cy="56664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457200" y="236232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92200" y="2362320"/>
              <a:ext cx="87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BDF7-E139-49FA-89AF-F74989C479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4:50:39Z</dcterms:created>
  <dc:creator>Valued Gateway Client</dc:creator>
  <dc:description/>
  <dc:language>en-US</dc:language>
  <cp:lastModifiedBy>Magda El Zarki</cp:lastModifiedBy>
  <dcterms:modified xsi:type="dcterms:W3CDTF">2007-11-06T07:41:57Z</dcterms:modified>
  <cp:revision>154</cp:revision>
  <dc:subject/>
  <dc:title>PowerPoint Presentation</dc:title>
</cp:coreProperties>
</file>