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119D-5AAB-4B51-8A66-6C920AC1D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9AD4-BF2A-4F49-84ED-7ADF05AB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2D79-C375-4981-A83E-E26CF2718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1110-4792-48CA-88FC-909A9AE6C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4C10-6DB5-4C98-A1FE-92821278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5614-13B9-4611-B3CB-6604D126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6655-618E-4056-95F0-480F8718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8862-8D72-482A-BA01-3278BE21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BEF0-6A75-4582-92D2-C395EC12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DEC8-EF6D-4DA1-8C39-C779A69E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37AE-38B3-4C60-B8F6-5839B9AC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A311-588F-4E64-8D34-FEFFA9C5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A40B-FE64-4878-9491-365F9D87BA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 u="sng">
                <a:solidFill>
                  <a:srgbClr val="ff0000"/>
                </a:solidFill>
                <a:uFillTx/>
                <a:latin typeface="Calibri"/>
              </a:rPr>
              <a:t>Server Operating System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As its name implies, the role of a server is to serve. To perform this job, it must be loaded with a special operating system. On this site, we cover a network that deals with a Microsoft-based network. The company publishes a server operating system named Microsoft Windows Server 2003. </a:t>
            </a:r>
            <a:br>
              <a:rPr sz="1600"/>
            </a:b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Before acquiring the operating system, you may fit one of the following descriptions: 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I will purchase a brand new computer, to use as a server, from a web site: You can purchase a server from a manufacturer on the Internet (HP, Dell, IBM, Gateway,  etc). You can also purchase a computer from an Internet-based store (http://www.tigerdirect.com, http://www.provantage.com, http://www.cdw.com, etc).</a:t>
            </a:r>
            <a:br>
              <a:rPr sz="1600"/>
            </a:b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The web sites of HP, Dell, IBM, Gateway,  etc has a link (or a section) named (or labeled) Servers or Small Business. You can shop from that section, based on your budget. If you are using this approach, look for a machine called server. When choosing the machine, make sure it meets the following requirements:</a:t>
            </a: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  </a:t>
            </a:r>
            <a:br>
              <a:rPr sz="40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133-MHz processor required; 550-MHz recommended; up to eight processors supported on one server 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128 MB of RAM minimum required; 256 MB or more recommended; 32 GB maximum 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1.25 to 2 GB of available hard disk space 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CD-ROM or DVD-ROM drive 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VGA or hardware that supports console redirection required; Super VGA supporting 800 x 600 or higher-resolution monitor recommended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erver Operating System Insta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9280" y="2349360"/>
            <a:ext cx="82090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libri"/>
              </a:rPr>
              <a:t>www.highlightcomputergroup3.zoomshare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0000"/>
                </a:solidFill>
                <a:latin typeface="Calibri"/>
              </a:rPr>
              <a:t>Computer_and_Networks.z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0000"/>
                </a:solidFill>
                <a:latin typeface="Calibri"/>
              </a:rPr>
              <a:t>Introduction to Computer Networks.do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libri"/>
              </a:rPr>
              <a:t>Page 86 to10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5:40:49Z</dcterms:created>
  <dc:creator>ukyawnaing</dc:creator>
  <dc:description/>
  <dc:language>en-US</dc:language>
  <cp:lastModifiedBy>ukyawnaing</cp:lastModifiedBy>
  <dcterms:modified xsi:type="dcterms:W3CDTF">2012-10-11T05:45:57Z</dcterms:modified>
  <cp:revision>2</cp:revision>
  <dc:subject/>
  <dc:title>Server Operating System As its name implies, the role of a server is to serve. To perform this job, it must be loaded with a special operating system. On this site, we cover a network that deals with a Microsoft-based network. The company publishes a server operating system named Microsoft Windows Server 2003.   Before acquiring the operating system, you may fit one of the following descriptions:  I will purchase a brand new computer, to use as a server, from a web site: You can purchase a server from a manufacturer on the Internet (HP, Dell, IBM, Gateway,  etc). You can also purchase a computer from an Internet-based store (http://www.tigerdirect.com, http://www.provantage.com, http://www.cdw.com, etc).  The web sites of HP, Dell, IBM, Gateway,  etc has a link (or a section) named (or labeled) Servers or Small Business. You can shop from that section, based on your budget. If you are using this approach, look for a machine called server. When choosing the machine, make sure it meets the following requirements:   133-MHz processor required; 550-MHz recommended; up to eight processors supported on one server  128 MB of RAM minimum required; 256 MB or more recommended; 32 GB maximum  1.25 to 2 GB of available hard disk space  CD-ROM or DVD-ROM drive  VGA or hardware that supports console redirection required; Super VGA supporting 800 x 600 or higher-resolution monitor recommended  </dc:title>
</cp:coreProperties>
</file>