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7929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73280" y="4287240"/>
            <a:ext cx="7929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7328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3624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4560" y="218412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5480" y="218412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73280" y="428724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4560" y="428724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5480" y="428724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12960" y="504720"/>
            <a:ext cx="92329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7328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3624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3280" y="4287240"/>
            <a:ext cx="7929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7929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73280" y="4287240"/>
            <a:ext cx="7929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328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3624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4560" y="218412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5480" y="218412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73280" y="428724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4560" y="428724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5480" y="4287240"/>
            <a:ext cx="255312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12960" y="504720"/>
            <a:ext cx="92329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28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6240" y="428724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6240" y="2184120"/>
            <a:ext cx="38692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73280" y="4287240"/>
            <a:ext cx="7929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lick to edit the outline text forma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2" marL="1314360" indent="-228600">
              <a:spcBef>
                <a:spcPts val="689"/>
              </a:spcBef>
              <a:spcAft>
                <a:spcPts val="139"/>
              </a:spcAft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3" marL="1657440" indent="-22860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our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4" marL="2057400" indent="-22860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if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5" marL="2057400" indent="-22860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ix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6" marL="2057400" indent="-22860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even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241200" y="6521040"/>
            <a:ext cx="6350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cc66"/>
                </a:solidFill>
                <a:latin typeface="Times New Roman"/>
              </a:rPr>
              <a:t>pk1443 - </a:t>
            </a:r>
            <a:fld id="{B2AEDD30-0AEE-408B-8226-3A29668708D0}" type="slidenum">
              <a:rPr b="0" lang="en-US" sz="6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42960" y="509760"/>
            <a:ext cx="4630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1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d1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ffffd1"/>
              </a:solidFill>
              <a:latin typeface="Arial"/>
            </a:endParaRPr>
          </a:p>
          <a:p>
            <a:pPr lvl="1" marL="457200" indent="0" algn="ctr">
              <a:spcBef>
                <a:spcPts val="68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2" marL="914400" indent="171360" algn="ctr">
              <a:spcBef>
                <a:spcPts val="689"/>
              </a:spcBef>
              <a:spcAft>
                <a:spcPts val="139"/>
              </a:spcAft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3" marL="1371600" indent="57240" algn="ctr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our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4" marL="1828800" algn="ctr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if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5" marL="1828800">
              <a:spcBef>
                <a:spcPts val="550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ix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6" marL="1828800">
              <a:spcBef>
                <a:spcPts val="550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eventh Outline Lev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rage%20lihghtnet" descr=""/>
          <p:cNvPicPr/>
          <p:nvPr/>
        </p:nvPicPr>
        <p:blipFill>
          <a:blip r:embed="rId1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960" y="390600"/>
            <a:ext cx="79138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System Security in the New Industry Environment: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hallenges and Solu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880" y="2660760"/>
            <a:ext cx="2367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rabha Kundur</a:t>
            </a:r>
            <a:endParaRPr b="0" lang="en-US" sz="5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owertech Labs Inc.</a:t>
            </a:r>
            <a:endParaRPr b="0" lang="en-US" sz="5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rrey, B.C.  Canada</a:t>
            </a:r>
            <a:endParaRPr b="0" lang="en-US" sz="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2" name="Logocol" descr=""/>
          <p:cNvPicPr/>
          <p:nvPr/>
        </p:nvPicPr>
        <p:blipFill>
          <a:blip r:embed="rId2"/>
          <a:stretch/>
        </p:blipFill>
        <p:spPr>
          <a:xfrm>
            <a:off x="6861240" y="6283440"/>
            <a:ext cx="1920960" cy="282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0280" y="2813040"/>
            <a:ext cx="2824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bha Kundur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wertech Labs Inc.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rey, B.C.  Canada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8160" y="4146480"/>
            <a:ext cx="34340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EE Toronto Centennial Forum on Reliable Power Grids in Canada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ober 3, 200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ormation of Reliability Council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6080" y="1974960"/>
            <a:ext cx="87897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275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ortheast Power Coordinating Council (NPCC) formed in January 1966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42480" indent="-387720">
              <a:spcBef>
                <a:spcPts val="275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o improve coordination in planning and operation among utilities in the region that was blacked ou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42480" indent="-387720">
              <a:spcBef>
                <a:spcPts val="275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irst Regional Reliability Council (RRC) in North Americ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275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ther eight RRCs formed in the following month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275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ational/North American Electric Reliability Council (NERC) established in 1968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275"/>
              </a:spcBef>
              <a:spcAft>
                <a:spcPts val="139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etailed reliability criteria were develop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275"/>
              </a:spcBef>
              <a:spcAft>
                <a:spcPts val="139"/>
              </a:spcAft>
              <a:buSzPct val="1183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ocedures for exchange of data and conducting stability studies were establish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42480" indent="-387720">
              <a:spcBef>
                <a:spcPts val="275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any of these developments has had an influence on utility practices worldwid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42480" indent="-387720">
              <a:spcBef>
                <a:spcPts val="275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till largely us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amples of Recent Major System Disturbances/Blackou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7480" y="2145960"/>
            <a:ext cx="7434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64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July 2, 1996 disturbance of WSCC (Western North American Interconnected) System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ugust 10, 1996 disturbance of WSCC system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1998 power failure of Auckland business districts, New Zealan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arch 11, 1999 Brazil blackou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July 29, 1999 Taiwan disturbanc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ugust 14, 2003 blackout of Northeast U.S. and Ontario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54080" y="2355840"/>
            <a:ext cx="69213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July 2, 1996 WSCC (WECC) Disturbance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July 2, 1996 Disturbanc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56840" y="2441160"/>
            <a:ext cx="65041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89"/>
              </a:spcBef>
              <a:spcAft>
                <a:spcPts val="414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tarted in Wyoming and Idaho area at 14:24:37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689"/>
              </a:spcBef>
              <a:spcAft>
                <a:spcPts val="414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Loads were high in Southern Idaho and Utah;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igh temperature around 38°C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689"/>
              </a:spcBef>
              <a:spcAft>
                <a:spcPts val="414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eavy power transfers from Pacific NW to Californi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42480" indent="-387720">
              <a:spcBef>
                <a:spcPts val="689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acific AC interties - 4300 MW (4800 rating)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42480" indent="-387720">
              <a:spcBef>
                <a:spcPts val="689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acific HVDC intertie - 2800 MW (3100 capacity)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July 2, 1996 Disturba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8" name="July%202.psd" descr=""/>
          <p:cNvPicPr/>
          <p:nvPr/>
        </p:nvPicPr>
        <p:blipFill>
          <a:blip r:embed="rId1"/>
          <a:stretch/>
        </p:blipFill>
        <p:spPr>
          <a:xfrm>
            <a:off x="3673440" y="1268280"/>
            <a:ext cx="4335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July 2, 1996 Disturba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4320" y="2165040"/>
            <a:ext cx="82342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75"/>
              </a:spcBef>
              <a:spcAft>
                <a:spcPts val="139"/>
              </a:spcAft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d1"/>
                </a:solidFill>
                <a:latin typeface="Arial Narrow"/>
              </a:rPr>
              <a:t>LG fault on 345 kV line from Jim Bridger 2000 MW plant in Wyoming to Idaho due to flashover to a tree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49"/>
              </a:spcBef>
              <a:spcAft>
                <a:spcPts val="162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d1"/>
                </a:solidFill>
                <a:latin typeface="Arial Narrow"/>
              </a:rPr>
              <a:t>tripping of parallel line due to relay misoperation</a:t>
            </a:r>
            <a:br>
              <a:rPr sz="2600"/>
            </a:br>
            <a:r>
              <a:rPr b="0" lang="en-US" sz="26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575"/>
              </a:spcBef>
              <a:spcAft>
                <a:spcPts val="139"/>
              </a:spcAft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d1"/>
                </a:solidFill>
                <a:latin typeface="Arial Narrow"/>
              </a:rPr>
              <a:t>Tripping of two (of four) Jim Bridger units as stability control; this should have stabilized the system</a:t>
            </a:r>
            <a:br>
              <a:rPr sz="2300"/>
            </a:br>
            <a:r>
              <a:rPr b="0" lang="en-US" sz="23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575"/>
              </a:spcBef>
              <a:spcAft>
                <a:spcPts val="139"/>
              </a:spcAft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d1"/>
                </a:solidFill>
                <a:latin typeface="Arial Narrow"/>
              </a:rPr>
              <a:t>Faulty relay tripped 230 kV line in Eastern Oregon</a:t>
            </a:r>
            <a:br>
              <a:rPr sz="2300"/>
            </a:br>
            <a:r>
              <a:rPr b="0" lang="en-US" sz="23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575"/>
              </a:spcBef>
              <a:spcAft>
                <a:spcPts val="139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d1"/>
                </a:solidFill>
                <a:uFillTx/>
                <a:latin typeface="Arial Narrow"/>
              </a:rPr>
              <a:t>Voltage decay</a:t>
            </a:r>
            <a:r>
              <a:rPr b="0" lang="en-US" sz="2300" spc="-1" strike="noStrike">
                <a:solidFill>
                  <a:srgbClr val="ffffd1"/>
                </a:solidFill>
                <a:latin typeface="Arial Narrow"/>
              </a:rPr>
              <a:t> in </a:t>
            </a:r>
            <a:r>
              <a:rPr b="0" lang="en-US" sz="2300" spc="-1" strike="noStrike" u="sng">
                <a:solidFill>
                  <a:srgbClr val="ffffd1"/>
                </a:solidFill>
                <a:uFillTx/>
                <a:latin typeface="Arial Narrow"/>
              </a:rPr>
              <a:t>southern Idaho</a:t>
            </a:r>
            <a:r>
              <a:rPr b="0" lang="en-US" sz="2300" spc="-1" strike="noStrike">
                <a:solidFill>
                  <a:srgbClr val="ffffd1"/>
                </a:solidFill>
                <a:latin typeface="Arial Narrow"/>
              </a:rPr>
              <a:t> and slow decay in </a:t>
            </a:r>
            <a:r>
              <a:rPr b="0" lang="en-US" sz="2300" spc="-1" strike="noStrike" u="sng">
                <a:solidFill>
                  <a:srgbClr val="ffffd1"/>
                </a:solidFill>
                <a:uFillTx/>
                <a:latin typeface="Arial Narrow"/>
              </a:rPr>
              <a:t>central Oregon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July 2, 1996 Disturbance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(cont’d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9520" y="1984320"/>
            <a:ext cx="84978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bout 24 seconds later, a long 230 kV line (Amps line) from western Montana to Southern Idaho tripp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550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zone 3 relay operation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550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arallel 161 kV line subsequently tripp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Rapid voltage deca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in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Idaho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nd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Oregon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ree seconds later, four 230 kV lines from Hells Canyon to Boise tripp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wo seconds later, Pacific intertie lines separat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Cascading to five islands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35 seconds after initial faul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2.2 million customer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experienced outages; </a:t>
            </a:r>
            <a:r>
              <a:rPr b="1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total load lost 11,900 MW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575"/>
              </a:spcBef>
              <a:spcAft>
                <a:spcPts val="139"/>
              </a:spcAft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 Narrow"/>
              </a:rPr>
              <a:t>Voltage Instability!!!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0">
              <a:spcBef>
                <a:spcPts val="575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July 2, 1996 Disturba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4" name="July%202" descr=""/>
          <p:cNvPicPr/>
          <p:nvPr/>
        </p:nvPicPr>
        <p:blipFill>
          <a:blip r:embed="rId1"/>
          <a:stretch/>
        </p:blipFill>
        <p:spPr>
          <a:xfrm>
            <a:off x="952560" y="1211400"/>
            <a:ext cx="73152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July 2, 1996 Disturba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Loss%20of%20Voltage" descr=""/>
          <p:cNvPicPr/>
          <p:nvPr/>
        </p:nvPicPr>
        <p:blipFill>
          <a:blip r:embed="rId1"/>
          <a:stretch/>
        </p:blipFill>
        <p:spPr>
          <a:xfrm>
            <a:off x="976320" y="2033640"/>
            <a:ext cx="7648560" cy="41623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TMSP was Used to Replicate Disturbance in Time Domai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PK%20-%20Measured%20Response2" descr=""/>
          <p:cNvPicPr/>
          <p:nvPr/>
        </p:nvPicPr>
        <p:blipFill>
          <a:blip r:embed="rId1"/>
          <a:stretch/>
        </p:blipFill>
        <p:spPr>
          <a:xfrm>
            <a:off x="1274760" y="2084400"/>
            <a:ext cx="2895480" cy="440064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686480" y="257184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D RESPONS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6480" y="476244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ULATED RESPONS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wer System Secur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25560" y="210780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ecurity of a power system is affected by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three factor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:</a:t>
            </a:r>
            <a:br>
              <a:rPr sz="2200"/>
            </a:b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haracteristics of the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physical system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: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integrated generation, transmission and distribution system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otection and control systems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Business structure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of owning and operating entities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regulatory framework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30400" y="2355840"/>
            <a:ext cx="68832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ugust 10, 1996 WSCC (WECC) Disturbanc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August 10, 1996 Disturbanc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2160" y="2084040"/>
            <a:ext cx="81424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64"/>
              </a:spcBef>
              <a:spcAft>
                <a:spcPts val="275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igh ambient temperatures in Northwest; 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igh power transfer from Canada to Californi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275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ior to main outage,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three 500 kV line section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from lower Columbia River to load centres in Oregon were out of service due to tree fault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275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alifornia-Oregon Interties loaded to 4330 MW north to south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275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acific DC Intertie loaded at 2680 MW north to south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275"/>
              </a:spcAft>
              <a:buSzPct val="1183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2300 MW flow from British Columbi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Growing 0.23 Hz oscillation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caused tripping of lines resulting in formation of four island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loss of 30,500 MW loa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0">
              <a:spcBef>
                <a:spcPts val="964"/>
              </a:spcBef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ugust 10th, 1996 WSCC Even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August%2010" descr=""/>
          <p:cNvPicPr/>
          <p:nvPr/>
        </p:nvPicPr>
        <p:blipFill>
          <a:blip r:embed="rId1"/>
          <a:stretch/>
        </p:blipFill>
        <p:spPr>
          <a:xfrm>
            <a:off x="1100160" y="1379520"/>
            <a:ext cx="7153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0480" y="3970440"/>
            <a:ext cx="26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lin - Round Mountain MW Flow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8320" y="487980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1440" y="4878360"/>
            <a:ext cx="353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9720" y="3778200"/>
            <a:ext cx="4052160" cy="2321280"/>
            <a:chOff x="459720" y="3778200"/>
            <a:chExt cx="4052160" cy="2321280"/>
          </a:xfrm>
        </p:grpSpPr>
        <p:sp>
          <p:nvSpPr>
            <p:cNvPr id="130" name=""/>
            <p:cNvSpPr/>
            <p:nvPr/>
          </p:nvSpPr>
          <p:spPr>
            <a:xfrm>
              <a:off x="884160" y="3877920"/>
              <a:ext cx="3517920" cy="1773360"/>
            </a:xfrm>
            <a:custGeom>
              <a:avLst/>
              <a:gdLst/>
              <a:ahLst/>
              <a:rect l="l" t="t" r="r" b="b"/>
              <a:pathLst>
                <a:path w="2053" h="1224">
                  <a:moveTo>
                    <a:pt x="0" y="0"/>
                  </a:moveTo>
                  <a:lnTo>
                    <a:pt x="2052" y="0"/>
                  </a:lnTo>
                  <a:lnTo>
                    <a:pt x="2052" y="1223"/>
                  </a:lnTo>
                  <a:lnTo>
                    <a:pt x="0" y="122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0920" y="3877920"/>
              <a:ext cx="3533760" cy="1782720"/>
            </a:xfrm>
            <a:custGeom>
              <a:avLst/>
              <a:gdLst/>
              <a:ahLst/>
              <a:rect l="l" t="t" r="r" b="b"/>
              <a:pathLst>
                <a:path w="2060" h="1230">
                  <a:moveTo>
                    <a:pt x="0" y="0"/>
                  </a:moveTo>
                  <a:lnTo>
                    <a:pt x="2059" y="0"/>
                  </a:lnTo>
                  <a:lnTo>
                    <a:pt x="2059" y="1229"/>
                  </a:lnTo>
                  <a:lnTo>
                    <a:pt x="0" y="122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4160" y="3879720"/>
              <a:ext cx="0" cy="178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2480" y="540828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2480" y="514800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2480" y="489564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480" y="464472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480" y="439236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2480" y="413208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2480" y="387972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0920" y="4120920"/>
              <a:ext cx="3533760" cy="974880"/>
            </a:xfrm>
            <a:custGeom>
              <a:avLst/>
              <a:gdLst/>
              <a:ahLst/>
              <a:rect l="l" t="t" r="r" b="b"/>
              <a:pathLst>
                <a:path w="2060" h="672">
                  <a:moveTo>
                    <a:pt x="0" y="240"/>
                  </a:moveTo>
                  <a:lnTo>
                    <a:pt x="0" y="174"/>
                  </a:lnTo>
                  <a:lnTo>
                    <a:pt x="0" y="204"/>
                  </a:lnTo>
                  <a:lnTo>
                    <a:pt x="6" y="192"/>
                  </a:lnTo>
                  <a:lnTo>
                    <a:pt x="6" y="222"/>
                  </a:lnTo>
                  <a:lnTo>
                    <a:pt x="6" y="198"/>
                  </a:lnTo>
                  <a:lnTo>
                    <a:pt x="12" y="234"/>
                  </a:lnTo>
                  <a:lnTo>
                    <a:pt x="12" y="192"/>
                  </a:lnTo>
                  <a:lnTo>
                    <a:pt x="12" y="222"/>
                  </a:lnTo>
                  <a:lnTo>
                    <a:pt x="12" y="180"/>
                  </a:lnTo>
                  <a:lnTo>
                    <a:pt x="18" y="234"/>
                  </a:lnTo>
                  <a:lnTo>
                    <a:pt x="18" y="180"/>
                  </a:lnTo>
                  <a:lnTo>
                    <a:pt x="18" y="204"/>
                  </a:lnTo>
                  <a:lnTo>
                    <a:pt x="18" y="216"/>
                  </a:lnTo>
                  <a:lnTo>
                    <a:pt x="24" y="210"/>
                  </a:lnTo>
                  <a:lnTo>
                    <a:pt x="24" y="192"/>
                  </a:lnTo>
                  <a:lnTo>
                    <a:pt x="24" y="234"/>
                  </a:lnTo>
                  <a:lnTo>
                    <a:pt x="24" y="180"/>
                  </a:lnTo>
                  <a:lnTo>
                    <a:pt x="30" y="222"/>
                  </a:lnTo>
                  <a:lnTo>
                    <a:pt x="30" y="192"/>
                  </a:lnTo>
                  <a:lnTo>
                    <a:pt x="30" y="234"/>
                  </a:lnTo>
                  <a:lnTo>
                    <a:pt x="30" y="186"/>
                  </a:lnTo>
                  <a:lnTo>
                    <a:pt x="30" y="210"/>
                  </a:lnTo>
                  <a:lnTo>
                    <a:pt x="36" y="228"/>
                  </a:lnTo>
                  <a:lnTo>
                    <a:pt x="36" y="216"/>
                  </a:lnTo>
                  <a:lnTo>
                    <a:pt x="36" y="222"/>
                  </a:lnTo>
                  <a:lnTo>
                    <a:pt x="36" y="204"/>
                  </a:lnTo>
                  <a:lnTo>
                    <a:pt x="42" y="252"/>
                  </a:lnTo>
                  <a:lnTo>
                    <a:pt x="42" y="186"/>
                  </a:lnTo>
                  <a:lnTo>
                    <a:pt x="42" y="228"/>
                  </a:lnTo>
                  <a:lnTo>
                    <a:pt x="42" y="204"/>
                  </a:lnTo>
                  <a:lnTo>
                    <a:pt x="48" y="234"/>
                  </a:lnTo>
                  <a:lnTo>
                    <a:pt x="48" y="198"/>
                  </a:lnTo>
                  <a:lnTo>
                    <a:pt x="48" y="204"/>
                  </a:lnTo>
                  <a:lnTo>
                    <a:pt x="48" y="234"/>
                  </a:lnTo>
                  <a:lnTo>
                    <a:pt x="48" y="198"/>
                  </a:lnTo>
                  <a:lnTo>
                    <a:pt x="54" y="216"/>
                  </a:lnTo>
                  <a:lnTo>
                    <a:pt x="54" y="180"/>
                  </a:lnTo>
                  <a:lnTo>
                    <a:pt x="54" y="240"/>
                  </a:lnTo>
                  <a:lnTo>
                    <a:pt x="54" y="180"/>
                  </a:lnTo>
                  <a:lnTo>
                    <a:pt x="60" y="222"/>
                  </a:lnTo>
                  <a:lnTo>
                    <a:pt x="60" y="216"/>
                  </a:lnTo>
                  <a:lnTo>
                    <a:pt x="60" y="228"/>
                  </a:lnTo>
                  <a:lnTo>
                    <a:pt x="60" y="204"/>
                  </a:lnTo>
                  <a:lnTo>
                    <a:pt x="66" y="204"/>
                  </a:lnTo>
                  <a:lnTo>
                    <a:pt x="66" y="246"/>
                  </a:lnTo>
                  <a:lnTo>
                    <a:pt x="66" y="204"/>
                  </a:lnTo>
                  <a:lnTo>
                    <a:pt x="66" y="228"/>
                  </a:lnTo>
                  <a:lnTo>
                    <a:pt x="66" y="192"/>
                  </a:lnTo>
                  <a:lnTo>
                    <a:pt x="72" y="252"/>
                  </a:lnTo>
                  <a:lnTo>
                    <a:pt x="72" y="186"/>
                  </a:lnTo>
                  <a:lnTo>
                    <a:pt x="72" y="228"/>
                  </a:lnTo>
                  <a:lnTo>
                    <a:pt x="78" y="228"/>
                  </a:lnTo>
                  <a:lnTo>
                    <a:pt x="78" y="210"/>
                  </a:lnTo>
                  <a:lnTo>
                    <a:pt x="78" y="252"/>
                  </a:lnTo>
                  <a:lnTo>
                    <a:pt x="78" y="204"/>
                  </a:lnTo>
                  <a:lnTo>
                    <a:pt x="84" y="240"/>
                  </a:lnTo>
                  <a:lnTo>
                    <a:pt x="84" y="204"/>
                  </a:lnTo>
                  <a:lnTo>
                    <a:pt x="84" y="252"/>
                  </a:lnTo>
                  <a:lnTo>
                    <a:pt x="84" y="204"/>
                  </a:lnTo>
                  <a:lnTo>
                    <a:pt x="90" y="228"/>
                  </a:lnTo>
                  <a:lnTo>
                    <a:pt x="90" y="246"/>
                  </a:lnTo>
                  <a:lnTo>
                    <a:pt x="90" y="228"/>
                  </a:lnTo>
                  <a:lnTo>
                    <a:pt x="90" y="246"/>
                  </a:lnTo>
                  <a:lnTo>
                    <a:pt x="96" y="210"/>
                  </a:lnTo>
                  <a:lnTo>
                    <a:pt x="96" y="264"/>
                  </a:lnTo>
                  <a:lnTo>
                    <a:pt x="96" y="204"/>
                  </a:lnTo>
                  <a:lnTo>
                    <a:pt x="96" y="240"/>
                  </a:lnTo>
                  <a:lnTo>
                    <a:pt x="96" y="210"/>
                  </a:lnTo>
                  <a:lnTo>
                    <a:pt x="102" y="252"/>
                  </a:lnTo>
                  <a:lnTo>
                    <a:pt x="102" y="216"/>
                  </a:lnTo>
                  <a:lnTo>
                    <a:pt x="102" y="228"/>
                  </a:lnTo>
                  <a:lnTo>
                    <a:pt x="102" y="252"/>
                  </a:lnTo>
                  <a:lnTo>
                    <a:pt x="108" y="222"/>
                  </a:lnTo>
                  <a:lnTo>
                    <a:pt x="108" y="240"/>
                  </a:lnTo>
                  <a:lnTo>
                    <a:pt x="108" y="210"/>
                  </a:lnTo>
                  <a:lnTo>
                    <a:pt x="108" y="264"/>
                  </a:lnTo>
                  <a:lnTo>
                    <a:pt x="114" y="204"/>
                  </a:lnTo>
                  <a:lnTo>
                    <a:pt x="114" y="240"/>
                  </a:lnTo>
                  <a:lnTo>
                    <a:pt x="114" y="216"/>
                  </a:lnTo>
                  <a:lnTo>
                    <a:pt x="114" y="240"/>
                  </a:lnTo>
                  <a:lnTo>
                    <a:pt x="114" y="210"/>
                  </a:lnTo>
                  <a:lnTo>
                    <a:pt x="120" y="210"/>
                  </a:lnTo>
                  <a:lnTo>
                    <a:pt x="120" y="246"/>
                  </a:lnTo>
                  <a:lnTo>
                    <a:pt x="120" y="204"/>
                  </a:lnTo>
                  <a:lnTo>
                    <a:pt x="120" y="222"/>
                  </a:lnTo>
                  <a:lnTo>
                    <a:pt x="126" y="198"/>
                  </a:lnTo>
                  <a:lnTo>
                    <a:pt x="126" y="252"/>
                  </a:lnTo>
                  <a:lnTo>
                    <a:pt x="126" y="192"/>
                  </a:lnTo>
                  <a:lnTo>
                    <a:pt x="126" y="222"/>
                  </a:lnTo>
                  <a:lnTo>
                    <a:pt x="132" y="216"/>
                  </a:lnTo>
                  <a:lnTo>
                    <a:pt x="132" y="210"/>
                  </a:lnTo>
                  <a:lnTo>
                    <a:pt x="132" y="198"/>
                  </a:lnTo>
                  <a:lnTo>
                    <a:pt x="132" y="240"/>
                  </a:lnTo>
                  <a:lnTo>
                    <a:pt x="138" y="186"/>
                  </a:lnTo>
                  <a:lnTo>
                    <a:pt x="138" y="216"/>
                  </a:lnTo>
                  <a:lnTo>
                    <a:pt x="138" y="180"/>
                  </a:lnTo>
                  <a:lnTo>
                    <a:pt x="138" y="228"/>
                  </a:lnTo>
                  <a:lnTo>
                    <a:pt x="144" y="186"/>
                  </a:lnTo>
                  <a:lnTo>
                    <a:pt x="144" y="204"/>
                  </a:lnTo>
                  <a:lnTo>
                    <a:pt x="144" y="222"/>
                  </a:lnTo>
                  <a:lnTo>
                    <a:pt x="144" y="198"/>
                  </a:lnTo>
                  <a:lnTo>
                    <a:pt x="144" y="210"/>
                  </a:lnTo>
                  <a:lnTo>
                    <a:pt x="150" y="186"/>
                  </a:lnTo>
                  <a:lnTo>
                    <a:pt x="150" y="234"/>
                  </a:lnTo>
                  <a:lnTo>
                    <a:pt x="150" y="180"/>
                  </a:lnTo>
                  <a:lnTo>
                    <a:pt x="150" y="216"/>
                  </a:lnTo>
                  <a:lnTo>
                    <a:pt x="156" y="198"/>
                  </a:lnTo>
                  <a:lnTo>
                    <a:pt x="156" y="234"/>
                  </a:lnTo>
                  <a:lnTo>
                    <a:pt x="156" y="198"/>
                  </a:lnTo>
                  <a:lnTo>
                    <a:pt x="156" y="204"/>
                  </a:lnTo>
                  <a:lnTo>
                    <a:pt x="162" y="234"/>
                  </a:lnTo>
                  <a:lnTo>
                    <a:pt x="162" y="192"/>
                  </a:lnTo>
                  <a:lnTo>
                    <a:pt x="162" y="210"/>
                  </a:lnTo>
                  <a:lnTo>
                    <a:pt x="162" y="174"/>
                  </a:lnTo>
                  <a:lnTo>
                    <a:pt x="162" y="228"/>
                  </a:lnTo>
                  <a:lnTo>
                    <a:pt x="168" y="168"/>
                  </a:lnTo>
                  <a:lnTo>
                    <a:pt x="168" y="204"/>
                  </a:lnTo>
                  <a:lnTo>
                    <a:pt x="168" y="210"/>
                  </a:lnTo>
                  <a:lnTo>
                    <a:pt x="168" y="216"/>
                  </a:lnTo>
                  <a:lnTo>
                    <a:pt x="174" y="198"/>
                  </a:lnTo>
                  <a:lnTo>
                    <a:pt x="174" y="186"/>
                  </a:lnTo>
                  <a:lnTo>
                    <a:pt x="174" y="234"/>
                  </a:lnTo>
                  <a:lnTo>
                    <a:pt x="174" y="186"/>
                  </a:lnTo>
                  <a:lnTo>
                    <a:pt x="174" y="216"/>
                  </a:lnTo>
                  <a:lnTo>
                    <a:pt x="180" y="180"/>
                  </a:lnTo>
                  <a:lnTo>
                    <a:pt x="180" y="228"/>
                  </a:lnTo>
                  <a:lnTo>
                    <a:pt x="180" y="180"/>
                  </a:lnTo>
                  <a:lnTo>
                    <a:pt x="180" y="204"/>
                  </a:lnTo>
                  <a:lnTo>
                    <a:pt x="186" y="222"/>
                  </a:lnTo>
                  <a:lnTo>
                    <a:pt x="186" y="216"/>
                  </a:lnTo>
                  <a:lnTo>
                    <a:pt x="186" y="198"/>
                  </a:lnTo>
                  <a:lnTo>
                    <a:pt x="192" y="258"/>
                  </a:lnTo>
                  <a:lnTo>
                    <a:pt x="192" y="204"/>
                  </a:lnTo>
                  <a:lnTo>
                    <a:pt x="192" y="234"/>
                  </a:lnTo>
                  <a:lnTo>
                    <a:pt x="192" y="210"/>
                  </a:lnTo>
                  <a:lnTo>
                    <a:pt x="192" y="252"/>
                  </a:lnTo>
                  <a:lnTo>
                    <a:pt x="198" y="210"/>
                  </a:lnTo>
                  <a:lnTo>
                    <a:pt x="198" y="216"/>
                  </a:lnTo>
                  <a:lnTo>
                    <a:pt x="198" y="240"/>
                  </a:lnTo>
                  <a:lnTo>
                    <a:pt x="198" y="216"/>
                  </a:lnTo>
                  <a:lnTo>
                    <a:pt x="204" y="228"/>
                  </a:lnTo>
                  <a:lnTo>
                    <a:pt x="204" y="192"/>
                  </a:lnTo>
                  <a:lnTo>
                    <a:pt x="204" y="258"/>
                  </a:lnTo>
                  <a:lnTo>
                    <a:pt x="204" y="216"/>
                  </a:lnTo>
                  <a:lnTo>
                    <a:pt x="210" y="264"/>
                  </a:lnTo>
                  <a:lnTo>
                    <a:pt x="210" y="324"/>
                  </a:lnTo>
                  <a:lnTo>
                    <a:pt x="210" y="288"/>
                  </a:lnTo>
                  <a:lnTo>
                    <a:pt x="210" y="330"/>
                  </a:lnTo>
                  <a:lnTo>
                    <a:pt x="216" y="348"/>
                  </a:lnTo>
                  <a:lnTo>
                    <a:pt x="216" y="354"/>
                  </a:lnTo>
                  <a:lnTo>
                    <a:pt x="216" y="348"/>
                  </a:lnTo>
                  <a:lnTo>
                    <a:pt x="222" y="384"/>
                  </a:lnTo>
                  <a:lnTo>
                    <a:pt x="222" y="336"/>
                  </a:lnTo>
                  <a:lnTo>
                    <a:pt x="222" y="354"/>
                  </a:lnTo>
                  <a:lnTo>
                    <a:pt x="222" y="306"/>
                  </a:lnTo>
                  <a:lnTo>
                    <a:pt x="228" y="360"/>
                  </a:lnTo>
                  <a:lnTo>
                    <a:pt x="228" y="294"/>
                  </a:lnTo>
                  <a:lnTo>
                    <a:pt x="228" y="324"/>
                  </a:lnTo>
                  <a:lnTo>
                    <a:pt x="228" y="300"/>
                  </a:lnTo>
                  <a:lnTo>
                    <a:pt x="228" y="324"/>
                  </a:lnTo>
                  <a:lnTo>
                    <a:pt x="234" y="294"/>
                  </a:lnTo>
                  <a:lnTo>
                    <a:pt x="234" y="306"/>
                  </a:lnTo>
                  <a:lnTo>
                    <a:pt x="234" y="336"/>
                  </a:lnTo>
                  <a:lnTo>
                    <a:pt x="234" y="324"/>
                  </a:lnTo>
                  <a:lnTo>
                    <a:pt x="240" y="336"/>
                  </a:lnTo>
                  <a:lnTo>
                    <a:pt x="240" y="318"/>
                  </a:lnTo>
                  <a:lnTo>
                    <a:pt x="240" y="378"/>
                  </a:lnTo>
                  <a:lnTo>
                    <a:pt x="240" y="324"/>
                  </a:lnTo>
                  <a:lnTo>
                    <a:pt x="240" y="366"/>
                  </a:lnTo>
                  <a:lnTo>
                    <a:pt x="246" y="336"/>
                  </a:lnTo>
                  <a:lnTo>
                    <a:pt x="246" y="390"/>
                  </a:lnTo>
                  <a:lnTo>
                    <a:pt x="246" y="342"/>
                  </a:lnTo>
                  <a:lnTo>
                    <a:pt x="246" y="378"/>
                  </a:lnTo>
                  <a:lnTo>
                    <a:pt x="252" y="366"/>
                  </a:lnTo>
                  <a:lnTo>
                    <a:pt x="252" y="390"/>
                  </a:lnTo>
                  <a:lnTo>
                    <a:pt x="252" y="360"/>
                  </a:lnTo>
                  <a:lnTo>
                    <a:pt x="252" y="378"/>
                  </a:lnTo>
                  <a:lnTo>
                    <a:pt x="258" y="402"/>
                  </a:lnTo>
                  <a:lnTo>
                    <a:pt x="258" y="390"/>
                  </a:lnTo>
                  <a:lnTo>
                    <a:pt x="258" y="366"/>
                  </a:lnTo>
                  <a:lnTo>
                    <a:pt x="258" y="420"/>
                  </a:lnTo>
                  <a:lnTo>
                    <a:pt x="264" y="372"/>
                  </a:lnTo>
                  <a:lnTo>
                    <a:pt x="264" y="402"/>
                  </a:lnTo>
                  <a:lnTo>
                    <a:pt x="264" y="372"/>
                  </a:lnTo>
                  <a:lnTo>
                    <a:pt x="264" y="426"/>
                  </a:lnTo>
                  <a:lnTo>
                    <a:pt x="270" y="372"/>
                  </a:lnTo>
                  <a:lnTo>
                    <a:pt x="270" y="414"/>
                  </a:lnTo>
                  <a:lnTo>
                    <a:pt x="270" y="402"/>
                  </a:lnTo>
                  <a:lnTo>
                    <a:pt x="270" y="455"/>
                  </a:lnTo>
                  <a:lnTo>
                    <a:pt x="276" y="414"/>
                  </a:lnTo>
                  <a:lnTo>
                    <a:pt x="276" y="455"/>
                  </a:lnTo>
                  <a:lnTo>
                    <a:pt x="276" y="467"/>
                  </a:lnTo>
                  <a:lnTo>
                    <a:pt x="276" y="432"/>
                  </a:lnTo>
                  <a:lnTo>
                    <a:pt x="282" y="444"/>
                  </a:lnTo>
                  <a:lnTo>
                    <a:pt x="282" y="467"/>
                  </a:lnTo>
                  <a:lnTo>
                    <a:pt x="282" y="444"/>
                  </a:lnTo>
                  <a:lnTo>
                    <a:pt x="282" y="432"/>
                  </a:lnTo>
                  <a:lnTo>
                    <a:pt x="288" y="408"/>
                  </a:lnTo>
                  <a:lnTo>
                    <a:pt x="288" y="455"/>
                  </a:lnTo>
                  <a:lnTo>
                    <a:pt x="288" y="408"/>
                  </a:lnTo>
                  <a:lnTo>
                    <a:pt x="288" y="432"/>
                  </a:lnTo>
                  <a:lnTo>
                    <a:pt x="288" y="402"/>
                  </a:lnTo>
                  <a:lnTo>
                    <a:pt x="294" y="455"/>
                  </a:lnTo>
                  <a:lnTo>
                    <a:pt x="294" y="414"/>
                  </a:lnTo>
                  <a:lnTo>
                    <a:pt x="294" y="449"/>
                  </a:lnTo>
                  <a:lnTo>
                    <a:pt x="294" y="420"/>
                  </a:lnTo>
                  <a:lnTo>
                    <a:pt x="300" y="479"/>
                  </a:lnTo>
                  <a:lnTo>
                    <a:pt x="300" y="432"/>
                  </a:lnTo>
                  <a:lnTo>
                    <a:pt x="300" y="467"/>
                  </a:lnTo>
                  <a:lnTo>
                    <a:pt x="300" y="461"/>
                  </a:lnTo>
                  <a:lnTo>
                    <a:pt x="306" y="485"/>
                  </a:lnTo>
                  <a:lnTo>
                    <a:pt x="306" y="444"/>
                  </a:lnTo>
                  <a:lnTo>
                    <a:pt x="306" y="461"/>
                  </a:lnTo>
                  <a:lnTo>
                    <a:pt x="306" y="479"/>
                  </a:lnTo>
                  <a:lnTo>
                    <a:pt x="306" y="473"/>
                  </a:lnTo>
                  <a:lnTo>
                    <a:pt x="312" y="449"/>
                  </a:lnTo>
                  <a:lnTo>
                    <a:pt x="312" y="444"/>
                  </a:lnTo>
                  <a:lnTo>
                    <a:pt x="312" y="473"/>
                  </a:lnTo>
                  <a:lnTo>
                    <a:pt x="312" y="444"/>
                  </a:lnTo>
                  <a:lnTo>
                    <a:pt x="318" y="449"/>
                  </a:lnTo>
                  <a:lnTo>
                    <a:pt x="318" y="426"/>
                  </a:lnTo>
                  <a:lnTo>
                    <a:pt x="318" y="473"/>
                  </a:lnTo>
                  <a:lnTo>
                    <a:pt x="318" y="414"/>
                  </a:lnTo>
                  <a:lnTo>
                    <a:pt x="324" y="444"/>
                  </a:lnTo>
                  <a:lnTo>
                    <a:pt x="324" y="420"/>
                  </a:lnTo>
                  <a:lnTo>
                    <a:pt x="324" y="461"/>
                  </a:lnTo>
                  <a:lnTo>
                    <a:pt x="324" y="402"/>
                  </a:lnTo>
                  <a:lnTo>
                    <a:pt x="324" y="438"/>
                  </a:lnTo>
                  <a:lnTo>
                    <a:pt x="330" y="414"/>
                  </a:lnTo>
                  <a:lnTo>
                    <a:pt x="330" y="444"/>
                  </a:lnTo>
                  <a:lnTo>
                    <a:pt x="330" y="390"/>
                  </a:lnTo>
                  <a:lnTo>
                    <a:pt x="330" y="414"/>
                  </a:lnTo>
                  <a:lnTo>
                    <a:pt x="336" y="426"/>
                  </a:lnTo>
                  <a:lnTo>
                    <a:pt x="336" y="420"/>
                  </a:lnTo>
                  <a:lnTo>
                    <a:pt x="336" y="408"/>
                  </a:lnTo>
                  <a:lnTo>
                    <a:pt x="336" y="449"/>
                  </a:lnTo>
                  <a:lnTo>
                    <a:pt x="342" y="420"/>
                  </a:lnTo>
                  <a:lnTo>
                    <a:pt x="342" y="438"/>
                  </a:lnTo>
                  <a:lnTo>
                    <a:pt x="342" y="414"/>
                  </a:lnTo>
                  <a:lnTo>
                    <a:pt x="342" y="467"/>
                  </a:lnTo>
                  <a:lnTo>
                    <a:pt x="348" y="414"/>
                  </a:lnTo>
                  <a:lnTo>
                    <a:pt x="348" y="449"/>
                  </a:lnTo>
                  <a:lnTo>
                    <a:pt x="348" y="420"/>
                  </a:lnTo>
                  <a:lnTo>
                    <a:pt x="348" y="473"/>
                  </a:lnTo>
                  <a:lnTo>
                    <a:pt x="354" y="414"/>
                  </a:lnTo>
                  <a:lnTo>
                    <a:pt x="354" y="455"/>
                  </a:lnTo>
                  <a:lnTo>
                    <a:pt x="354" y="432"/>
                  </a:lnTo>
                  <a:lnTo>
                    <a:pt x="354" y="473"/>
                  </a:lnTo>
                  <a:lnTo>
                    <a:pt x="354" y="432"/>
                  </a:lnTo>
                  <a:lnTo>
                    <a:pt x="360" y="461"/>
                  </a:lnTo>
                  <a:lnTo>
                    <a:pt x="360" y="467"/>
                  </a:lnTo>
                  <a:lnTo>
                    <a:pt x="360" y="479"/>
                  </a:lnTo>
                  <a:lnTo>
                    <a:pt x="360" y="455"/>
                  </a:lnTo>
                  <a:lnTo>
                    <a:pt x="366" y="467"/>
                  </a:lnTo>
                  <a:lnTo>
                    <a:pt x="366" y="491"/>
                  </a:lnTo>
                  <a:lnTo>
                    <a:pt x="366" y="485"/>
                  </a:lnTo>
                  <a:lnTo>
                    <a:pt x="372" y="479"/>
                  </a:lnTo>
                  <a:lnTo>
                    <a:pt x="372" y="521"/>
                  </a:lnTo>
                  <a:lnTo>
                    <a:pt x="372" y="491"/>
                  </a:lnTo>
                  <a:lnTo>
                    <a:pt x="372" y="503"/>
                  </a:lnTo>
                  <a:lnTo>
                    <a:pt x="372" y="491"/>
                  </a:lnTo>
                  <a:lnTo>
                    <a:pt x="378" y="545"/>
                  </a:lnTo>
                  <a:lnTo>
                    <a:pt x="378" y="503"/>
                  </a:lnTo>
                  <a:lnTo>
                    <a:pt x="378" y="539"/>
                  </a:lnTo>
                  <a:lnTo>
                    <a:pt x="378" y="515"/>
                  </a:lnTo>
                  <a:lnTo>
                    <a:pt x="384" y="575"/>
                  </a:lnTo>
                  <a:lnTo>
                    <a:pt x="384" y="545"/>
                  </a:lnTo>
                  <a:lnTo>
                    <a:pt x="384" y="575"/>
                  </a:lnTo>
                  <a:lnTo>
                    <a:pt x="384" y="551"/>
                  </a:lnTo>
                  <a:lnTo>
                    <a:pt x="384" y="605"/>
                  </a:lnTo>
                  <a:lnTo>
                    <a:pt x="390" y="563"/>
                  </a:lnTo>
                  <a:lnTo>
                    <a:pt x="390" y="599"/>
                  </a:lnTo>
                  <a:lnTo>
                    <a:pt x="390" y="569"/>
                  </a:lnTo>
                  <a:lnTo>
                    <a:pt x="390" y="635"/>
                  </a:lnTo>
                  <a:lnTo>
                    <a:pt x="396" y="581"/>
                  </a:lnTo>
                  <a:lnTo>
                    <a:pt x="396" y="617"/>
                  </a:lnTo>
                  <a:lnTo>
                    <a:pt x="396" y="587"/>
                  </a:lnTo>
                  <a:lnTo>
                    <a:pt x="396" y="635"/>
                  </a:lnTo>
                  <a:lnTo>
                    <a:pt x="402" y="575"/>
                  </a:lnTo>
                  <a:lnTo>
                    <a:pt x="402" y="617"/>
                  </a:lnTo>
                  <a:lnTo>
                    <a:pt x="402" y="581"/>
                  </a:lnTo>
                  <a:lnTo>
                    <a:pt x="402" y="629"/>
                  </a:lnTo>
                  <a:lnTo>
                    <a:pt x="402" y="575"/>
                  </a:lnTo>
                  <a:lnTo>
                    <a:pt x="408" y="611"/>
                  </a:lnTo>
                  <a:lnTo>
                    <a:pt x="408" y="575"/>
                  </a:lnTo>
                  <a:lnTo>
                    <a:pt x="408" y="617"/>
                  </a:lnTo>
                  <a:lnTo>
                    <a:pt x="408" y="563"/>
                  </a:lnTo>
                  <a:lnTo>
                    <a:pt x="414" y="599"/>
                  </a:lnTo>
                  <a:lnTo>
                    <a:pt x="414" y="569"/>
                  </a:lnTo>
                  <a:lnTo>
                    <a:pt x="414" y="605"/>
                  </a:lnTo>
                  <a:lnTo>
                    <a:pt x="414" y="557"/>
                  </a:lnTo>
                  <a:lnTo>
                    <a:pt x="420" y="587"/>
                  </a:lnTo>
                  <a:lnTo>
                    <a:pt x="420" y="575"/>
                  </a:lnTo>
                  <a:lnTo>
                    <a:pt x="420" y="599"/>
                  </a:lnTo>
                  <a:lnTo>
                    <a:pt x="420" y="545"/>
                  </a:lnTo>
                  <a:lnTo>
                    <a:pt x="420" y="557"/>
                  </a:lnTo>
                  <a:lnTo>
                    <a:pt x="426" y="563"/>
                  </a:lnTo>
                  <a:lnTo>
                    <a:pt x="426" y="575"/>
                  </a:lnTo>
                  <a:lnTo>
                    <a:pt x="426" y="539"/>
                  </a:lnTo>
                  <a:lnTo>
                    <a:pt x="426" y="551"/>
                  </a:lnTo>
                  <a:lnTo>
                    <a:pt x="432" y="557"/>
                  </a:lnTo>
                  <a:lnTo>
                    <a:pt x="432" y="539"/>
                  </a:lnTo>
                  <a:lnTo>
                    <a:pt x="432" y="533"/>
                  </a:lnTo>
                  <a:lnTo>
                    <a:pt x="432" y="557"/>
                  </a:lnTo>
                  <a:lnTo>
                    <a:pt x="438" y="533"/>
                  </a:lnTo>
                  <a:lnTo>
                    <a:pt x="438" y="515"/>
                  </a:lnTo>
                  <a:lnTo>
                    <a:pt x="438" y="557"/>
                  </a:lnTo>
                  <a:lnTo>
                    <a:pt x="444" y="509"/>
                  </a:lnTo>
                  <a:lnTo>
                    <a:pt x="444" y="533"/>
                  </a:lnTo>
                  <a:lnTo>
                    <a:pt x="444" y="509"/>
                  </a:lnTo>
                  <a:lnTo>
                    <a:pt x="444" y="557"/>
                  </a:lnTo>
                  <a:lnTo>
                    <a:pt x="450" y="515"/>
                  </a:lnTo>
                  <a:lnTo>
                    <a:pt x="450" y="539"/>
                  </a:lnTo>
                  <a:lnTo>
                    <a:pt x="450" y="497"/>
                  </a:lnTo>
                  <a:lnTo>
                    <a:pt x="450" y="557"/>
                  </a:lnTo>
                  <a:lnTo>
                    <a:pt x="450" y="503"/>
                  </a:lnTo>
                  <a:lnTo>
                    <a:pt x="456" y="533"/>
                  </a:lnTo>
                  <a:lnTo>
                    <a:pt x="456" y="503"/>
                  </a:lnTo>
                  <a:lnTo>
                    <a:pt x="456" y="557"/>
                  </a:lnTo>
                  <a:lnTo>
                    <a:pt x="456" y="503"/>
                  </a:lnTo>
                  <a:lnTo>
                    <a:pt x="462" y="545"/>
                  </a:lnTo>
                  <a:lnTo>
                    <a:pt x="462" y="515"/>
                  </a:lnTo>
                  <a:lnTo>
                    <a:pt x="462" y="563"/>
                  </a:lnTo>
                  <a:lnTo>
                    <a:pt x="462" y="503"/>
                  </a:lnTo>
                  <a:lnTo>
                    <a:pt x="468" y="539"/>
                  </a:lnTo>
                  <a:lnTo>
                    <a:pt x="468" y="521"/>
                  </a:lnTo>
                  <a:lnTo>
                    <a:pt x="468" y="557"/>
                  </a:lnTo>
                  <a:lnTo>
                    <a:pt x="468" y="515"/>
                  </a:lnTo>
                  <a:lnTo>
                    <a:pt x="468" y="545"/>
                  </a:lnTo>
                  <a:lnTo>
                    <a:pt x="474" y="551"/>
                  </a:lnTo>
                  <a:lnTo>
                    <a:pt x="474" y="569"/>
                  </a:lnTo>
                  <a:lnTo>
                    <a:pt x="474" y="539"/>
                  </a:lnTo>
                  <a:lnTo>
                    <a:pt x="474" y="563"/>
                  </a:lnTo>
                  <a:lnTo>
                    <a:pt x="480" y="575"/>
                  </a:lnTo>
                  <a:lnTo>
                    <a:pt x="480" y="587"/>
                  </a:lnTo>
                  <a:lnTo>
                    <a:pt x="480" y="563"/>
                  </a:lnTo>
                  <a:lnTo>
                    <a:pt x="480" y="569"/>
                  </a:lnTo>
                  <a:lnTo>
                    <a:pt x="480" y="587"/>
                  </a:lnTo>
                  <a:lnTo>
                    <a:pt x="486" y="593"/>
                  </a:lnTo>
                  <a:lnTo>
                    <a:pt x="486" y="587"/>
                  </a:lnTo>
                  <a:lnTo>
                    <a:pt x="486" y="605"/>
                  </a:lnTo>
                  <a:lnTo>
                    <a:pt x="492" y="605"/>
                  </a:lnTo>
                  <a:lnTo>
                    <a:pt x="492" y="587"/>
                  </a:lnTo>
                  <a:lnTo>
                    <a:pt x="492" y="593"/>
                  </a:lnTo>
                  <a:lnTo>
                    <a:pt x="492" y="629"/>
                  </a:lnTo>
                  <a:lnTo>
                    <a:pt x="498" y="617"/>
                  </a:lnTo>
                  <a:lnTo>
                    <a:pt x="498" y="611"/>
                  </a:lnTo>
                  <a:lnTo>
                    <a:pt x="498" y="605"/>
                  </a:lnTo>
                  <a:lnTo>
                    <a:pt x="498" y="641"/>
                  </a:lnTo>
                  <a:lnTo>
                    <a:pt x="498" y="623"/>
                  </a:lnTo>
                  <a:lnTo>
                    <a:pt x="504" y="623"/>
                  </a:lnTo>
                  <a:lnTo>
                    <a:pt x="504" y="617"/>
                  </a:lnTo>
                  <a:lnTo>
                    <a:pt x="504" y="647"/>
                  </a:lnTo>
                  <a:lnTo>
                    <a:pt x="504" y="623"/>
                  </a:lnTo>
                  <a:lnTo>
                    <a:pt x="510" y="635"/>
                  </a:lnTo>
                  <a:lnTo>
                    <a:pt x="510" y="623"/>
                  </a:lnTo>
                  <a:lnTo>
                    <a:pt x="510" y="653"/>
                  </a:lnTo>
                  <a:lnTo>
                    <a:pt x="510" y="623"/>
                  </a:lnTo>
                  <a:lnTo>
                    <a:pt x="516" y="623"/>
                  </a:lnTo>
                  <a:lnTo>
                    <a:pt x="516" y="611"/>
                  </a:lnTo>
                  <a:lnTo>
                    <a:pt x="516" y="647"/>
                  </a:lnTo>
                  <a:lnTo>
                    <a:pt x="516" y="617"/>
                  </a:lnTo>
                  <a:lnTo>
                    <a:pt x="522" y="593"/>
                  </a:lnTo>
                  <a:lnTo>
                    <a:pt x="522" y="635"/>
                  </a:lnTo>
                  <a:lnTo>
                    <a:pt x="522" y="587"/>
                  </a:lnTo>
                  <a:lnTo>
                    <a:pt x="522" y="599"/>
                  </a:lnTo>
                  <a:lnTo>
                    <a:pt x="528" y="569"/>
                  </a:lnTo>
                  <a:lnTo>
                    <a:pt x="528" y="617"/>
                  </a:lnTo>
                  <a:lnTo>
                    <a:pt x="528" y="569"/>
                  </a:lnTo>
                  <a:lnTo>
                    <a:pt x="528" y="593"/>
                  </a:lnTo>
                  <a:lnTo>
                    <a:pt x="528" y="545"/>
                  </a:lnTo>
                  <a:lnTo>
                    <a:pt x="534" y="599"/>
                  </a:lnTo>
                  <a:lnTo>
                    <a:pt x="534" y="539"/>
                  </a:lnTo>
                  <a:lnTo>
                    <a:pt x="534" y="563"/>
                  </a:lnTo>
                  <a:lnTo>
                    <a:pt x="534" y="515"/>
                  </a:lnTo>
                  <a:lnTo>
                    <a:pt x="540" y="563"/>
                  </a:lnTo>
                  <a:lnTo>
                    <a:pt x="540" y="509"/>
                  </a:lnTo>
                  <a:lnTo>
                    <a:pt x="540" y="539"/>
                  </a:lnTo>
                  <a:lnTo>
                    <a:pt x="540" y="503"/>
                  </a:lnTo>
                  <a:lnTo>
                    <a:pt x="546" y="545"/>
                  </a:lnTo>
                  <a:lnTo>
                    <a:pt x="546" y="491"/>
                  </a:lnTo>
                  <a:lnTo>
                    <a:pt x="546" y="521"/>
                  </a:lnTo>
                  <a:lnTo>
                    <a:pt x="546" y="503"/>
                  </a:lnTo>
                  <a:lnTo>
                    <a:pt x="546" y="521"/>
                  </a:lnTo>
                  <a:lnTo>
                    <a:pt x="552" y="479"/>
                  </a:lnTo>
                  <a:lnTo>
                    <a:pt x="552" y="491"/>
                  </a:lnTo>
                  <a:lnTo>
                    <a:pt x="552" y="497"/>
                  </a:lnTo>
                  <a:lnTo>
                    <a:pt x="552" y="491"/>
                  </a:lnTo>
                  <a:lnTo>
                    <a:pt x="558" y="473"/>
                  </a:lnTo>
                  <a:lnTo>
                    <a:pt x="558" y="461"/>
                  </a:lnTo>
                  <a:lnTo>
                    <a:pt x="558" y="497"/>
                  </a:lnTo>
                  <a:lnTo>
                    <a:pt x="558" y="461"/>
                  </a:lnTo>
                  <a:lnTo>
                    <a:pt x="564" y="473"/>
                  </a:lnTo>
                  <a:lnTo>
                    <a:pt x="564" y="449"/>
                  </a:lnTo>
                  <a:lnTo>
                    <a:pt x="564" y="497"/>
                  </a:lnTo>
                  <a:lnTo>
                    <a:pt x="564" y="444"/>
                  </a:lnTo>
                  <a:lnTo>
                    <a:pt x="564" y="473"/>
                  </a:lnTo>
                  <a:lnTo>
                    <a:pt x="570" y="438"/>
                  </a:lnTo>
                  <a:lnTo>
                    <a:pt x="570" y="491"/>
                  </a:lnTo>
                  <a:lnTo>
                    <a:pt x="570" y="438"/>
                  </a:lnTo>
                  <a:lnTo>
                    <a:pt x="570" y="479"/>
                  </a:lnTo>
                  <a:lnTo>
                    <a:pt x="576" y="455"/>
                  </a:lnTo>
                  <a:lnTo>
                    <a:pt x="576" y="497"/>
                  </a:lnTo>
                  <a:lnTo>
                    <a:pt x="576" y="449"/>
                  </a:lnTo>
                  <a:lnTo>
                    <a:pt x="576" y="479"/>
                  </a:lnTo>
                  <a:lnTo>
                    <a:pt x="582" y="497"/>
                  </a:lnTo>
                  <a:lnTo>
                    <a:pt x="582" y="467"/>
                  </a:lnTo>
                  <a:lnTo>
                    <a:pt x="582" y="485"/>
                  </a:lnTo>
                  <a:lnTo>
                    <a:pt x="582" y="497"/>
                  </a:lnTo>
                  <a:lnTo>
                    <a:pt x="588" y="503"/>
                  </a:lnTo>
                  <a:lnTo>
                    <a:pt x="588" y="491"/>
                  </a:lnTo>
                  <a:lnTo>
                    <a:pt x="588" y="497"/>
                  </a:lnTo>
                  <a:lnTo>
                    <a:pt x="588" y="527"/>
                  </a:lnTo>
                  <a:lnTo>
                    <a:pt x="594" y="515"/>
                  </a:lnTo>
                  <a:lnTo>
                    <a:pt x="594" y="503"/>
                  </a:lnTo>
                  <a:lnTo>
                    <a:pt x="594" y="545"/>
                  </a:lnTo>
                  <a:lnTo>
                    <a:pt x="594" y="521"/>
                  </a:lnTo>
                  <a:lnTo>
                    <a:pt x="600" y="539"/>
                  </a:lnTo>
                  <a:lnTo>
                    <a:pt x="600" y="527"/>
                  </a:lnTo>
                  <a:lnTo>
                    <a:pt x="600" y="581"/>
                  </a:lnTo>
                  <a:lnTo>
                    <a:pt x="600" y="539"/>
                  </a:lnTo>
                  <a:lnTo>
                    <a:pt x="606" y="569"/>
                  </a:lnTo>
                  <a:lnTo>
                    <a:pt x="606" y="545"/>
                  </a:lnTo>
                  <a:lnTo>
                    <a:pt x="606" y="593"/>
                  </a:lnTo>
                  <a:lnTo>
                    <a:pt x="606" y="545"/>
                  </a:lnTo>
                  <a:lnTo>
                    <a:pt x="612" y="581"/>
                  </a:lnTo>
                  <a:lnTo>
                    <a:pt x="612" y="551"/>
                  </a:lnTo>
                  <a:lnTo>
                    <a:pt x="612" y="599"/>
                  </a:lnTo>
                  <a:lnTo>
                    <a:pt x="612" y="551"/>
                  </a:lnTo>
                  <a:lnTo>
                    <a:pt x="612" y="587"/>
                  </a:lnTo>
                  <a:lnTo>
                    <a:pt x="618" y="557"/>
                  </a:lnTo>
                  <a:lnTo>
                    <a:pt x="618" y="605"/>
                  </a:lnTo>
                  <a:lnTo>
                    <a:pt x="618" y="551"/>
                  </a:lnTo>
                  <a:lnTo>
                    <a:pt x="618" y="581"/>
                  </a:lnTo>
                  <a:lnTo>
                    <a:pt x="624" y="545"/>
                  </a:lnTo>
                  <a:lnTo>
                    <a:pt x="624" y="599"/>
                  </a:lnTo>
                  <a:lnTo>
                    <a:pt x="624" y="539"/>
                  </a:lnTo>
                  <a:lnTo>
                    <a:pt x="624" y="575"/>
                  </a:lnTo>
                  <a:lnTo>
                    <a:pt x="630" y="551"/>
                  </a:lnTo>
                  <a:lnTo>
                    <a:pt x="630" y="593"/>
                  </a:lnTo>
                  <a:lnTo>
                    <a:pt x="630" y="539"/>
                  </a:lnTo>
                  <a:lnTo>
                    <a:pt x="630" y="569"/>
                  </a:lnTo>
                  <a:lnTo>
                    <a:pt x="630" y="545"/>
                  </a:lnTo>
                  <a:lnTo>
                    <a:pt x="636" y="575"/>
                  </a:lnTo>
                  <a:lnTo>
                    <a:pt x="636" y="521"/>
                  </a:lnTo>
                  <a:lnTo>
                    <a:pt x="636" y="545"/>
                  </a:lnTo>
                  <a:lnTo>
                    <a:pt x="642" y="545"/>
                  </a:lnTo>
                  <a:lnTo>
                    <a:pt x="642" y="521"/>
                  </a:lnTo>
                  <a:lnTo>
                    <a:pt x="642" y="527"/>
                  </a:lnTo>
                  <a:lnTo>
                    <a:pt x="642" y="533"/>
                  </a:lnTo>
                  <a:lnTo>
                    <a:pt x="642" y="521"/>
                  </a:lnTo>
                  <a:lnTo>
                    <a:pt x="648" y="509"/>
                  </a:lnTo>
                  <a:lnTo>
                    <a:pt x="648" y="491"/>
                  </a:lnTo>
                  <a:lnTo>
                    <a:pt x="648" y="515"/>
                  </a:lnTo>
                  <a:lnTo>
                    <a:pt x="648" y="485"/>
                  </a:lnTo>
                  <a:lnTo>
                    <a:pt x="654" y="497"/>
                  </a:lnTo>
                  <a:lnTo>
                    <a:pt x="654" y="461"/>
                  </a:lnTo>
                  <a:lnTo>
                    <a:pt x="654" y="497"/>
                  </a:lnTo>
                  <a:lnTo>
                    <a:pt x="654" y="438"/>
                  </a:lnTo>
                  <a:lnTo>
                    <a:pt x="660" y="473"/>
                  </a:lnTo>
                  <a:lnTo>
                    <a:pt x="660" y="432"/>
                  </a:lnTo>
                  <a:lnTo>
                    <a:pt x="660" y="473"/>
                  </a:lnTo>
                  <a:lnTo>
                    <a:pt x="660" y="408"/>
                  </a:lnTo>
                  <a:lnTo>
                    <a:pt x="660" y="444"/>
                  </a:lnTo>
                  <a:lnTo>
                    <a:pt x="666" y="426"/>
                  </a:lnTo>
                  <a:lnTo>
                    <a:pt x="666" y="455"/>
                  </a:lnTo>
                  <a:lnTo>
                    <a:pt x="666" y="420"/>
                  </a:lnTo>
                  <a:lnTo>
                    <a:pt x="666" y="432"/>
                  </a:lnTo>
                  <a:lnTo>
                    <a:pt x="672" y="438"/>
                  </a:lnTo>
                  <a:lnTo>
                    <a:pt x="672" y="444"/>
                  </a:lnTo>
                  <a:lnTo>
                    <a:pt x="672" y="426"/>
                  </a:lnTo>
                  <a:lnTo>
                    <a:pt x="672" y="438"/>
                  </a:lnTo>
                  <a:lnTo>
                    <a:pt x="678" y="467"/>
                  </a:lnTo>
                  <a:lnTo>
                    <a:pt x="678" y="444"/>
                  </a:lnTo>
                  <a:lnTo>
                    <a:pt x="678" y="461"/>
                  </a:lnTo>
                  <a:lnTo>
                    <a:pt x="678" y="438"/>
                  </a:lnTo>
                  <a:lnTo>
                    <a:pt x="678" y="485"/>
                  </a:lnTo>
                  <a:lnTo>
                    <a:pt x="684" y="444"/>
                  </a:lnTo>
                  <a:lnTo>
                    <a:pt x="684" y="473"/>
                  </a:lnTo>
                  <a:lnTo>
                    <a:pt x="684" y="444"/>
                  </a:lnTo>
                  <a:lnTo>
                    <a:pt x="684" y="503"/>
                  </a:lnTo>
                  <a:lnTo>
                    <a:pt x="690" y="455"/>
                  </a:lnTo>
                  <a:lnTo>
                    <a:pt x="690" y="497"/>
                  </a:lnTo>
                  <a:lnTo>
                    <a:pt x="690" y="473"/>
                  </a:lnTo>
                  <a:lnTo>
                    <a:pt x="690" y="521"/>
                  </a:lnTo>
                  <a:lnTo>
                    <a:pt x="690" y="473"/>
                  </a:lnTo>
                  <a:lnTo>
                    <a:pt x="696" y="521"/>
                  </a:lnTo>
                  <a:lnTo>
                    <a:pt x="696" y="503"/>
                  </a:lnTo>
                  <a:lnTo>
                    <a:pt x="696" y="551"/>
                  </a:lnTo>
                  <a:lnTo>
                    <a:pt x="696" y="509"/>
                  </a:lnTo>
                  <a:lnTo>
                    <a:pt x="702" y="545"/>
                  </a:lnTo>
                  <a:lnTo>
                    <a:pt x="702" y="587"/>
                  </a:lnTo>
                  <a:lnTo>
                    <a:pt x="702" y="539"/>
                  </a:lnTo>
                  <a:lnTo>
                    <a:pt x="708" y="569"/>
                  </a:lnTo>
                  <a:lnTo>
                    <a:pt x="708" y="599"/>
                  </a:lnTo>
                  <a:lnTo>
                    <a:pt x="708" y="569"/>
                  </a:lnTo>
                  <a:lnTo>
                    <a:pt x="708" y="587"/>
                  </a:lnTo>
                  <a:lnTo>
                    <a:pt x="714" y="587"/>
                  </a:lnTo>
                  <a:lnTo>
                    <a:pt x="714" y="605"/>
                  </a:lnTo>
                  <a:lnTo>
                    <a:pt x="714" y="587"/>
                  </a:lnTo>
                  <a:lnTo>
                    <a:pt x="714" y="605"/>
                  </a:lnTo>
                  <a:lnTo>
                    <a:pt x="720" y="611"/>
                  </a:lnTo>
                  <a:lnTo>
                    <a:pt x="720" y="623"/>
                  </a:lnTo>
                  <a:lnTo>
                    <a:pt x="720" y="593"/>
                  </a:lnTo>
                  <a:lnTo>
                    <a:pt x="720" y="599"/>
                  </a:lnTo>
                  <a:lnTo>
                    <a:pt x="726" y="617"/>
                  </a:lnTo>
                  <a:lnTo>
                    <a:pt x="726" y="611"/>
                  </a:lnTo>
                  <a:lnTo>
                    <a:pt x="726" y="593"/>
                  </a:lnTo>
                  <a:lnTo>
                    <a:pt x="726" y="617"/>
                  </a:lnTo>
                  <a:lnTo>
                    <a:pt x="732" y="593"/>
                  </a:lnTo>
                  <a:lnTo>
                    <a:pt x="732" y="581"/>
                  </a:lnTo>
                  <a:lnTo>
                    <a:pt x="732" y="575"/>
                  </a:lnTo>
                  <a:lnTo>
                    <a:pt x="732" y="599"/>
                  </a:lnTo>
                  <a:lnTo>
                    <a:pt x="738" y="569"/>
                  </a:lnTo>
                  <a:lnTo>
                    <a:pt x="738" y="539"/>
                  </a:lnTo>
                  <a:lnTo>
                    <a:pt x="738" y="581"/>
                  </a:lnTo>
                  <a:lnTo>
                    <a:pt x="738" y="545"/>
                  </a:lnTo>
                  <a:lnTo>
                    <a:pt x="744" y="563"/>
                  </a:lnTo>
                  <a:lnTo>
                    <a:pt x="744" y="527"/>
                  </a:lnTo>
                  <a:lnTo>
                    <a:pt x="744" y="569"/>
                  </a:lnTo>
                  <a:lnTo>
                    <a:pt x="744" y="515"/>
                  </a:lnTo>
                  <a:lnTo>
                    <a:pt x="750" y="539"/>
                  </a:lnTo>
                  <a:lnTo>
                    <a:pt x="750" y="503"/>
                  </a:lnTo>
                  <a:lnTo>
                    <a:pt x="750" y="545"/>
                  </a:lnTo>
                  <a:lnTo>
                    <a:pt x="750" y="485"/>
                  </a:lnTo>
                  <a:lnTo>
                    <a:pt x="756" y="521"/>
                  </a:lnTo>
                  <a:lnTo>
                    <a:pt x="756" y="485"/>
                  </a:lnTo>
                  <a:lnTo>
                    <a:pt x="756" y="527"/>
                  </a:lnTo>
                  <a:lnTo>
                    <a:pt x="756" y="473"/>
                  </a:lnTo>
                  <a:lnTo>
                    <a:pt x="756" y="503"/>
                  </a:lnTo>
                  <a:lnTo>
                    <a:pt x="762" y="485"/>
                  </a:lnTo>
                  <a:lnTo>
                    <a:pt x="762" y="503"/>
                  </a:lnTo>
                  <a:lnTo>
                    <a:pt x="762" y="461"/>
                  </a:lnTo>
                  <a:lnTo>
                    <a:pt x="762" y="479"/>
                  </a:lnTo>
                  <a:lnTo>
                    <a:pt x="768" y="479"/>
                  </a:lnTo>
                  <a:lnTo>
                    <a:pt x="768" y="473"/>
                  </a:lnTo>
                  <a:lnTo>
                    <a:pt x="768" y="461"/>
                  </a:lnTo>
                  <a:lnTo>
                    <a:pt x="774" y="485"/>
                  </a:lnTo>
                  <a:lnTo>
                    <a:pt x="774" y="461"/>
                  </a:lnTo>
                  <a:lnTo>
                    <a:pt x="774" y="473"/>
                  </a:lnTo>
                  <a:lnTo>
                    <a:pt x="774" y="449"/>
                  </a:lnTo>
                  <a:lnTo>
                    <a:pt x="774" y="497"/>
                  </a:lnTo>
                  <a:lnTo>
                    <a:pt x="780" y="455"/>
                  </a:lnTo>
                  <a:lnTo>
                    <a:pt x="780" y="479"/>
                  </a:lnTo>
                  <a:lnTo>
                    <a:pt x="780" y="449"/>
                  </a:lnTo>
                  <a:lnTo>
                    <a:pt x="780" y="497"/>
                  </a:lnTo>
                  <a:lnTo>
                    <a:pt x="786" y="444"/>
                  </a:lnTo>
                  <a:lnTo>
                    <a:pt x="786" y="491"/>
                  </a:lnTo>
                  <a:lnTo>
                    <a:pt x="786" y="455"/>
                  </a:lnTo>
                  <a:lnTo>
                    <a:pt x="786" y="503"/>
                  </a:lnTo>
                  <a:lnTo>
                    <a:pt x="786" y="449"/>
                  </a:lnTo>
                  <a:lnTo>
                    <a:pt x="792" y="485"/>
                  </a:lnTo>
                  <a:lnTo>
                    <a:pt x="792" y="473"/>
                  </a:lnTo>
                  <a:lnTo>
                    <a:pt x="792" y="509"/>
                  </a:lnTo>
                  <a:lnTo>
                    <a:pt x="792" y="473"/>
                  </a:lnTo>
                  <a:lnTo>
                    <a:pt x="798" y="497"/>
                  </a:lnTo>
                  <a:lnTo>
                    <a:pt x="798" y="503"/>
                  </a:lnTo>
                  <a:lnTo>
                    <a:pt x="798" y="527"/>
                  </a:lnTo>
                  <a:lnTo>
                    <a:pt x="798" y="503"/>
                  </a:lnTo>
                  <a:lnTo>
                    <a:pt x="804" y="521"/>
                  </a:lnTo>
                  <a:lnTo>
                    <a:pt x="804" y="539"/>
                  </a:lnTo>
                  <a:lnTo>
                    <a:pt x="804" y="545"/>
                  </a:lnTo>
                  <a:lnTo>
                    <a:pt x="804" y="533"/>
                  </a:lnTo>
                  <a:lnTo>
                    <a:pt x="810" y="563"/>
                  </a:lnTo>
                  <a:lnTo>
                    <a:pt x="810" y="551"/>
                  </a:lnTo>
                  <a:lnTo>
                    <a:pt x="810" y="545"/>
                  </a:lnTo>
                  <a:lnTo>
                    <a:pt x="816" y="581"/>
                  </a:lnTo>
                  <a:lnTo>
                    <a:pt x="816" y="551"/>
                  </a:lnTo>
                  <a:lnTo>
                    <a:pt x="816" y="569"/>
                  </a:lnTo>
                  <a:lnTo>
                    <a:pt x="816" y="551"/>
                  </a:lnTo>
                  <a:lnTo>
                    <a:pt x="822" y="593"/>
                  </a:lnTo>
                  <a:lnTo>
                    <a:pt x="822" y="551"/>
                  </a:lnTo>
                  <a:lnTo>
                    <a:pt x="822" y="575"/>
                  </a:lnTo>
                  <a:lnTo>
                    <a:pt x="822" y="551"/>
                  </a:lnTo>
                  <a:lnTo>
                    <a:pt x="822" y="593"/>
                  </a:lnTo>
                  <a:lnTo>
                    <a:pt x="828" y="545"/>
                  </a:lnTo>
                  <a:lnTo>
                    <a:pt x="828" y="575"/>
                  </a:lnTo>
                  <a:lnTo>
                    <a:pt x="828" y="539"/>
                  </a:lnTo>
                  <a:lnTo>
                    <a:pt x="828" y="599"/>
                  </a:lnTo>
                  <a:lnTo>
                    <a:pt x="834" y="539"/>
                  </a:lnTo>
                  <a:lnTo>
                    <a:pt x="834" y="563"/>
                  </a:lnTo>
                  <a:lnTo>
                    <a:pt x="834" y="533"/>
                  </a:lnTo>
                  <a:lnTo>
                    <a:pt x="834" y="587"/>
                  </a:lnTo>
                  <a:lnTo>
                    <a:pt x="834" y="515"/>
                  </a:lnTo>
                  <a:lnTo>
                    <a:pt x="840" y="551"/>
                  </a:lnTo>
                  <a:lnTo>
                    <a:pt x="840" y="521"/>
                  </a:lnTo>
                  <a:lnTo>
                    <a:pt x="840" y="563"/>
                  </a:lnTo>
                  <a:lnTo>
                    <a:pt x="840" y="497"/>
                  </a:lnTo>
                  <a:lnTo>
                    <a:pt x="846" y="527"/>
                  </a:lnTo>
                  <a:lnTo>
                    <a:pt x="846" y="515"/>
                  </a:lnTo>
                  <a:lnTo>
                    <a:pt x="846" y="533"/>
                  </a:lnTo>
                  <a:lnTo>
                    <a:pt x="846" y="491"/>
                  </a:lnTo>
                  <a:lnTo>
                    <a:pt x="852" y="509"/>
                  </a:lnTo>
                  <a:lnTo>
                    <a:pt x="852" y="515"/>
                  </a:lnTo>
                  <a:lnTo>
                    <a:pt x="852" y="509"/>
                  </a:lnTo>
                  <a:lnTo>
                    <a:pt x="852" y="497"/>
                  </a:lnTo>
                  <a:lnTo>
                    <a:pt x="852" y="485"/>
                  </a:lnTo>
                  <a:lnTo>
                    <a:pt x="858" y="509"/>
                  </a:lnTo>
                  <a:lnTo>
                    <a:pt x="858" y="479"/>
                  </a:lnTo>
                  <a:lnTo>
                    <a:pt x="858" y="485"/>
                  </a:lnTo>
                  <a:lnTo>
                    <a:pt x="858" y="449"/>
                  </a:lnTo>
                  <a:lnTo>
                    <a:pt x="864" y="491"/>
                  </a:lnTo>
                  <a:lnTo>
                    <a:pt x="864" y="438"/>
                  </a:lnTo>
                  <a:lnTo>
                    <a:pt x="864" y="461"/>
                  </a:lnTo>
                  <a:lnTo>
                    <a:pt x="864" y="432"/>
                  </a:lnTo>
                  <a:lnTo>
                    <a:pt x="870" y="485"/>
                  </a:lnTo>
                  <a:lnTo>
                    <a:pt x="870" y="414"/>
                  </a:lnTo>
                  <a:lnTo>
                    <a:pt x="870" y="449"/>
                  </a:lnTo>
                  <a:lnTo>
                    <a:pt x="870" y="420"/>
                  </a:lnTo>
                  <a:lnTo>
                    <a:pt x="870" y="455"/>
                  </a:lnTo>
                  <a:lnTo>
                    <a:pt x="876" y="402"/>
                  </a:lnTo>
                  <a:lnTo>
                    <a:pt x="876" y="426"/>
                  </a:lnTo>
                  <a:lnTo>
                    <a:pt x="876" y="438"/>
                  </a:lnTo>
                  <a:lnTo>
                    <a:pt x="882" y="414"/>
                  </a:lnTo>
                  <a:lnTo>
                    <a:pt x="882" y="420"/>
                  </a:lnTo>
                  <a:lnTo>
                    <a:pt x="882" y="444"/>
                  </a:lnTo>
                  <a:lnTo>
                    <a:pt x="882" y="426"/>
                  </a:lnTo>
                  <a:lnTo>
                    <a:pt x="882" y="432"/>
                  </a:lnTo>
                  <a:lnTo>
                    <a:pt x="888" y="420"/>
                  </a:lnTo>
                  <a:lnTo>
                    <a:pt x="888" y="461"/>
                  </a:lnTo>
                  <a:lnTo>
                    <a:pt x="888" y="420"/>
                  </a:lnTo>
                  <a:lnTo>
                    <a:pt x="888" y="444"/>
                  </a:lnTo>
                  <a:lnTo>
                    <a:pt x="894" y="420"/>
                  </a:lnTo>
                  <a:lnTo>
                    <a:pt x="894" y="473"/>
                  </a:lnTo>
                  <a:lnTo>
                    <a:pt x="894" y="426"/>
                  </a:lnTo>
                  <a:lnTo>
                    <a:pt x="894" y="461"/>
                  </a:lnTo>
                  <a:lnTo>
                    <a:pt x="900" y="432"/>
                  </a:lnTo>
                  <a:lnTo>
                    <a:pt x="900" y="485"/>
                  </a:lnTo>
                  <a:lnTo>
                    <a:pt x="900" y="432"/>
                  </a:lnTo>
                  <a:lnTo>
                    <a:pt x="900" y="473"/>
                  </a:lnTo>
                  <a:lnTo>
                    <a:pt x="900" y="461"/>
                  </a:lnTo>
                  <a:lnTo>
                    <a:pt x="906" y="497"/>
                  </a:lnTo>
                  <a:lnTo>
                    <a:pt x="906" y="455"/>
                  </a:lnTo>
                  <a:lnTo>
                    <a:pt x="906" y="473"/>
                  </a:lnTo>
                  <a:lnTo>
                    <a:pt x="906" y="491"/>
                  </a:lnTo>
                  <a:lnTo>
                    <a:pt x="912" y="491"/>
                  </a:lnTo>
                  <a:lnTo>
                    <a:pt x="912" y="473"/>
                  </a:lnTo>
                  <a:lnTo>
                    <a:pt x="912" y="479"/>
                  </a:lnTo>
                  <a:lnTo>
                    <a:pt x="912" y="509"/>
                  </a:lnTo>
                  <a:lnTo>
                    <a:pt x="918" y="497"/>
                  </a:lnTo>
                  <a:lnTo>
                    <a:pt x="918" y="485"/>
                  </a:lnTo>
                  <a:lnTo>
                    <a:pt x="918" y="533"/>
                  </a:lnTo>
                  <a:lnTo>
                    <a:pt x="918" y="503"/>
                  </a:lnTo>
                  <a:lnTo>
                    <a:pt x="924" y="515"/>
                  </a:lnTo>
                  <a:lnTo>
                    <a:pt x="924" y="491"/>
                  </a:lnTo>
                  <a:lnTo>
                    <a:pt x="924" y="545"/>
                  </a:lnTo>
                  <a:lnTo>
                    <a:pt x="924" y="497"/>
                  </a:lnTo>
                  <a:lnTo>
                    <a:pt x="930" y="521"/>
                  </a:lnTo>
                  <a:lnTo>
                    <a:pt x="930" y="497"/>
                  </a:lnTo>
                  <a:lnTo>
                    <a:pt x="930" y="551"/>
                  </a:lnTo>
                  <a:lnTo>
                    <a:pt x="930" y="491"/>
                  </a:lnTo>
                  <a:lnTo>
                    <a:pt x="930" y="527"/>
                  </a:lnTo>
                  <a:lnTo>
                    <a:pt x="936" y="497"/>
                  </a:lnTo>
                  <a:lnTo>
                    <a:pt x="936" y="545"/>
                  </a:lnTo>
                  <a:lnTo>
                    <a:pt x="936" y="497"/>
                  </a:lnTo>
                  <a:lnTo>
                    <a:pt x="936" y="521"/>
                  </a:lnTo>
                  <a:lnTo>
                    <a:pt x="942" y="491"/>
                  </a:lnTo>
                  <a:lnTo>
                    <a:pt x="942" y="533"/>
                  </a:lnTo>
                  <a:lnTo>
                    <a:pt x="942" y="479"/>
                  </a:lnTo>
                  <a:lnTo>
                    <a:pt x="942" y="503"/>
                  </a:lnTo>
                  <a:lnTo>
                    <a:pt x="948" y="497"/>
                  </a:lnTo>
                  <a:lnTo>
                    <a:pt x="948" y="515"/>
                  </a:lnTo>
                  <a:lnTo>
                    <a:pt x="948" y="485"/>
                  </a:lnTo>
                  <a:lnTo>
                    <a:pt x="948" y="491"/>
                  </a:lnTo>
                  <a:lnTo>
                    <a:pt x="948" y="503"/>
                  </a:lnTo>
                  <a:lnTo>
                    <a:pt x="954" y="491"/>
                  </a:lnTo>
                  <a:lnTo>
                    <a:pt x="954" y="485"/>
                  </a:lnTo>
                  <a:lnTo>
                    <a:pt x="954" y="473"/>
                  </a:lnTo>
                  <a:lnTo>
                    <a:pt x="954" y="503"/>
                  </a:lnTo>
                  <a:lnTo>
                    <a:pt x="960" y="461"/>
                  </a:lnTo>
                  <a:lnTo>
                    <a:pt x="960" y="473"/>
                  </a:lnTo>
                  <a:lnTo>
                    <a:pt x="960" y="438"/>
                  </a:lnTo>
                  <a:lnTo>
                    <a:pt x="960" y="485"/>
                  </a:lnTo>
                  <a:lnTo>
                    <a:pt x="966" y="426"/>
                  </a:lnTo>
                  <a:lnTo>
                    <a:pt x="966" y="455"/>
                  </a:lnTo>
                  <a:lnTo>
                    <a:pt x="966" y="414"/>
                  </a:lnTo>
                  <a:lnTo>
                    <a:pt x="966" y="461"/>
                  </a:lnTo>
                  <a:lnTo>
                    <a:pt x="966" y="402"/>
                  </a:lnTo>
                  <a:lnTo>
                    <a:pt x="972" y="432"/>
                  </a:lnTo>
                  <a:lnTo>
                    <a:pt x="972" y="408"/>
                  </a:lnTo>
                  <a:lnTo>
                    <a:pt x="972" y="432"/>
                  </a:lnTo>
                  <a:lnTo>
                    <a:pt x="972" y="396"/>
                  </a:lnTo>
                  <a:lnTo>
                    <a:pt x="978" y="402"/>
                  </a:lnTo>
                  <a:lnTo>
                    <a:pt x="978" y="420"/>
                  </a:lnTo>
                  <a:lnTo>
                    <a:pt x="978" y="396"/>
                  </a:lnTo>
                  <a:lnTo>
                    <a:pt x="978" y="372"/>
                  </a:lnTo>
                  <a:lnTo>
                    <a:pt x="984" y="414"/>
                  </a:lnTo>
                  <a:lnTo>
                    <a:pt x="984" y="354"/>
                  </a:lnTo>
                  <a:lnTo>
                    <a:pt x="984" y="384"/>
                  </a:lnTo>
                  <a:lnTo>
                    <a:pt x="984" y="348"/>
                  </a:lnTo>
                  <a:lnTo>
                    <a:pt x="990" y="396"/>
                  </a:lnTo>
                  <a:lnTo>
                    <a:pt x="990" y="336"/>
                  </a:lnTo>
                  <a:lnTo>
                    <a:pt x="990" y="372"/>
                  </a:lnTo>
                  <a:lnTo>
                    <a:pt x="990" y="354"/>
                  </a:lnTo>
                  <a:lnTo>
                    <a:pt x="996" y="384"/>
                  </a:lnTo>
                  <a:lnTo>
                    <a:pt x="996" y="354"/>
                  </a:lnTo>
                  <a:lnTo>
                    <a:pt x="996" y="366"/>
                  </a:lnTo>
                  <a:lnTo>
                    <a:pt x="996" y="402"/>
                  </a:lnTo>
                  <a:lnTo>
                    <a:pt x="996" y="384"/>
                  </a:lnTo>
                  <a:lnTo>
                    <a:pt x="1002" y="378"/>
                  </a:lnTo>
                  <a:lnTo>
                    <a:pt x="1002" y="366"/>
                  </a:lnTo>
                  <a:lnTo>
                    <a:pt x="1002" y="408"/>
                  </a:lnTo>
                  <a:lnTo>
                    <a:pt x="1002" y="378"/>
                  </a:lnTo>
                  <a:lnTo>
                    <a:pt x="1008" y="402"/>
                  </a:lnTo>
                  <a:lnTo>
                    <a:pt x="1008" y="372"/>
                  </a:lnTo>
                  <a:lnTo>
                    <a:pt x="1008" y="426"/>
                  </a:lnTo>
                  <a:lnTo>
                    <a:pt x="1008" y="372"/>
                  </a:lnTo>
                  <a:lnTo>
                    <a:pt x="1014" y="414"/>
                  </a:lnTo>
                  <a:lnTo>
                    <a:pt x="1014" y="396"/>
                  </a:lnTo>
                  <a:lnTo>
                    <a:pt x="1014" y="449"/>
                  </a:lnTo>
                  <a:lnTo>
                    <a:pt x="1014" y="402"/>
                  </a:lnTo>
                  <a:lnTo>
                    <a:pt x="1014" y="438"/>
                  </a:lnTo>
                  <a:lnTo>
                    <a:pt x="1020" y="432"/>
                  </a:lnTo>
                  <a:lnTo>
                    <a:pt x="1020" y="461"/>
                  </a:lnTo>
                  <a:lnTo>
                    <a:pt x="1020" y="438"/>
                  </a:lnTo>
                  <a:lnTo>
                    <a:pt x="1020" y="449"/>
                  </a:lnTo>
                  <a:lnTo>
                    <a:pt x="1026" y="473"/>
                  </a:lnTo>
                  <a:lnTo>
                    <a:pt x="1026" y="467"/>
                  </a:lnTo>
                  <a:lnTo>
                    <a:pt x="1026" y="461"/>
                  </a:lnTo>
                  <a:lnTo>
                    <a:pt x="1032" y="497"/>
                  </a:lnTo>
                  <a:lnTo>
                    <a:pt x="1032" y="473"/>
                  </a:lnTo>
                  <a:lnTo>
                    <a:pt x="1032" y="497"/>
                  </a:lnTo>
                  <a:lnTo>
                    <a:pt x="1032" y="467"/>
                  </a:lnTo>
                  <a:lnTo>
                    <a:pt x="1032" y="515"/>
                  </a:lnTo>
                  <a:lnTo>
                    <a:pt x="1038" y="473"/>
                  </a:lnTo>
                  <a:lnTo>
                    <a:pt x="1038" y="503"/>
                  </a:lnTo>
                  <a:lnTo>
                    <a:pt x="1038" y="473"/>
                  </a:lnTo>
                  <a:lnTo>
                    <a:pt x="1038" y="521"/>
                  </a:lnTo>
                  <a:lnTo>
                    <a:pt x="1044" y="467"/>
                  </a:lnTo>
                  <a:lnTo>
                    <a:pt x="1044" y="497"/>
                  </a:lnTo>
                  <a:lnTo>
                    <a:pt x="1044" y="461"/>
                  </a:lnTo>
                  <a:lnTo>
                    <a:pt x="1044" y="515"/>
                  </a:lnTo>
                  <a:lnTo>
                    <a:pt x="1044" y="455"/>
                  </a:lnTo>
                  <a:lnTo>
                    <a:pt x="1050" y="491"/>
                  </a:lnTo>
                  <a:lnTo>
                    <a:pt x="1050" y="467"/>
                  </a:lnTo>
                  <a:lnTo>
                    <a:pt x="1050" y="503"/>
                  </a:lnTo>
                  <a:lnTo>
                    <a:pt x="1050" y="449"/>
                  </a:lnTo>
                  <a:lnTo>
                    <a:pt x="1056" y="467"/>
                  </a:lnTo>
                  <a:lnTo>
                    <a:pt x="1056" y="473"/>
                  </a:lnTo>
                  <a:lnTo>
                    <a:pt x="1056" y="455"/>
                  </a:lnTo>
                  <a:lnTo>
                    <a:pt x="1062" y="444"/>
                  </a:lnTo>
                  <a:lnTo>
                    <a:pt x="1062" y="473"/>
                  </a:lnTo>
                  <a:lnTo>
                    <a:pt x="1062" y="432"/>
                  </a:lnTo>
                  <a:lnTo>
                    <a:pt x="1062" y="438"/>
                  </a:lnTo>
                  <a:lnTo>
                    <a:pt x="1062" y="414"/>
                  </a:lnTo>
                  <a:lnTo>
                    <a:pt x="1068" y="461"/>
                  </a:lnTo>
                  <a:lnTo>
                    <a:pt x="1068" y="396"/>
                  </a:lnTo>
                  <a:lnTo>
                    <a:pt x="1068" y="420"/>
                  </a:lnTo>
                  <a:lnTo>
                    <a:pt x="1068" y="378"/>
                  </a:lnTo>
                  <a:lnTo>
                    <a:pt x="1074" y="420"/>
                  </a:lnTo>
                  <a:lnTo>
                    <a:pt x="1074" y="360"/>
                  </a:lnTo>
                  <a:lnTo>
                    <a:pt x="1074" y="390"/>
                  </a:lnTo>
                  <a:lnTo>
                    <a:pt x="1074" y="384"/>
                  </a:lnTo>
                  <a:lnTo>
                    <a:pt x="1080" y="390"/>
                  </a:lnTo>
                  <a:lnTo>
                    <a:pt x="1080" y="366"/>
                  </a:lnTo>
                  <a:lnTo>
                    <a:pt x="1080" y="378"/>
                  </a:lnTo>
                  <a:lnTo>
                    <a:pt x="1080" y="348"/>
                  </a:lnTo>
                  <a:lnTo>
                    <a:pt x="1086" y="366"/>
                  </a:lnTo>
                  <a:lnTo>
                    <a:pt x="1086" y="330"/>
                  </a:lnTo>
                  <a:lnTo>
                    <a:pt x="1086" y="372"/>
                  </a:lnTo>
                  <a:lnTo>
                    <a:pt x="1086" y="318"/>
                  </a:lnTo>
                  <a:lnTo>
                    <a:pt x="1092" y="354"/>
                  </a:lnTo>
                  <a:lnTo>
                    <a:pt x="1092" y="318"/>
                  </a:lnTo>
                  <a:lnTo>
                    <a:pt x="1092" y="366"/>
                  </a:lnTo>
                  <a:lnTo>
                    <a:pt x="1092" y="312"/>
                  </a:lnTo>
                  <a:lnTo>
                    <a:pt x="1092" y="336"/>
                  </a:lnTo>
                  <a:lnTo>
                    <a:pt x="1098" y="342"/>
                  </a:lnTo>
                  <a:lnTo>
                    <a:pt x="1098" y="336"/>
                  </a:lnTo>
                  <a:lnTo>
                    <a:pt x="1098" y="324"/>
                  </a:lnTo>
                  <a:lnTo>
                    <a:pt x="1098" y="318"/>
                  </a:lnTo>
                  <a:lnTo>
                    <a:pt x="1104" y="354"/>
                  </a:lnTo>
                  <a:lnTo>
                    <a:pt x="1104" y="318"/>
                  </a:lnTo>
                  <a:lnTo>
                    <a:pt x="1104" y="348"/>
                  </a:lnTo>
                  <a:lnTo>
                    <a:pt x="1104" y="306"/>
                  </a:lnTo>
                  <a:lnTo>
                    <a:pt x="1110" y="366"/>
                  </a:lnTo>
                  <a:lnTo>
                    <a:pt x="1110" y="306"/>
                  </a:lnTo>
                  <a:lnTo>
                    <a:pt x="1110" y="342"/>
                  </a:lnTo>
                  <a:lnTo>
                    <a:pt x="1110" y="324"/>
                  </a:lnTo>
                  <a:lnTo>
                    <a:pt x="1110" y="360"/>
                  </a:lnTo>
                  <a:lnTo>
                    <a:pt x="1116" y="324"/>
                  </a:lnTo>
                  <a:lnTo>
                    <a:pt x="1116" y="342"/>
                  </a:lnTo>
                  <a:lnTo>
                    <a:pt x="1116" y="360"/>
                  </a:lnTo>
                  <a:lnTo>
                    <a:pt x="1116" y="354"/>
                  </a:lnTo>
                  <a:lnTo>
                    <a:pt x="1122" y="360"/>
                  </a:lnTo>
                  <a:lnTo>
                    <a:pt x="1122" y="342"/>
                  </a:lnTo>
                  <a:lnTo>
                    <a:pt x="1122" y="390"/>
                  </a:lnTo>
                  <a:lnTo>
                    <a:pt x="1122" y="348"/>
                  </a:lnTo>
                  <a:lnTo>
                    <a:pt x="1128" y="384"/>
                  </a:lnTo>
                  <a:lnTo>
                    <a:pt x="1128" y="348"/>
                  </a:lnTo>
                  <a:lnTo>
                    <a:pt x="1128" y="408"/>
                  </a:lnTo>
                  <a:lnTo>
                    <a:pt x="1128" y="360"/>
                  </a:lnTo>
                  <a:lnTo>
                    <a:pt x="1128" y="402"/>
                  </a:lnTo>
                  <a:lnTo>
                    <a:pt x="1134" y="378"/>
                  </a:lnTo>
                  <a:lnTo>
                    <a:pt x="1134" y="432"/>
                  </a:lnTo>
                  <a:lnTo>
                    <a:pt x="1134" y="384"/>
                  </a:lnTo>
                  <a:lnTo>
                    <a:pt x="1134" y="426"/>
                  </a:lnTo>
                  <a:lnTo>
                    <a:pt x="1140" y="432"/>
                  </a:lnTo>
                  <a:lnTo>
                    <a:pt x="1140" y="449"/>
                  </a:lnTo>
                  <a:lnTo>
                    <a:pt x="1140" y="432"/>
                  </a:lnTo>
                  <a:lnTo>
                    <a:pt x="1140" y="449"/>
                  </a:lnTo>
                  <a:lnTo>
                    <a:pt x="1140" y="479"/>
                  </a:lnTo>
                  <a:lnTo>
                    <a:pt x="1146" y="479"/>
                  </a:lnTo>
                  <a:lnTo>
                    <a:pt x="1146" y="515"/>
                  </a:lnTo>
                  <a:lnTo>
                    <a:pt x="1152" y="491"/>
                  </a:lnTo>
                  <a:lnTo>
                    <a:pt x="1152" y="503"/>
                  </a:lnTo>
                  <a:lnTo>
                    <a:pt x="1152" y="479"/>
                  </a:lnTo>
                  <a:lnTo>
                    <a:pt x="1152" y="527"/>
                  </a:lnTo>
                  <a:lnTo>
                    <a:pt x="1158" y="485"/>
                  </a:lnTo>
                  <a:lnTo>
                    <a:pt x="1158" y="515"/>
                  </a:lnTo>
                  <a:lnTo>
                    <a:pt x="1158" y="479"/>
                  </a:lnTo>
                  <a:lnTo>
                    <a:pt x="1158" y="527"/>
                  </a:lnTo>
                  <a:lnTo>
                    <a:pt x="1158" y="473"/>
                  </a:lnTo>
                  <a:lnTo>
                    <a:pt x="1164" y="509"/>
                  </a:lnTo>
                  <a:lnTo>
                    <a:pt x="1164" y="473"/>
                  </a:lnTo>
                  <a:lnTo>
                    <a:pt x="1164" y="521"/>
                  </a:lnTo>
                  <a:lnTo>
                    <a:pt x="1164" y="455"/>
                  </a:lnTo>
                  <a:lnTo>
                    <a:pt x="1170" y="485"/>
                  </a:lnTo>
                  <a:lnTo>
                    <a:pt x="1170" y="461"/>
                  </a:lnTo>
                  <a:lnTo>
                    <a:pt x="1170" y="491"/>
                  </a:lnTo>
                  <a:lnTo>
                    <a:pt x="1170" y="444"/>
                  </a:lnTo>
                  <a:lnTo>
                    <a:pt x="1176" y="455"/>
                  </a:lnTo>
                  <a:lnTo>
                    <a:pt x="1176" y="461"/>
                  </a:lnTo>
                  <a:lnTo>
                    <a:pt x="1176" y="449"/>
                  </a:lnTo>
                  <a:lnTo>
                    <a:pt x="1176" y="438"/>
                  </a:lnTo>
                  <a:lnTo>
                    <a:pt x="1176" y="426"/>
                  </a:lnTo>
                  <a:lnTo>
                    <a:pt x="1182" y="455"/>
                  </a:lnTo>
                  <a:lnTo>
                    <a:pt x="1182" y="420"/>
                  </a:lnTo>
                  <a:lnTo>
                    <a:pt x="1182" y="426"/>
                  </a:lnTo>
                  <a:lnTo>
                    <a:pt x="1182" y="390"/>
                  </a:lnTo>
                  <a:lnTo>
                    <a:pt x="1188" y="438"/>
                  </a:lnTo>
                  <a:lnTo>
                    <a:pt x="1188" y="372"/>
                  </a:lnTo>
                  <a:lnTo>
                    <a:pt x="1188" y="402"/>
                  </a:lnTo>
                  <a:lnTo>
                    <a:pt x="1188" y="372"/>
                  </a:lnTo>
                  <a:lnTo>
                    <a:pt x="1188" y="408"/>
                  </a:lnTo>
                  <a:lnTo>
                    <a:pt x="1194" y="360"/>
                  </a:lnTo>
                  <a:lnTo>
                    <a:pt x="1194" y="372"/>
                  </a:lnTo>
                  <a:lnTo>
                    <a:pt x="1194" y="366"/>
                  </a:lnTo>
                  <a:lnTo>
                    <a:pt x="1200" y="348"/>
                  </a:lnTo>
                  <a:lnTo>
                    <a:pt x="1200" y="324"/>
                  </a:lnTo>
                  <a:lnTo>
                    <a:pt x="1200" y="366"/>
                  </a:lnTo>
                  <a:lnTo>
                    <a:pt x="1200" y="318"/>
                  </a:lnTo>
                  <a:lnTo>
                    <a:pt x="1206" y="342"/>
                  </a:lnTo>
                  <a:lnTo>
                    <a:pt x="1206" y="294"/>
                  </a:lnTo>
                  <a:lnTo>
                    <a:pt x="1206" y="354"/>
                  </a:lnTo>
                  <a:lnTo>
                    <a:pt x="1206" y="294"/>
                  </a:lnTo>
                  <a:lnTo>
                    <a:pt x="1206" y="330"/>
                  </a:lnTo>
                  <a:lnTo>
                    <a:pt x="1212" y="306"/>
                  </a:lnTo>
                  <a:lnTo>
                    <a:pt x="1212" y="330"/>
                  </a:lnTo>
                  <a:lnTo>
                    <a:pt x="1212" y="306"/>
                  </a:lnTo>
                  <a:lnTo>
                    <a:pt x="1218" y="336"/>
                  </a:lnTo>
                  <a:lnTo>
                    <a:pt x="1218" y="306"/>
                  </a:lnTo>
                  <a:lnTo>
                    <a:pt x="1218" y="318"/>
                  </a:lnTo>
                  <a:lnTo>
                    <a:pt x="1218" y="300"/>
                  </a:lnTo>
                  <a:lnTo>
                    <a:pt x="1224" y="360"/>
                  </a:lnTo>
                  <a:lnTo>
                    <a:pt x="1224" y="306"/>
                  </a:lnTo>
                  <a:lnTo>
                    <a:pt x="1224" y="342"/>
                  </a:lnTo>
                  <a:lnTo>
                    <a:pt x="1224" y="312"/>
                  </a:lnTo>
                  <a:lnTo>
                    <a:pt x="1224" y="366"/>
                  </a:lnTo>
                  <a:lnTo>
                    <a:pt x="1230" y="318"/>
                  </a:lnTo>
                  <a:lnTo>
                    <a:pt x="1230" y="360"/>
                  </a:lnTo>
                  <a:lnTo>
                    <a:pt x="1230" y="372"/>
                  </a:lnTo>
                  <a:lnTo>
                    <a:pt x="1230" y="384"/>
                  </a:lnTo>
                  <a:lnTo>
                    <a:pt x="1236" y="366"/>
                  </a:lnTo>
                  <a:lnTo>
                    <a:pt x="1236" y="372"/>
                  </a:lnTo>
                  <a:lnTo>
                    <a:pt x="1236" y="414"/>
                  </a:lnTo>
                  <a:lnTo>
                    <a:pt x="1236" y="396"/>
                  </a:lnTo>
                  <a:lnTo>
                    <a:pt x="1236" y="402"/>
                  </a:lnTo>
                  <a:lnTo>
                    <a:pt x="1242" y="390"/>
                  </a:lnTo>
                  <a:lnTo>
                    <a:pt x="1242" y="444"/>
                  </a:lnTo>
                  <a:lnTo>
                    <a:pt x="1242" y="408"/>
                  </a:lnTo>
                  <a:lnTo>
                    <a:pt x="1242" y="432"/>
                  </a:lnTo>
                  <a:lnTo>
                    <a:pt x="1248" y="408"/>
                  </a:lnTo>
                  <a:lnTo>
                    <a:pt x="1248" y="467"/>
                  </a:lnTo>
                  <a:lnTo>
                    <a:pt x="1248" y="408"/>
                  </a:lnTo>
                  <a:lnTo>
                    <a:pt x="1248" y="449"/>
                  </a:lnTo>
                  <a:lnTo>
                    <a:pt x="1254" y="426"/>
                  </a:lnTo>
                  <a:lnTo>
                    <a:pt x="1254" y="473"/>
                  </a:lnTo>
                  <a:lnTo>
                    <a:pt x="1254" y="420"/>
                  </a:lnTo>
                  <a:lnTo>
                    <a:pt x="1254" y="449"/>
                  </a:lnTo>
                  <a:lnTo>
                    <a:pt x="1254" y="444"/>
                  </a:lnTo>
                  <a:lnTo>
                    <a:pt x="1260" y="467"/>
                  </a:lnTo>
                  <a:lnTo>
                    <a:pt x="1260" y="432"/>
                  </a:lnTo>
                  <a:lnTo>
                    <a:pt x="1260" y="455"/>
                  </a:lnTo>
                  <a:lnTo>
                    <a:pt x="1260" y="473"/>
                  </a:lnTo>
                  <a:lnTo>
                    <a:pt x="1266" y="461"/>
                  </a:lnTo>
                  <a:lnTo>
                    <a:pt x="1266" y="455"/>
                  </a:lnTo>
                  <a:lnTo>
                    <a:pt x="1266" y="491"/>
                  </a:lnTo>
                  <a:lnTo>
                    <a:pt x="1272" y="461"/>
                  </a:lnTo>
                  <a:lnTo>
                    <a:pt x="1272" y="473"/>
                  </a:lnTo>
                  <a:lnTo>
                    <a:pt x="1272" y="449"/>
                  </a:lnTo>
                  <a:lnTo>
                    <a:pt x="1272" y="497"/>
                  </a:lnTo>
                  <a:lnTo>
                    <a:pt x="1272" y="444"/>
                  </a:lnTo>
                  <a:lnTo>
                    <a:pt x="1278" y="473"/>
                  </a:lnTo>
                  <a:lnTo>
                    <a:pt x="1278" y="444"/>
                  </a:lnTo>
                  <a:lnTo>
                    <a:pt x="1278" y="491"/>
                  </a:lnTo>
                  <a:lnTo>
                    <a:pt x="1278" y="432"/>
                  </a:lnTo>
                  <a:lnTo>
                    <a:pt x="1284" y="461"/>
                  </a:lnTo>
                  <a:lnTo>
                    <a:pt x="1284" y="426"/>
                  </a:lnTo>
                  <a:lnTo>
                    <a:pt x="1284" y="461"/>
                  </a:lnTo>
                  <a:lnTo>
                    <a:pt x="1284" y="414"/>
                  </a:lnTo>
                  <a:lnTo>
                    <a:pt x="1284" y="432"/>
                  </a:lnTo>
                  <a:lnTo>
                    <a:pt x="1290" y="432"/>
                  </a:lnTo>
                  <a:lnTo>
                    <a:pt x="1290" y="408"/>
                  </a:lnTo>
                  <a:lnTo>
                    <a:pt x="1290" y="402"/>
                  </a:lnTo>
                  <a:lnTo>
                    <a:pt x="1296" y="432"/>
                  </a:lnTo>
                  <a:lnTo>
                    <a:pt x="1296" y="384"/>
                  </a:lnTo>
                  <a:lnTo>
                    <a:pt x="1296" y="402"/>
                  </a:lnTo>
                  <a:lnTo>
                    <a:pt x="1296" y="366"/>
                  </a:lnTo>
                  <a:lnTo>
                    <a:pt x="1302" y="402"/>
                  </a:lnTo>
                  <a:lnTo>
                    <a:pt x="1302" y="342"/>
                  </a:lnTo>
                  <a:lnTo>
                    <a:pt x="1302" y="372"/>
                  </a:lnTo>
                  <a:lnTo>
                    <a:pt x="1302" y="330"/>
                  </a:lnTo>
                  <a:lnTo>
                    <a:pt x="1302" y="372"/>
                  </a:lnTo>
                  <a:lnTo>
                    <a:pt x="1308" y="324"/>
                  </a:lnTo>
                  <a:lnTo>
                    <a:pt x="1308" y="342"/>
                  </a:lnTo>
                  <a:lnTo>
                    <a:pt x="1308" y="336"/>
                  </a:lnTo>
                  <a:lnTo>
                    <a:pt x="1314" y="330"/>
                  </a:lnTo>
                  <a:lnTo>
                    <a:pt x="1314" y="312"/>
                  </a:lnTo>
                  <a:lnTo>
                    <a:pt x="1314" y="354"/>
                  </a:lnTo>
                  <a:lnTo>
                    <a:pt x="1314" y="300"/>
                  </a:lnTo>
                  <a:lnTo>
                    <a:pt x="1320" y="324"/>
                  </a:lnTo>
                  <a:lnTo>
                    <a:pt x="1320" y="288"/>
                  </a:lnTo>
                  <a:lnTo>
                    <a:pt x="1320" y="342"/>
                  </a:lnTo>
                  <a:lnTo>
                    <a:pt x="1320" y="282"/>
                  </a:lnTo>
                  <a:lnTo>
                    <a:pt x="1320" y="312"/>
                  </a:lnTo>
                  <a:lnTo>
                    <a:pt x="1326" y="300"/>
                  </a:lnTo>
                  <a:lnTo>
                    <a:pt x="1326" y="324"/>
                  </a:lnTo>
                  <a:lnTo>
                    <a:pt x="1326" y="294"/>
                  </a:lnTo>
                  <a:lnTo>
                    <a:pt x="1332" y="318"/>
                  </a:lnTo>
                  <a:lnTo>
                    <a:pt x="1332" y="288"/>
                  </a:lnTo>
                  <a:lnTo>
                    <a:pt x="1332" y="306"/>
                  </a:lnTo>
                  <a:lnTo>
                    <a:pt x="1332" y="270"/>
                  </a:lnTo>
                  <a:lnTo>
                    <a:pt x="1332" y="330"/>
                  </a:lnTo>
                  <a:lnTo>
                    <a:pt x="1338" y="264"/>
                  </a:lnTo>
                  <a:lnTo>
                    <a:pt x="1338" y="306"/>
                  </a:lnTo>
                  <a:lnTo>
                    <a:pt x="1338" y="282"/>
                  </a:lnTo>
                  <a:lnTo>
                    <a:pt x="1338" y="318"/>
                  </a:lnTo>
                  <a:lnTo>
                    <a:pt x="1344" y="282"/>
                  </a:lnTo>
                  <a:lnTo>
                    <a:pt x="1344" y="294"/>
                  </a:lnTo>
                  <a:lnTo>
                    <a:pt x="1344" y="324"/>
                  </a:lnTo>
                  <a:lnTo>
                    <a:pt x="1344" y="300"/>
                  </a:lnTo>
                  <a:lnTo>
                    <a:pt x="1350" y="312"/>
                  </a:lnTo>
                  <a:lnTo>
                    <a:pt x="1350" y="294"/>
                  </a:lnTo>
                  <a:lnTo>
                    <a:pt x="1350" y="354"/>
                  </a:lnTo>
                  <a:lnTo>
                    <a:pt x="1350" y="306"/>
                  </a:lnTo>
                  <a:lnTo>
                    <a:pt x="1350" y="336"/>
                  </a:lnTo>
                  <a:lnTo>
                    <a:pt x="1356" y="312"/>
                  </a:lnTo>
                  <a:lnTo>
                    <a:pt x="1356" y="372"/>
                  </a:lnTo>
                  <a:lnTo>
                    <a:pt x="1356" y="324"/>
                  </a:lnTo>
                  <a:lnTo>
                    <a:pt x="1356" y="366"/>
                  </a:lnTo>
                  <a:lnTo>
                    <a:pt x="1362" y="354"/>
                  </a:lnTo>
                  <a:lnTo>
                    <a:pt x="1362" y="390"/>
                  </a:lnTo>
                  <a:lnTo>
                    <a:pt x="1362" y="366"/>
                  </a:lnTo>
                  <a:lnTo>
                    <a:pt x="1362" y="384"/>
                  </a:lnTo>
                  <a:lnTo>
                    <a:pt x="1368" y="408"/>
                  </a:lnTo>
                  <a:lnTo>
                    <a:pt x="1368" y="402"/>
                  </a:lnTo>
                  <a:lnTo>
                    <a:pt x="1368" y="414"/>
                  </a:lnTo>
                  <a:lnTo>
                    <a:pt x="1368" y="396"/>
                  </a:lnTo>
                  <a:lnTo>
                    <a:pt x="1368" y="444"/>
                  </a:lnTo>
                  <a:lnTo>
                    <a:pt x="1374" y="420"/>
                  </a:lnTo>
                  <a:lnTo>
                    <a:pt x="1374" y="444"/>
                  </a:lnTo>
                  <a:lnTo>
                    <a:pt x="1374" y="426"/>
                  </a:lnTo>
                  <a:lnTo>
                    <a:pt x="1374" y="479"/>
                  </a:lnTo>
                  <a:lnTo>
                    <a:pt x="1380" y="438"/>
                  </a:lnTo>
                  <a:lnTo>
                    <a:pt x="1380" y="467"/>
                  </a:lnTo>
                  <a:lnTo>
                    <a:pt x="1380" y="444"/>
                  </a:lnTo>
                  <a:lnTo>
                    <a:pt x="1380" y="497"/>
                  </a:lnTo>
                  <a:lnTo>
                    <a:pt x="1380" y="444"/>
                  </a:lnTo>
                  <a:lnTo>
                    <a:pt x="1386" y="473"/>
                  </a:lnTo>
                  <a:lnTo>
                    <a:pt x="1386" y="449"/>
                  </a:lnTo>
                  <a:lnTo>
                    <a:pt x="1386" y="485"/>
                  </a:lnTo>
                  <a:lnTo>
                    <a:pt x="1386" y="438"/>
                  </a:lnTo>
                  <a:lnTo>
                    <a:pt x="1392" y="461"/>
                  </a:lnTo>
                  <a:lnTo>
                    <a:pt x="1392" y="467"/>
                  </a:lnTo>
                  <a:lnTo>
                    <a:pt x="1392" y="449"/>
                  </a:lnTo>
                  <a:lnTo>
                    <a:pt x="1398" y="449"/>
                  </a:lnTo>
                  <a:lnTo>
                    <a:pt x="1398" y="473"/>
                  </a:lnTo>
                  <a:lnTo>
                    <a:pt x="1398" y="449"/>
                  </a:lnTo>
                  <a:lnTo>
                    <a:pt x="1398" y="426"/>
                  </a:lnTo>
                  <a:lnTo>
                    <a:pt x="1404" y="461"/>
                  </a:lnTo>
                  <a:lnTo>
                    <a:pt x="1404" y="414"/>
                  </a:lnTo>
                  <a:lnTo>
                    <a:pt x="1404" y="444"/>
                  </a:lnTo>
                  <a:lnTo>
                    <a:pt x="1404" y="402"/>
                  </a:lnTo>
                  <a:lnTo>
                    <a:pt x="1410" y="444"/>
                  </a:lnTo>
                  <a:lnTo>
                    <a:pt x="1410" y="372"/>
                  </a:lnTo>
                  <a:lnTo>
                    <a:pt x="1410" y="402"/>
                  </a:lnTo>
                  <a:lnTo>
                    <a:pt x="1410" y="378"/>
                  </a:lnTo>
                  <a:lnTo>
                    <a:pt x="1416" y="408"/>
                  </a:lnTo>
                  <a:lnTo>
                    <a:pt x="1416" y="360"/>
                  </a:lnTo>
                  <a:lnTo>
                    <a:pt x="1416" y="372"/>
                  </a:lnTo>
                  <a:lnTo>
                    <a:pt x="1416" y="354"/>
                  </a:lnTo>
                  <a:lnTo>
                    <a:pt x="1422" y="348"/>
                  </a:lnTo>
                  <a:lnTo>
                    <a:pt x="1422" y="318"/>
                  </a:lnTo>
                  <a:lnTo>
                    <a:pt x="1422" y="366"/>
                  </a:lnTo>
                  <a:lnTo>
                    <a:pt x="1422" y="306"/>
                  </a:lnTo>
                  <a:lnTo>
                    <a:pt x="1428" y="336"/>
                  </a:lnTo>
                  <a:lnTo>
                    <a:pt x="1428" y="294"/>
                  </a:lnTo>
                  <a:lnTo>
                    <a:pt x="1428" y="336"/>
                  </a:lnTo>
                  <a:lnTo>
                    <a:pt x="1428" y="276"/>
                  </a:lnTo>
                  <a:lnTo>
                    <a:pt x="1428" y="300"/>
                  </a:lnTo>
                  <a:lnTo>
                    <a:pt x="1434" y="300"/>
                  </a:lnTo>
                  <a:lnTo>
                    <a:pt x="1434" y="294"/>
                  </a:lnTo>
                  <a:lnTo>
                    <a:pt x="1434" y="288"/>
                  </a:lnTo>
                  <a:lnTo>
                    <a:pt x="1434" y="270"/>
                  </a:lnTo>
                  <a:lnTo>
                    <a:pt x="1440" y="318"/>
                  </a:lnTo>
                  <a:lnTo>
                    <a:pt x="1440" y="264"/>
                  </a:lnTo>
                  <a:lnTo>
                    <a:pt x="1440" y="288"/>
                  </a:lnTo>
                  <a:lnTo>
                    <a:pt x="1440" y="252"/>
                  </a:lnTo>
                  <a:lnTo>
                    <a:pt x="1446" y="306"/>
                  </a:lnTo>
                  <a:lnTo>
                    <a:pt x="1446" y="252"/>
                  </a:lnTo>
                  <a:lnTo>
                    <a:pt x="1446" y="282"/>
                  </a:lnTo>
                  <a:lnTo>
                    <a:pt x="1446" y="276"/>
                  </a:lnTo>
                  <a:lnTo>
                    <a:pt x="1446" y="282"/>
                  </a:lnTo>
                  <a:lnTo>
                    <a:pt x="1452" y="276"/>
                  </a:lnTo>
                  <a:lnTo>
                    <a:pt x="1452" y="258"/>
                  </a:lnTo>
                  <a:lnTo>
                    <a:pt x="1452" y="306"/>
                  </a:lnTo>
                  <a:lnTo>
                    <a:pt x="1452" y="264"/>
                  </a:lnTo>
                  <a:lnTo>
                    <a:pt x="1458" y="294"/>
                  </a:lnTo>
                  <a:lnTo>
                    <a:pt x="1458" y="258"/>
                  </a:lnTo>
                  <a:lnTo>
                    <a:pt x="1458" y="312"/>
                  </a:lnTo>
                  <a:lnTo>
                    <a:pt x="1458" y="264"/>
                  </a:lnTo>
                  <a:lnTo>
                    <a:pt x="1464" y="300"/>
                  </a:lnTo>
                  <a:lnTo>
                    <a:pt x="1464" y="294"/>
                  </a:lnTo>
                  <a:lnTo>
                    <a:pt x="1464" y="324"/>
                  </a:lnTo>
                  <a:lnTo>
                    <a:pt x="1464" y="300"/>
                  </a:lnTo>
                  <a:lnTo>
                    <a:pt x="1464" y="312"/>
                  </a:lnTo>
                  <a:lnTo>
                    <a:pt x="1470" y="342"/>
                  </a:lnTo>
                  <a:lnTo>
                    <a:pt x="1470" y="324"/>
                  </a:lnTo>
                  <a:lnTo>
                    <a:pt x="1470" y="342"/>
                  </a:lnTo>
                  <a:lnTo>
                    <a:pt x="1470" y="324"/>
                  </a:lnTo>
                  <a:lnTo>
                    <a:pt x="1476" y="378"/>
                  </a:lnTo>
                  <a:lnTo>
                    <a:pt x="1476" y="336"/>
                  </a:lnTo>
                  <a:lnTo>
                    <a:pt x="1476" y="372"/>
                  </a:lnTo>
                  <a:lnTo>
                    <a:pt x="1476" y="336"/>
                  </a:lnTo>
                  <a:lnTo>
                    <a:pt x="1482" y="396"/>
                  </a:lnTo>
                  <a:lnTo>
                    <a:pt x="1482" y="336"/>
                  </a:lnTo>
                  <a:lnTo>
                    <a:pt x="1482" y="378"/>
                  </a:lnTo>
                  <a:lnTo>
                    <a:pt x="1482" y="366"/>
                  </a:lnTo>
                  <a:lnTo>
                    <a:pt x="1482" y="402"/>
                  </a:lnTo>
                  <a:lnTo>
                    <a:pt x="1488" y="384"/>
                  </a:lnTo>
                  <a:lnTo>
                    <a:pt x="1488" y="408"/>
                  </a:lnTo>
                  <a:lnTo>
                    <a:pt x="1488" y="426"/>
                  </a:lnTo>
                  <a:lnTo>
                    <a:pt x="1488" y="438"/>
                  </a:lnTo>
                  <a:lnTo>
                    <a:pt x="1494" y="438"/>
                  </a:lnTo>
                  <a:lnTo>
                    <a:pt x="1494" y="473"/>
                  </a:lnTo>
                  <a:lnTo>
                    <a:pt x="1494" y="455"/>
                  </a:lnTo>
                  <a:lnTo>
                    <a:pt x="1494" y="473"/>
                  </a:lnTo>
                  <a:lnTo>
                    <a:pt x="1500" y="444"/>
                  </a:lnTo>
                  <a:lnTo>
                    <a:pt x="1500" y="503"/>
                  </a:lnTo>
                  <a:lnTo>
                    <a:pt x="1500" y="461"/>
                  </a:lnTo>
                  <a:lnTo>
                    <a:pt x="1500" y="491"/>
                  </a:lnTo>
                  <a:lnTo>
                    <a:pt x="1506" y="461"/>
                  </a:lnTo>
                  <a:lnTo>
                    <a:pt x="1506" y="515"/>
                  </a:lnTo>
                  <a:lnTo>
                    <a:pt x="1506" y="461"/>
                  </a:lnTo>
                  <a:lnTo>
                    <a:pt x="1506" y="503"/>
                  </a:lnTo>
                  <a:lnTo>
                    <a:pt x="1512" y="461"/>
                  </a:lnTo>
                  <a:lnTo>
                    <a:pt x="1512" y="521"/>
                  </a:lnTo>
                  <a:lnTo>
                    <a:pt x="1512" y="461"/>
                  </a:lnTo>
                  <a:lnTo>
                    <a:pt x="1512" y="497"/>
                  </a:lnTo>
                  <a:lnTo>
                    <a:pt x="1512" y="473"/>
                  </a:lnTo>
                  <a:lnTo>
                    <a:pt x="1518" y="503"/>
                  </a:lnTo>
                  <a:lnTo>
                    <a:pt x="1518" y="455"/>
                  </a:lnTo>
                  <a:lnTo>
                    <a:pt x="1518" y="473"/>
                  </a:lnTo>
                  <a:lnTo>
                    <a:pt x="1518" y="479"/>
                  </a:lnTo>
                  <a:lnTo>
                    <a:pt x="1524" y="473"/>
                  </a:lnTo>
                  <a:lnTo>
                    <a:pt x="1524" y="449"/>
                  </a:lnTo>
                  <a:lnTo>
                    <a:pt x="1524" y="438"/>
                  </a:lnTo>
                  <a:lnTo>
                    <a:pt x="1524" y="473"/>
                  </a:lnTo>
                  <a:lnTo>
                    <a:pt x="1530" y="438"/>
                  </a:lnTo>
                  <a:lnTo>
                    <a:pt x="1530" y="402"/>
                  </a:lnTo>
                  <a:lnTo>
                    <a:pt x="1530" y="449"/>
                  </a:lnTo>
                  <a:lnTo>
                    <a:pt x="1530" y="384"/>
                  </a:lnTo>
                  <a:lnTo>
                    <a:pt x="1536" y="408"/>
                  </a:lnTo>
                  <a:lnTo>
                    <a:pt x="1536" y="366"/>
                  </a:lnTo>
                  <a:lnTo>
                    <a:pt x="1536" y="408"/>
                  </a:lnTo>
                  <a:lnTo>
                    <a:pt x="1536" y="348"/>
                  </a:lnTo>
                  <a:lnTo>
                    <a:pt x="1542" y="372"/>
                  </a:lnTo>
                  <a:lnTo>
                    <a:pt x="1542" y="360"/>
                  </a:lnTo>
                  <a:lnTo>
                    <a:pt x="1542" y="330"/>
                  </a:lnTo>
                  <a:lnTo>
                    <a:pt x="1548" y="354"/>
                  </a:lnTo>
                  <a:lnTo>
                    <a:pt x="1548" y="300"/>
                  </a:lnTo>
                  <a:lnTo>
                    <a:pt x="1548" y="324"/>
                  </a:lnTo>
                  <a:lnTo>
                    <a:pt x="1548" y="282"/>
                  </a:lnTo>
                  <a:lnTo>
                    <a:pt x="1554" y="330"/>
                  </a:lnTo>
                  <a:lnTo>
                    <a:pt x="1554" y="270"/>
                  </a:lnTo>
                  <a:lnTo>
                    <a:pt x="1554" y="294"/>
                  </a:lnTo>
                  <a:lnTo>
                    <a:pt x="1554" y="282"/>
                  </a:lnTo>
                  <a:lnTo>
                    <a:pt x="1560" y="300"/>
                  </a:lnTo>
                  <a:lnTo>
                    <a:pt x="1560" y="276"/>
                  </a:lnTo>
                  <a:lnTo>
                    <a:pt x="1560" y="270"/>
                  </a:lnTo>
                  <a:lnTo>
                    <a:pt x="1560" y="312"/>
                  </a:lnTo>
                  <a:lnTo>
                    <a:pt x="1560" y="276"/>
                  </a:lnTo>
                  <a:lnTo>
                    <a:pt x="1566" y="294"/>
                  </a:lnTo>
                  <a:lnTo>
                    <a:pt x="1566" y="264"/>
                  </a:lnTo>
                  <a:lnTo>
                    <a:pt x="1566" y="318"/>
                  </a:lnTo>
                  <a:lnTo>
                    <a:pt x="1566" y="258"/>
                  </a:lnTo>
                  <a:lnTo>
                    <a:pt x="1572" y="294"/>
                  </a:lnTo>
                  <a:lnTo>
                    <a:pt x="1572" y="270"/>
                  </a:lnTo>
                  <a:lnTo>
                    <a:pt x="1572" y="300"/>
                  </a:lnTo>
                  <a:lnTo>
                    <a:pt x="1572" y="270"/>
                  </a:lnTo>
                  <a:lnTo>
                    <a:pt x="1578" y="276"/>
                  </a:lnTo>
                  <a:lnTo>
                    <a:pt x="1578" y="306"/>
                  </a:lnTo>
                  <a:lnTo>
                    <a:pt x="1578" y="282"/>
                  </a:lnTo>
                  <a:lnTo>
                    <a:pt x="1578" y="300"/>
                  </a:lnTo>
                  <a:lnTo>
                    <a:pt x="1578" y="276"/>
                  </a:lnTo>
                  <a:lnTo>
                    <a:pt x="1584" y="330"/>
                  </a:lnTo>
                  <a:lnTo>
                    <a:pt x="1584" y="276"/>
                  </a:lnTo>
                  <a:lnTo>
                    <a:pt x="1584" y="312"/>
                  </a:lnTo>
                  <a:lnTo>
                    <a:pt x="1584" y="288"/>
                  </a:lnTo>
                  <a:lnTo>
                    <a:pt x="1590" y="330"/>
                  </a:lnTo>
                  <a:lnTo>
                    <a:pt x="1590" y="294"/>
                  </a:lnTo>
                  <a:lnTo>
                    <a:pt x="1590" y="324"/>
                  </a:lnTo>
                  <a:lnTo>
                    <a:pt x="1590" y="336"/>
                  </a:lnTo>
                  <a:lnTo>
                    <a:pt x="1596" y="336"/>
                  </a:lnTo>
                  <a:lnTo>
                    <a:pt x="1596" y="330"/>
                  </a:lnTo>
                  <a:lnTo>
                    <a:pt x="1596" y="378"/>
                  </a:lnTo>
                  <a:lnTo>
                    <a:pt x="1596" y="354"/>
                  </a:lnTo>
                  <a:lnTo>
                    <a:pt x="1602" y="378"/>
                  </a:lnTo>
                  <a:lnTo>
                    <a:pt x="1602" y="354"/>
                  </a:lnTo>
                  <a:lnTo>
                    <a:pt x="1602" y="414"/>
                  </a:lnTo>
                  <a:lnTo>
                    <a:pt x="1602" y="366"/>
                  </a:lnTo>
                  <a:lnTo>
                    <a:pt x="1608" y="408"/>
                  </a:lnTo>
                  <a:lnTo>
                    <a:pt x="1608" y="390"/>
                  </a:lnTo>
                  <a:lnTo>
                    <a:pt x="1608" y="449"/>
                  </a:lnTo>
                  <a:lnTo>
                    <a:pt x="1608" y="396"/>
                  </a:lnTo>
                  <a:lnTo>
                    <a:pt x="1608" y="444"/>
                  </a:lnTo>
                  <a:lnTo>
                    <a:pt x="1614" y="432"/>
                  </a:lnTo>
                  <a:lnTo>
                    <a:pt x="1614" y="473"/>
                  </a:lnTo>
                  <a:lnTo>
                    <a:pt x="1614" y="438"/>
                  </a:lnTo>
                  <a:lnTo>
                    <a:pt x="1614" y="461"/>
                  </a:lnTo>
                  <a:lnTo>
                    <a:pt x="1620" y="479"/>
                  </a:lnTo>
                  <a:lnTo>
                    <a:pt x="1620" y="497"/>
                  </a:lnTo>
                  <a:lnTo>
                    <a:pt x="1620" y="473"/>
                  </a:lnTo>
                  <a:lnTo>
                    <a:pt x="1620" y="485"/>
                  </a:lnTo>
                  <a:lnTo>
                    <a:pt x="1626" y="515"/>
                  </a:lnTo>
                  <a:lnTo>
                    <a:pt x="1626" y="503"/>
                  </a:lnTo>
                  <a:lnTo>
                    <a:pt x="1626" y="497"/>
                  </a:lnTo>
                  <a:lnTo>
                    <a:pt x="1626" y="533"/>
                  </a:lnTo>
                  <a:lnTo>
                    <a:pt x="1632" y="503"/>
                  </a:lnTo>
                  <a:lnTo>
                    <a:pt x="1632" y="521"/>
                  </a:lnTo>
                  <a:lnTo>
                    <a:pt x="1632" y="497"/>
                  </a:lnTo>
                  <a:lnTo>
                    <a:pt x="1632" y="533"/>
                  </a:lnTo>
                  <a:lnTo>
                    <a:pt x="1638" y="479"/>
                  </a:lnTo>
                  <a:lnTo>
                    <a:pt x="1638" y="503"/>
                  </a:lnTo>
                  <a:lnTo>
                    <a:pt x="1638" y="455"/>
                  </a:lnTo>
                  <a:lnTo>
                    <a:pt x="1638" y="509"/>
                  </a:lnTo>
                  <a:lnTo>
                    <a:pt x="1638" y="449"/>
                  </a:lnTo>
                  <a:lnTo>
                    <a:pt x="1644" y="485"/>
                  </a:lnTo>
                  <a:lnTo>
                    <a:pt x="1644" y="444"/>
                  </a:lnTo>
                  <a:lnTo>
                    <a:pt x="1644" y="473"/>
                  </a:lnTo>
                  <a:lnTo>
                    <a:pt x="1644" y="420"/>
                  </a:lnTo>
                  <a:lnTo>
                    <a:pt x="1650" y="432"/>
                  </a:lnTo>
                  <a:lnTo>
                    <a:pt x="1650" y="426"/>
                  </a:lnTo>
                  <a:lnTo>
                    <a:pt x="1650" y="420"/>
                  </a:lnTo>
                  <a:lnTo>
                    <a:pt x="1650" y="396"/>
                  </a:lnTo>
                  <a:lnTo>
                    <a:pt x="1656" y="378"/>
                  </a:lnTo>
                  <a:lnTo>
                    <a:pt x="1656" y="402"/>
                  </a:lnTo>
                  <a:lnTo>
                    <a:pt x="1656" y="354"/>
                  </a:lnTo>
                  <a:lnTo>
                    <a:pt x="1656" y="360"/>
                  </a:lnTo>
                  <a:lnTo>
                    <a:pt x="1656" y="324"/>
                  </a:lnTo>
                  <a:lnTo>
                    <a:pt x="1662" y="378"/>
                  </a:lnTo>
                  <a:lnTo>
                    <a:pt x="1662" y="306"/>
                  </a:lnTo>
                  <a:lnTo>
                    <a:pt x="1662" y="330"/>
                  </a:lnTo>
                  <a:lnTo>
                    <a:pt x="1662" y="306"/>
                  </a:lnTo>
                  <a:lnTo>
                    <a:pt x="1668" y="330"/>
                  </a:lnTo>
                  <a:lnTo>
                    <a:pt x="1668" y="282"/>
                  </a:lnTo>
                  <a:lnTo>
                    <a:pt x="1668" y="306"/>
                  </a:lnTo>
                  <a:lnTo>
                    <a:pt x="1674" y="264"/>
                  </a:lnTo>
                  <a:lnTo>
                    <a:pt x="1674" y="270"/>
                  </a:lnTo>
                  <a:lnTo>
                    <a:pt x="1674" y="234"/>
                  </a:lnTo>
                  <a:lnTo>
                    <a:pt x="1674" y="282"/>
                  </a:lnTo>
                  <a:lnTo>
                    <a:pt x="1674" y="216"/>
                  </a:lnTo>
                  <a:lnTo>
                    <a:pt x="1680" y="252"/>
                  </a:lnTo>
                  <a:lnTo>
                    <a:pt x="1680" y="234"/>
                  </a:lnTo>
                  <a:lnTo>
                    <a:pt x="1680" y="252"/>
                  </a:lnTo>
                  <a:lnTo>
                    <a:pt x="1680" y="228"/>
                  </a:lnTo>
                  <a:lnTo>
                    <a:pt x="1686" y="222"/>
                  </a:lnTo>
                  <a:lnTo>
                    <a:pt x="1686" y="264"/>
                  </a:lnTo>
                  <a:lnTo>
                    <a:pt x="1686" y="216"/>
                  </a:lnTo>
                  <a:lnTo>
                    <a:pt x="1686" y="234"/>
                  </a:lnTo>
                  <a:lnTo>
                    <a:pt x="1686" y="198"/>
                  </a:lnTo>
                  <a:lnTo>
                    <a:pt x="1692" y="252"/>
                  </a:lnTo>
                  <a:lnTo>
                    <a:pt x="1692" y="192"/>
                  </a:lnTo>
                  <a:lnTo>
                    <a:pt x="1692" y="228"/>
                  </a:lnTo>
                  <a:lnTo>
                    <a:pt x="1692" y="234"/>
                  </a:lnTo>
                  <a:lnTo>
                    <a:pt x="1698" y="252"/>
                  </a:lnTo>
                  <a:lnTo>
                    <a:pt x="1698" y="234"/>
                  </a:lnTo>
                  <a:lnTo>
                    <a:pt x="1698" y="276"/>
                  </a:lnTo>
                  <a:lnTo>
                    <a:pt x="1704" y="240"/>
                  </a:lnTo>
                  <a:lnTo>
                    <a:pt x="1704" y="276"/>
                  </a:lnTo>
                  <a:lnTo>
                    <a:pt x="1704" y="252"/>
                  </a:lnTo>
                  <a:lnTo>
                    <a:pt x="1704" y="318"/>
                  </a:lnTo>
                  <a:lnTo>
                    <a:pt x="1704" y="258"/>
                  </a:lnTo>
                  <a:lnTo>
                    <a:pt x="1710" y="300"/>
                  </a:lnTo>
                  <a:lnTo>
                    <a:pt x="1710" y="306"/>
                  </a:lnTo>
                  <a:lnTo>
                    <a:pt x="1710" y="336"/>
                  </a:lnTo>
                  <a:lnTo>
                    <a:pt x="1710" y="312"/>
                  </a:lnTo>
                  <a:lnTo>
                    <a:pt x="1716" y="330"/>
                  </a:lnTo>
                  <a:lnTo>
                    <a:pt x="1716" y="360"/>
                  </a:lnTo>
                  <a:lnTo>
                    <a:pt x="1716" y="354"/>
                  </a:lnTo>
                  <a:lnTo>
                    <a:pt x="1716" y="366"/>
                  </a:lnTo>
                  <a:lnTo>
                    <a:pt x="1722" y="354"/>
                  </a:lnTo>
                  <a:lnTo>
                    <a:pt x="1722" y="408"/>
                  </a:lnTo>
                  <a:lnTo>
                    <a:pt x="1722" y="378"/>
                  </a:lnTo>
                  <a:lnTo>
                    <a:pt x="1722" y="408"/>
                  </a:lnTo>
                  <a:lnTo>
                    <a:pt x="1722" y="396"/>
                  </a:lnTo>
                  <a:lnTo>
                    <a:pt x="1728" y="455"/>
                  </a:lnTo>
                  <a:lnTo>
                    <a:pt x="1728" y="408"/>
                  </a:lnTo>
                  <a:lnTo>
                    <a:pt x="1728" y="455"/>
                  </a:lnTo>
                  <a:lnTo>
                    <a:pt x="1728" y="432"/>
                  </a:lnTo>
                  <a:lnTo>
                    <a:pt x="1734" y="485"/>
                  </a:lnTo>
                  <a:lnTo>
                    <a:pt x="1734" y="438"/>
                  </a:lnTo>
                  <a:lnTo>
                    <a:pt x="1734" y="479"/>
                  </a:lnTo>
                  <a:lnTo>
                    <a:pt x="1734" y="461"/>
                  </a:lnTo>
                  <a:lnTo>
                    <a:pt x="1734" y="497"/>
                  </a:lnTo>
                  <a:lnTo>
                    <a:pt x="1740" y="461"/>
                  </a:lnTo>
                  <a:lnTo>
                    <a:pt x="1740" y="497"/>
                  </a:lnTo>
                  <a:lnTo>
                    <a:pt x="1740" y="515"/>
                  </a:lnTo>
                  <a:lnTo>
                    <a:pt x="1746" y="485"/>
                  </a:lnTo>
                  <a:lnTo>
                    <a:pt x="1746" y="509"/>
                  </a:lnTo>
                  <a:lnTo>
                    <a:pt x="1746" y="527"/>
                  </a:lnTo>
                  <a:lnTo>
                    <a:pt x="1746" y="521"/>
                  </a:lnTo>
                  <a:lnTo>
                    <a:pt x="1752" y="509"/>
                  </a:lnTo>
                  <a:lnTo>
                    <a:pt x="1752" y="515"/>
                  </a:lnTo>
                  <a:lnTo>
                    <a:pt x="1752" y="533"/>
                  </a:lnTo>
                  <a:lnTo>
                    <a:pt x="1752" y="509"/>
                  </a:lnTo>
                  <a:lnTo>
                    <a:pt x="1752" y="515"/>
                  </a:lnTo>
                  <a:lnTo>
                    <a:pt x="1758" y="491"/>
                  </a:lnTo>
                  <a:lnTo>
                    <a:pt x="1758" y="527"/>
                  </a:lnTo>
                  <a:lnTo>
                    <a:pt x="1758" y="479"/>
                  </a:lnTo>
                  <a:lnTo>
                    <a:pt x="1758" y="503"/>
                  </a:lnTo>
                  <a:lnTo>
                    <a:pt x="1764" y="461"/>
                  </a:lnTo>
                  <a:lnTo>
                    <a:pt x="1764" y="509"/>
                  </a:lnTo>
                  <a:lnTo>
                    <a:pt x="1764" y="444"/>
                  </a:lnTo>
                  <a:lnTo>
                    <a:pt x="1764" y="473"/>
                  </a:lnTo>
                  <a:lnTo>
                    <a:pt x="1770" y="426"/>
                  </a:lnTo>
                  <a:lnTo>
                    <a:pt x="1770" y="467"/>
                  </a:lnTo>
                  <a:lnTo>
                    <a:pt x="1770" y="402"/>
                  </a:lnTo>
                  <a:lnTo>
                    <a:pt x="1770" y="420"/>
                  </a:lnTo>
                  <a:lnTo>
                    <a:pt x="1770" y="402"/>
                  </a:lnTo>
                  <a:lnTo>
                    <a:pt x="1776" y="402"/>
                  </a:lnTo>
                  <a:lnTo>
                    <a:pt x="1776" y="366"/>
                  </a:lnTo>
                  <a:lnTo>
                    <a:pt x="1776" y="348"/>
                  </a:lnTo>
                  <a:lnTo>
                    <a:pt x="1776" y="378"/>
                  </a:lnTo>
                  <a:lnTo>
                    <a:pt x="1782" y="324"/>
                  </a:lnTo>
                  <a:lnTo>
                    <a:pt x="1782" y="336"/>
                  </a:lnTo>
                  <a:lnTo>
                    <a:pt x="1782" y="288"/>
                  </a:lnTo>
                  <a:lnTo>
                    <a:pt x="1782" y="330"/>
                  </a:lnTo>
                  <a:lnTo>
                    <a:pt x="1782" y="258"/>
                  </a:lnTo>
                  <a:lnTo>
                    <a:pt x="1788" y="276"/>
                  </a:lnTo>
                  <a:lnTo>
                    <a:pt x="1788" y="264"/>
                  </a:lnTo>
                  <a:lnTo>
                    <a:pt x="1788" y="240"/>
                  </a:lnTo>
                  <a:lnTo>
                    <a:pt x="1794" y="210"/>
                  </a:lnTo>
                  <a:lnTo>
                    <a:pt x="1794" y="246"/>
                  </a:lnTo>
                  <a:lnTo>
                    <a:pt x="1794" y="186"/>
                  </a:lnTo>
                  <a:lnTo>
                    <a:pt x="1794" y="210"/>
                  </a:lnTo>
                  <a:lnTo>
                    <a:pt x="1800" y="174"/>
                  </a:lnTo>
                  <a:lnTo>
                    <a:pt x="1800" y="210"/>
                  </a:lnTo>
                  <a:lnTo>
                    <a:pt x="1800" y="156"/>
                  </a:lnTo>
                  <a:lnTo>
                    <a:pt x="1800" y="174"/>
                  </a:lnTo>
                  <a:lnTo>
                    <a:pt x="1800" y="192"/>
                  </a:lnTo>
                  <a:lnTo>
                    <a:pt x="1806" y="150"/>
                  </a:lnTo>
                  <a:lnTo>
                    <a:pt x="1806" y="168"/>
                  </a:lnTo>
                  <a:lnTo>
                    <a:pt x="1806" y="132"/>
                  </a:lnTo>
                  <a:lnTo>
                    <a:pt x="1806" y="192"/>
                  </a:lnTo>
                  <a:lnTo>
                    <a:pt x="1812" y="126"/>
                  </a:lnTo>
                  <a:lnTo>
                    <a:pt x="1812" y="162"/>
                  </a:lnTo>
                  <a:lnTo>
                    <a:pt x="1812" y="168"/>
                  </a:lnTo>
                  <a:lnTo>
                    <a:pt x="1818" y="168"/>
                  </a:lnTo>
                  <a:lnTo>
                    <a:pt x="1818" y="150"/>
                  </a:lnTo>
                  <a:lnTo>
                    <a:pt x="1818" y="198"/>
                  </a:lnTo>
                  <a:lnTo>
                    <a:pt x="1818" y="144"/>
                  </a:lnTo>
                  <a:lnTo>
                    <a:pt x="1818" y="186"/>
                  </a:lnTo>
                  <a:lnTo>
                    <a:pt x="1824" y="162"/>
                  </a:lnTo>
                  <a:lnTo>
                    <a:pt x="1824" y="216"/>
                  </a:lnTo>
                  <a:lnTo>
                    <a:pt x="1824" y="180"/>
                  </a:lnTo>
                  <a:lnTo>
                    <a:pt x="1824" y="204"/>
                  </a:lnTo>
                  <a:lnTo>
                    <a:pt x="1830" y="234"/>
                  </a:lnTo>
                  <a:lnTo>
                    <a:pt x="1830" y="252"/>
                  </a:lnTo>
                  <a:lnTo>
                    <a:pt x="1830" y="240"/>
                  </a:lnTo>
                  <a:lnTo>
                    <a:pt x="1830" y="294"/>
                  </a:lnTo>
                  <a:lnTo>
                    <a:pt x="1836" y="258"/>
                  </a:lnTo>
                  <a:lnTo>
                    <a:pt x="1836" y="306"/>
                  </a:lnTo>
                  <a:lnTo>
                    <a:pt x="1836" y="276"/>
                  </a:lnTo>
                  <a:lnTo>
                    <a:pt x="1836" y="342"/>
                  </a:lnTo>
                  <a:lnTo>
                    <a:pt x="1842" y="300"/>
                  </a:lnTo>
                  <a:lnTo>
                    <a:pt x="1842" y="354"/>
                  </a:lnTo>
                  <a:lnTo>
                    <a:pt x="1842" y="396"/>
                  </a:lnTo>
                  <a:lnTo>
                    <a:pt x="1848" y="372"/>
                  </a:lnTo>
                  <a:lnTo>
                    <a:pt x="1848" y="414"/>
                  </a:lnTo>
                  <a:lnTo>
                    <a:pt x="1848" y="444"/>
                  </a:lnTo>
                  <a:lnTo>
                    <a:pt x="1848" y="455"/>
                  </a:lnTo>
                  <a:lnTo>
                    <a:pt x="1854" y="479"/>
                  </a:lnTo>
                  <a:lnTo>
                    <a:pt x="1854" y="515"/>
                  </a:lnTo>
                  <a:lnTo>
                    <a:pt x="1854" y="509"/>
                  </a:lnTo>
                  <a:lnTo>
                    <a:pt x="1854" y="503"/>
                  </a:lnTo>
                  <a:lnTo>
                    <a:pt x="1860" y="509"/>
                  </a:lnTo>
                  <a:lnTo>
                    <a:pt x="1860" y="557"/>
                  </a:lnTo>
                  <a:lnTo>
                    <a:pt x="1860" y="527"/>
                  </a:lnTo>
                  <a:lnTo>
                    <a:pt x="1860" y="539"/>
                  </a:lnTo>
                  <a:lnTo>
                    <a:pt x="1866" y="533"/>
                  </a:lnTo>
                  <a:lnTo>
                    <a:pt x="1866" y="581"/>
                  </a:lnTo>
                  <a:lnTo>
                    <a:pt x="1866" y="545"/>
                  </a:lnTo>
                  <a:lnTo>
                    <a:pt x="1866" y="563"/>
                  </a:lnTo>
                  <a:lnTo>
                    <a:pt x="1866" y="533"/>
                  </a:lnTo>
                  <a:lnTo>
                    <a:pt x="1872" y="587"/>
                  </a:lnTo>
                  <a:lnTo>
                    <a:pt x="1872" y="533"/>
                  </a:lnTo>
                  <a:lnTo>
                    <a:pt x="1872" y="557"/>
                  </a:lnTo>
                  <a:lnTo>
                    <a:pt x="1872" y="515"/>
                  </a:lnTo>
                  <a:lnTo>
                    <a:pt x="1878" y="563"/>
                  </a:lnTo>
                  <a:lnTo>
                    <a:pt x="1878" y="509"/>
                  </a:lnTo>
                  <a:lnTo>
                    <a:pt x="1878" y="533"/>
                  </a:lnTo>
                  <a:lnTo>
                    <a:pt x="1878" y="497"/>
                  </a:lnTo>
                  <a:lnTo>
                    <a:pt x="1884" y="533"/>
                  </a:lnTo>
                  <a:lnTo>
                    <a:pt x="1884" y="467"/>
                  </a:lnTo>
                  <a:lnTo>
                    <a:pt x="1884" y="497"/>
                  </a:lnTo>
                  <a:lnTo>
                    <a:pt x="1884" y="473"/>
                  </a:lnTo>
                  <a:lnTo>
                    <a:pt x="1884" y="491"/>
                  </a:lnTo>
                  <a:lnTo>
                    <a:pt x="1890" y="444"/>
                  </a:lnTo>
                  <a:lnTo>
                    <a:pt x="1890" y="432"/>
                  </a:lnTo>
                  <a:lnTo>
                    <a:pt x="1890" y="402"/>
                  </a:lnTo>
                  <a:lnTo>
                    <a:pt x="1896" y="396"/>
                  </a:lnTo>
                  <a:lnTo>
                    <a:pt x="1896" y="348"/>
                  </a:lnTo>
                  <a:lnTo>
                    <a:pt x="1896" y="372"/>
                  </a:lnTo>
                  <a:lnTo>
                    <a:pt x="1896" y="294"/>
                  </a:lnTo>
                  <a:lnTo>
                    <a:pt x="1896" y="312"/>
                  </a:lnTo>
                  <a:lnTo>
                    <a:pt x="1902" y="264"/>
                  </a:lnTo>
                  <a:lnTo>
                    <a:pt x="1902" y="288"/>
                  </a:lnTo>
                  <a:lnTo>
                    <a:pt x="1902" y="222"/>
                  </a:lnTo>
                  <a:lnTo>
                    <a:pt x="1908" y="234"/>
                  </a:lnTo>
                  <a:lnTo>
                    <a:pt x="1908" y="192"/>
                  </a:lnTo>
                  <a:lnTo>
                    <a:pt x="1908" y="198"/>
                  </a:lnTo>
                  <a:lnTo>
                    <a:pt x="1908" y="150"/>
                  </a:lnTo>
                  <a:lnTo>
                    <a:pt x="1914" y="198"/>
                  </a:lnTo>
                  <a:lnTo>
                    <a:pt x="1914" y="126"/>
                  </a:lnTo>
                  <a:lnTo>
                    <a:pt x="1914" y="150"/>
                  </a:lnTo>
                  <a:lnTo>
                    <a:pt x="1914" y="126"/>
                  </a:lnTo>
                  <a:lnTo>
                    <a:pt x="1920" y="126"/>
                  </a:lnTo>
                  <a:lnTo>
                    <a:pt x="1920" y="90"/>
                  </a:lnTo>
                  <a:lnTo>
                    <a:pt x="1920" y="144"/>
                  </a:lnTo>
                  <a:lnTo>
                    <a:pt x="1920" y="72"/>
                  </a:lnTo>
                  <a:lnTo>
                    <a:pt x="1926" y="102"/>
                  </a:lnTo>
                  <a:lnTo>
                    <a:pt x="1926" y="108"/>
                  </a:lnTo>
                  <a:lnTo>
                    <a:pt x="1926" y="102"/>
                  </a:lnTo>
                  <a:lnTo>
                    <a:pt x="1926" y="96"/>
                  </a:lnTo>
                  <a:lnTo>
                    <a:pt x="1932" y="60"/>
                  </a:lnTo>
                  <a:lnTo>
                    <a:pt x="1932" y="120"/>
                  </a:lnTo>
                  <a:lnTo>
                    <a:pt x="1932" y="54"/>
                  </a:lnTo>
                  <a:lnTo>
                    <a:pt x="1932" y="96"/>
                  </a:lnTo>
                  <a:lnTo>
                    <a:pt x="1932" y="90"/>
                  </a:lnTo>
                  <a:lnTo>
                    <a:pt x="1938" y="108"/>
                  </a:lnTo>
                  <a:lnTo>
                    <a:pt x="1938" y="90"/>
                  </a:lnTo>
                  <a:lnTo>
                    <a:pt x="1938" y="78"/>
                  </a:lnTo>
                  <a:lnTo>
                    <a:pt x="1938" y="132"/>
                  </a:lnTo>
                  <a:lnTo>
                    <a:pt x="1944" y="78"/>
                  </a:lnTo>
                  <a:lnTo>
                    <a:pt x="1944" y="114"/>
                  </a:lnTo>
                  <a:lnTo>
                    <a:pt x="1944" y="96"/>
                  </a:lnTo>
                  <a:lnTo>
                    <a:pt x="1944" y="150"/>
                  </a:lnTo>
                  <a:lnTo>
                    <a:pt x="1944" y="114"/>
                  </a:lnTo>
                  <a:lnTo>
                    <a:pt x="1950" y="132"/>
                  </a:lnTo>
                  <a:lnTo>
                    <a:pt x="1950" y="174"/>
                  </a:lnTo>
                  <a:lnTo>
                    <a:pt x="1950" y="168"/>
                  </a:lnTo>
                  <a:lnTo>
                    <a:pt x="1950" y="192"/>
                  </a:lnTo>
                  <a:lnTo>
                    <a:pt x="1956" y="174"/>
                  </a:lnTo>
                  <a:lnTo>
                    <a:pt x="1956" y="240"/>
                  </a:lnTo>
                  <a:lnTo>
                    <a:pt x="1956" y="192"/>
                  </a:lnTo>
                  <a:lnTo>
                    <a:pt x="1956" y="252"/>
                  </a:lnTo>
                  <a:lnTo>
                    <a:pt x="1962" y="246"/>
                  </a:lnTo>
                  <a:lnTo>
                    <a:pt x="1962" y="306"/>
                  </a:lnTo>
                  <a:lnTo>
                    <a:pt x="1962" y="276"/>
                  </a:lnTo>
                  <a:lnTo>
                    <a:pt x="1962" y="318"/>
                  </a:lnTo>
                  <a:lnTo>
                    <a:pt x="1962" y="348"/>
                  </a:lnTo>
                  <a:lnTo>
                    <a:pt x="1968" y="366"/>
                  </a:lnTo>
                  <a:lnTo>
                    <a:pt x="1968" y="378"/>
                  </a:lnTo>
                  <a:lnTo>
                    <a:pt x="1968" y="396"/>
                  </a:lnTo>
                  <a:lnTo>
                    <a:pt x="1968" y="444"/>
                  </a:lnTo>
                  <a:lnTo>
                    <a:pt x="1974" y="444"/>
                  </a:lnTo>
                  <a:lnTo>
                    <a:pt x="1974" y="467"/>
                  </a:lnTo>
                  <a:lnTo>
                    <a:pt x="1974" y="485"/>
                  </a:lnTo>
                  <a:lnTo>
                    <a:pt x="1974" y="533"/>
                  </a:lnTo>
                  <a:lnTo>
                    <a:pt x="1980" y="533"/>
                  </a:lnTo>
                  <a:lnTo>
                    <a:pt x="1980" y="563"/>
                  </a:lnTo>
                  <a:lnTo>
                    <a:pt x="1980" y="617"/>
                  </a:lnTo>
                  <a:lnTo>
                    <a:pt x="1980" y="599"/>
                  </a:lnTo>
                  <a:lnTo>
                    <a:pt x="1986" y="611"/>
                  </a:lnTo>
                  <a:lnTo>
                    <a:pt x="1986" y="605"/>
                  </a:lnTo>
                  <a:lnTo>
                    <a:pt x="1986" y="653"/>
                  </a:lnTo>
                  <a:lnTo>
                    <a:pt x="1986" y="629"/>
                  </a:lnTo>
                  <a:lnTo>
                    <a:pt x="1992" y="647"/>
                  </a:lnTo>
                  <a:lnTo>
                    <a:pt x="1992" y="629"/>
                  </a:lnTo>
                  <a:lnTo>
                    <a:pt x="1992" y="659"/>
                  </a:lnTo>
                  <a:lnTo>
                    <a:pt x="1992" y="635"/>
                  </a:lnTo>
                  <a:lnTo>
                    <a:pt x="1992" y="647"/>
                  </a:lnTo>
                  <a:lnTo>
                    <a:pt x="1998" y="623"/>
                  </a:lnTo>
                  <a:lnTo>
                    <a:pt x="1998" y="671"/>
                  </a:lnTo>
                  <a:lnTo>
                    <a:pt x="1998" y="623"/>
                  </a:lnTo>
                  <a:lnTo>
                    <a:pt x="1998" y="641"/>
                  </a:lnTo>
                  <a:lnTo>
                    <a:pt x="2004" y="599"/>
                  </a:lnTo>
                  <a:lnTo>
                    <a:pt x="2004" y="641"/>
                  </a:lnTo>
                  <a:lnTo>
                    <a:pt x="2004" y="569"/>
                  </a:lnTo>
                  <a:lnTo>
                    <a:pt x="2004" y="575"/>
                  </a:lnTo>
                  <a:lnTo>
                    <a:pt x="2010" y="527"/>
                  </a:lnTo>
                  <a:lnTo>
                    <a:pt x="2010" y="557"/>
                  </a:lnTo>
                  <a:lnTo>
                    <a:pt x="2010" y="473"/>
                  </a:lnTo>
                  <a:lnTo>
                    <a:pt x="2010" y="485"/>
                  </a:lnTo>
                  <a:lnTo>
                    <a:pt x="2010" y="432"/>
                  </a:lnTo>
                  <a:lnTo>
                    <a:pt x="2016" y="449"/>
                  </a:lnTo>
                  <a:lnTo>
                    <a:pt x="2016" y="378"/>
                  </a:lnTo>
                  <a:lnTo>
                    <a:pt x="2016" y="366"/>
                  </a:lnTo>
                  <a:lnTo>
                    <a:pt x="2016" y="360"/>
                  </a:lnTo>
                  <a:lnTo>
                    <a:pt x="2022" y="312"/>
                  </a:lnTo>
                  <a:lnTo>
                    <a:pt x="2022" y="300"/>
                  </a:lnTo>
                  <a:lnTo>
                    <a:pt x="2022" y="246"/>
                  </a:lnTo>
                  <a:lnTo>
                    <a:pt x="2022" y="282"/>
                  </a:lnTo>
                  <a:lnTo>
                    <a:pt x="2028" y="192"/>
                  </a:lnTo>
                  <a:lnTo>
                    <a:pt x="2028" y="204"/>
                  </a:lnTo>
                  <a:lnTo>
                    <a:pt x="2028" y="186"/>
                  </a:lnTo>
                  <a:lnTo>
                    <a:pt x="2028" y="168"/>
                  </a:lnTo>
                  <a:lnTo>
                    <a:pt x="2028" y="138"/>
                  </a:lnTo>
                  <a:lnTo>
                    <a:pt x="2034" y="102"/>
                  </a:lnTo>
                  <a:lnTo>
                    <a:pt x="2034" y="138"/>
                  </a:lnTo>
                  <a:lnTo>
                    <a:pt x="2034" y="60"/>
                  </a:lnTo>
                  <a:lnTo>
                    <a:pt x="2034" y="84"/>
                  </a:lnTo>
                  <a:lnTo>
                    <a:pt x="2040" y="66"/>
                  </a:lnTo>
                  <a:lnTo>
                    <a:pt x="2040" y="54"/>
                  </a:lnTo>
                  <a:lnTo>
                    <a:pt x="2040" y="18"/>
                  </a:lnTo>
                  <a:lnTo>
                    <a:pt x="2040" y="66"/>
                  </a:lnTo>
                  <a:lnTo>
                    <a:pt x="2046" y="0"/>
                  </a:lnTo>
                  <a:lnTo>
                    <a:pt x="2046" y="36"/>
                  </a:lnTo>
                  <a:lnTo>
                    <a:pt x="2046" y="30"/>
                  </a:lnTo>
                  <a:lnTo>
                    <a:pt x="2046" y="36"/>
                  </a:lnTo>
                  <a:lnTo>
                    <a:pt x="2052" y="30"/>
                  </a:lnTo>
                  <a:lnTo>
                    <a:pt x="2052" y="6"/>
                  </a:lnTo>
                  <a:lnTo>
                    <a:pt x="2052" y="54"/>
                  </a:lnTo>
                  <a:lnTo>
                    <a:pt x="2052" y="0"/>
                  </a:lnTo>
                  <a:lnTo>
                    <a:pt x="2059" y="30"/>
                  </a:lnTo>
                  <a:lnTo>
                    <a:pt x="2059" y="18"/>
                  </a:lnTo>
                  <a:lnTo>
                    <a:pt x="2059" y="12"/>
                  </a:lnTo>
                </a:path>
              </a:pathLst>
            </a:cu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9720" y="555912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3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" y="530676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4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0440" y="504648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5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0440" y="479412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6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0440" y="454320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7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0440" y="429084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8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0440" y="403056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9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0440" y="377820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000</a:t>
              </a:r>
              <a:endParaRPr b="0" lang="en-US" sz="8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6200" y="5619600"/>
              <a:ext cx="229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0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0560" y="5619600"/>
              <a:ext cx="229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3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5280" y="5619600"/>
              <a:ext cx="229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6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77560" y="5619600"/>
              <a:ext cx="229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9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552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12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988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16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142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19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492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22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152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25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462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28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176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31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3352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34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90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37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22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40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6696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43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3040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47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7476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50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1912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53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620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56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640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59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112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62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66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65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3840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68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0364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71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38280" y="5619600"/>
              <a:ext cx="27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Small Fonts"/>
                </a:rPr>
                <a:t>74</a:t>
              </a:r>
              <a:endParaRPr b="0" lang="en-US" sz="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68760" y="5824440"/>
              <a:ext cx="1399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 in Seconds</a:t>
              </a:r>
              <a:endParaRPr b="0" lang="en-US" sz="12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August 10, 1996 Disturba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99840" y="1612800"/>
            <a:ext cx="4844520" cy="4724280"/>
            <a:chOff x="4299840" y="1612800"/>
            <a:chExt cx="4844520" cy="4724280"/>
          </a:xfrm>
        </p:grpSpPr>
        <p:sp>
          <p:nvSpPr>
            <p:cNvPr id="177" name=""/>
            <p:cNvSpPr/>
            <p:nvPr/>
          </p:nvSpPr>
          <p:spPr>
            <a:xfrm>
              <a:off x="9101520" y="5831640"/>
              <a:ext cx="42840" cy="295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1" y="0"/>
                  </a:moveTo>
                  <a:lnTo>
                    <a:pt x="0" y="11"/>
                  </a:lnTo>
                  <a:lnTo>
                    <a:pt x="4" y="16"/>
                  </a:lnTo>
                  <a:lnTo>
                    <a:pt x="1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65280" y="5725080"/>
              <a:ext cx="715320" cy="160200"/>
            </a:xfrm>
            <a:custGeom>
              <a:avLst/>
              <a:gdLst/>
              <a:ahLst/>
              <a:rect l="l" t="t" r="r" b="b"/>
              <a:pathLst>
                <a:path w="386" h="86">
                  <a:moveTo>
                    <a:pt x="386" y="26"/>
                  </a:moveTo>
                  <a:lnTo>
                    <a:pt x="343" y="29"/>
                  </a:lnTo>
                  <a:lnTo>
                    <a:pt x="309" y="21"/>
                  </a:lnTo>
                  <a:lnTo>
                    <a:pt x="281" y="16"/>
                  </a:lnTo>
                  <a:lnTo>
                    <a:pt x="264" y="8"/>
                  </a:lnTo>
                  <a:lnTo>
                    <a:pt x="220" y="0"/>
                  </a:lnTo>
                  <a:lnTo>
                    <a:pt x="183" y="3"/>
                  </a:lnTo>
                  <a:lnTo>
                    <a:pt x="130" y="6"/>
                  </a:lnTo>
                  <a:lnTo>
                    <a:pt x="82" y="20"/>
                  </a:lnTo>
                  <a:lnTo>
                    <a:pt x="51" y="32"/>
                  </a:lnTo>
                  <a:lnTo>
                    <a:pt x="3" y="47"/>
                  </a:lnTo>
                  <a:lnTo>
                    <a:pt x="0" y="60"/>
                  </a:lnTo>
                  <a:lnTo>
                    <a:pt x="37" y="49"/>
                  </a:lnTo>
                  <a:lnTo>
                    <a:pt x="73" y="57"/>
                  </a:lnTo>
                  <a:lnTo>
                    <a:pt x="105" y="42"/>
                  </a:lnTo>
                  <a:lnTo>
                    <a:pt x="135" y="51"/>
                  </a:lnTo>
                  <a:lnTo>
                    <a:pt x="169" y="40"/>
                  </a:lnTo>
                  <a:lnTo>
                    <a:pt x="201" y="58"/>
                  </a:lnTo>
                  <a:lnTo>
                    <a:pt x="223" y="52"/>
                  </a:lnTo>
                  <a:lnTo>
                    <a:pt x="240" y="63"/>
                  </a:lnTo>
                  <a:lnTo>
                    <a:pt x="250" y="86"/>
                  </a:lnTo>
                  <a:lnTo>
                    <a:pt x="290" y="84"/>
                  </a:lnTo>
                  <a:lnTo>
                    <a:pt x="347" y="65"/>
                  </a:lnTo>
                  <a:lnTo>
                    <a:pt x="383" y="40"/>
                  </a:lnTo>
                  <a:lnTo>
                    <a:pt x="386" y="26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76840" y="5971320"/>
              <a:ext cx="131400" cy="5616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64" y="6"/>
                  </a:moveTo>
                  <a:lnTo>
                    <a:pt x="46" y="0"/>
                  </a:lnTo>
                  <a:lnTo>
                    <a:pt x="33" y="0"/>
                  </a:lnTo>
                  <a:lnTo>
                    <a:pt x="17" y="8"/>
                  </a:lnTo>
                  <a:lnTo>
                    <a:pt x="8" y="15"/>
                  </a:lnTo>
                  <a:lnTo>
                    <a:pt x="0" y="23"/>
                  </a:lnTo>
                  <a:lnTo>
                    <a:pt x="10" y="28"/>
                  </a:lnTo>
                  <a:lnTo>
                    <a:pt x="29" y="30"/>
                  </a:lnTo>
                  <a:lnTo>
                    <a:pt x="58" y="26"/>
                  </a:lnTo>
                  <a:lnTo>
                    <a:pt x="71" y="16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72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6280" y="5784480"/>
              <a:ext cx="357480" cy="171720"/>
            </a:xfrm>
            <a:custGeom>
              <a:avLst/>
              <a:gdLst/>
              <a:ahLst/>
              <a:rect l="l" t="t" r="r" b="b"/>
              <a:pathLst>
                <a:path w="193" h="92">
                  <a:moveTo>
                    <a:pt x="193" y="26"/>
                  </a:moveTo>
                  <a:lnTo>
                    <a:pt x="181" y="19"/>
                  </a:lnTo>
                  <a:lnTo>
                    <a:pt x="149" y="16"/>
                  </a:lnTo>
                  <a:lnTo>
                    <a:pt x="134" y="1"/>
                  </a:lnTo>
                  <a:lnTo>
                    <a:pt x="120" y="0"/>
                  </a:lnTo>
                  <a:lnTo>
                    <a:pt x="92" y="6"/>
                  </a:lnTo>
                  <a:lnTo>
                    <a:pt x="53" y="0"/>
                  </a:lnTo>
                  <a:lnTo>
                    <a:pt x="20" y="7"/>
                  </a:lnTo>
                  <a:lnTo>
                    <a:pt x="2" y="22"/>
                  </a:lnTo>
                  <a:lnTo>
                    <a:pt x="0" y="36"/>
                  </a:lnTo>
                  <a:lnTo>
                    <a:pt x="8" y="50"/>
                  </a:lnTo>
                  <a:lnTo>
                    <a:pt x="25" y="65"/>
                  </a:lnTo>
                  <a:lnTo>
                    <a:pt x="30" y="75"/>
                  </a:lnTo>
                  <a:lnTo>
                    <a:pt x="16" y="92"/>
                  </a:lnTo>
                  <a:lnTo>
                    <a:pt x="34" y="84"/>
                  </a:lnTo>
                  <a:lnTo>
                    <a:pt x="57" y="80"/>
                  </a:lnTo>
                  <a:lnTo>
                    <a:pt x="79" y="92"/>
                  </a:lnTo>
                  <a:lnTo>
                    <a:pt x="88" y="88"/>
                  </a:lnTo>
                  <a:lnTo>
                    <a:pt x="96" y="66"/>
                  </a:lnTo>
                  <a:lnTo>
                    <a:pt x="112" y="58"/>
                  </a:lnTo>
                  <a:lnTo>
                    <a:pt x="147" y="46"/>
                  </a:lnTo>
                  <a:lnTo>
                    <a:pt x="158" y="39"/>
                  </a:lnTo>
                  <a:lnTo>
                    <a:pt x="193" y="26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64480" y="5801400"/>
              <a:ext cx="163080" cy="15480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16" y="0"/>
                  </a:moveTo>
                  <a:lnTo>
                    <a:pt x="3" y="11"/>
                  </a:lnTo>
                  <a:lnTo>
                    <a:pt x="0" y="24"/>
                  </a:lnTo>
                  <a:lnTo>
                    <a:pt x="5" y="35"/>
                  </a:lnTo>
                  <a:lnTo>
                    <a:pt x="11" y="45"/>
                  </a:lnTo>
                  <a:lnTo>
                    <a:pt x="25" y="55"/>
                  </a:lnTo>
                  <a:lnTo>
                    <a:pt x="32" y="64"/>
                  </a:lnTo>
                  <a:lnTo>
                    <a:pt x="15" y="83"/>
                  </a:lnTo>
                  <a:lnTo>
                    <a:pt x="32" y="76"/>
                  </a:lnTo>
                  <a:lnTo>
                    <a:pt x="43" y="72"/>
                  </a:lnTo>
                  <a:lnTo>
                    <a:pt x="55" y="69"/>
                  </a:lnTo>
                  <a:lnTo>
                    <a:pt x="80" y="83"/>
                  </a:lnTo>
                  <a:lnTo>
                    <a:pt x="88" y="78"/>
                  </a:lnTo>
                  <a:lnTo>
                    <a:pt x="65" y="64"/>
                  </a:lnTo>
                  <a:lnTo>
                    <a:pt x="52" y="47"/>
                  </a:lnTo>
                  <a:lnTo>
                    <a:pt x="42" y="37"/>
                  </a:lnTo>
                  <a:lnTo>
                    <a:pt x="48" y="19"/>
                  </a:lnTo>
                  <a:lnTo>
                    <a:pt x="35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2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45920" y="1612800"/>
              <a:ext cx="1440360" cy="1214640"/>
            </a:xfrm>
            <a:custGeom>
              <a:avLst/>
              <a:gdLst/>
              <a:ahLst/>
              <a:rect l="l" t="t" r="r" b="b"/>
              <a:pathLst>
                <a:path w="777" h="651">
                  <a:moveTo>
                    <a:pt x="417" y="111"/>
                  </a:moveTo>
                  <a:lnTo>
                    <a:pt x="424" y="137"/>
                  </a:lnTo>
                  <a:lnTo>
                    <a:pt x="461" y="144"/>
                  </a:lnTo>
                  <a:lnTo>
                    <a:pt x="441" y="160"/>
                  </a:lnTo>
                  <a:lnTo>
                    <a:pt x="447" y="196"/>
                  </a:lnTo>
                  <a:lnTo>
                    <a:pt x="493" y="163"/>
                  </a:lnTo>
                  <a:lnTo>
                    <a:pt x="533" y="150"/>
                  </a:lnTo>
                  <a:lnTo>
                    <a:pt x="580" y="160"/>
                  </a:lnTo>
                  <a:lnTo>
                    <a:pt x="570" y="186"/>
                  </a:lnTo>
                  <a:lnTo>
                    <a:pt x="529" y="177"/>
                  </a:lnTo>
                  <a:lnTo>
                    <a:pt x="496" y="199"/>
                  </a:lnTo>
                  <a:lnTo>
                    <a:pt x="509" y="226"/>
                  </a:lnTo>
                  <a:lnTo>
                    <a:pt x="546" y="255"/>
                  </a:lnTo>
                  <a:lnTo>
                    <a:pt x="583" y="245"/>
                  </a:lnTo>
                  <a:lnTo>
                    <a:pt x="610" y="216"/>
                  </a:lnTo>
                  <a:lnTo>
                    <a:pt x="630" y="245"/>
                  </a:lnTo>
                  <a:lnTo>
                    <a:pt x="644" y="273"/>
                  </a:lnTo>
                  <a:lnTo>
                    <a:pt x="637" y="311"/>
                  </a:lnTo>
                  <a:lnTo>
                    <a:pt x="634" y="360"/>
                  </a:lnTo>
                  <a:lnTo>
                    <a:pt x="661" y="394"/>
                  </a:lnTo>
                  <a:lnTo>
                    <a:pt x="674" y="450"/>
                  </a:lnTo>
                  <a:lnTo>
                    <a:pt x="678" y="486"/>
                  </a:lnTo>
                  <a:lnTo>
                    <a:pt x="730" y="526"/>
                  </a:lnTo>
                  <a:lnTo>
                    <a:pt x="767" y="568"/>
                  </a:lnTo>
                  <a:lnTo>
                    <a:pt x="777" y="599"/>
                  </a:lnTo>
                  <a:lnTo>
                    <a:pt x="757" y="621"/>
                  </a:lnTo>
                  <a:lnTo>
                    <a:pt x="720" y="617"/>
                  </a:lnTo>
                  <a:lnTo>
                    <a:pt x="703" y="651"/>
                  </a:lnTo>
                  <a:lnTo>
                    <a:pt x="674" y="645"/>
                  </a:lnTo>
                  <a:lnTo>
                    <a:pt x="640" y="621"/>
                  </a:lnTo>
                  <a:lnTo>
                    <a:pt x="573" y="614"/>
                  </a:lnTo>
                  <a:lnTo>
                    <a:pt x="533" y="588"/>
                  </a:lnTo>
                  <a:lnTo>
                    <a:pt x="496" y="562"/>
                  </a:lnTo>
                  <a:lnTo>
                    <a:pt x="457" y="552"/>
                  </a:lnTo>
                  <a:lnTo>
                    <a:pt x="441" y="542"/>
                  </a:lnTo>
                  <a:lnTo>
                    <a:pt x="441" y="496"/>
                  </a:lnTo>
                  <a:lnTo>
                    <a:pt x="387" y="444"/>
                  </a:lnTo>
                  <a:lnTo>
                    <a:pt x="339" y="470"/>
                  </a:lnTo>
                  <a:lnTo>
                    <a:pt x="326" y="457"/>
                  </a:lnTo>
                  <a:lnTo>
                    <a:pt x="353" y="441"/>
                  </a:lnTo>
                  <a:lnTo>
                    <a:pt x="336" y="431"/>
                  </a:lnTo>
                  <a:lnTo>
                    <a:pt x="313" y="406"/>
                  </a:lnTo>
                  <a:lnTo>
                    <a:pt x="296" y="444"/>
                  </a:lnTo>
                  <a:lnTo>
                    <a:pt x="269" y="402"/>
                  </a:lnTo>
                  <a:lnTo>
                    <a:pt x="213" y="360"/>
                  </a:lnTo>
                  <a:lnTo>
                    <a:pt x="138" y="347"/>
                  </a:lnTo>
                  <a:lnTo>
                    <a:pt x="105" y="379"/>
                  </a:lnTo>
                  <a:lnTo>
                    <a:pt x="71" y="386"/>
                  </a:lnTo>
                  <a:lnTo>
                    <a:pt x="58" y="337"/>
                  </a:lnTo>
                  <a:lnTo>
                    <a:pt x="37" y="347"/>
                  </a:lnTo>
                  <a:lnTo>
                    <a:pt x="10" y="314"/>
                  </a:lnTo>
                  <a:lnTo>
                    <a:pt x="24" y="275"/>
                  </a:lnTo>
                  <a:lnTo>
                    <a:pt x="0" y="242"/>
                  </a:lnTo>
                  <a:lnTo>
                    <a:pt x="7" y="223"/>
                  </a:lnTo>
                  <a:lnTo>
                    <a:pt x="31" y="222"/>
                  </a:lnTo>
                  <a:lnTo>
                    <a:pt x="10" y="183"/>
                  </a:lnTo>
                  <a:lnTo>
                    <a:pt x="27" y="164"/>
                  </a:lnTo>
                  <a:lnTo>
                    <a:pt x="64" y="177"/>
                  </a:lnTo>
                  <a:lnTo>
                    <a:pt x="37" y="118"/>
                  </a:lnTo>
                  <a:lnTo>
                    <a:pt x="52" y="82"/>
                  </a:lnTo>
                  <a:lnTo>
                    <a:pt x="62" y="42"/>
                  </a:lnTo>
                  <a:lnTo>
                    <a:pt x="96" y="75"/>
                  </a:lnTo>
                  <a:lnTo>
                    <a:pt x="96" y="42"/>
                  </a:lnTo>
                  <a:lnTo>
                    <a:pt x="143" y="62"/>
                  </a:lnTo>
                  <a:lnTo>
                    <a:pt x="160" y="10"/>
                  </a:lnTo>
                  <a:lnTo>
                    <a:pt x="170" y="32"/>
                  </a:lnTo>
                  <a:lnTo>
                    <a:pt x="193" y="16"/>
                  </a:lnTo>
                  <a:lnTo>
                    <a:pt x="231" y="6"/>
                  </a:lnTo>
                  <a:lnTo>
                    <a:pt x="214" y="36"/>
                  </a:lnTo>
                  <a:lnTo>
                    <a:pt x="220" y="62"/>
                  </a:lnTo>
                  <a:lnTo>
                    <a:pt x="237" y="32"/>
                  </a:lnTo>
                  <a:lnTo>
                    <a:pt x="244" y="59"/>
                  </a:lnTo>
                  <a:lnTo>
                    <a:pt x="263" y="32"/>
                  </a:lnTo>
                  <a:lnTo>
                    <a:pt x="277" y="59"/>
                  </a:lnTo>
                  <a:lnTo>
                    <a:pt x="280" y="0"/>
                  </a:lnTo>
                  <a:lnTo>
                    <a:pt x="300" y="42"/>
                  </a:lnTo>
                  <a:lnTo>
                    <a:pt x="307" y="3"/>
                  </a:lnTo>
                  <a:lnTo>
                    <a:pt x="341" y="10"/>
                  </a:lnTo>
                  <a:lnTo>
                    <a:pt x="357" y="29"/>
                  </a:lnTo>
                  <a:lnTo>
                    <a:pt x="384" y="36"/>
                  </a:lnTo>
                  <a:lnTo>
                    <a:pt x="398" y="75"/>
                  </a:lnTo>
                  <a:lnTo>
                    <a:pt x="417" y="111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269320" y="1961640"/>
              <a:ext cx="3395160" cy="2531880"/>
              <a:chOff x="5269320" y="1961640"/>
              <a:chExt cx="3395160" cy="25318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269320" y="1961640"/>
                <a:ext cx="3395160" cy="2531880"/>
                <a:chOff x="5269320" y="1961640"/>
                <a:chExt cx="3395160" cy="2531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567120" y="2461320"/>
                  <a:ext cx="85320" cy="44640"/>
                </a:xfrm>
                <a:custGeom>
                  <a:avLst/>
                  <a:gdLst/>
                  <a:ahLst/>
                  <a:rect l="l" t="t" r="r" b="b"/>
                  <a:pathLst>
                    <a:path w="46" h="24">
                      <a:moveTo>
                        <a:pt x="23" y="0"/>
                      </a:moveTo>
                      <a:lnTo>
                        <a:pt x="46" y="14"/>
                      </a:lnTo>
                      <a:lnTo>
                        <a:pt x="38" y="24"/>
                      </a:lnTo>
                      <a:lnTo>
                        <a:pt x="0" y="2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5269320" y="1961640"/>
                  <a:ext cx="3395160" cy="2531880"/>
                  <a:chOff x="5269320" y="1961640"/>
                  <a:chExt cx="3395160" cy="253188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6635520" y="2397960"/>
                    <a:ext cx="333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69">
                        <a:moveTo>
                          <a:pt x="180" y="10"/>
                        </a:moveTo>
                        <a:lnTo>
                          <a:pt x="151" y="2"/>
                        </a:lnTo>
                        <a:lnTo>
                          <a:pt x="106" y="23"/>
                        </a:lnTo>
                        <a:lnTo>
                          <a:pt x="61" y="25"/>
                        </a:lnTo>
                        <a:lnTo>
                          <a:pt x="34" y="20"/>
                        </a:lnTo>
                        <a:lnTo>
                          <a:pt x="20" y="0"/>
                        </a:lnTo>
                        <a:lnTo>
                          <a:pt x="10" y="2"/>
                        </a:lnTo>
                        <a:lnTo>
                          <a:pt x="0" y="10"/>
                        </a:lnTo>
                        <a:lnTo>
                          <a:pt x="4" y="22"/>
                        </a:lnTo>
                        <a:lnTo>
                          <a:pt x="27" y="40"/>
                        </a:lnTo>
                        <a:lnTo>
                          <a:pt x="54" y="61"/>
                        </a:lnTo>
                        <a:lnTo>
                          <a:pt x="92" y="69"/>
                        </a:lnTo>
                        <a:lnTo>
                          <a:pt x="125" y="56"/>
                        </a:lnTo>
                        <a:lnTo>
                          <a:pt x="169" y="32"/>
                        </a:lnTo>
                        <a:lnTo>
                          <a:pt x="180" y="1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5269320" y="1961640"/>
                    <a:ext cx="3395160" cy="2531880"/>
                    <a:chOff x="5269320" y="1961640"/>
                    <a:chExt cx="3395160" cy="25318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5269320" y="2604600"/>
                      <a:ext cx="3184200" cy="18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8" h="1013">
                          <a:moveTo>
                            <a:pt x="204" y="0"/>
                          </a:moveTo>
                          <a:lnTo>
                            <a:pt x="0" y="249"/>
                          </a:lnTo>
                          <a:lnTo>
                            <a:pt x="44" y="263"/>
                          </a:lnTo>
                          <a:lnTo>
                            <a:pt x="21" y="293"/>
                          </a:lnTo>
                          <a:lnTo>
                            <a:pt x="61" y="299"/>
                          </a:lnTo>
                          <a:lnTo>
                            <a:pt x="74" y="377"/>
                          </a:lnTo>
                          <a:lnTo>
                            <a:pt x="101" y="468"/>
                          </a:lnTo>
                          <a:lnTo>
                            <a:pt x="74" y="534"/>
                          </a:lnTo>
                          <a:lnTo>
                            <a:pt x="88" y="573"/>
                          </a:lnTo>
                          <a:lnTo>
                            <a:pt x="68" y="619"/>
                          </a:lnTo>
                          <a:lnTo>
                            <a:pt x="95" y="632"/>
                          </a:lnTo>
                          <a:lnTo>
                            <a:pt x="95" y="665"/>
                          </a:lnTo>
                          <a:lnTo>
                            <a:pt x="156" y="678"/>
                          </a:lnTo>
                          <a:lnTo>
                            <a:pt x="190" y="758"/>
                          </a:lnTo>
                          <a:lnTo>
                            <a:pt x="481" y="800"/>
                          </a:lnTo>
                          <a:lnTo>
                            <a:pt x="857" y="819"/>
                          </a:lnTo>
                          <a:lnTo>
                            <a:pt x="933" y="845"/>
                          </a:lnTo>
                          <a:lnTo>
                            <a:pt x="949" y="844"/>
                          </a:lnTo>
                          <a:lnTo>
                            <a:pt x="981" y="830"/>
                          </a:lnTo>
                          <a:lnTo>
                            <a:pt x="1009" y="815"/>
                          </a:lnTo>
                          <a:lnTo>
                            <a:pt x="1050" y="804"/>
                          </a:lnTo>
                          <a:lnTo>
                            <a:pt x="1074" y="826"/>
                          </a:lnTo>
                          <a:lnTo>
                            <a:pt x="1099" y="824"/>
                          </a:lnTo>
                          <a:lnTo>
                            <a:pt x="1122" y="833"/>
                          </a:lnTo>
                          <a:lnTo>
                            <a:pt x="1121" y="863"/>
                          </a:lnTo>
                          <a:lnTo>
                            <a:pt x="1129" y="879"/>
                          </a:lnTo>
                          <a:lnTo>
                            <a:pt x="1153" y="888"/>
                          </a:lnTo>
                          <a:lnTo>
                            <a:pt x="1173" y="884"/>
                          </a:lnTo>
                          <a:lnTo>
                            <a:pt x="1199" y="869"/>
                          </a:lnTo>
                          <a:lnTo>
                            <a:pt x="1226" y="875"/>
                          </a:lnTo>
                          <a:lnTo>
                            <a:pt x="1252" y="890"/>
                          </a:lnTo>
                          <a:lnTo>
                            <a:pt x="1267" y="905"/>
                          </a:lnTo>
                          <a:lnTo>
                            <a:pt x="1266" y="934"/>
                          </a:lnTo>
                          <a:lnTo>
                            <a:pt x="1245" y="926"/>
                          </a:lnTo>
                          <a:lnTo>
                            <a:pt x="1221" y="910"/>
                          </a:lnTo>
                          <a:lnTo>
                            <a:pt x="1213" y="931"/>
                          </a:lnTo>
                          <a:lnTo>
                            <a:pt x="1217" y="952"/>
                          </a:lnTo>
                          <a:lnTo>
                            <a:pt x="1210" y="967"/>
                          </a:lnTo>
                          <a:lnTo>
                            <a:pt x="1200" y="980"/>
                          </a:lnTo>
                          <a:lnTo>
                            <a:pt x="1200" y="1013"/>
                          </a:lnTo>
                          <a:lnTo>
                            <a:pt x="1300" y="954"/>
                          </a:lnTo>
                          <a:lnTo>
                            <a:pt x="1334" y="921"/>
                          </a:lnTo>
                          <a:lnTo>
                            <a:pt x="1367" y="908"/>
                          </a:lnTo>
                          <a:lnTo>
                            <a:pt x="1372" y="881"/>
                          </a:lnTo>
                          <a:lnTo>
                            <a:pt x="1396" y="870"/>
                          </a:lnTo>
                          <a:lnTo>
                            <a:pt x="1425" y="874"/>
                          </a:lnTo>
                          <a:lnTo>
                            <a:pt x="1477" y="844"/>
                          </a:lnTo>
                          <a:lnTo>
                            <a:pt x="1496" y="808"/>
                          </a:lnTo>
                          <a:lnTo>
                            <a:pt x="1496" y="756"/>
                          </a:lnTo>
                          <a:lnTo>
                            <a:pt x="1513" y="735"/>
                          </a:lnTo>
                          <a:lnTo>
                            <a:pt x="1544" y="744"/>
                          </a:lnTo>
                          <a:lnTo>
                            <a:pt x="1554" y="775"/>
                          </a:lnTo>
                          <a:lnTo>
                            <a:pt x="1591" y="810"/>
                          </a:lnTo>
                          <a:lnTo>
                            <a:pt x="1618" y="790"/>
                          </a:lnTo>
                          <a:lnTo>
                            <a:pt x="1631" y="764"/>
                          </a:lnTo>
                          <a:lnTo>
                            <a:pt x="1624" y="862"/>
                          </a:lnTo>
                          <a:lnTo>
                            <a:pt x="1670" y="797"/>
                          </a:lnTo>
                          <a:lnTo>
                            <a:pt x="1718" y="730"/>
                          </a:lnTo>
                          <a:lnTo>
                            <a:pt x="1699" y="725"/>
                          </a:lnTo>
                          <a:lnTo>
                            <a:pt x="1664" y="741"/>
                          </a:lnTo>
                          <a:lnTo>
                            <a:pt x="1624" y="744"/>
                          </a:lnTo>
                          <a:lnTo>
                            <a:pt x="1621" y="724"/>
                          </a:lnTo>
                          <a:lnTo>
                            <a:pt x="1606" y="716"/>
                          </a:lnTo>
                          <a:lnTo>
                            <a:pt x="1611" y="691"/>
                          </a:lnTo>
                          <a:lnTo>
                            <a:pt x="1591" y="703"/>
                          </a:lnTo>
                          <a:lnTo>
                            <a:pt x="1571" y="704"/>
                          </a:lnTo>
                          <a:lnTo>
                            <a:pt x="1590" y="684"/>
                          </a:lnTo>
                          <a:lnTo>
                            <a:pt x="1602" y="666"/>
                          </a:lnTo>
                          <a:lnTo>
                            <a:pt x="1618" y="645"/>
                          </a:lnTo>
                          <a:lnTo>
                            <a:pt x="1586" y="637"/>
                          </a:lnTo>
                          <a:lnTo>
                            <a:pt x="1557" y="651"/>
                          </a:lnTo>
                          <a:lnTo>
                            <a:pt x="1523" y="671"/>
                          </a:lnTo>
                          <a:lnTo>
                            <a:pt x="1476" y="730"/>
                          </a:lnTo>
                          <a:lnTo>
                            <a:pt x="1537" y="612"/>
                          </a:lnTo>
                          <a:lnTo>
                            <a:pt x="1572" y="596"/>
                          </a:lnTo>
                          <a:lnTo>
                            <a:pt x="1611" y="593"/>
                          </a:lnTo>
                          <a:lnTo>
                            <a:pt x="1629" y="571"/>
                          </a:lnTo>
                          <a:lnTo>
                            <a:pt x="1651" y="560"/>
                          </a:lnTo>
                          <a:lnTo>
                            <a:pt x="1670" y="521"/>
                          </a:lnTo>
                          <a:lnTo>
                            <a:pt x="1688" y="495"/>
                          </a:lnTo>
                          <a:lnTo>
                            <a:pt x="1691" y="481"/>
                          </a:lnTo>
                          <a:lnTo>
                            <a:pt x="1677" y="449"/>
                          </a:lnTo>
                          <a:lnTo>
                            <a:pt x="1658" y="429"/>
                          </a:lnTo>
                          <a:lnTo>
                            <a:pt x="1645" y="462"/>
                          </a:lnTo>
                          <a:lnTo>
                            <a:pt x="1611" y="409"/>
                          </a:lnTo>
                          <a:lnTo>
                            <a:pt x="1575" y="417"/>
                          </a:lnTo>
                          <a:lnTo>
                            <a:pt x="1550" y="407"/>
                          </a:lnTo>
                          <a:lnTo>
                            <a:pt x="1517" y="416"/>
                          </a:lnTo>
                          <a:lnTo>
                            <a:pt x="1506" y="387"/>
                          </a:lnTo>
                          <a:lnTo>
                            <a:pt x="1494" y="373"/>
                          </a:lnTo>
                          <a:lnTo>
                            <a:pt x="1471" y="366"/>
                          </a:lnTo>
                          <a:lnTo>
                            <a:pt x="1435" y="350"/>
                          </a:lnTo>
                          <a:lnTo>
                            <a:pt x="1393" y="333"/>
                          </a:lnTo>
                          <a:lnTo>
                            <a:pt x="1368" y="305"/>
                          </a:lnTo>
                          <a:lnTo>
                            <a:pt x="1354" y="299"/>
                          </a:lnTo>
                          <a:lnTo>
                            <a:pt x="1364" y="330"/>
                          </a:lnTo>
                          <a:lnTo>
                            <a:pt x="1381" y="364"/>
                          </a:lnTo>
                          <a:lnTo>
                            <a:pt x="1350" y="375"/>
                          </a:lnTo>
                          <a:lnTo>
                            <a:pt x="1327" y="366"/>
                          </a:lnTo>
                          <a:lnTo>
                            <a:pt x="1305" y="365"/>
                          </a:lnTo>
                          <a:lnTo>
                            <a:pt x="1294" y="337"/>
                          </a:lnTo>
                          <a:lnTo>
                            <a:pt x="1281" y="324"/>
                          </a:lnTo>
                          <a:lnTo>
                            <a:pt x="1273" y="299"/>
                          </a:lnTo>
                          <a:lnTo>
                            <a:pt x="1254" y="285"/>
                          </a:lnTo>
                          <a:lnTo>
                            <a:pt x="1226" y="280"/>
                          </a:lnTo>
                          <a:lnTo>
                            <a:pt x="1194" y="286"/>
                          </a:lnTo>
                          <a:lnTo>
                            <a:pt x="1159" y="280"/>
                          </a:lnTo>
                          <a:lnTo>
                            <a:pt x="1119" y="299"/>
                          </a:lnTo>
                          <a:lnTo>
                            <a:pt x="1121" y="314"/>
                          </a:lnTo>
                          <a:lnTo>
                            <a:pt x="1143" y="323"/>
                          </a:lnTo>
                          <a:lnTo>
                            <a:pt x="1159" y="344"/>
                          </a:lnTo>
                          <a:lnTo>
                            <a:pt x="1163" y="368"/>
                          </a:lnTo>
                          <a:lnTo>
                            <a:pt x="1173" y="396"/>
                          </a:lnTo>
                          <a:lnTo>
                            <a:pt x="1157" y="416"/>
                          </a:lnTo>
                          <a:lnTo>
                            <a:pt x="1158" y="440"/>
                          </a:lnTo>
                          <a:lnTo>
                            <a:pt x="1198" y="459"/>
                          </a:lnTo>
                          <a:lnTo>
                            <a:pt x="1220" y="481"/>
                          </a:lnTo>
                          <a:lnTo>
                            <a:pt x="1220" y="503"/>
                          </a:lnTo>
                          <a:lnTo>
                            <a:pt x="1213" y="540"/>
                          </a:lnTo>
                          <a:lnTo>
                            <a:pt x="1200" y="573"/>
                          </a:lnTo>
                          <a:lnTo>
                            <a:pt x="1198" y="585"/>
                          </a:lnTo>
                          <a:lnTo>
                            <a:pt x="1226" y="611"/>
                          </a:lnTo>
                          <a:lnTo>
                            <a:pt x="1232" y="639"/>
                          </a:lnTo>
                          <a:lnTo>
                            <a:pt x="1232" y="678"/>
                          </a:lnTo>
                          <a:lnTo>
                            <a:pt x="1208" y="680"/>
                          </a:lnTo>
                          <a:lnTo>
                            <a:pt x="1183" y="689"/>
                          </a:lnTo>
                          <a:lnTo>
                            <a:pt x="1153" y="660"/>
                          </a:lnTo>
                          <a:lnTo>
                            <a:pt x="1126" y="652"/>
                          </a:lnTo>
                          <a:lnTo>
                            <a:pt x="1109" y="618"/>
                          </a:lnTo>
                          <a:lnTo>
                            <a:pt x="1106" y="586"/>
                          </a:lnTo>
                          <a:lnTo>
                            <a:pt x="1056" y="571"/>
                          </a:lnTo>
                          <a:lnTo>
                            <a:pt x="1019" y="569"/>
                          </a:lnTo>
                          <a:lnTo>
                            <a:pt x="970" y="560"/>
                          </a:lnTo>
                          <a:lnTo>
                            <a:pt x="943" y="537"/>
                          </a:lnTo>
                          <a:lnTo>
                            <a:pt x="879" y="524"/>
                          </a:lnTo>
                          <a:lnTo>
                            <a:pt x="843" y="534"/>
                          </a:lnTo>
                          <a:lnTo>
                            <a:pt x="849" y="501"/>
                          </a:lnTo>
                          <a:lnTo>
                            <a:pt x="837" y="486"/>
                          </a:lnTo>
                          <a:lnTo>
                            <a:pt x="816" y="481"/>
                          </a:lnTo>
                          <a:lnTo>
                            <a:pt x="829" y="436"/>
                          </a:lnTo>
                          <a:lnTo>
                            <a:pt x="823" y="396"/>
                          </a:lnTo>
                          <a:lnTo>
                            <a:pt x="849" y="337"/>
                          </a:lnTo>
                          <a:lnTo>
                            <a:pt x="897" y="299"/>
                          </a:lnTo>
                          <a:lnTo>
                            <a:pt x="910" y="273"/>
                          </a:lnTo>
                          <a:lnTo>
                            <a:pt x="863" y="266"/>
                          </a:lnTo>
                          <a:lnTo>
                            <a:pt x="829" y="234"/>
                          </a:lnTo>
                          <a:lnTo>
                            <a:pt x="910" y="234"/>
                          </a:lnTo>
                          <a:lnTo>
                            <a:pt x="927" y="211"/>
                          </a:lnTo>
                          <a:lnTo>
                            <a:pt x="957" y="201"/>
                          </a:lnTo>
                          <a:lnTo>
                            <a:pt x="972" y="188"/>
                          </a:lnTo>
                          <a:lnTo>
                            <a:pt x="998" y="175"/>
                          </a:lnTo>
                          <a:lnTo>
                            <a:pt x="965" y="142"/>
                          </a:lnTo>
                          <a:lnTo>
                            <a:pt x="964" y="109"/>
                          </a:lnTo>
                          <a:lnTo>
                            <a:pt x="938" y="100"/>
                          </a:lnTo>
                          <a:lnTo>
                            <a:pt x="917" y="109"/>
                          </a:lnTo>
                          <a:lnTo>
                            <a:pt x="918" y="122"/>
                          </a:lnTo>
                          <a:lnTo>
                            <a:pt x="930" y="155"/>
                          </a:lnTo>
                          <a:lnTo>
                            <a:pt x="910" y="201"/>
                          </a:lnTo>
                          <a:lnTo>
                            <a:pt x="893" y="129"/>
                          </a:lnTo>
                          <a:lnTo>
                            <a:pt x="871" y="132"/>
                          </a:lnTo>
                          <a:lnTo>
                            <a:pt x="878" y="158"/>
                          </a:lnTo>
                          <a:lnTo>
                            <a:pt x="856" y="155"/>
                          </a:lnTo>
                          <a:lnTo>
                            <a:pt x="836" y="69"/>
                          </a:lnTo>
                          <a:lnTo>
                            <a:pt x="819" y="62"/>
                          </a:lnTo>
                          <a:lnTo>
                            <a:pt x="807" y="52"/>
                          </a:lnTo>
                          <a:lnTo>
                            <a:pt x="796" y="49"/>
                          </a:lnTo>
                          <a:lnTo>
                            <a:pt x="782" y="62"/>
                          </a:lnTo>
                          <a:lnTo>
                            <a:pt x="789" y="92"/>
                          </a:lnTo>
                          <a:lnTo>
                            <a:pt x="812" y="113"/>
                          </a:lnTo>
                          <a:lnTo>
                            <a:pt x="823" y="155"/>
                          </a:lnTo>
                          <a:lnTo>
                            <a:pt x="802" y="175"/>
                          </a:lnTo>
                          <a:lnTo>
                            <a:pt x="789" y="208"/>
                          </a:lnTo>
                          <a:lnTo>
                            <a:pt x="755" y="168"/>
                          </a:lnTo>
                          <a:lnTo>
                            <a:pt x="721" y="188"/>
                          </a:lnTo>
                          <a:lnTo>
                            <a:pt x="668" y="181"/>
                          </a:lnTo>
                          <a:lnTo>
                            <a:pt x="647" y="162"/>
                          </a:lnTo>
                          <a:lnTo>
                            <a:pt x="627" y="188"/>
                          </a:lnTo>
                          <a:lnTo>
                            <a:pt x="607" y="214"/>
                          </a:lnTo>
                          <a:lnTo>
                            <a:pt x="584" y="201"/>
                          </a:lnTo>
                          <a:lnTo>
                            <a:pt x="566" y="175"/>
                          </a:lnTo>
                          <a:lnTo>
                            <a:pt x="534" y="181"/>
                          </a:lnTo>
                          <a:lnTo>
                            <a:pt x="492" y="175"/>
                          </a:lnTo>
                          <a:lnTo>
                            <a:pt x="519" y="136"/>
                          </a:lnTo>
                          <a:lnTo>
                            <a:pt x="473" y="116"/>
                          </a:lnTo>
                          <a:lnTo>
                            <a:pt x="445" y="95"/>
                          </a:lnTo>
                          <a:lnTo>
                            <a:pt x="425" y="109"/>
                          </a:lnTo>
                          <a:lnTo>
                            <a:pt x="384" y="62"/>
                          </a:lnTo>
                          <a:lnTo>
                            <a:pt x="345" y="46"/>
                          </a:lnTo>
                          <a:lnTo>
                            <a:pt x="332" y="62"/>
                          </a:lnTo>
                          <a:lnTo>
                            <a:pt x="258" y="49"/>
                          </a:lnTo>
                          <a:lnTo>
                            <a:pt x="204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390520" y="3509280"/>
                      <a:ext cx="273960" cy="3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172">
                          <a:moveTo>
                            <a:pt x="26" y="0"/>
                          </a:moveTo>
                          <a:lnTo>
                            <a:pt x="15" y="13"/>
                          </a:lnTo>
                          <a:lnTo>
                            <a:pt x="6" y="47"/>
                          </a:lnTo>
                          <a:lnTo>
                            <a:pt x="0" y="75"/>
                          </a:lnTo>
                          <a:lnTo>
                            <a:pt x="17" y="111"/>
                          </a:lnTo>
                          <a:lnTo>
                            <a:pt x="27" y="143"/>
                          </a:lnTo>
                          <a:lnTo>
                            <a:pt x="24" y="172"/>
                          </a:lnTo>
                          <a:lnTo>
                            <a:pt x="40" y="172"/>
                          </a:lnTo>
                          <a:lnTo>
                            <a:pt x="50" y="150"/>
                          </a:lnTo>
                          <a:lnTo>
                            <a:pt x="71" y="154"/>
                          </a:lnTo>
                          <a:lnTo>
                            <a:pt x="88" y="132"/>
                          </a:lnTo>
                          <a:lnTo>
                            <a:pt x="143" y="120"/>
                          </a:lnTo>
                          <a:lnTo>
                            <a:pt x="148" y="101"/>
                          </a:lnTo>
                          <a:lnTo>
                            <a:pt x="126" y="83"/>
                          </a:lnTo>
                          <a:lnTo>
                            <a:pt x="121" y="62"/>
                          </a:lnTo>
                          <a:lnTo>
                            <a:pt x="107" y="59"/>
                          </a:lnTo>
                          <a:lnTo>
                            <a:pt x="90" y="83"/>
                          </a:lnTo>
                          <a:lnTo>
                            <a:pt x="67" y="85"/>
                          </a:lnTo>
                          <a:lnTo>
                            <a:pt x="54" y="82"/>
                          </a:lnTo>
                          <a:lnTo>
                            <a:pt x="37" y="74"/>
                          </a:lnTo>
                          <a:lnTo>
                            <a:pt x="31" y="63"/>
                          </a:lnTo>
                          <a:lnTo>
                            <a:pt x="27" y="34"/>
                          </a:lnTo>
                          <a:lnTo>
                            <a:pt x="33" y="6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8457480" y="3895200"/>
                      <a:ext cx="630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36">
                          <a:moveTo>
                            <a:pt x="30" y="11"/>
                          </a:moveTo>
                          <a:lnTo>
                            <a:pt x="23" y="7"/>
                          </a:lnTo>
                          <a:lnTo>
                            <a:pt x="14" y="3"/>
                          </a:lnTo>
                          <a:lnTo>
                            <a:pt x="4" y="0"/>
                          </a:lnTo>
                          <a:lnTo>
                            <a:pt x="0" y="1"/>
                          </a:lnTo>
                          <a:lnTo>
                            <a:pt x="0" y="12"/>
                          </a:lnTo>
                          <a:lnTo>
                            <a:pt x="4" y="26"/>
                          </a:lnTo>
                          <a:lnTo>
                            <a:pt x="14" y="36"/>
                          </a:lnTo>
                          <a:lnTo>
                            <a:pt x="25" y="36"/>
                          </a:lnTo>
                          <a:lnTo>
                            <a:pt x="32" y="26"/>
                          </a:lnTo>
                          <a:lnTo>
                            <a:pt x="34" y="17"/>
                          </a:lnTo>
                          <a:lnTo>
                            <a:pt x="30" y="1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048440" y="3020760"/>
                      <a:ext cx="17604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3">
                          <a:moveTo>
                            <a:pt x="0" y="16"/>
                          </a:moveTo>
                          <a:lnTo>
                            <a:pt x="15" y="4"/>
                          </a:lnTo>
                          <a:lnTo>
                            <a:pt x="38" y="11"/>
                          </a:lnTo>
                          <a:lnTo>
                            <a:pt x="53" y="0"/>
                          </a:lnTo>
                          <a:lnTo>
                            <a:pt x="71" y="11"/>
                          </a:lnTo>
                          <a:lnTo>
                            <a:pt x="95" y="33"/>
                          </a:lnTo>
                          <a:lnTo>
                            <a:pt x="95" y="58"/>
                          </a:lnTo>
                          <a:lnTo>
                            <a:pt x="68" y="63"/>
                          </a:lnTo>
                          <a:lnTo>
                            <a:pt x="50" y="52"/>
                          </a:lnTo>
                          <a:lnTo>
                            <a:pt x="43" y="73"/>
                          </a:lnTo>
                          <a:lnTo>
                            <a:pt x="23" y="71"/>
                          </a:lnTo>
                          <a:lnTo>
                            <a:pt x="23" y="43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6865200" y="2526480"/>
                      <a:ext cx="91368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3" h="315">
                          <a:moveTo>
                            <a:pt x="425" y="151"/>
                          </a:moveTo>
                          <a:lnTo>
                            <a:pt x="384" y="155"/>
                          </a:lnTo>
                          <a:lnTo>
                            <a:pt x="359" y="131"/>
                          </a:lnTo>
                          <a:lnTo>
                            <a:pt x="320" y="126"/>
                          </a:lnTo>
                          <a:lnTo>
                            <a:pt x="291" y="100"/>
                          </a:lnTo>
                          <a:lnTo>
                            <a:pt x="258" y="91"/>
                          </a:lnTo>
                          <a:lnTo>
                            <a:pt x="227" y="65"/>
                          </a:lnTo>
                          <a:lnTo>
                            <a:pt x="183" y="61"/>
                          </a:lnTo>
                          <a:lnTo>
                            <a:pt x="179" y="40"/>
                          </a:lnTo>
                          <a:lnTo>
                            <a:pt x="147" y="29"/>
                          </a:lnTo>
                          <a:lnTo>
                            <a:pt x="130" y="26"/>
                          </a:lnTo>
                          <a:lnTo>
                            <a:pt x="119" y="54"/>
                          </a:lnTo>
                          <a:lnTo>
                            <a:pt x="111" y="64"/>
                          </a:lnTo>
                          <a:lnTo>
                            <a:pt x="97" y="68"/>
                          </a:lnTo>
                          <a:lnTo>
                            <a:pt x="90" y="85"/>
                          </a:lnTo>
                          <a:lnTo>
                            <a:pt x="75" y="54"/>
                          </a:lnTo>
                          <a:lnTo>
                            <a:pt x="88" y="16"/>
                          </a:lnTo>
                          <a:lnTo>
                            <a:pt x="76" y="13"/>
                          </a:lnTo>
                          <a:lnTo>
                            <a:pt x="60" y="52"/>
                          </a:lnTo>
                          <a:lnTo>
                            <a:pt x="64" y="89"/>
                          </a:lnTo>
                          <a:lnTo>
                            <a:pt x="59" y="111"/>
                          </a:lnTo>
                          <a:lnTo>
                            <a:pt x="37" y="59"/>
                          </a:lnTo>
                          <a:lnTo>
                            <a:pt x="38" y="26"/>
                          </a:lnTo>
                          <a:lnTo>
                            <a:pt x="36" y="0"/>
                          </a:lnTo>
                          <a:lnTo>
                            <a:pt x="17" y="0"/>
                          </a:lnTo>
                          <a:lnTo>
                            <a:pt x="5" y="13"/>
                          </a:lnTo>
                          <a:lnTo>
                            <a:pt x="0" y="42"/>
                          </a:lnTo>
                          <a:lnTo>
                            <a:pt x="4" y="42"/>
                          </a:lnTo>
                          <a:lnTo>
                            <a:pt x="0" y="75"/>
                          </a:lnTo>
                          <a:lnTo>
                            <a:pt x="14" y="104"/>
                          </a:lnTo>
                          <a:lnTo>
                            <a:pt x="29" y="124"/>
                          </a:lnTo>
                          <a:lnTo>
                            <a:pt x="47" y="130"/>
                          </a:lnTo>
                          <a:lnTo>
                            <a:pt x="105" y="118"/>
                          </a:lnTo>
                          <a:lnTo>
                            <a:pt x="143" y="124"/>
                          </a:lnTo>
                          <a:lnTo>
                            <a:pt x="178" y="118"/>
                          </a:lnTo>
                          <a:lnTo>
                            <a:pt x="219" y="114"/>
                          </a:lnTo>
                          <a:lnTo>
                            <a:pt x="251" y="137"/>
                          </a:lnTo>
                          <a:lnTo>
                            <a:pt x="263" y="151"/>
                          </a:lnTo>
                          <a:lnTo>
                            <a:pt x="264" y="191"/>
                          </a:lnTo>
                          <a:lnTo>
                            <a:pt x="278" y="240"/>
                          </a:lnTo>
                          <a:lnTo>
                            <a:pt x="271" y="255"/>
                          </a:lnTo>
                          <a:lnTo>
                            <a:pt x="249" y="268"/>
                          </a:lnTo>
                          <a:lnTo>
                            <a:pt x="231" y="280"/>
                          </a:lnTo>
                          <a:lnTo>
                            <a:pt x="227" y="298"/>
                          </a:lnTo>
                          <a:lnTo>
                            <a:pt x="238" y="308"/>
                          </a:lnTo>
                          <a:lnTo>
                            <a:pt x="270" y="281"/>
                          </a:lnTo>
                          <a:lnTo>
                            <a:pt x="293" y="266"/>
                          </a:lnTo>
                          <a:lnTo>
                            <a:pt x="312" y="269"/>
                          </a:lnTo>
                          <a:lnTo>
                            <a:pt x="323" y="288"/>
                          </a:lnTo>
                          <a:lnTo>
                            <a:pt x="348" y="295"/>
                          </a:lnTo>
                          <a:lnTo>
                            <a:pt x="378" y="308"/>
                          </a:lnTo>
                          <a:lnTo>
                            <a:pt x="413" y="315"/>
                          </a:lnTo>
                          <a:lnTo>
                            <a:pt x="453" y="302"/>
                          </a:lnTo>
                          <a:lnTo>
                            <a:pt x="493" y="308"/>
                          </a:lnTo>
                          <a:lnTo>
                            <a:pt x="480" y="294"/>
                          </a:lnTo>
                          <a:lnTo>
                            <a:pt x="434" y="286"/>
                          </a:lnTo>
                          <a:lnTo>
                            <a:pt x="387" y="276"/>
                          </a:lnTo>
                          <a:lnTo>
                            <a:pt x="392" y="263"/>
                          </a:lnTo>
                          <a:lnTo>
                            <a:pt x="417" y="265"/>
                          </a:lnTo>
                          <a:lnTo>
                            <a:pt x="452" y="276"/>
                          </a:lnTo>
                          <a:lnTo>
                            <a:pt x="438" y="240"/>
                          </a:lnTo>
                          <a:lnTo>
                            <a:pt x="419" y="236"/>
                          </a:lnTo>
                          <a:lnTo>
                            <a:pt x="393" y="223"/>
                          </a:lnTo>
                          <a:lnTo>
                            <a:pt x="367" y="220"/>
                          </a:lnTo>
                          <a:lnTo>
                            <a:pt x="377" y="181"/>
                          </a:lnTo>
                          <a:lnTo>
                            <a:pt x="392" y="171"/>
                          </a:lnTo>
                          <a:lnTo>
                            <a:pt x="416" y="163"/>
                          </a:lnTo>
                          <a:lnTo>
                            <a:pt x="425" y="15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6149160" y="2537280"/>
                      <a:ext cx="505800" cy="34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185">
                          <a:moveTo>
                            <a:pt x="199" y="53"/>
                          </a:moveTo>
                          <a:lnTo>
                            <a:pt x="182" y="10"/>
                          </a:lnTo>
                          <a:lnTo>
                            <a:pt x="152" y="49"/>
                          </a:lnTo>
                          <a:lnTo>
                            <a:pt x="139" y="0"/>
                          </a:lnTo>
                          <a:lnTo>
                            <a:pt x="115" y="33"/>
                          </a:lnTo>
                          <a:lnTo>
                            <a:pt x="102" y="7"/>
                          </a:lnTo>
                          <a:lnTo>
                            <a:pt x="88" y="33"/>
                          </a:lnTo>
                          <a:lnTo>
                            <a:pt x="58" y="13"/>
                          </a:lnTo>
                          <a:lnTo>
                            <a:pt x="21" y="26"/>
                          </a:lnTo>
                          <a:lnTo>
                            <a:pt x="0" y="62"/>
                          </a:lnTo>
                          <a:lnTo>
                            <a:pt x="17" y="76"/>
                          </a:lnTo>
                          <a:lnTo>
                            <a:pt x="81" y="72"/>
                          </a:lnTo>
                          <a:lnTo>
                            <a:pt x="44" y="105"/>
                          </a:lnTo>
                          <a:lnTo>
                            <a:pt x="118" y="125"/>
                          </a:lnTo>
                          <a:lnTo>
                            <a:pt x="98" y="139"/>
                          </a:lnTo>
                          <a:lnTo>
                            <a:pt x="24" y="125"/>
                          </a:lnTo>
                          <a:lnTo>
                            <a:pt x="64" y="162"/>
                          </a:lnTo>
                          <a:lnTo>
                            <a:pt x="115" y="168"/>
                          </a:lnTo>
                          <a:lnTo>
                            <a:pt x="159" y="158"/>
                          </a:lnTo>
                          <a:lnTo>
                            <a:pt x="193" y="172"/>
                          </a:lnTo>
                          <a:lnTo>
                            <a:pt x="240" y="185"/>
                          </a:lnTo>
                          <a:lnTo>
                            <a:pt x="226" y="165"/>
                          </a:lnTo>
                          <a:lnTo>
                            <a:pt x="273" y="145"/>
                          </a:lnTo>
                          <a:lnTo>
                            <a:pt x="226" y="131"/>
                          </a:lnTo>
                          <a:lnTo>
                            <a:pt x="199" y="5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6716880" y="1961640"/>
                      <a:ext cx="289080" cy="44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239">
                          <a:moveTo>
                            <a:pt x="106" y="0"/>
                          </a:moveTo>
                          <a:lnTo>
                            <a:pt x="74" y="2"/>
                          </a:lnTo>
                          <a:lnTo>
                            <a:pt x="40" y="27"/>
                          </a:lnTo>
                          <a:lnTo>
                            <a:pt x="13" y="47"/>
                          </a:lnTo>
                          <a:lnTo>
                            <a:pt x="0" y="75"/>
                          </a:lnTo>
                          <a:lnTo>
                            <a:pt x="0" y="94"/>
                          </a:lnTo>
                          <a:lnTo>
                            <a:pt x="21" y="107"/>
                          </a:lnTo>
                          <a:lnTo>
                            <a:pt x="66" y="98"/>
                          </a:lnTo>
                          <a:lnTo>
                            <a:pt x="116" y="75"/>
                          </a:lnTo>
                          <a:lnTo>
                            <a:pt x="62" y="127"/>
                          </a:lnTo>
                          <a:lnTo>
                            <a:pt x="81" y="132"/>
                          </a:lnTo>
                          <a:lnTo>
                            <a:pt x="70" y="160"/>
                          </a:lnTo>
                          <a:lnTo>
                            <a:pt x="88" y="173"/>
                          </a:lnTo>
                          <a:lnTo>
                            <a:pt x="82" y="199"/>
                          </a:lnTo>
                          <a:lnTo>
                            <a:pt x="54" y="211"/>
                          </a:lnTo>
                          <a:lnTo>
                            <a:pt x="42" y="237"/>
                          </a:lnTo>
                          <a:lnTo>
                            <a:pt x="57" y="239"/>
                          </a:lnTo>
                          <a:lnTo>
                            <a:pt x="104" y="221"/>
                          </a:lnTo>
                          <a:lnTo>
                            <a:pt x="156" y="225"/>
                          </a:lnTo>
                          <a:lnTo>
                            <a:pt x="147" y="192"/>
                          </a:lnTo>
                          <a:lnTo>
                            <a:pt x="149" y="155"/>
                          </a:lnTo>
                          <a:lnTo>
                            <a:pt x="129" y="134"/>
                          </a:lnTo>
                          <a:lnTo>
                            <a:pt x="147" y="88"/>
                          </a:lnTo>
                          <a:lnTo>
                            <a:pt x="141" y="55"/>
                          </a:lnTo>
                          <a:lnTo>
                            <a:pt x="131" y="12"/>
                          </a:lnTo>
                          <a:lnTo>
                            <a:pt x="106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6664680" y="2158920"/>
                      <a:ext cx="116640" cy="18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01">
                          <a:moveTo>
                            <a:pt x="8" y="0"/>
                          </a:moveTo>
                          <a:lnTo>
                            <a:pt x="0" y="34"/>
                          </a:lnTo>
                          <a:lnTo>
                            <a:pt x="8" y="93"/>
                          </a:lnTo>
                          <a:lnTo>
                            <a:pt x="30" y="101"/>
                          </a:lnTo>
                          <a:lnTo>
                            <a:pt x="56" y="93"/>
                          </a:lnTo>
                          <a:lnTo>
                            <a:pt x="63" y="48"/>
                          </a:lnTo>
                          <a:lnTo>
                            <a:pt x="56" y="37"/>
                          </a:lnTo>
                          <a:lnTo>
                            <a:pt x="43" y="20"/>
                          </a:lnTo>
                          <a:lnTo>
                            <a:pt x="28" y="23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716880" y="2537280"/>
                      <a:ext cx="116640" cy="1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70">
                          <a:moveTo>
                            <a:pt x="11" y="0"/>
                          </a:moveTo>
                          <a:lnTo>
                            <a:pt x="40" y="13"/>
                          </a:lnTo>
                          <a:lnTo>
                            <a:pt x="63" y="3"/>
                          </a:lnTo>
                          <a:lnTo>
                            <a:pt x="57" y="26"/>
                          </a:lnTo>
                          <a:lnTo>
                            <a:pt x="58" y="44"/>
                          </a:lnTo>
                          <a:lnTo>
                            <a:pt x="52" y="60"/>
                          </a:lnTo>
                          <a:lnTo>
                            <a:pt x="39" y="70"/>
                          </a:lnTo>
                          <a:lnTo>
                            <a:pt x="22" y="68"/>
                          </a:lnTo>
                          <a:lnTo>
                            <a:pt x="8" y="65"/>
                          </a:lnTo>
                          <a:lnTo>
                            <a:pt x="0" y="35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6551640" y="2530080"/>
                      <a:ext cx="151920" cy="21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118">
                          <a:moveTo>
                            <a:pt x="82" y="78"/>
                          </a:moveTo>
                          <a:lnTo>
                            <a:pt x="75" y="96"/>
                          </a:lnTo>
                          <a:lnTo>
                            <a:pt x="54" y="118"/>
                          </a:lnTo>
                          <a:lnTo>
                            <a:pt x="38" y="102"/>
                          </a:lnTo>
                          <a:lnTo>
                            <a:pt x="38" y="80"/>
                          </a:lnTo>
                          <a:lnTo>
                            <a:pt x="7" y="66"/>
                          </a:lnTo>
                          <a:lnTo>
                            <a:pt x="0" y="49"/>
                          </a:lnTo>
                          <a:lnTo>
                            <a:pt x="4" y="34"/>
                          </a:lnTo>
                          <a:lnTo>
                            <a:pt x="24" y="30"/>
                          </a:lnTo>
                          <a:lnTo>
                            <a:pt x="17" y="0"/>
                          </a:lnTo>
                          <a:lnTo>
                            <a:pt x="47" y="3"/>
                          </a:lnTo>
                          <a:lnTo>
                            <a:pt x="74" y="0"/>
                          </a:lnTo>
                          <a:lnTo>
                            <a:pt x="61" y="40"/>
                          </a:lnTo>
                          <a:lnTo>
                            <a:pt x="65" y="56"/>
                          </a:lnTo>
                          <a:lnTo>
                            <a:pt x="82" y="7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6460920" y="2381040"/>
                      <a:ext cx="98280" cy="7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38">
                          <a:moveTo>
                            <a:pt x="0" y="17"/>
                          </a:moveTo>
                          <a:lnTo>
                            <a:pt x="19" y="15"/>
                          </a:lnTo>
                          <a:lnTo>
                            <a:pt x="18" y="0"/>
                          </a:lnTo>
                          <a:lnTo>
                            <a:pt x="39" y="11"/>
                          </a:lnTo>
                          <a:lnTo>
                            <a:pt x="53" y="33"/>
                          </a:lnTo>
                          <a:lnTo>
                            <a:pt x="35" y="38"/>
                          </a:lnTo>
                          <a:lnTo>
                            <a:pt x="12" y="38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6005160" y="2362320"/>
                      <a:ext cx="3038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50">
                          <a:moveTo>
                            <a:pt x="139" y="76"/>
                          </a:moveTo>
                          <a:lnTo>
                            <a:pt x="110" y="70"/>
                          </a:lnTo>
                          <a:lnTo>
                            <a:pt x="86" y="83"/>
                          </a:lnTo>
                          <a:lnTo>
                            <a:pt x="66" y="111"/>
                          </a:lnTo>
                          <a:lnTo>
                            <a:pt x="57" y="136"/>
                          </a:lnTo>
                          <a:lnTo>
                            <a:pt x="34" y="150"/>
                          </a:lnTo>
                          <a:lnTo>
                            <a:pt x="9" y="149"/>
                          </a:lnTo>
                          <a:lnTo>
                            <a:pt x="0" y="120"/>
                          </a:lnTo>
                          <a:lnTo>
                            <a:pt x="13" y="91"/>
                          </a:lnTo>
                          <a:lnTo>
                            <a:pt x="27" y="58"/>
                          </a:lnTo>
                          <a:lnTo>
                            <a:pt x="46" y="21"/>
                          </a:lnTo>
                          <a:lnTo>
                            <a:pt x="63" y="15"/>
                          </a:lnTo>
                          <a:lnTo>
                            <a:pt x="91" y="0"/>
                          </a:lnTo>
                          <a:lnTo>
                            <a:pt x="120" y="4"/>
                          </a:lnTo>
                          <a:lnTo>
                            <a:pt x="140" y="19"/>
                          </a:lnTo>
                          <a:lnTo>
                            <a:pt x="160" y="41"/>
                          </a:lnTo>
                          <a:lnTo>
                            <a:pt x="164" y="60"/>
                          </a:lnTo>
                          <a:lnTo>
                            <a:pt x="139" y="7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6256800" y="2188800"/>
                      <a:ext cx="296640" cy="19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02">
                          <a:moveTo>
                            <a:pt x="67" y="102"/>
                          </a:moveTo>
                          <a:lnTo>
                            <a:pt x="88" y="88"/>
                          </a:lnTo>
                          <a:lnTo>
                            <a:pt x="108" y="78"/>
                          </a:lnTo>
                          <a:lnTo>
                            <a:pt x="135" y="78"/>
                          </a:lnTo>
                          <a:lnTo>
                            <a:pt x="143" y="80"/>
                          </a:lnTo>
                          <a:lnTo>
                            <a:pt x="152" y="78"/>
                          </a:lnTo>
                          <a:lnTo>
                            <a:pt x="160" y="64"/>
                          </a:lnTo>
                          <a:lnTo>
                            <a:pt x="145" y="55"/>
                          </a:lnTo>
                          <a:lnTo>
                            <a:pt x="131" y="49"/>
                          </a:lnTo>
                          <a:lnTo>
                            <a:pt x="127" y="33"/>
                          </a:lnTo>
                          <a:lnTo>
                            <a:pt x="129" y="10"/>
                          </a:lnTo>
                          <a:lnTo>
                            <a:pt x="96" y="0"/>
                          </a:lnTo>
                          <a:lnTo>
                            <a:pt x="73" y="8"/>
                          </a:lnTo>
                          <a:lnTo>
                            <a:pt x="79" y="24"/>
                          </a:lnTo>
                          <a:lnTo>
                            <a:pt x="96" y="43"/>
                          </a:lnTo>
                          <a:lnTo>
                            <a:pt x="99" y="56"/>
                          </a:lnTo>
                          <a:lnTo>
                            <a:pt x="69" y="58"/>
                          </a:lnTo>
                          <a:lnTo>
                            <a:pt x="62" y="49"/>
                          </a:lnTo>
                          <a:lnTo>
                            <a:pt x="51" y="24"/>
                          </a:lnTo>
                          <a:lnTo>
                            <a:pt x="17" y="37"/>
                          </a:lnTo>
                          <a:lnTo>
                            <a:pt x="5" y="53"/>
                          </a:lnTo>
                          <a:lnTo>
                            <a:pt x="0" y="68"/>
                          </a:lnTo>
                          <a:lnTo>
                            <a:pt x="31" y="68"/>
                          </a:lnTo>
                          <a:lnTo>
                            <a:pt x="33" y="80"/>
                          </a:lnTo>
                          <a:lnTo>
                            <a:pt x="53" y="80"/>
                          </a:lnTo>
                          <a:lnTo>
                            <a:pt x="48" y="101"/>
                          </a:lnTo>
                          <a:lnTo>
                            <a:pt x="67" y="10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6166080" y="2144160"/>
                      <a:ext cx="114840" cy="12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7">
                          <a:moveTo>
                            <a:pt x="60" y="0"/>
                          </a:moveTo>
                          <a:lnTo>
                            <a:pt x="17" y="18"/>
                          </a:lnTo>
                          <a:lnTo>
                            <a:pt x="4" y="33"/>
                          </a:lnTo>
                          <a:lnTo>
                            <a:pt x="0" y="55"/>
                          </a:lnTo>
                          <a:lnTo>
                            <a:pt x="20" y="67"/>
                          </a:lnTo>
                          <a:lnTo>
                            <a:pt x="31" y="63"/>
                          </a:lnTo>
                          <a:lnTo>
                            <a:pt x="26" y="46"/>
                          </a:lnTo>
                          <a:lnTo>
                            <a:pt x="26" y="33"/>
                          </a:lnTo>
                          <a:lnTo>
                            <a:pt x="40" y="21"/>
                          </a:lnTo>
                          <a:lnTo>
                            <a:pt x="62" y="12"/>
                          </a:lnTo>
                          <a:lnTo>
                            <a:pt x="6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7426800" y="3563280"/>
                      <a:ext cx="36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3">
                          <a:moveTo>
                            <a:pt x="19" y="10"/>
                          </a:moveTo>
                          <a:lnTo>
                            <a:pt x="15" y="6"/>
                          </a:lnTo>
                          <a:lnTo>
                            <a:pt x="9" y="2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2" y="24"/>
                          </a:lnTo>
                          <a:lnTo>
                            <a:pt x="9" y="33"/>
                          </a:lnTo>
                          <a:lnTo>
                            <a:pt x="15" y="33"/>
                          </a:lnTo>
                          <a:lnTo>
                            <a:pt x="20" y="24"/>
                          </a:lnTo>
                          <a:lnTo>
                            <a:pt x="20" y="17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04" name=""/>
              <p:cNvSpPr/>
              <p:nvPr/>
            </p:nvSpPr>
            <p:spPr>
              <a:xfrm>
                <a:off x="5395320" y="3845880"/>
                <a:ext cx="136800" cy="1731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4" y="93"/>
                    </a:moveTo>
                    <a:lnTo>
                      <a:pt x="44" y="36"/>
                    </a:lnTo>
                    <a:lnTo>
                      <a:pt x="24" y="16"/>
                    </a:lnTo>
                    <a:lnTo>
                      <a:pt x="0" y="0"/>
                    </a:lnTo>
                    <a:lnTo>
                      <a:pt x="4" y="18"/>
                    </a:lnTo>
                    <a:lnTo>
                      <a:pt x="30" y="59"/>
                    </a:lnTo>
                    <a:lnTo>
                      <a:pt x="55" y="88"/>
                    </a:lnTo>
                    <a:lnTo>
                      <a:pt x="74" y="93"/>
                    </a:lnTo>
                    <a:close/>
                  </a:path>
                </a:pathLst>
              </a:custGeom>
              <a:solidFill>
                <a:srgbClr val="ffff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623560" y="5127840"/>
              <a:ext cx="1884960" cy="1209240"/>
            </a:xfrm>
            <a:custGeom>
              <a:avLst/>
              <a:gdLst/>
              <a:ahLst/>
              <a:rect l="l" t="t" r="r" b="b"/>
              <a:pathLst>
                <a:path w="1017" h="648">
                  <a:moveTo>
                    <a:pt x="640" y="273"/>
                  </a:moveTo>
                  <a:lnTo>
                    <a:pt x="648" y="284"/>
                  </a:lnTo>
                  <a:lnTo>
                    <a:pt x="652" y="301"/>
                  </a:lnTo>
                  <a:lnTo>
                    <a:pt x="631" y="326"/>
                  </a:lnTo>
                  <a:lnTo>
                    <a:pt x="619" y="373"/>
                  </a:lnTo>
                  <a:lnTo>
                    <a:pt x="630" y="398"/>
                  </a:lnTo>
                  <a:lnTo>
                    <a:pt x="626" y="432"/>
                  </a:lnTo>
                  <a:lnTo>
                    <a:pt x="644" y="458"/>
                  </a:lnTo>
                  <a:lnTo>
                    <a:pt x="659" y="491"/>
                  </a:lnTo>
                  <a:lnTo>
                    <a:pt x="694" y="500"/>
                  </a:lnTo>
                  <a:lnTo>
                    <a:pt x="723" y="532"/>
                  </a:lnTo>
                  <a:lnTo>
                    <a:pt x="758" y="537"/>
                  </a:lnTo>
                  <a:lnTo>
                    <a:pt x="779" y="515"/>
                  </a:lnTo>
                  <a:lnTo>
                    <a:pt x="812" y="510"/>
                  </a:lnTo>
                  <a:lnTo>
                    <a:pt x="841" y="517"/>
                  </a:lnTo>
                  <a:lnTo>
                    <a:pt x="873" y="507"/>
                  </a:lnTo>
                  <a:lnTo>
                    <a:pt x="889" y="485"/>
                  </a:lnTo>
                  <a:lnTo>
                    <a:pt x="903" y="455"/>
                  </a:lnTo>
                  <a:lnTo>
                    <a:pt x="895" y="419"/>
                  </a:lnTo>
                  <a:lnTo>
                    <a:pt x="956" y="413"/>
                  </a:lnTo>
                  <a:lnTo>
                    <a:pt x="989" y="398"/>
                  </a:lnTo>
                  <a:lnTo>
                    <a:pt x="1010" y="400"/>
                  </a:lnTo>
                  <a:lnTo>
                    <a:pt x="1017" y="426"/>
                  </a:lnTo>
                  <a:lnTo>
                    <a:pt x="969" y="472"/>
                  </a:lnTo>
                  <a:lnTo>
                    <a:pt x="974" y="508"/>
                  </a:lnTo>
                  <a:lnTo>
                    <a:pt x="959" y="531"/>
                  </a:lnTo>
                  <a:lnTo>
                    <a:pt x="916" y="524"/>
                  </a:lnTo>
                  <a:lnTo>
                    <a:pt x="876" y="524"/>
                  </a:lnTo>
                  <a:lnTo>
                    <a:pt x="862" y="544"/>
                  </a:lnTo>
                  <a:lnTo>
                    <a:pt x="862" y="570"/>
                  </a:lnTo>
                  <a:lnTo>
                    <a:pt x="887" y="583"/>
                  </a:lnTo>
                  <a:lnTo>
                    <a:pt x="883" y="600"/>
                  </a:lnTo>
                  <a:lnTo>
                    <a:pt x="854" y="595"/>
                  </a:lnTo>
                  <a:lnTo>
                    <a:pt x="837" y="598"/>
                  </a:lnTo>
                  <a:lnTo>
                    <a:pt x="828" y="609"/>
                  </a:lnTo>
                  <a:lnTo>
                    <a:pt x="829" y="631"/>
                  </a:lnTo>
                  <a:lnTo>
                    <a:pt x="835" y="648"/>
                  </a:lnTo>
                  <a:lnTo>
                    <a:pt x="795" y="639"/>
                  </a:lnTo>
                  <a:lnTo>
                    <a:pt x="786" y="624"/>
                  </a:lnTo>
                  <a:lnTo>
                    <a:pt x="773" y="606"/>
                  </a:lnTo>
                  <a:lnTo>
                    <a:pt x="754" y="596"/>
                  </a:lnTo>
                  <a:lnTo>
                    <a:pt x="731" y="596"/>
                  </a:lnTo>
                  <a:lnTo>
                    <a:pt x="713" y="616"/>
                  </a:lnTo>
                  <a:lnTo>
                    <a:pt x="686" y="629"/>
                  </a:lnTo>
                  <a:lnTo>
                    <a:pt x="647" y="619"/>
                  </a:lnTo>
                  <a:lnTo>
                    <a:pt x="606" y="616"/>
                  </a:lnTo>
                  <a:lnTo>
                    <a:pt x="561" y="579"/>
                  </a:lnTo>
                  <a:lnTo>
                    <a:pt x="511" y="557"/>
                  </a:lnTo>
                  <a:lnTo>
                    <a:pt x="470" y="546"/>
                  </a:lnTo>
                  <a:lnTo>
                    <a:pt x="444" y="544"/>
                  </a:lnTo>
                  <a:lnTo>
                    <a:pt x="376" y="524"/>
                  </a:lnTo>
                  <a:lnTo>
                    <a:pt x="343" y="478"/>
                  </a:lnTo>
                  <a:lnTo>
                    <a:pt x="329" y="400"/>
                  </a:lnTo>
                  <a:lnTo>
                    <a:pt x="302" y="354"/>
                  </a:lnTo>
                  <a:lnTo>
                    <a:pt x="276" y="325"/>
                  </a:lnTo>
                  <a:lnTo>
                    <a:pt x="242" y="301"/>
                  </a:lnTo>
                  <a:lnTo>
                    <a:pt x="221" y="239"/>
                  </a:lnTo>
                  <a:lnTo>
                    <a:pt x="189" y="198"/>
                  </a:lnTo>
                  <a:lnTo>
                    <a:pt x="154" y="158"/>
                  </a:lnTo>
                  <a:lnTo>
                    <a:pt x="130" y="96"/>
                  </a:lnTo>
                  <a:lnTo>
                    <a:pt x="110" y="75"/>
                  </a:lnTo>
                  <a:lnTo>
                    <a:pt x="74" y="60"/>
                  </a:lnTo>
                  <a:lnTo>
                    <a:pt x="88" y="126"/>
                  </a:lnTo>
                  <a:lnTo>
                    <a:pt x="104" y="177"/>
                  </a:lnTo>
                  <a:lnTo>
                    <a:pt x="128" y="217"/>
                  </a:lnTo>
                  <a:lnTo>
                    <a:pt x="151" y="265"/>
                  </a:lnTo>
                  <a:lnTo>
                    <a:pt x="181" y="321"/>
                  </a:lnTo>
                  <a:lnTo>
                    <a:pt x="210" y="377"/>
                  </a:lnTo>
                  <a:lnTo>
                    <a:pt x="193" y="383"/>
                  </a:lnTo>
                  <a:lnTo>
                    <a:pt x="155" y="328"/>
                  </a:lnTo>
                  <a:lnTo>
                    <a:pt x="128" y="314"/>
                  </a:lnTo>
                  <a:lnTo>
                    <a:pt x="119" y="271"/>
                  </a:lnTo>
                  <a:lnTo>
                    <a:pt x="101" y="249"/>
                  </a:lnTo>
                  <a:lnTo>
                    <a:pt x="98" y="214"/>
                  </a:lnTo>
                  <a:lnTo>
                    <a:pt x="80" y="191"/>
                  </a:lnTo>
                  <a:lnTo>
                    <a:pt x="61" y="185"/>
                  </a:lnTo>
                  <a:lnTo>
                    <a:pt x="50" y="163"/>
                  </a:lnTo>
                  <a:lnTo>
                    <a:pt x="61" y="139"/>
                  </a:lnTo>
                  <a:lnTo>
                    <a:pt x="37" y="97"/>
                  </a:lnTo>
                  <a:lnTo>
                    <a:pt x="17" y="72"/>
                  </a:lnTo>
                  <a:lnTo>
                    <a:pt x="7" y="44"/>
                  </a:lnTo>
                  <a:lnTo>
                    <a:pt x="0" y="0"/>
                  </a:lnTo>
                  <a:lnTo>
                    <a:pt x="95" y="20"/>
                  </a:lnTo>
                  <a:lnTo>
                    <a:pt x="161" y="60"/>
                  </a:lnTo>
                  <a:lnTo>
                    <a:pt x="191" y="82"/>
                  </a:lnTo>
                  <a:lnTo>
                    <a:pt x="272" y="75"/>
                  </a:lnTo>
                  <a:lnTo>
                    <a:pt x="291" y="90"/>
                  </a:lnTo>
                  <a:lnTo>
                    <a:pt x="381" y="86"/>
                  </a:lnTo>
                  <a:lnTo>
                    <a:pt x="397" y="110"/>
                  </a:lnTo>
                  <a:lnTo>
                    <a:pt x="415" y="166"/>
                  </a:lnTo>
                  <a:lnTo>
                    <a:pt x="455" y="165"/>
                  </a:lnTo>
                  <a:lnTo>
                    <a:pt x="467" y="133"/>
                  </a:lnTo>
                  <a:lnTo>
                    <a:pt x="515" y="133"/>
                  </a:lnTo>
                  <a:lnTo>
                    <a:pt x="552" y="187"/>
                  </a:lnTo>
                  <a:lnTo>
                    <a:pt x="580" y="259"/>
                  </a:lnTo>
                  <a:lnTo>
                    <a:pt x="610" y="275"/>
                  </a:lnTo>
                  <a:lnTo>
                    <a:pt x="640" y="273"/>
                  </a:lnTo>
                  <a:close/>
                </a:path>
              </a:pathLst>
            </a:custGeom>
            <a:solidFill>
              <a:srgbClr val="0072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299840" y="2252880"/>
              <a:ext cx="3918960" cy="3387960"/>
              <a:chOff x="4299840" y="2252880"/>
              <a:chExt cx="3918960" cy="3387960"/>
            </a:xfrm>
          </p:grpSpPr>
          <p:sp>
            <p:nvSpPr>
              <p:cNvPr id="207" name=""/>
              <p:cNvSpPr/>
              <p:nvPr/>
            </p:nvSpPr>
            <p:spPr>
              <a:xfrm>
                <a:off x="5337720" y="3980160"/>
                <a:ext cx="2881080" cy="1660680"/>
              </a:xfrm>
              <a:custGeom>
                <a:avLst/>
                <a:gdLst/>
                <a:ahLst/>
                <a:rect l="l" t="t" r="r" b="b"/>
                <a:pathLst>
                  <a:path w="1554" h="890">
                    <a:moveTo>
                      <a:pt x="152" y="21"/>
                    </a:moveTo>
                    <a:lnTo>
                      <a:pt x="133" y="86"/>
                    </a:lnTo>
                    <a:lnTo>
                      <a:pt x="112" y="70"/>
                    </a:lnTo>
                    <a:lnTo>
                      <a:pt x="94" y="50"/>
                    </a:lnTo>
                    <a:lnTo>
                      <a:pt x="64" y="34"/>
                    </a:lnTo>
                    <a:lnTo>
                      <a:pt x="62" y="86"/>
                    </a:lnTo>
                    <a:lnTo>
                      <a:pt x="44" y="138"/>
                    </a:lnTo>
                    <a:lnTo>
                      <a:pt x="43" y="184"/>
                    </a:lnTo>
                    <a:lnTo>
                      <a:pt x="24" y="233"/>
                    </a:lnTo>
                    <a:lnTo>
                      <a:pt x="17" y="305"/>
                    </a:lnTo>
                    <a:lnTo>
                      <a:pt x="0" y="351"/>
                    </a:lnTo>
                    <a:lnTo>
                      <a:pt x="3" y="382"/>
                    </a:lnTo>
                    <a:lnTo>
                      <a:pt x="29" y="417"/>
                    </a:lnTo>
                    <a:lnTo>
                      <a:pt x="21" y="445"/>
                    </a:lnTo>
                    <a:lnTo>
                      <a:pt x="50" y="482"/>
                    </a:lnTo>
                    <a:lnTo>
                      <a:pt x="64" y="537"/>
                    </a:lnTo>
                    <a:lnTo>
                      <a:pt x="112" y="564"/>
                    </a:lnTo>
                    <a:lnTo>
                      <a:pt x="160" y="615"/>
                    </a:lnTo>
                    <a:lnTo>
                      <a:pt x="248" y="635"/>
                    </a:lnTo>
                    <a:lnTo>
                      <a:pt x="347" y="695"/>
                    </a:lnTo>
                    <a:lnTo>
                      <a:pt x="424" y="689"/>
                    </a:lnTo>
                    <a:lnTo>
                      <a:pt x="445" y="705"/>
                    </a:lnTo>
                    <a:lnTo>
                      <a:pt x="529" y="701"/>
                    </a:lnTo>
                    <a:lnTo>
                      <a:pt x="549" y="719"/>
                    </a:lnTo>
                    <a:lnTo>
                      <a:pt x="563" y="767"/>
                    </a:lnTo>
                    <a:lnTo>
                      <a:pt x="572" y="781"/>
                    </a:lnTo>
                    <a:lnTo>
                      <a:pt x="604" y="780"/>
                    </a:lnTo>
                    <a:lnTo>
                      <a:pt x="623" y="747"/>
                    </a:lnTo>
                    <a:lnTo>
                      <a:pt x="663" y="749"/>
                    </a:lnTo>
                    <a:lnTo>
                      <a:pt x="681" y="772"/>
                    </a:lnTo>
                    <a:lnTo>
                      <a:pt x="700" y="794"/>
                    </a:lnTo>
                    <a:lnTo>
                      <a:pt x="718" y="839"/>
                    </a:lnTo>
                    <a:lnTo>
                      <a:pt x="730" y="874"/>
                    </a:lnTo>
                    <a:lnTo>
                      <a:pt x="762" y="889"/>
                    </a:lnTo>
                    <a:lnTo>
                      <a:pt x="792" y="890"/>
                    </a:lnTo>
                    <a:lnTo>
                      <a:pt x="781" y="849"/>
                    </a:lnTo>
                    <a:lnTo>
                      <a:pt x="779" y="819"/>
                    </a:lnTo>
                    <a:lnTo>
                      <a:pt x="794" y="778"/>
                    </a:lnTo>
                    <a:lnTo>
                      <a:pt x="819" y="767"/>
                    </a:lnTo>
                    <a:lnTo>
                      <a:pt x="865" y="735"/>
                    </a:lnTo>
                    <a:lnTo>
                      <a:pt x="914" y="734"/>
                    </a:lnTo>
                    <a:lnTo>
                      <a:pt x="960" y="739"/>
                    </a:lnTo>
                    <a:lnTo>
                      <a:pt x="1011" y="760"/>
                    </a:lnTo>
                    <a:lnTo>
                      <a:pt x="1037" y="755"/>
                    </a:lnTo>
                    <a:lnTo>
                      <a:pt x="1048" y="741"/>
                    </a:lnTo>
                    <a:lnTo>
                      <a:pt x="994" y="721"/>
                    </a:lnTo>
                    <a:lnTo>
                      <a:pt x="1054" y="699"/>
                    </a:lnTo>
                    <a:lnTo>
                      <a:pt x="1095" y="708"/>
                    </a:lnTo>
                    <a:lnTo>
                      <a:pt x="1156" y="701"/>
                    </a:lnTo>
                    <a:lnTo>
                      <a:pt x="1198" y="702"/>
                    </a:lnTo>
                    <a:lnTo>
                      <a:pt x="1236" y="701"/>
                    </a:lnTo>
                    <a:lnTo>
                      <a:pt x="1255" y="712"/>
                    </a:lnTo>
                    <a:lnTo>
                      <a:pt x="1270" y="734"/>
                    </a:lnTo>
                    <a:lnTo>
                      <a:pt x="1276" y="780"/>
                    </a:lnTo>
                    <a:lnTo>
                      <a:pt x="1292" y="801"/>
                    </a:lnTo>
                    <a:lnTo>
                      <a:pt x="1303" y="832"/>
                    </a:lnTo>
                    <a:lnTo>
                      <a:pt x="1322" y="847"/>
                    </a:lnTo>
                    <a:lnTo>
                      <a:pt x="1344" y="857"/>
                    </a:lnTo>
                    <a:lnTo>
                      <a:pt x="1363" y="840"/>
                    </a:lnTo>
                    <a:lnTo>
                      <a:pt x="1371" y="809"/>
                    </a:lnTo>
                    <a:lnTo>
                      <a:pt x="1357" y="787"/>
                    </a:lnTo>
                    <a:lnTo>
                      <a:pt x="1310" y="728"/>
                    </a:lnTo>
                    <a:lnTo>
                      <a:pt x="1290" y="675"/>
                    </a:lnTo>
                    <a:lnTo>
                      <a:pt x="1297" y="622"/>
                    </a:lnTo>
                    <a:lnTo>
                      <a:pt x="1323" y="602"/>
                    </a:lnTo>
                    <a:lnTo>
                      <a:pt x="1350" y="569"/>
                    </a:lnTo>
                    <a:lnTo>
                      <a:pt x="1346" y="544"/>
                    </a:lnTo>
                    <a:lnTo>
                      <a:pt x="1364" y="524"/>
                    </a:lnTo>
                    <a:lnTo>
                      <a:pt x="1398" y="510"/>
                    </a:lnTo>
                    <a:lnTo>
                      <a:pt x="1405" y="478"/>
                    </a:lnTo>
                    <a:lnTo>
                      <a:pt x="1393" y="449"/>
                    </a:lnTo>
                    <a:lnTo>
                      <a:pt x="1380" y="436"/>
                    </a:lnTo>
                    <a:lnTo>
                      <a:pt x="1383" y="421"/>
                    </a:lnTo>
                    <a:lnTo>
                      <a:pt x="1364" y="413"/>
                    </a:lnTo>
                    <a:lnTo>
                      <a:pt x="1367" y="397"/>
                    </a:lnTo>
                    <a:lnTo>
                      <a:pt x="1350" y="387"/>
                    </a:lnTo>
                    <a:lnTo>
                      <a:pt x="1346" y="355"/>
                    </a:lnTo>
                    <a:lnTo>
                      <a:pt x="1370" y="375"/>
                    </a:lnTo>
                    <a:lnTo>
                      <a:pt x="1373" y="365"/>
                    </a:lnTo>
                    <a:lnTo>
                      <a:pt x="1359" y="349"/>
                    </a:lnTo>
                    <a:lnTo>
                      <a:pt x="1371" y="335"/>
                    </a:lnTo>
                    <a:lnTo>
                      <a:pt x="1383" y="350"/>
                    </a:lnTo>
                    <a:lnTo>
                      <a:pt x="1394" y="377"/>
                    </a:lnTo>
                    <a:lnTo>
                      <a:pt x="1401" y="370"/>
                    </a:lnTo>
                    <a:lnTo>
                      <a:pt x="1394" y="351"/>
                    </a:lnTo>
                    <a:lnTo>
                      <a:pt x="1405" y="335"/>
                    </a:lnTo>
                    <a:lnTo>
                      <a:pt x="1412" y="322"/>
                    </a:lnTo>
                    <a:lnTo>
                      <a:pt x="1412" y="305"/>
                    </a:lnTo>
                    <a:lnTo>
                      <a:pt x="1405" y="282"/>
                    </a:lnTo>
                    <a:lnTo>
                      <a:pt x="1412" y="255"/>
                    </a:lnTo>
                    <a:lnTo>
                      <a:pt x="1419" y="243"/>
                    </a:lnTo>
                    <a:lnTo>
                      <a:pt x="1445" y="221"/>
                    </a:lnTo>
                    <a:lnTo>
                      <a:pt x="1473" y="217"/>
                    </a:lnTo>
                    <a:lnTo>
                      <a:pt x="1495" y="208"/>
                    </a:lnTo>
                    <a:lnTo>
                      <a:pt x="1509" y="210"/>
                    </a:lnTo>
                    <a:lnTo>
                      <a:pt x="1523" y="209"/>
                    </a:lnTo>
                    <a:lnTo>
                      <a:pt x="1531" y="203"/>
                    </a:lnTo>
                    <a:lnTo>
                      <a:pt x="1518" y="203"/>
                    </a:lnTo>
                    <a:lnTo>
                      <a:pt x="1508" y="201"/>
                    </a:lnTo>
                    <a:lnTo>
                      <a:pt x="1498" y="194"/>
                    </a:lnTo>
                    <a:lnTo>
                      <a:pt x="1490" y="184"/>
                    </a:lnTo>
                    <a:lnTo>
                      <a:pt x="1492" y="156"/>
                    </a:lnTo>
                    <a:lnTo>
                      <a:pt x="1507" y="125"/>
                    </a:lnTo>
                    <a:lnTo>
                      <a:pt x="1526" y="110"/>
                    </a:lnTo>
                    <a:lnTo>
                      <a:pt x="1547" y="99"/>
                    </a:lnTo>
                    <a:lnTo>
                      <a:pt x="1554" y="73"/>
                    </a:lnTo>
                    <a:lnTo>
                      <a:pt x="1520" y="40"/>
                    </a:lnTo>
                    <a:lnTo>
                      <a:pt x="1507" y="7"/>
                    </a:lnTo>
                    <a:lnTo>
                      <a:pt x="1476" y="0"/>
                    </a:lnTo>
                    <a:lnTo>
                      <a:pt x="1459" y="21"/>
                    </a:lnTo>
                    <a:lnTo>
                      <a:pt x="1458" y="74"/>
                    </a:lnTo>
                    <a:lnTo>
                      <a:pt x="1443" y="106"/>
                    </a:lnTo>
                    <a:lnTo>
                      <a:pt x="1388" y="137"/>
                    </a:lnTo>
                    <a:lnTo>
                      <a:pt x="1356" y="133"/>
                    </a:lnTo>
                    <a:lnTo>
                      <a:pt x="1334" y="145"/>
                    </a:lnTo>
                    <a:lnTo>
                      <a:pt x="1330" y="168"/>
                    </a:lnTo>
                    <a:lnTo>
                      <a:pt x="1323" y="197"/>
                    </a:lnTo>
                    <a:lnTo>
                      <a:pt x="1299" y="218"/>
                    </a:lnTo>
                    <a:lnTo>
                      <a:pt x="1252" y="242"/>
                    </a:lnTo>
                    <a:lnTo>
                      <a:pt x="1234" y="256"/>
                    </a:lnTo>
                    <a:lnTo>
                      <a:pt x="1216" y="289"/>
                    </a:lnTo>
                    <a:lnTo>
                      <a:pt x="1194" y="297"/>
                    </a:lnTo>
                    <a:lnTo>
                      <a:pt x="1170" y="315"/>
                    </a:lnTo>
                    <a:lnTo>
                      <a:pt x="1143" y="295"/>
                    </a:lnTo>
                    <a:lnTo>
                      <a:pt x="1162" y="266"/>
                    </a:lnTo>
                    <a:lnTo>
                      <a:pt x="1163" y="243"/>
                    </a:lnTo>
                    <a:lnTo>
                      <a:pt x="1144" y="256"/>
                    </a:lnTo>
                    <a:lnTo>
                      <a:pt x="1122" y="256"/>
                    </a:lnTo>
                    <a:lnTo>
                      <a:pt x="1137" y="231"/>
                    </a:lnTo>
                    <a:lnTo>
                      <a:pt x="1143" y="210"/>
                    </a:lnTo>
                    <a:lnTo>
                      <a:pt x="1120" y="187"/>
                    </a:lnTo>
                    <a:lnTo>
                      <a:pt x="1095" y="186"/>
                    </a:lnTo>
                    <a:lnTo>
                      <a:pt x="1088" y="201"/>
                    </a:lnTo>
                    <a:lnTo>
                      <a:pt x="1074" y="197"/>
                    </a:lnTo>
                    <a:lnTo>
                      <a:pt x="1061" y="215"/>
                    </a:lnTo>
                    <a:lnTo>
                      <a:pt x="1062" y="250"/>
                    </a:lnTo>
                    <a:lnTo>
                      <a:pt x="1069" y="266"/>
                    </a:lnTo>
                    <a:lnTo>
                      <a:pt x="1075" y="289"/>
                    </a:lnTo>
                    <a:lnTo>
                      <a:pt x="1075" y="300"/>
                    </a:lnTo>
                    <a:lnTo>
                      <a:pt x="1072" y="318"/>
                    </a:lnTo>
                    <a:lnTo>
                      <a:pt x="1063" y="325"/>
                    </a:lnTo>
                    <a:lnTo>
                      <a:pt x="1048" y="328"/>
                    </a:lnTo>
                    <a:lnTo>
                      <a:pt x="1037" y="300"/>
                    </a:lnTo>
                    <a:lnTo>
                      <a:pt x="1021" y="276"/>
                    </a:lnTo>
                    <a:lnTo>
                      <a:pt x="1020" y="251"/>
                    </a:lnTo>
                    <a:lnTo>
                      <a:pt x="1028" y="223"/>
                    </a:lnTo>
                    <a:lnTo>
                      <a:pt x="1021" y="197"/>
                    </a:lnTo>
                    <a:lnTo>
                      <a:pt x="1069" y="171"/>
                    </a:lnTo>
                    <a:lnTo>
                      <a:pt x="1089" y="158"/>
                    </a:lnTo>
                    <a:lnTo>
                      <a:pt x="1028" y="165"/>
                    </a:lnTo>
                    <a:lnTo>
                      <a:pt x="990" y="169"/>
                    </a:lnTo>
                    <a:lnTo>
                      <a:pt x="978" y="142"/>
                    </a:lnTo>
                    <a:lnTo>
                      <a:pt x="949" y="162"/>
                    </a:lnTo>
                    <a:lnTo>
                      <a:pt x="960" y="139"/>
                    </a:lnTo>
                    <a:lnTo>
                      <a:pt x="907" y="161"/>
                    </a:lnTo>
                    <a:lnTo>
                      <a:pt x="876" y="148"/>
                    </a:lnTo>
                    <a:lnTo>
                      <a:pt x="879" y="126"/>
                    </a:lnTo>
                    <a:lnTo>
                      <a:pt x="893" y="106"/>
                    </a:lnTo>
                    <a:lnTo>
                      <a:pt x="819" y="79"/>
                    </a:lnTo>
                    <a:lnTo>
                      <a:pt x="571" y="66"/>
                    </a:lnTo>
                    <a:lnTo>
                      <a:pt x="442" y="62"/>
                    </a:lnTo>
                    <a:lnTo>
                      <a:pt x="312" y="43"/>
                    </a:lnTo>
                    <a:lnTo>
                      <a:pt x="152" y="21"/>
                    </a:lnTo>
                    <a:close/>
                  </a:path>
                </a:pathLst>
              </a:custGeom>
              <a:solidFill>
                <a:srgbClr val="ffff0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299840" y="2252880"/>
                <a:ext cx="1348920" cy="1335240"/>
                <a:chOff x="4299840" y="2252880"/>
                <a:chExt cx="1348920" cy="13352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442040" y="2252880"/>
                  <a:ext cx="1206720" cy="1335240"/>
                </a:xfrm>
                <a:custGeom>
                  <a:avLst/>
                  <a:gdLst/>
                  <a:ahLst/>
                  <a:rect l="l" t="t" r="r" b="b"/>
                  <a:pathLst>
                    <a:path w="651" h="716">
                      <a:moveTo>
                        <a:pt x="651" y="186"/>
                      </a:moveTo>
                      <a:lnTo>
                        <a:pt x="447" y="436"/>
                      </a:lnTo>
                      <a:lnTo>
                        <a:pt x="491" y="452"/>
                      </a:lnTo>
                      <a:lnTo>
                        <a:pt x="468" y="482"/>
                      </a:lnTo>
                      <a:lnTo>
                        <a:pt x="505" y="488"/>
                      </a:lnTo>
                      <a:lnTo>
                        <a:pt x="528" y="579"/>
                      </a:lnTo>
                      <a:lnTo>
                        <a:pt x="552" y="670"/>
                      </a:lnTo>
                      <a:lnTo>
                        <a:pt x="528" y="716"/>
                      </a:lnTo>
                      <a:lnTo>
                        <a:pt x="522" y="634"/>
                      </a:lnTo>
                      <a:lnTo>
                        <a:pt x="501" y="605"/>
                      </a:lnTo>
                      <a:lnTo>
                        <a:pt x="491" y="530"/>
                      </a:lnTo>
                      <a:lnTo>
                        <a:pt x="468" y="579"/>
                      </a:lnTo>
                      <a:lnTo>
                        <a:pt x="447" y="517"/>
                      </a:lnTo>
                      <a:lnTo>
                        <a:pt x="437" y="462"/>
                      </a:lnTo>
                      <a:lnTo>
                        <a:pt x="424" y="419"/>
                      </a:lnTo>
                      <a:lnTo>
                        <a:pt x="414" y="413"/>
                      </a:lnTo>
                      <a:lnTo>
                        <a:pt x="370" y="426"/>
                      </a:lnTo>
                      <a:lnTo>
                        <a:pt x="334" y="377"/>
                      </a:lnTo>
                      <a:lnTo>
                        <a:pt x="327" y="406"/>
                      </a:lnTo>
                      <a:lnTo>
                        <a:pt x="300" y="390"/>
                      </a:lnTo>
                      <a:lnTo>
                        <a:pt x="260" y="400"/>
                      </a:lnTo>
                      <a:lnTo>
                        <a:pt x="284" y="364"/>
                      </a:lnTo>
                      <a:lnTo>
                        <a:pt x="327" y="357"/>
                      </a:lnTo>
                      <a:lnTo>
                        <a:pt x="337" y="331"/>
                      </a:lnTo>
                      <a:lnTo>
                        <a:pt x="294" y="325"/>
                      </a:lnTo>
                      <a:lnTo>
                        <a:pt x="267" y="347"/>
                      </a:lnTo>
                      <a:lnTo>
                        <a:pt x="250" y="315"/>
                      </a:lnTo>
                      <a:lnTo>
                        <a:pt x="226" y="334"/>
                      </a:lnTo>
                      <a:lnTo>
                        <a:pt x="219" y="374"/>
                      </a:lnTo>
                      <a:lnTo>
                        <a:pt x="203" y="393"/>
                      </a:lnTo>
                      <a:lnTo>
                        <a:pt x="155" y="387"/>
                      </a:lnTo>
                      <a:lnTo>
                        <a:pt x="105" y="403"/>
                      </a:lnTo>
                      <a:lnTo>
                        <a:pt x="61" y="400"/>
                      </a:lnTo>
                      <a:lnTo>
                        <a:pt x="0" y="370"/>
                      </a:lnTo>
                      <a:lnTo>
                        <a:pt x="11" y="341"/>
                      </a:lnTo>
                      <a:lnTo>
                        <a:pt x="51" y="370"/>
                      </a:lnTo>
                      <a:lnTo>
                        <a:pt x="75" y="367"/>
                      </a:lnTo>
                      <a:lnTo>
                        <a:pt x="105" y="380"/>
                      </a:lnTo>
                      <a:lnTo>
                        <a:pt x="129" y="361"/>
                      </a:lnTo>
                      <a:lnTo>
                        <a:pt x="132" y="344"/>
                      </a:lnTo>
                      <a:lnTo>
                        <a:pt x="162" y="334"/>
                      </a:lnTo>
                      <a:lnTo>
                        <a:pt x="142" y="298"/>
                      </a:lnTo>
                      <a:lnTo>
                        <a:pt x="135" y="281"/>
                      </a:lnTo>
                      <a:lnTo>
                        <a:pt x="108" y="268"/>
                      </a:lnTo>
                      <a:lnTo>
                        <a:pt x="139" y="238"/>
                      </a:lnTo>
                      <a:lnTo>
                        <a:pt x="118" y="212"/>
                      </a:lnTo>
                      <a:lnTo>
                        <a:pt x="135" y="199"/>
                      </a:lnTo>
                      <a:lnTo>
                        <a:pt x="145" y="202"/>
                      </a:lnTo>
                      <a:lnTo>
                        <a:pt x="149" y="170"/>
                      </a:lnTo>
                      <a:lnTo>
                        <a:pt x="152" y="143"/>
                      </a:lnTo>
                      <a:lnTo>
                        <a:pt x="179" y="137"/>
                      </a:lnTo>
                      <a:lnTo>
                        <a:pt x="206" y="137"/>
                      </a:lnTo>
                      <a:lnTo>
                        <a:pt x="223" y="140"/>
                      </a:lnTo>
                      <a:lnTo>
                        <a:pt x="287" y="170"/>
                      </a:lnTo>
                      <a:lnTo>
                        <a:pt x="317" y="137"/>
                      </a:lnTo>
                      <a:lnTo>
                        <a:pt x="257" y="78"/>
                      </a:lnTo>
                      <a:lnTo>
                        <a:pt x="280" y="75"/>
                      </a:lnTo>
                      <a:lnTo>
                        <a:pt x="270" y="43"/>
                      </a:lnTo>
                      <a:lnTo>
                        <a:pt x="290" y="36"/>
                      </a:lnTo>
                      <a:lnTo>
                        <a:pt x="307" y="50"/>
                      </a:lnTo>
                      <a:lnTo>
                        <a:pt x="324" y="50"/>
                      </a:lnTo>
                      <a:lnTo>
                        <a:pt x="327" y="66"/>
                      </a:lnTo>
                      <a:lnTo>
                        <a:pt x="317" y="78"/>
                      </a:lnTo>
                      <a:lnTo>
                        <a:pt x="353" y="114"/>
                      </a:lnTo>
                      <a:lnTo>
                        <a:pt x="377" y="88"/>
                      </a:lnTo>
                      <a:lnTo>
                        <a:pt x="363" y="75"/>
                      </a:lnTo>
                      <a:lnTo>
                        <a:pt x="377" y="40"/>
                      </a:lnTo>
                      <a:lnTo>
                        <a:pt x="377" y="14"/>
                      </a:lnTo>
                      <a:lnTo>
                        <a:pt x="410" y="0"/>
                      </a:lnTo>
                      <a:lnTo>
                        <a:pt x="437" y="7"/>
                      </a:lnTo>
                      <a:lnTo>
                        <a:pt x="441" y="23"/>
                      </a:lnTo>
                      <a:lnTo>
                        <a:pt x="461" y="33"/>
                      </a:lnTo>
                      <a:lnTo>
                        <a:pt x="478" y="23"/>
                      </a:lnTo>
                      <a:lnTo>
                        <a:pt x="498" y="17"/>
                      </a:lnTo>
                      <a:lnTo>
                        <a:pt x="542" y="27"/>
                      </a:lnTo>
                      <a:lnTo>
                        <a:pt x="569" y="40"/>
                      </a:lnTo>
                      <a:lnTo>
                        <a:pt x="565" y="66"/>
                      </a:lnTo>
                      <a:lnTo>
                        <a:pt x="573" y="81"/>
                      </a:lnTo>
                      <a:lnTo>
                        <a:pt x="604" y="81"/>
                      </a:lnTo>
                      <a:lnTo>
                        <a:pt x="607" y="104"/>
                      </a:lnTo>
                      <a:lnTo>
                        <a:pt x="624" y="120"/>
                      </a:lnTo>
                      <a:lnTo>
                        <a:pt x="651" y="18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672080" y="3045600"/>
                  <a:ext cx="83160" cy="5580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1" y="0"/>
                      </a:moveTo>
                      <a:lnTo>
                        <a:pt x="0" y="21"/>
                      </a:lnTo>
                      <a:lnTo>
                        <a:pt x="8" y="30"/>
                      </a:lnTo>
                      <a:lnTo>
                        <a:pt x="24" y="29"/>
                      </a:lnTo>
                      <a:lnTo>
                        <a:pt x="45" y="12"/>
                      </a:lnTo>
                      <a:lnTo>
                        <a:pt x="2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99840" y="2882880"/>
                  <a:ext cx="72000" cy="29880"/>
                </a:xfrm>
                <a:custGeom>
                  <a:avLst/>
                  <a:gdLst/>
                  <a:ahLst/>
                  <a:rect l="l" t="t" r="r" b="b"/>
                  <a:pathLst>
                    <a:path w="39" h="16">
                      <a:moveTo>
                        <a:pt x="3" y="3"/>
                      </a:moveTo>
                      <a:lnTo>
                        <a:pt x="13" y="0"/>
                      </a:lnTo>
                      <a:lnTo>
                        <a:pt x="21" y="0"/>
                      </a:lnTo>
                      <a:lnTo>
                        <a:pt x="30" y="3"/>
                      </a:lnTo>
                      <a:lnTo>
                        <a:pt x="35" y="7"/>
                      </a:lnTo>
                      <a:lnTo>
                        <a:pt x="39" y="12"/>
                      </a:lnTo>
                      <a:lnTo>
                        <a:pt x="34" y="15"/>
                      </a:lnTo>
                      <a:lnTo>
                        <a:pt x="24" y="16"/>
                      </a:lnTo>
                      <a:lnTo>
                        <a:pt x="7" y="14"/>
                      </a:lnTo>
                      <a:lnTo>
                        <a:pt x="0" y="8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566600" y="2597760"/>
                  <a:ext cx="36720" cy="4428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8" y="6"/>
                      </a:moveTo>
                      <a:lnTo>
                        <a:pt x="13" y="4"/>
                      </a:lnTo>
                      <a:lnTo>
                        <a:pt x="9" y="2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9"/>
                      </a:lnTo>
                      <a:lnTo>
                        <a:pt x="2" y="17"/>
                      </a:lnTo>
                      <a:lnTo>
                        <a:pt x="9" y="24"/>
                      </a:lnTo>
                      <a:lnTo>
                        <a:pt x="14" y="24"/>
                      </a:lnTo>
                      <a:lnTo>
                        <a:pt x="19" y="17"/>
                      </a:lnTo>
                      <a:lnTo>
                        <a:pt x="20" y="12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636800" y="2360880"/>
                  <a:ext cx="79560" cy="7056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0" y="0"/>
                      </a:moveTo>
                      <a:lnTo>
                        <a:pt x="11" y="25"/>
                      </a:lnTo>
                      <a:lnTo>
                        <a:pt x="21" y="34"/>
                      </a:lnTo>
                      <a:lnTo>
                        <a:pt x="39" y="38"/>
                      </a:lnTo>
                      <a:lnTo>
                        <a:pt x="43" y="33"/>
                      </a:lnTo>
                      <a:lnTo>
                        <a:pt x="43" y="23"/>
                      </a:lnTo>
                      <a:lnTo>
                        <a:pt x="3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 rot="21060000">
              <a:off x="4429440" y="4457880"/>
              <a:ext cx="914040" cy="609840"/>
            </a:xfrm>
            <a:prstGeom prst="leftArrow">
              <a:avLst>
                <a:gd name="adj1" fmla="val 50000"/>
                <a:gd name="adj2" fmla="val 74934"/>
              </a:avLst>
            </a:prstGeom>
            <a:solidFill>
              <a:srgbClr val="a7d7fb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02880" y="3842640"/>
              <a:ext cx="874800" cy="137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42960" y="2895480"/>
            <a:ext cx="365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 a result of the undamped oscillations, the system split into four large islands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7.5 million customer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xperienced outages ranging from a few minutes to nine hours!  Total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oad loss 30,500 MW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SCC August 10, 1996 Disturba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8" name="PK%20-%20WSCC%20Disturbance" descr=""/>
          <p:cNvPicPr/>
          <p:nvPr/>
        </p:nvPicPr>
        <p:blipFill>
          <a:blip r:embed="rId1"/>
          <a:stretch/>
        </p:blipFill>
        <p:spPr>
          <a:xfrm>
            <a:off x="4048200" y="1370160"/>
            <a:ext cx="46990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TMSP was Used to Replicate Disturbance in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ime Domai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0" name="PK%20-%20Measured%20Response" descr=""/>
          <p:cNvPicPr/>
          <p:nvPr/>
        </p:nvPicPr>
        <p:blipFill>
          <a:blip r:embed="rId1"/>
          <a:stretch/>
        </p:blipFill>
        <p:spPr>
          <a:xfrm>
            <a:off x="901800" y="1965240"/>
            <a:ext cx="3814560" cy="43894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5162400" y="2724120"/>
            <a:ext cx="36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D RESPONS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2400" y="4876920"/>
            <a:ext cx="36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ULATED RESPONS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ites Selected for PSS Modifica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581120" y="1362240"/>
            <a:ext cx="6164280" cy="5229000"/>
            <a:chOff x="1581120" y="1362240"/>
            <a:chExt cx="6164280" cy="5229000"/>
          </a:xfrm>
        </p:grpSpPr>
        <p:sp>
          <p:nvSpPr>
            <p:cNvPr id="225" name=""/>
            <p:cNvSpPr/>
            <p:nvPr/>
          </p:nvSpPr>
          <p:spPr>
            <a:xfrm>
              <a:off x="1581120" y="1733400"/>
              <a:ext cx="5810400" cy="4857840"/>
            </a:xfrm>
            <a:prstGeom prst="rect">
              <a:avLst/>
            </a:prstGeom>
            <a:noFill/>
            <a:ln w="381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226" name="PSS%20Modifications" descr=""/>
            <p:cNvPicPr/>
            <p:nvPr/>
          </p:nvPicPr>
          <p:blipFill>
            <a:blip r:embed="rId1"/>
            <a:stretch/>
          </p:blipFill>
          <p:spPr>
            <a:xfrm>
              <a:off x="1847880" y="1362240"/>
              <a:ext cx="5897520" cy="47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/>
          <p:cNvSpPr/>
          <p:nvPr/>
        </p:nvSpPr>
        <p:spPr>
          <a:xfrm>
            <a:off x="2476440" y="5543640"/>
            <a:ext cx="21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an Onofre</a:t>
            </a:r>
            <a:br>
              <a:rPr sz="2000"/>
            </a:b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(Addition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889600"/>
            <a:ext cx="21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lo Verde</a:t>
            </a:r>
            <a:br>
              <a:rPr sz="2000"/>
            </a:b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(Tune existing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wer System Stabilizer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0" name="PK%20-%20with%20existing%20controls" descr=""/>
          <p:cNvPicPr/>
          <p:nvPr/>
        </p:nvPicPr>
        <p:blipFill>
          <a:blip r:embed="rId1"/>
          <a:stretch/>
        </p:blipFill>
        <p:spPr>
          <a:xfrm>
            <a:off x="992160" y="2206800"/>
            <a:ext cx="3533760" cy="42163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4896000" y="2800440"/>
            <a:ext cx="396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existing control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value = 0.0597 + j 1.771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= 0.2818 Hz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mping = -0.0337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PSS modification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value = -0.0717 + j 1.673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= 0.2664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mping = -0.0429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692440" y="2325600"/>
            <a:ext cx="44258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ch 11, 1999 Brazil Blackou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rch 11, 1999 Brazil Blackou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2200" y="1940040"/>
            <a:ext cx="85917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14"/>
              </a:spcBef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ime: 22:16:00h, System Load: 34,200 MW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414"/>
              </a:spcBef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escription of the event: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L-G fault at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Bauru Substation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s a result of lightning causing a bus insulator flashover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bus arrangement at Bauru such that the fault is cleared by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opening five 440 kV lin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power system survived the initial event, but resulted in instability when a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short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heavily loaded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440 kV line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was tripped by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zone 3 rela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cascading outage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of several power plants in Sao Paulo area, followed by loss of HVDC and 750 kV AC links from Itaipu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complete system break up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: 24,700 MW load loss; several islands remained in operation with a total load of about 10,000 MW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hallenges to Secure Operation of Today's Power System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3280" y="235548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ower Systems are large complex systems covering vast area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ational/continental grid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ighly nonlinear, high order system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0">
              <a:spcBef>
                <a:spcPts val="964"/>
              </a:spcBef>
              <a:spcAft>
                <a:spcPts val="41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any processes whose operations need to be coordinat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illions of devices requiring harmonious interplay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rch 11, 1999 Brazil Blackou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7680" y="1942920"/>
            <a:ext cx="889632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75"/>
              </a:spcBef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easures to improve system security: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275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Joint Working Group comprising ELECTROBRAS, CEPEL and ONS staff form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2" marL="1314360" indent="-228600">
              <a:spcBef>
                <a:spcPts val="275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rganized activities into 8 Task Forc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275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our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international expert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s advisor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275"/>
              </a:spcBef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medial Actions: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275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ower system divided into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5 security zone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: regions with major generation and transmission system; emergency controls added for enhancing st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275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mproved layout and protection of  major EHV substations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275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mproved maintenance of substation equipment and protection/control equipmen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275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mproved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restoration plan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44800" y="2325600"/>
            <a:ext cx="5340240" cy="1168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 Narrow"/>
              </a:rPr>
              <a:t>What Can We Do To Prevent Blackouts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ethods of Enhancing Secur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0280" y="2050920"/>
            <a:ext cx="8177400" cy="42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mpractical to achieve complete immunity to blackout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eed to strike a balance between economy and secur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ood design and operating practices could significantly minimize the occurrence and impact of widespread outag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liability criteri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n-line security assessmen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obust stability contro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ordinated emergency contro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al-time system system monitoring and contro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Wide-spread use of distributed generation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eliability Criteri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5600" y="2088720"/>
            <a:ext cx="82152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t present, systems designed and operated to withstan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loss of any single element preceded by single-, double-, or three-phase faul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ferred to as "</a:t>
            </a:r>
            <a:r>
              <a:rPr b="0" i="1" lang="en-US" sz="2200" spc="-1" strike="noStrike">
                <a:solidFill>
                  <a:srgbClr val="ffffd1"/>
                </a:solidFill>
                <a:latin typeface="Arial Narrow"/>
              </a:rPr>
              <a:t>N-1 criterion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"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eed for using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risk-based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security assessmen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nsider multiple outag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ccount for probability and consequences of instability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566640" y="5213520"/>
            <a:ext cx="82155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312"/>
              </a:spcBef>
              <a:spcAft>
                <a:spcPts val="62"/>
              </a:spcAft>
              <a:buSzPct val="1181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11"/>
              </a:spcBef>
              <a:spcAft>
                <a:spcPts val="139"/>
              </a:spcAft>
              <a:buSzPct val="1183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00"/>
                </a:solidFill>
                <a:latin typeface="Arial Narrow"/>
              </a:rPr>
              <a:t>Built-in overall strength or robustness best defense against catastrophic failures!</a:t>
            </a:r>
            <a:endParaRPr b="0" lang="en-US" sz="23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nhancement of Stability: Control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6720" y="2114280"/>
            <a:ext cx="81914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550"/>
              </a:spcBef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reater use of  on stability contro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45280" indent="-347760">
              <a:spcBef>
                <a:spcPts val="550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excitation control (PSS), FACTS, HVDC, secondary voltage contro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45280" indent="-347760">
              <a:spcBef>
                <a:spcPts val="550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ulti-purpose controls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97440" indent="-397440">
              <a:spcBef>
                <a:spcPts val="550"/>
              </a:spcBef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ordination, integration and robustness present challeng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45280" indent="-347760">
              <a:spcBef>
                <a:spcPts val="550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ood control design procedures and tools have evolved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97440" indent="-397440">
              <a:spcBef>
                <a:spcPts val="550"/>
              </a:spcBef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ardware design should provid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45280" indent="-347760">
              <a:spcBef>
                <a:spcPts val="550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igh degree of functional reli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45280" indent="-347760">
              <a:spcBef>
                <a:spcPts val="550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lexibility for maintenance and testing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97440" indent="-397440">
              <a:spcBef>
                <a:spcPts val="550"/>
              </a:spcBef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 Narrow"/>
              </a:rPr>
              <a:t>Industry should make better use of controls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!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evelopment of a Good "Defense Plan" against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xtreme Contingenci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9840" y="1955520"/>
            <a:ext cx="863748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-37476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Judicious choice of emergency contro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796680" indent="-327960">
              <a:spcBef>
                <a:spcPts val="550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otection against multiple outag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796680" indent="-327960">
              <a:spcBef>
                <a:spcPts val="550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dentification of scenarios based on past experience, knowledge of unique characteristics of system, probabilistic approach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74760" indent="-37476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ordination of different emergency control schem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796680" indent="-327960">
              <a:spcBef>
                <a:spcPts val="550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mplement each other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796680" indent="-327960">
              <a:spcBef>
                <a:spcPts val="550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ct properly in complex situations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74760" indent="-374760">
              <a:spcBef>
                <a:spcPts val="550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sponse-based emergency controls should generally be preferr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796680" indent="-327960">
              <a:spcBef>
                <a:spcPts val="550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"</a:t>
            </a:r>
            <a:r>
              <a:rPr b="1" lang="en-US" sz="2200" spc="-1" strike="noStrike">
                <a:solidFill>
                  <a:srgbClr val="00ff00"/>
                </a:solidFill>
                <a:latin typeface="Arial Narrow"/>
              </a:rPr>
              <a:t>self-healing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" power systems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74760" indent="-374760">
              <a:spcBef>
                <a:spcPts val="575"/>
              </a:spcBef>
              <a:spcAft>
                <a:spcPts val="139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00"/>
                </a:solidFill>
                <a:latin typeface="Arial Narrow"/>
              </a:rPr>
              <a:t>Need for advancing this technology!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tate-of-the-Art On-Line Dynamic Security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ssessment (DSA)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3400" y="1955880"/>
            <a:ext cx="82756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actical tools with the required accuracy, speed and robustnes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 variety of analytical techniques integrat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istributed hardware architecture using low cost PC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ntegrated with energy management system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apable of assessing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rotor angle stabil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nd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voltage st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etermine critical contingencies automaticall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ecurity limits/margins for all desired energy transaction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dentify remedial measur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711"/>
              </a:spcBef>
              <a:spcAft>
                <a:spcPts val="139"/>
              </a:spcAft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00"/>
                </a:solidFill>
                <a:latin typeface="Arial Narrow"/>
              </a:rPr>
              <a:t>The industry has yet to take full advantage of these developments!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nagement of System Reliabil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3280" y="212688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76"/>
              </a:spcBef>
              <a:spcAft>
                <a:spcPts val="499"/>
              </a:spcAft>
              <a:buSzPct val="1301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d1"/>
                </a:solidFill>
                <a:latin typeface="Arial Narrow"/>
              </a:rPr>
              <a:t>Roles and responsibilities of individual entities</a:t>
            </a:r>
            <a:endParaRPr b="0" lang="en-US" sz="20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876"/>
              </a:spcBef>
              <a:spcAft>
                <a:spcPts val="49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d1"/>
                </a:solidFill>
                <a:latin typeface="Arial Narrow"/>
              </a:rPr>
              <a:t>well chosen, clearly defined and properly enforced</a:t>
            </a:r>
            <a:endParaRPr b="0" lang="en-US" sz="20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876"/>
              </a:spcBef>
              <a:spcAft>
                <a:spcPts val="499"/>
              </a:spcAft>
              <a:buSzPct val="1301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d1"/>
                </a:solidFill>
                <a:latin typeface="Arial Narrow"/>
              </a:rPr>
              <a:t>Coordination of reliability management</a:t>
            </a:r>
            <a:endParaRPr b="0" lang="en-US" sz="20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13"/>
              </a:spcBef>
              <a:spcAft>
                <a:spcPts val="524"/>
              </a:spcAft>
              <a:buSzPct val="1239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cc00"/>
                </a:solidFill>
                <a:latin typeface="Arial Narrow"/>
              </a:rPr>
              <a:t>Need for a single entity with overall responsibility for security of entire interconnected system</a:t>
            </a:r>
            <a:endParaRPr b="0" lang="en-US" sz="21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876"/>
              </a:spcBef>
              <a:spcAft>
                <a:spcPts val="49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d1"/>
                </a:solidFill>
                <a:latin typeface="Arial Narrow"/>
              </a:rPr>
              <a:t>real-time decisions</a:t>
            </a:r>
            <a:endParaRPr b="0" lang="en-US" sz="20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13"/>
              </a:spcBef>
              <a:spcAft>
                <a:spcPts val="524"/>
              </a:spcAft>
              <a:buSzPct val="1239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cc00"/>
                </a:solidFill>
                <a:latin typeface="Arial Narrow"/>
              </a:rPr>
              <a:t>System operators with high level of expertise in system stability</a:t>
            </a:r>
            <a:endParaRPr b="0" lang="en-US" sz="21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876"/>
              </a:spcBef>
              <a:spcAft>
                <a:spcPts val="49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d1"/>
                </a:solidFill>
                <a:latin typeface="Arial Narrow"/>
              </a:rPr>
              <a:t>phenomena, tools</a:t>
            </a:r>
            <a:endParaRPr b="0" lang="en-US" sz="20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0">
              <a:spcBef>
                <a:spcPts val="876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Future Trends in DSA: Intelligent System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3880" y="2184480"/>
            <a:ext cx="848232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964"/>
              </a:spcBef>
              <a:spcAft>
                <a:spcPts val="825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Knowledge base created using simulation of a large number cases and system measurement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964"/>
              </a:spcBef>
              <a:spcAft>
                <a:spcPts val="825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Automatic learning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,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data mining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, and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decision tree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to build intelligent system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1001"/>
              </a:spcBef>
              <a:spcAft>
                <a:spcPts val="862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ast analysis using a broad knowledge base and </a:t>
            </a:r>
            <a:r>
              <a:rPr b="1" lang="en-US" sz="2300" spc="-1" strike="noStrike">
                <a:solidFill>
                  <a:srgbClr val="00cc00"/>
                </a:solidFill>
                <a:latin typeface="Arial Narrow"/>
              </a:rPr>
              <a:t>automatic decision making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964"/>
              </a:spcBef>
              <a:spcAft>
                <a:spcPts val="825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ovides new </a:t>
            </a:r>
            <a:r>
              <a:rPr b="1" lang="en-US" sz="2300" spc="-1" strike="noStrike">
                <a:solidFill>
                  <a:srgbClr val="00cc00"/>
                </a:solidFill>
                <a:latin typeface="Arial Narrow"/>
              </a:rPr>
              <a:t>insight into factors and system parameter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ffecting st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964"/>
              </a:spcBef>
              <a:spcAft>
                <a:spcPts val="825"/>
              </a:spcAft>
              <a:buSzPct val="1183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ore effective in dealing with uncertainties and large dimensioned problem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3160" indent="-443160">
              <a:spcBef>
                <a:spcPts val="964"/>
              </a:spcBef>
              <a:spcAft>
                <a:spcPts val="825"/>
              </a:spcAft>
              <a:buSzPct val="1183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We just completed a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PRECARN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projec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SA Using Intelligent System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4" name="DSA%20Using%20Intelligent%20Systems" descr=""/>
          <p:cNvPicPr/>
          <p:nvPr/>
        </p:nvPicPr>
        <p:blipFill>
          <a:blip r:embed="rId1"/>
          <a:stretch/>
        </p:blipFill>
        <p:spPr>
          <a:xfrm>
            <a:off x="1324080" y="1932120"/>
            <a:ext cx="6637320" cy="47797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hallenges to Secure Operation of Today's Power System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mplex modes of inst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lobal problem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ifferent forms of instability:</a:t>
            </a:r>
            <a:r>
              <a:rPr b="0" i="1" lang="en-US" sz="2200" spc="-1" strike="noStrike">
                <a:solidFill>
                  <a:srgbClr val="ffffd1"/>
                </a:solidFill>
                <a:latin typeface="Arial Narrow"/>
              </a:rPr>
              <a:t> rotor angle, voltage, frequency</a:t>
            </a:r>
            <a:br>
              <a:rPr sz="2200"/>
            </a:br>
            <a:r>
              <a:rPr b="0" i="1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"Deregulated" market environmen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any entities with diverse business interest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ystem expansion and operation driven largely by economic drivers; lack of coordinated planning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eal-Time Monitoring and Control: 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An Emerging Technolog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2120" y="2012760"/>
            <a:ext cx="8272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89"/>
              </a:spcBef>
              <a:spcAft>
                <a:spcPts val="414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dvances in communications technology have made it possible to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689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monitor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power systems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over a wide are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689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motely control many function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7840" indent="-447840">
              <a:spcBef>
                <a:spcPts val="689"/>
              </a:spcBef>
              <a:spcAft>
                <a:spcPts val="414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search on use of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multisensor data fusion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technolog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689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ocess data from different monitors, integrate and process information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689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dentify phenomenon associated with impending emergenc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689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ake intelligent control decision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7840" indent="-447840">
              <a:spcBef>
                <a:spcPts val="689"/>
              </a:spcBef>
              <a:spcAft>
                <a:spcPts val="414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 fast and effective way to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predict onset of emergency condition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nd take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remedial action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istributed Generation (DG)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2480" y="2241360"/>
            <a:ext cx="815832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ffer significant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economic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,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environmental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nd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secur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benefits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G becoming increasingly cost competitive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icroturbin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mall, high speed power plant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perate on natural gas, future units may use diesel or gas from landfil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istributed Generation (DG)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Fuel Cel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23040" indent="-37980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mbine hydrogen with oxygen from air to generate electric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23040" indent="-37980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hydrogen may be supplied from an external source or generated inside fuel by reforming a hydrocarbon fue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23040" indent="-37980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high efficienc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,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non-combustion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,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non-mechanical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process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34160" indent="-43416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Particularly attractive in Ontario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23040" indent="-37980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enerate hydrogen during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light load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using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nuclear generation</a:t>
            </a:r>
            <a:br>
              <a:rPr sz="2200"/>
            </a:b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34160" indent="-434160">
              <a:spcBef>
                <a:spcPts val="425"/>
              </a:spcBef>
              <a:spcAft>
                <a:spcPts val="139"/>
              </a:spcAft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cc00"/>
                </a:solidFill>
                <a:latin typeface="Arial Narrow"/>
              </a:rPr>
              <a:t>Not vulnerable to power grid failure due to system instability or natural calamities!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25600" y="2069640"/>
            <a:ext cx="83865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72600" indent="-372600">
              <a:spcBef>
                <a:spcPts val="414"/>
              </a:spcBef>
              <a:spcAft>
                <a:spcPts val="275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new electricity supply industry presents increasing challenges for stable and secure operation of power system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72600" indent="-372600">
              <a:spcBef>
                <a:spcPts val="414"/>
              </a:spcBef>
              <a:spcAft>
                <a:spcPts val="275"/>
              </a:spcAft>
              <a:buClr>
                <a:srgbClr val="ff9900"/>
              </a:buClr>
              <a:buSzPct val="11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State-of-the-art methods and tool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have advanced our capabilities significantly facing the challeng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81640" indent="-372600">
              <a:spcBef>
                <a:spcPts val="414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mprehensive stability analysis too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81640" indent="-372600">
              <a:spcBef>
                <a:spcPts val="414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oordinated design of robust stability contro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81640" indent="-372600">
              <a:spcBef>
                <a:spcPts val="414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n-line dynamic security assessmen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372600" indent="0">
              <a:spcBef>
                <a:spcPts val="425"/>
              </a:spcBef>
              <a:spcAft>
                <a:spcPts val="28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 Narrow"/>
              </a:rPr>
              <a:t>Industry yet to take full advantage of these developments!</a:t>
            </a:r>
            <a:endParaRPr b="0" lang="en-US" sz="2300" spc="-1" strike="noStrike">
              <a:solidFill>
                <a:srgbClr val="ffffd1"/>
              </a:solidFill>
              <a:latin typeface="Arial Narrow"/>
            </a:endParaRPr>
          </a:p>
          <a:p>
            <a:pPr marL="372600" indent="-372600">
              <a:spcBef>
                <a:spcPts val="414"/>
              </a:spcBef>
              <a:spcAft>
                <a:spcPts val="275"/>
              </a:spcAft>
              <a:buClr>
                <a:srgbClr val="ff9900"/>
              </a:buClr>
              <a:buSzPct val="11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eed to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review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nd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improv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81640" indent="-372600">
              <a:spcBef>
                <a:spcPts val="414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reliability criteri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81640" indent="-372600">
              <a:spcBef>
                <a:spcPts val="414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process for managing "global" system reli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ummary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73280" y="2184120"/>
            <a:ext cx="7929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1100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Emerging technologie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which can better deal with growing uncertainties and increasing complexities of the problem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76240" indent="-304560">
              <a:spcBef>
                <a:spcPts val="1100"/>
              </a:spcBef>
              <a:spcAft>
                <a:spcPts val="550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ntelligent Systems for DS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76240" indent="-304560">
              <a:spcBef>
                <a:spcPts val="1100"/>
              </a:spcBef>
              <a:spcAft>
                <a:spcPts val="550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Real-time monitoring and contro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876240" indent="-304560">
              <a:spcBef>
                <a:spcPts val="1100"/>
              </a:spcBef>
              <a:spcAft>
                <a:spcPts val="550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"Self-healing" power system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19040" indent="-419040">
              <a:spcBef>
                <a:spcPts val="1100"/>
              </a:spcBef>
              <a:spcAft>
                <a:spcPts val="550"/>
              </a:spcAft>
              <a:buClr>
                <a:srgbClr val="ff9900"/>
              </a:buClr>
              <a:buSzPct val="115000"/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Wide-spread use of </a:t>
            </a:r>
            <a:r>
              <a:rPr b="1" lang="en-US" sz="2300" spc="-1" strike="noStrike">
                <a:solidFill>
                  <a:srgbClr val="00cc00"/>
                </a:solidFill>
                <a:latin typeface="Arial Narrow"/>
              </a:rPr>
              <a:t>distributed generation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is a cost effective, environmentally friendly means of minimizing the impact of power grid failur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Vulnerability of B.C. Power System to Blackou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7080" y="1974600"/>
            <a:ext cx="842796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14"/>
              </a:spcBef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ransmission is not very mesh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ower transmitted from large sources of hydroelectric generation over 500 kV lin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414"/>
              </a:spcBef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ost of the power generation is from hydroelectric plant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imple and rugg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an be restored quickl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414"/>
              </a:spcBef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ood set of emergency contro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eneration and load tripping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414"/>
              </a:spcBef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braking resistor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414"/>
              </a:spcBef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isturbances in western interconnected system result in  separation into island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414"/>
              </a:spcBef>
              <a:buSzPct val="1183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Less vulnerable to complete blackout !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92440" y="2325600"/>
            <a:ext cx="442584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erminolog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wer System Secur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31840"/>
            <a:ext cx="82915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d1"/>
                </a:solidFill>
                <a:latin typeface="Arial Narrow"/>
              </a:rPr>
              <a:t>Secur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: the degree of risk in the ability to survive imminent disturbances (contingencies) without interruption of customer servic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epends on the operating condition and the contingent probability of a disturbanc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o be secure, the power system must: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be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stable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following a contingency, an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61920" indent="-39564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ettle to operating conditions such that no physical constraints are violate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2520" indent="-45252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power system must also be secure against contingencies that would not be classified as stability problems, e.g. damage to equipment such as failure of a cabl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wer System Security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'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87040" y="2355480"/>
            <a:ext cx="79297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Stabil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: the continuance of intact operation of the power system following a disturbance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Reliabil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: the probability of satisfactory operation over the long run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denotes the ability to supply adequate electric service on a nearly continuous basis, with few interruptions over an extended period</a:t>
            </a:r>
            <a:br>
              <a:rPr sz="2200"/>
            </a:b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Stabil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nd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secur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re time-varying attributes;</a:t>
            </a:r>
            <a:br>
              <a:rPr sz="2200"/>
            </a:b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Reliabilit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is a function of time-average performanc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raditional Approach to Power System Stabilit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107800"/>
            <a:ext cx="83865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November ,9 1965 blackout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of Northeast US and Canada had a profound effect on consideration of stability in system design and operation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focus, however, has been largely limited to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transient (angle) st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changing characteristics of power systems requires careful consideration of other aspects of st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Interarea oscillations; voltage stability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ystem designed/operated to withstand loss of a single elemen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perating limits based on off-line studi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cenarios based on judgment and experienc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96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8800" y="2431800"/>
            <a:ext cx="772164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ovember 9, 1965 Blackout of Northeast US and Ontario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9360" y="637920"/>
            <a:ext cx="9232560" cy="125244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vember 9, 1965 - Blackout of Northeast US and Ontario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2136240"/>
            <a:ext cx="767088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89"/>
              </a:spcBef>
              <a:spcAft>
                <a:spcPts val="275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Clear day with mild weather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38840" indent="-438840">
              <a:spcBef>
                <a:spcPts val="689"/>
              </a:spcBef>
              <a:spcAft>
                <a:spcPts val="275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Load levels in the regional normal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38840" indent="-438840">
              <a:spcBef>
                <a:spcPts val="689"/>
              </a:spcBef>
              <a:spcAft>
                <a:spcPts val="275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oblem began at 5:16 p.m.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38840" indent="-438840">
              <a:spcBef>
                <a:spcPts val="689"/>
              </a:spcBef>
              <a:spcAft>
                <a:spcPts val="275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Within a few minutes, there was a complete shut down of electric service to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32760" indent="-383760">
              <a:spcBef>
                <a:spcPts val="689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virtually all of the states of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New York, Connecticut, Rhode Island, Massachusetts, Vermont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32760" indent="-383760">
              <a:spcBef>
                <a:spcPts val="689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arts of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New Hampshire, New Jersey and Pennsylvania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32760" indent="-383760">
              <a:spcBef>
                <a:spcPts val="689"/>
              </a:spcBef>
              <a:spcAft>
                <a:spcPts val="275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most of </a:t>
            </a:r>
            <a:r>
              <a:rPr b="1" lang="en-US" sz="2200" spc="-1" strike="noStrike">
                <a:solidFill>
                  <a:srgbClr val="ffffd1"/>
                </a:solidFill>
                <a:latin typeface="Arial Narrow"/>
              </a:rPr>
              <a:t>Ontario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38840" indent="-438840">
              <a:spcBef>
                <a:spcPts val="689"/>
              </a:spcBef>
              <a:spcAft>
                <a:spcPts val="275"/>
              </a:spcAft>
              <a:buSzPct val="1183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early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30 million people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were without power for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about 13 hour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38840" indent="0">
              <a:spcBef>
                <a:spcPts val="689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vents that Caused the 1965 Blackou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960" y="2117880"/>
            <a:ext cx="805176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initial event was the operation of a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backup relay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t Beck GS in Ontario near Niagara Fall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pened circuit Q29BD,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one of five 230 kV circuits connecting </a:t>
            </a:r>
            <a:br>
              <a:rPr sz="2200"/>
            </a:b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Beck GS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to load centers in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Toronto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 and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Hamilton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rior to opening of Q29BD, the five circuits were carrying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1200 MW of Beck generation, and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71640" indent="-399960">
              <a:spcBef>
                <a:spcPts val="689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500 MW import from Western NY State on Niagara ti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Net import from NY 300 MW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-457200">
              <a:spcBef>
                <a:spcPts val="689"/>
              </a:spcBef>
              <a:spcAft>
                <a:spcPts val="139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Loading on Q29BD was 361 MW at 248 kV;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0">
              <a:spcBef>
                <a:spcPts val="68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he relay setting corresponded to 375 MW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57200" indent="0">
              <a:spcBef>
                <a:spcPts val="68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2960" y="504720"/>
            <a:ext cx="9232920" cy="1247760"/>
          </a:xfrm>
          <a:prstGeom prst="rect">
            <a:avLst/>
          </a:prstGeom>
          <a:gradFill rotWithShape="0">
            <a:gsLst>
              <a:gs pos="0">
                <a:srgbClr val="bb8b03"/>
              </a:gs>
              <a:gs pos="50000">
                <a:srgbClr val="ffff66"/>
              </a:gs>
              <a:gs pos="100000">
                <a:srgbClr val="bb8b0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Events that Caused the 1965 Blackou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cont’d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3360" y="1945800"/>
            <a:ext cx="84711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Opening of Q29BD resulted in sequential tripping of the remaining four parallel circuit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7840" indent="-44784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ower flow reversed to New York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otal change of 1700 MW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7840" indent="-44784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Power surge back to Ontario via St. Lawrence ti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ties tripped by protective relaying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7840" indent="-44784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Generators in Western New York and Beck GS lost synchronism, followed by </a:t>
            </a:r>
            <a:r>
              <a:rPr b="0" lang="en-US" sz="2200" spc="-1" strike="noStrike" u="sng">
                <a:solidFill>
                  <a:srgbClr val="ffffd1"/>
                </a:solidFill>
                <a:uFillTx/>
                <a:latin typeface="Arial Narrow"/>
              </a:rPr>
              <a:t>cascading outage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7840" indent="-447840">
              <a:spcBef>
                <a:spcPts val="414"/>
              </a:spcBef>
              <a:spcAft>
                <a:spcPts val="139"/>
              </a:spcAft>
              <a:buSzPct val="1183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After about 7 seconds from the initial disturbanc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system split into several separate islands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lvl="1" marL="952200" indent="-391680">
              <a:spcBef>
                <a:spcPts val="414"/>
              </a:spcBef>
              <a:spcAft>
                <a:spcPts val="139"/>
              </a:spcAft>
              <a:buClr>
                <a:srgbClr val="ffcc66"/>
              </a:buClr>
              <a:buFont typeface="Wingdings 2" charset="2"/>
              <a:buChar char="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1"/>
                </a:solidFill>
                <a:latin typeface="Arial Narrow"/>
              </a:rPr>
              <a:t>eventually most generation and load lost; inability of islanded systems to stabilize</a:t>
            </a: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  <a:p>
            <a:pPr marL="447840" indent="0">
              <a:spcBef>
                <a:spcPts val="414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d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28:10Z</dcterms:created>
  <dc:creator>Ddavis</dc:creator>
  <dc:description/>
  <dc:language>en-US</dc:language>
  <cp:lastModifiedBy>Prabha Kundur</cp:lastModifiedBy>
  <dcterms:modified xsi:type="dcterms:W3CDTF">2003-09-29T23:15:33Z</dcterms:modified>
  <cp:revision>33</cp:revision>
  <dc:subject/>
  <dc:title>Power System Stability Assessment and Control Requirements in the New Industry Environment: Challenges and Solutions</dc:title>
</cp:coreProperties>
</file>