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028-0ABA-4CEE-9286-BA64EEE4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30A-F8B4-40BB-A28A-49B8DD04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870-0957-4C90-A8B9-6CC1F457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CCC-995E-40AB-9716-F2008567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3FB-59BC-441A-88BB-9E74C29C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FDE-0194-4C3D-9A33-E02500BF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034-10F1-4910-922A-8115447E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C07-E7E5-4780-BDAC-D183643E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8DA-5390-4964-8D76-F2F5333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12E-5E01-432A-AEF0-9ADC2E9E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228-1F09-4601-9B5D-0A5F372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1F1-E04B-4DE9-A22D-92912F3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A333-EDC3-4DFE-968C-BE57AC081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D For Nois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ontains built-in models for passive elements, semiconductor devices …etc.  by including control lines in an input file, SPICE can be made to perform various analyses of a circuit including noise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analysis is performed in SPICE by using .NOISE statement in the input control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alculates shot noise and thermal noise for the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lifier Nois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deling purposes it is advantageous to lump all the noise produced by an amplifier or other functional block into 2 noise sour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sh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several ways to implement this type of an amplifier model in SPICE.  The easiest way is to use 2 resistors as noise sources and reflect their noises to the appropriate nodes using dependent voltage and current 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odes can also be used as sources of shot noise and flicker noise and reflect their noises to the appropriated nodes in the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stor Model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alculates the thermal noise current in a resistor according 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              and 10               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reate 2 thermal noise current standards of 1                  by using 2 resistors of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eparate sources are necessary since it is normally assumed tha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plifier noise sources are uncorre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ty does not matter for any of the sources because noise is a squared quantity. The multipliers needed for the H and F sources are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ICE codes are:  RNE 100 0 16.5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SEN 100 0 DC 0; HEN 1 3 VESEN 3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I 200 0 16.56 k;  VISEN 200 0 DC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2  3  VISEN 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838080"/>
                <a:ext cx="12193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24080" y="1676520"/>
                <a:ext cx="990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952880" y="1676520"/>
                <a:ext cx="990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2057400"/>
                <a:ext cx="8384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71800" y="2514600"/>
                <a:ext cx="35053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3000" y="4343400"/>
                <a:ext cx="4267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V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z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desire to include the amplifier’s input impedance into our noise model, an extra noise will be unintentionally introduced through the resistive component of the input impe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/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CE calculates the noise current in a diode accord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ise of 20 nV/H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 noise corner frequenc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00 Hz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ise of 0.5 pA/H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a noise corner frequenc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0 Hz in each di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c diode current is calculated according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he flicker noise term is set equal to the 1-pA/H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 noise current a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equencies.  For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with AF =1, KF is calculated by equating the two right-hand terms.  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 KF fo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43000" y="2133720"/>
                <a:ext cx="2438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sup>
                        </m:s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867280" y="3657600"/>
                <a:ext cx="3048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43000" y="5181480"/>
                <a:ext cx="3048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F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352680" y="5562720"/>
                <a:ext cx="14479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01:49:44Z</dcterms:created>
  <dc:creator>Dr. Charles Surya</dc:creator>
  <dc:description/>
  <dc:language>en-US</dc:language>
  <cp:lastModifiedBy>Acer User</cp:lastModifiedBy>
  <dcterms:modified xsi:type="dcterms:W3CDTF">1999-03-01T03:07:00Z</dcterms:modified>
  <cp:revision>34</cp:revision>
  <dc:subject/>
  <dc:title>Integrated Circuits Design for Applications in Communications</dc:title>
</cp:coreProperties>
</file>