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9188-3BE2-490C-BD8F-233B1A324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080A-5866-4DE2-A564-BF21BC1C1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4B46-2417-4D9E-8674-74F61BE4C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F953-F4DC-4F39-A2D5-9606B649D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1E07-6079-4459-BC99-FEE7CFF50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400E-F9EA-4339-8544-63C5ACCA0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BAD6-17A0-4303-85CF-AEB791DEE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5980-C1A5-44B0-BA13-16A3C24B9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C0B5-4A01-4D29-A279-84D00445C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8DA8-DD4E-483E-B7F7-E8CB4845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0628-B1AF-4A07-A0B8-1F218DA4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B3BF-95CD-4212-A6D4-B63EBCAC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B6B72-58D7-4337-8FB8-8D40C93DD805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Chapter 2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Small-Signal Amplifier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st amplifiers in communication circuits are small signal amplifiers.  Hence, they can be described by linear equations.  We will consider several amplifiers including BJT, FET, operational amplifiers and differential amplifi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2895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ipolar Transistor Amplif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32767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quivalent circuit of the BJT is shown be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F2-1" descr=""/>
          <p:cNvPicPr/>
          <p:nvPr/>
        </p:nvPicPr>
        <p:blipFill>
          <a:blip r:embed="rId1"/>
          <a:stretch/>
        </p:blipFill>
        <p:spPr>
          <a:xfrm>
            <a:off x="2133720" y="3657600"/>
            <a:ext cx="4952880" cy="248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13C6-B05B-4173-94E6-785C07D8926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eld-Effect Transistors Amplif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are two types of FETs -- JFETs and MOSFE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low-frequency small signal model is as sh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transconductance is defined 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JFET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m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transconductance when gate-to-source bias voltage is 0,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drain current and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D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drain current when the gate-to-source voltage is 0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MOSFETs,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m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transconductance at some specified drain bias current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F2-15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324480" cy="1517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4724280" y="3054240"/>
                <a:ext cx="91440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2286000" y="3675240"/>
                <a:ext cx="167652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0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SS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3352680" y="5030640"/>
                <a:ext cx="1676520" cy="7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R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R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5659-8D94-4ACD-A015-58A5C50B363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on-Source Ampl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mmon-source amplifier is similar to the common-emitter ampli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mmon-source amplifier is similar to the common-emitter amplifi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rmally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gt;&gt; R so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F2-16" descr=""/>
          <p:cNvPicPr/>
          <p:nvPr/>
        </p:nvPicPr>
        <p:blipFill>
          <a:blip r:embed="rId1"/>
          <a:stretch/>
        </p:blipFill>
        <p:spPr>
          <a:xfrm>
            <a:off x="2362320" y="1371600"/>
            <a:ext cx="2895480" cy="270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A566-34F5-48A7-8404-EEF48DD6A6C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09480" y="3808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ource voltage is determined from the following equ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the current leaving output node and source is z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urrent through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e source voltage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voltage gain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rd &gt;&gt;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e have the following relation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gm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gt;&gt; 1 we ha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2666880" y="762120"/>
                <a:ext cx="2133720" cy="11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d</m:t>
                        </m:r>
                        <m:m>
                          <m:mr>
                            <m:e/>
                          </m:mr>
                        </m:m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5715000" y="2209680"/>
                <a:ext cx="106668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3124080" y="2743200"/>
                <a:ext cx="251460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3657600" y="3581280"/>
                <a:ext cx="137160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3657600" y="4307040"/>
                <a:ext cx="99072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B53A-6EF1-42D5-8479-011B779515F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urce-Foll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5331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ircuit diagram and its equivalent circuit model for source follower are shown be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gt;&gt;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F2-18" descr=""/>
          <p:cNvPicPr/>
          <p:nvPr/>
        </p:nvPicPr>
        <p:blipFill>
          <a:blip r:embed="rId1"/>
          <a:stretch/>
        </p:blipFill>
        <p:spPr>
          <a:xfrm>
            <a:off x="3200400" y="1219320"/>
            <a:ext cx="3276720" cy="2647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3048120" y="3886200"/>
                <a:ext cx="3200400" cy="21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[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(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]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[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(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]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A5AA-F1D1-4E1C-8657-10B0D0E4090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094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utput impedance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is much smaller than the other two FET amplifier configurations and is the major advantage for this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3733920" y="144360"/>
                <a:ext cx="152388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380880" y="1752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on-Gate Ampl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mmon-gate amplifier is often used in high-frequency application and has a much larger bandwidth than the common source configur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F2-22" descr=""/>
          <p:cNvPicPr/>
          <p:nvPr/>
        </p:nvPicPr>
        <p:blipFill>
          <a:blip r:embed="rId1"/>
          <a:stretch/>
        </p:blipFill>
        <p:spPr>
          <a:xfrm>
            <a:off x="2746440" y="3124080"/>
            <a:ext cx="3273480" cy="3429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6D7F-2B62-46AF-AB2B-61DE1083029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nput impedance at the source can be found by solving for the source 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143000" y="1600200"/>
                <a:ext cx="1523880" cy="11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143000" y="304920"/>
                <a:ext cx="2209680" cy="103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nd from c</m:t>
                              </m:r>
                            </m:e>
                          </m:mr>
                        </m:m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1143000" y="3352680"/>
                <a:ext cx="1905120" cy="66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1676520" y="4038480"/>
                <a:ext cx="15238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</m:e>
                      <m:e>
                        <m:m>
                          <m:mr>
                            <m:e/>
                          </m:mr>
                        </m:m>
                        <m:m>
                          <m:mr>
                            <m:e/>
                          </m:mr>
                        </m:m>
                        <m:r>
                          <m:t xml:space="preserve">≈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1066680" y="5257800"/>
                <a:ext cx="2895840" cy="12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R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</m:den>
                            </m:f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C1B0-6BBC-42A9-9953-81A2BFC6387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utput impedance is determined 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I0 is also the current passing through the source resistance 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mmon gate amplifier has the highest output impedance of the three FET ampli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5257800" y="380880"/>
                <a:ext cx="1752480" cy="64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752480" y="1143000"/>
                <a:ext cx="2286000" cy="11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nd </m:t>
                              </m:r>
                            </m:e>
                          </m:mr>
                        </m: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533520" y="32767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ltist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plif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3733920"/>
            <a:ext cx="7772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stage amplifiers are used for impedance matching or to obtain extra gai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wer transistors have smaller gain-bandwidth product than low-power transistors, hence the power amplification stage is often operated near unity voltage gain in order to maximize the bandwid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ltage amplification is carried out in the stages preceding the power amplification s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1CBE-88F8-423B-B124-2C5A3EC9381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ual Gate F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53316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FET cascode circuit has many high-frequency applications that two FETs are often fabricated as a single transistor with 2 gates.  The source of the one transistor is continuous with the drain of the other so the device has 1 source, 1 drain and 2 g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evice offers low-noise and high gain in radio-frequency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 a versatile device which can be used as a mixer or automatic gain control amplifier.  The equivalent circuit is as sh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F2-26" descr=""/>
          <p:cNvPicPr/>
          <p:nvPr/>
        </p:nvPicPr>
        <p:blipFill>
          <a:blip r:embed="rId1"/>
          <a:stretch/>
        </p:blipFill>
        <p:spPr>
          <a:xfrm>
            <a:off x="2666880" y="2895480"/>
            <a:ext cx="3073680" cy="365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AFDF-E430-48E4-BF66-F7393EB083A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re gate 2 and the source are groun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load resistance of the first stage is the input resistance of the second stage, and the second stage is a common-gate amplifier.  Theref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m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transconductance at some specified drain bias current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D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both transistors have the same drain current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m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m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Thus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-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D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s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-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s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-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D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895480" y="838080"/>
                <a:ext cx="18288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362320" y="1905120"/>
                <a:ext cx="160020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1752480" y="2590920"/>
                <a:ext cx="167652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R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R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362320" y="4800600"/>
                <a:ext cx="266688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D226-7FC3-4EBF-B0AB-0C6E382B265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 Pull Amplif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533520"/>
            <a:ext cx="79246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istors all exhibit a nonlinear characteristic that causes distortion of the input signal levels.  Such distortion can be eliminated by push-pull ampli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above example uses 2 center-tapped transformers.  The input transformer separates the input signal into 2 signal 180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ut of phase.  The output transformer is used to sum the output currents of the two transisto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he input signal 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F2-27" descr=""/>
          <p:cNvPicPr/>
          <p:nvPr/>
        </p:nvPicPr>
        <p:blipFill>
          <a:blip r:embed="rId1"/>
          <a:stretch/>
        </p:blipFill>
        <p:spPr>
          <a:xfrm>
            <a:off x="2133720" y="1447920"/>
            <a:ext cx="3886200" cy="2074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1981080" y="5029200"/>
                <a:ext cx="15242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nd</m:t>
                              </m:r>
                            </m:e>
                          </m:mr>
                        </m: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200400" y="5715000"/>
                <a:ext cx="144792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369D-A873-4701-9C0F-04276A4C829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 is the resistance between the terminal and the actual base junction,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base-emitter junction resistanc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ically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gt;&gt;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.  An estimation of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collector to emitter resistance typically of the order 15k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collector-base resistance of the order several M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transconductance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implified version of the small-signal model equivalent circuit is given be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3809880" y="1219320"/>
                <a:ext cx="99072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π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f>
                      <m:num>
                        <m:r>
                          <m:t xml:space="preserve">β</m:t>
                        </m:r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3657600" y="2743200"/>
                <a:ext cx="152388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49" name="F2-2" descr=""/>
          <p:cNvPicPr/>
          <p:nvPr/>
        </p:nvPicPr>
        <p:blipFill>
          <a:blip r:embed="rId1"/>
          <a:stretch/>
        </p:blipFill>
        <p:spPr>
          <a:xfrm>
            <a:off x="2133720" y="4114800"/>
            <a:ext cx="4572000" cy="212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61E7-6688-4E25-A7EC-D2CC3B6A694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n the output of the 2 transistors are also periodic, and they can be expressed in a Fourier se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he two transistors are identical then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e identical except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lags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y 180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Th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utput current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ven harmonics are eliminated from the output.  This is important as FET have a square-law characteristic that generates a relatively large second harmoni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600200" y="914400"/>
                <a:ext cx="495288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2</m:t>
                    </m:r>
                    <m:r>
                      <m:t xml:space="preserve">ω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523880" y="1905120"/>
                <a:ext cx="5029200" cy="40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2</m:t>
                    </m:r>
                    <m:r>
                      <m:t xml:space="preserve">ω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523880" y="2666880"/>
                <a:ext cx="381024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8B9F-DE31-4F9E-9A86-5959A36F4F9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fferential Ampl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76212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ifferential amplifier is an essential building block in modern IC amplifiers.  The circuit is shown below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peration of this circuit is based on the ability to fabricate matched components on the same chip.  In the figure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E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realized using a current mirror.  We assume that 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e identical transistors and both collector resistors fabricated with equal valu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KVL expression for the loop containing the two emitter-base junctions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133720" y="1447920"/>
          <a:ext cx="3809880" cy="28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447920"/>
                    <a:ext cx="380988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286000" y="6019920"/>
                <a:ext cx="236232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7C1F-C8DD-44DF-B29D-28A673775FB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transistors are biased in the forward-active mode, the reverse saturation current of the collector-base junction is negligible.  The collector currents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e given 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we assumed th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difference between the two input voltages.  KCL at the emitter node requ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ilarly                                 The transf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racteristic for the emitter-coupled pair is shown on the following pa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 then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590920" y="1219320"/>
                <a:ext cx="259056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S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S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3276720" y="2057400"/>
                <a:ext cx="1828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</m:den>
                    </m:f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&gt;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600200" y="2362320"/>
                <a:ext cx="31240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  <m:r>
                          <m:t xml:space="preserve">2</m:t>
                        </m:r>
                      </m:sub>
                    </m:sSub>
                    <m:f>
                      <m:fPr>
                        <m:type m:val="lin"/>
                      </m:fPr>
                      <m:num>
                        <m:r>
                          <m:t xml:space="preserve">]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1523880" y="3657600"/>
                <a:ext cx="480060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E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dividing by 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yields</m:t>
                        </m:r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; Thus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E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kT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1828800" y="5105520"/>
                <a:ext cx="190512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E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4ACB-070F-4546-B7ED-64C0E88A877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85440" y="38052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we incrementally increase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y              and simultaneously decrease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y             . The differential voltage becomes       .  For        &lt; 4kT as indicated in the transfer characteristics above the circuit behaves linearly. 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creases by          and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creases by the same amount.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4724280" y="444600"/>
                <a:ext cx="68580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Δv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828800" y="750960"/>
                <a:ext cx="685800" cy="3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Δv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6019920" y="752400"/>
                <a:ext cx="38088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7086600" y="762120"/>
                <a:ext cx="38088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819520" y="1359000"/>
                <a:ext cx="45720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147" name=""/>
          <p:cNvGraphicFramePr/>
          <p:nvPr/>
        </p:nvGraphicFramePr>
        <p:xfrm>
          <a:off x="2209680" y="1752480"/>
          <a:ext cx="4191120" cy="209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752480"/>
                    <a:ext cx="4191120" cy="20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FB8B-3716-4B3F-BC26-2A4E125B74E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on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304560"/>
            <a:ext cx="81532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der both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e increased by            .  The difference voltage remains 0, and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main equal.  However, both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xhibit a small increase       .   Hence the current in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creases by          .  The voltage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no longer constant but increase by an amount of               .  This situation where equal signal are applied to 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called the common mod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ually differential amplifiers are designed such that only differential signals are amplifi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5410080" y="380880"/>
                <a:ext cx="68580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Δv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590920" y="914400"/>
                <a:ext cx="45720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7010280" y="914400"/>
                <a:ext cx="609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7467480" y="1295280"/>
                <a:ext cx="76212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685800" y="2895480"/>
            <a:ext cx="7772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alysis of Differential Amplif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32004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analysis  of differential amplifiers is simplified using “half-circuit” concept.  The equivalent circuit model for differential and common modes are show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2057400" y="4168800"/>
          <a:ext cx="5410080" cy="260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4168800"/>
                    <a:ext cx="5410080" cy="26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0AD9-7564-4ACD-8AC5-C3B715DC86E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erential mode g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n mode gain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mmon Mode Rejection Ration (CMRR) is defined 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the above we obtai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rbitrary signals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e applied to the inputs 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505320" y="304920"/>
                <a:ext cx="281916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π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3505320" y="1066680"/>
                <a:ext cx="2590560" cy="6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π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7315200" y="1752480"/>
                <a:ext cx="129528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MRR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3886200" y="2265480"/>
                <a:ext cx="289548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MRR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2819520" y="2971800"/>
                <a:ext cx="167616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2819520" y="4114800"/>
                <a:ext cx="2514600" cy="19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</m:e>
                      <m:e>
                        <m:m>
                          <m:mr>
                            <m:e/>
                            <m:e/>
                          </m:mr>
                        </m: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M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MRR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</m:e>
                      <m:e>
                        <m:m>
                          <m:mr>
                            <m:e/>
                            <m:e/>
                          </m:mr>
                        </m: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M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MRR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CDAF-F9F6-4A04-B03D-D54AFFCF20E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T Differential Ampl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typical differential amplifier connection is shown be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F2-30" descr=""/>
          <p:cNvPicPr/>
          <p:nvPr/>
        </p:nvPicPr>
        <p:blipFill>
          <a:blip r:embed="rId1"/>
          <a:stretch/>
        </p:blipFill>
        <p:spPr>
          <a:xfrm>
            <a:off x="2209680" y="914400"/>
            <a:ext cx="4724640" cy="2478240"/>
          </a:xfrm>
          <a:prstGeom prst="rect">
            <a:avLst/>
          </a:prstGeom>
          <a:ln w="0">
            <a:noFill/>
          </a:ln>
        </p:spPr>
      </p:pic>
      <p:pic>
        <p:nvPicPr>
          <p:cNvPr id="169" name="F2-31" descr=""/>
          <p:cNvPicPr/>
          <p:nvPr/>
        </p:nvPicPr>
        <p:blipFill>
          <a:blip r:embed="rId2"/>
          <a:stretch/>
        </p:blipFill>
        <p:spPr>
          <a:xfrm>
            <a:off x="2438280" y="3581280"/>
            <a:ext cx="4114800" cy="3122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1641-51D3-44FF-BEA6-185308925BC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on-Emitter Ampl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F2-3" descr=""/>
          <p:cNvPicPr/>
          <p:nvPr/>
        </p:nvPicPr>
        <p:blipFill>
          <a:blip r:embed="rId1"/>
          <a:stretch/>
        </p:blipFill>
        <p:spPr>
          <a:xfrm>
            <a:off x="379440" y="990720"/>
            <a:ext cx="3201840" cy="4267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990720" y="5478480"/>
                <a:ext cx="129528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733560" y="533160"/>
            <a:ext cx="5181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re the coupling capacitance is treated as a short circu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utput voltage is theref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nput impedance, not including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is given 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pends on applied the input resistance will depend on it as wel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urrent gain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4724280" y="1600200"/>
                <a:ext cx="3276720" cy="13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V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R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R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800600" y="3505320"/>
                <a:ext cx="236232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π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π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π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4724280" y="5105520"/>
                <a:ext cx="342900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</m:num>
                      <m:den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</m:den>
                        </m:f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8FB4-2468-43E7-9EBD-CE8E59EE5E0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on Base Ampl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533520"/>
            <a:ext cx="80773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ircuit diagram and its equivalent circuit model for the CB amplifier are shown be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the sum of the currents leaving the emitter junction is 0, we have the following 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F2-5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333760" cy="3197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2895480" y="5181480"/>
                <a:ext cx="2743200" cy="130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π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f>
                          <m:num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324F-B011-4ECA-8EA5-7BF0CB5BD26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ssumed to be large compared with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the voltage gain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&gt;&gt;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+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the magnitude of the voltage gain will be the same as that of the common-emitter ampli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nput impedance of the common-base amplifier is determined using the following circu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2133720" y="990720"/>
                <a:ext cx="2514600" cy="13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π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π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π</m:t>
                                </m:r>
                              </m:sub>
                            </m:sSub>
                          </m:den>
                        </m:f>
                      </m:e>
                      <m:e>
                        <m:m>
                          <m:mr>
                            <m:e>
                              <m:m>
                                <m:mr>
                                  <m:e/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βR</m:t>
                                            </m:r>
                                          </m:e>
                                          <m:sub>
                                            <m:r>
                                              <m:t xml:space="preserve">L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  <m:sub>
                                            <m:r>
                                              <m:t xml:space="preserve">π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  <m:sSub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  <m:sub>
                                            <m:r>
                                              <m:t xml:space="preserve">s</m:t>
                                            </m:r>
                                          </m:sub>
                                        </m:sSub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β</m:t>
                                        </m:r>
                                        <m:r>
                                          <m:t xml:space="preserve">)</m:t>
                                        </m:r>
                                      </m:den>
                                    </m:f>
                                  </m:e>
                                </m:mr>
                              </m:m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1143000" y="3733920"/>
                <a:ext cx="2590920" cy="13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π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π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π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β</m:t>
                            </m:r>
                          </m:den>
                        </m:f>
                        <m:r>
                          <m:t xml:space="preserve">≈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π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π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β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β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65" name="F2-6" descr=""/>
          <p:cNvPicPr/>
          <p:nvPr/>
        </p:nvPicPr>
        <p:blipFill>
          <a:blip r:embed="rId1"/>
          <a:stretch/>
        </p:blipFill>
        <p:spPr>
          <a:xfrm>
            <a:off x="4038480" y="3733920"/>
            <a:ext cx="5105520" cy="163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DD19-03E8-49A8-9876-B9977DAB2D0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utput impedance is determined using the following circu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mmon-base amplifier has a voltage gain but its current gain is less than unity.  It is used as non-inverting amplifiers where low input impedance and high output impedance is desi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also has much better high-frequency response than CE amplifier and is often used in high-frequency circui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1295280" y="1371600"/>
                <a:ext cx="23623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π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8" name="F2-7" descr=""/>
          <p:cNvPicPr/>
          <p:nvPr/>
        </p:nvPicPr>
        <p:blipFill>
          <a:blip r:embed="rId1"/>
          <a:stretch/>
        </p:blipFill>
        <p:spPr>
          <a:xfrm>
            <a:off x="4114800" y="990720"/>
            <a:ext cx="4800600" cy="1995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671F-50BD-44A8-B727-0E76DE08DC7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mitter Foll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F has a non-inverting voltage gain of less than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ever, it can combine with other stages, such as the CE stage, to realize a greater combined gain than CE stage al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F2-1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4647960" cy="1779480"/>
          </a:xfrm>
          <a:prstGeom prst="rect">
            <a:avLst/>
          </a:prstGeom>
          <a:ln w="0">
            <a:noFill/>
          </a:ln>
        </p:spPr>
      </p:pic>
      <p:pic>
        <p:nvPicPr>
          <p:cNvPr id="72" name="F2-11" descr=""/>
          <p:cNvPicPr/>
          <p:nvPr/>
        </p:nvPicPr>
        <p:blipFill>
          <a:blip r:embed="rId2"/>
          <a:stretch/>
        </p:blipFill>
        <p:spPr>
          <a:xfrm>
            <a:off x="1219320" y="4114800"/>
            <a:ext cx="4647960" cy="166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FA08-19D3-4783-838D-FC5FCAFA74D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F2-12" descr=""/>
          <p:cNvPicPr/>
          <p:nvPr/>
        </p:nvPicPr>
        <p:blipFill>
          <a:blip r:embed="rId1"/>
          <a:stretch/>
        </p:blipFill>
        <p:spPr>
          <a:xfrm>
            <a:off x="990720" y="304920"/>
            <a:ext cx="5638680" cy="20174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85800" y="23619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the equivalent circuit the voltage gain if found to 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 configuration has the largest input impedance compared to the other configu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2057400" y="2743200"/>
                <a:ext cx="3581280" cy="14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β</m:t>
                            </m:r>
                            <m:r>
                              <m:t xml:space="preserve">)</m:t>
                            </m:r>
                            <m:r>
                              <m:t xml:space="preserve">[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(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]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π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β</m:t>
                            </m:r>
                            <m:r>
                              <m:t xml:space="preserve">)</m:t>
                            </m:r>
                            <m:r>
                              <m:t xml:space="preserve">[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(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]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π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β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831A-10F7-4C64-899F-C29D33F6584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utput impedance 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 is used when low output impedance is needed.  Also, although it has a voltage gain &lt; 1, it has large current gain.  It is frequently used as a power amplifier for low-impedance loa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2133720" y="914400"/>
                <a:ext cx="2971800" cy="21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π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π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β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</m:e>
                      <m:e>
                        <m:m>
                          <m:mr>
                            <m:e/>
                          </m:mr>
                        </m:m>
                        <m:m>
                          <m:mr>
                            <m:e/>
                          </m:mr>
                        </m:m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π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  <m:r>
                          <m:t xml:space="preserve">≈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AE8E-1D7E-4B91-BBFC-C72877FB374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1T01:49:44Z</dcterms:created>
  <dc:creator>Dr. Charles Surya</dc:creator>
  <dc:description/>
  <dc:language>en-US</dc:language>
  <cp:lastModifiedBy>Alex</cp:lastModifiedBy>
  <cp:lastPrinted>1999-02-11T06:09:06Z</cp:lastPrinted>
  <dcterms:modified xsi:type="dcterms:W3CDTF">1999-07-14T01:33:16Z</dcterms:modified>
  <cp:revision>45</cp:revision>
  <dc:subject/>
  <dc:title>Integrated Circuits Design for Applications in Communications</dc:title>
</cp:coreProperties>
</file>