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2AF-62FF-4F65-A2FD-69CC3D1E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864-589A-40AB-9273-E9BCF20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361-E8FE-459F-9CA9-858966A8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0BF-7BB1-4D71-A70A-D48F97AF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F9A5-5067-4DBF-BCD3-DCDACD17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F19-68AB-495C-B8DF-F7C5338E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972-5B61-448C-86B5-A554358D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405-C833-48FC-B743-99463E9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A589-C618-462A-9CB4-8F76263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C038-3B2E-4F5F-A535-CBF7CDB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29B0-E923-4BA0-A4BC-7BB20B4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D14-8BDC-4636-9777-A209E869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3DBE-7773-4F63-98C4-277427F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3C71-C2AD-4BB6-8C28-9F8FD20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C9D-C1DF-44FC-9891-414D02B2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974-9A9C-4942-8934-8B91235E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A621-5AC1-4BC6-BB5D-D76E6D09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3D5-B086-41C4-88D0-2425BEC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5D7-3B27-4B5F-8579-0C9544B4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34D-9D16-4E3C-8162-35E5ADFD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8E0-4214-473B-9407-90F1A24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008-5802-45C5-A6A1-01E7F3E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978-C91D-45B9-98EB-697A2220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4BB-D0AB-42D1-AD46-0F6CFD4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BC1E-6448-406D-8788-A418D17AD8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7BF-2D47-4DC8-B8AC-E82AC04323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zerbaijan-eu.com/photos/shepherd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imal Handl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arrie Ca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kes and Dislik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livestock are social animals, preferring to move in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Herd of Beef Cattle"/>
          <p:cNvPicPr/>
          <p:nvPr/>
        </p:nvPicPr>
        <p:blipFill>
          <a:blip r:embed="rId1"/>
          <a:stretch/>
        </p:blipFill>
        <p:spPr>
          <a:xfrm>
            <a:off x="4648320" y="3832200"/>
            <a:ext cx="4495680" cy="302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4956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stock also have a "flight zone" or personal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person enters this area, animals will ret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50292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oint of balance is at the animal’s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y in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ight zone fr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ide will cau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nimal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eat in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e dire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441520"/>
            <a:ext cx="50292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ing a flight zone from the rear of the point of the shoulder will generally cause animals to move forwar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3208320"/>
            <a:ext cx="54864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ight zone entry ahead of the point of the shoulder generally causes animals to 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0" y="2870280"/>
            <a:ext cx="4495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-19080"/>
            <a:ext cx="85341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tering the 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handl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ters the flight z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animals will turn a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2868480"/>
            <a:ext cx="5943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ving the Flight Z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handler i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outside the flight zon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imals will turn and face the handler, and maintain a safe di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3189240"/>
            <a:ext cx="56390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ndler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er movement pattern to keep cattle moving into the squeeze chute in a curved chute syste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3880" y="3098880"/>
            <a:ext cx="61722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ndler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er movement pattern to keep cattle moving into a squeeze chute or restrain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2781360"/>
            <a:ext cx="59436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 the blind spot on live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likes and dislikes for livestock in regards to animal hand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flight z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Ass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an animal handling facility that allows animals to flow fro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atch p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 a crowd all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n into a restraint de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Livestoc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domestic livestock have contact with humans at some point in their l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ing stress during these interactions makes livestock more productive by reducing stress hormones that can negatively impact economic factors such as growth rate and feed efficien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38920" y="5272200"/>
            <a:ext cx="230508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Livestoc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nimals are less likely to injure themselves &amp; have carcass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ewing human-animal contact from an animal's point of view makes handling less stress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imal Rea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nimal's reaction to people depends on prior experience and the animal's genetic makeu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Shepherds, North of Azerbaijan (Click to see larger photo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429000"/>
            <a:ext cx="2709720" cy="2638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51814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imal Rea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 unpleasant associations with people make animals skittish when they are moved or handl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3467160" cy="356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grae[0].jpg"/>
          <p:cNvPicPr/>
          <p:nvPr/>
        </p:nvPicPr>
        <p:blipFill>
          <a:blip r:embed="rId2"/>
          <a:stretch/>
        </p:blipFill>
        <p:spPr>
          <a:xfrm>
            <a:off x="228600" y="3505320"/>
            <a:ext cx="4762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imal Rea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experiences with people make the livestock easier to handle. However, some animals are genetically programmed to be more cautious and nervou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73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Way They Se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stock have wide-angle vision, they see most of the world surrounding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mall blind spot exists directly to the rear of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7913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kes and Dislik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vestock generally avoid and dislik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ud noi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ong wi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anges in flooring type or elev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ving from light into darknes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962520" cy="271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4362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7:25:22Z</dcterms:created>
  <dc:creator>Josh Carson</dc:creator>
  <dc:description/>
  <dc:language>en-US</dc:language>
  <cp:lastModifiedBy>Josh Carson</cp:lastModifiedBy>
  <dcterms:modified xsi:type="dcterms:W3CDTF">2006-03-07T01:13:03Z</dcterms:modified>
  <cp:revision>8</cp:revision>
  <dc:subject/>
  <dc:title>Animal Handling</dc:title>
</cp:coreProperties>
</file>