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747-5524-4236-80B4-325983A0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F0C-C42D-42E3-9A34-73B86F00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87A-4B3D-4A28-87D9-C3F5C08E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CA5-7712-4019-A0F9-FB9539EF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993-936D-4CD3-A8F7-F8B08443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BF20-079D-4895-B391-8DC9A5EE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91A8-E341-40A4-89CB-6D4F1B2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578D-C797-4256-A710-675A8FE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B23F-591B-47F1-B5AF-87F6CF59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3361-11E3-401C-AE67-99748BF9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0AB-3937-48C0-B65C-5161C1A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2B2-A5E5-4636-888B-271FB24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6F2A-FA67-44CD-B492-2C14678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60E8-EF96-4E74-8901-63DAA71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B968-F5A2-4BAD-94EF-28E3406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8A26-EDB3-4899-A837-F30F8346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1B4B-EE4D-431B-B485-C2D7BC2A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38E-FDA6-44D5-B376-79F89CAC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1B0-E1BF-40E9-8401-7C226884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EC8-741A-4655-91CC-3AAF20D0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841-D0D2-4F22-8944-2BF00FCB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DA3-3058-4A9B-B37D-690D3832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4E3-8C93-4692-B225-59AD7DA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6F8-26D9-4BD7-B12E-7E343744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EB9-4214-4055-8BC2-67F285E4683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853-49D6-41E8-8566-99E4AE1F5436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esenting Your Budg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y Leo Isaa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sic Ru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10 minute 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overheads rather than palm c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main features of your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e prepared to answer ques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ources of Inco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Describe your main sources of inco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Use a chart to indicate percent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by showing key data upon which this income may depen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embership nu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Program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pening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Fee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fee structure for membership and particip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ustify the fee structure by showing the overall profitability of the club, association or busines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mploye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d overview of the number of employees in the organis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ndicate the probable employment costs of individu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the total cost of employment as a percentage of all cos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rogram Expendi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an overview of the main programs and servic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how you have costed the main program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and explain the key data upon which your program costing depend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h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Identify the most significant overheads apart from employment co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a pie chart that gives a breakdown in terms of percentag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Overall Sit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how overall profit situ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rovide some key points about overall budg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32:27Z</dcterms:created>
  <dc:creator>Leo</dc:creator>
  <dc:description/>
  <dc:language>en-US</dc:language>
  <cp:lastModifiedBy>ds0929</cp:lastModifiedBy>
  <dcterms:modified xsi:type="dcterms:W3CDTF">2012-11-04T13:03:25Z</dcterms:modified>
  <cp:revision>1</cp:revision>
  <dc:subject/>
  <dc:title>Presenting Your Budget</dc:title>
</cp:coreProperties>
</file>