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122-B381-44CE-95F8-F47173CE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922E-46CF-482A-A041-E99F56AF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1DE-956C-4507-B3BB-EBA1087A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840-3CB5-4F5F-ADA6-9B844033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3B23-A2E4-4DE2-9D9F-78F90025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86CE-6492-4FA4-BD8E-288F78B6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F685-1B72-4112-B8D1-EEA6543E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CCB0-7153-484F-8AD3-6E2C3BDB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AD39-BF24-4B4D-8554-C1A6854D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739B-EC75-4918-B577-8BFCE345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EF08-27D3-47D8-B204-96621EDF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CC8-AB50-40D3-B63D-EA3EA0FA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76C8-579D-4C12-AF02-C3303A4B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5B05-E6BC-4B1E-A10E-A922F2FD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63AA-75BA-4E26-AFE6-09083C80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4D36-1324-435D-8859-698F48AE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2946-AFF3-4457-9B61-CCBF6E8C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E05-656D-4EFB-AA10-F2C65BED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A64-CAE2-4715-90AD-B6B2938D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A0B-7625-4ED3-A49E-98AC0773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7104-7F02-4CED-8AAE-B441AC11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AAB-A3A1-46AB-BEDC-EF37E877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C70-37E9-44A8-8FDF-C3483559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247C-A616-40CA-9E1D-27EA2EE0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152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304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57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09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62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914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1066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1219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1371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523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676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1828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1981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2133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2438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2590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2743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2895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Rectangle 23"/>
          <p:cNvSpPr/>
          <p:nvPr/>
        </p:nvSpPr>
        <p:spPr>
          <a:xfrm>
            <a:off x="3048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Rectangle 24"/>
          <p:cNvSpPr/>
          <p:nvPr/>
        </p:nvSpPr>
        <p:spPr>
          <a:xfrm>
            <a:off x="3200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Rectangle 25"/>
          <p:cNvSpPr/>
          <p:nvPr/>
        </p:nvSpPr>
        <p:spPr>
          <a:xfrm>
            <a:off x="3352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Rectangle 26"/>
          <p:cNvSpPr/>
          <p:nvPr/>
        </p:nvSpPr>
        <p:spPr>
          <a:xfrm>
            <a:off x="3505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Rectangle 27"/>
          <p:cNvSpPr/>
          <p:nvPr/>
        </p:nvSpPr>
        <p:spPr>
          <a:xfrm>
            <a:off x="3657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Rectangle 28"/>
          <p:cNvSpPr/>
          <p:nvPr/>
        </p:nvSpPr>
        <p:spPr>
          <a:xfrm>
            <a:off x="3809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Rectangle 29"/>
          <p:cNvSpPr/>
          <p:nvPr/>
        </p:nvSpPr>
        <p:spPr>
          <a:xfrm>
            <a:off x="3962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Rectangle 30"/>
          <p:cNvSpPr/>
          <p:nvPr/>
        </p:nvSpPr>
        <p:spPr>
          <a:xfrm>
            <a:off x="4114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Rectangle 31"/>
          <p:cNvSpPr/>
          <p:nvPr/>
        </p:nvSpPr>
        <p:spPr>
          <a:xfrm>
            <a:off x="4267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Rectangle 32"/>
          <p:cNvSpPr/>
          <p:nvPr/>
        </p:nvSpPr>
        <p:spPr>
          <a:xfrm>
            <a:off x="4419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Rectangle 33"/>
          <p:cNvSpPr/>
          <p:nvPr/>
        </p:nvSpPr>
        <p:spPr>
          <a:xfrm>
            <a:off x="4572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Rectangle 34"/>
          <p:cNvSpPr/>
          <p:nvPr/>
        </p:nvSpPr>
        <p:spPr>
          <a:xfrm>
            <a:off x="4724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Rectangle 35"/>
          <p:cNvSpPr/>
          <p:nvPr/>
        </p:nvSpPr>
        <p:spPr>
          <a:xfrm>
            <a:off x="4876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Rectangle 36"/>
          <p:cNvSpPr/>
          <p:nvPr/>
        </p:nvSpPr>
        <p:spPr>
          <a:xfrm>
            <a:off x="5029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Rectangle 37"/>
          <p:cNvSpPr/>
          <p:nvPr/>
        </p:nvSpPr>
        <p:spPr>
          <a:xfrm>
            <a:off x="5181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Rectangle 38"/>
          <p:cNvSpPr/>
          <p:nvPr/>
        </p:nvSpPr>
        <p:spPr>
          <a:xfrm>
            <a:off x="5334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Rectangle 39"/>
          <p:cNvSpPr/>
          <p:nvPr/>
        </p:nvSpPr>
        <p:spPr>
          <a:xfrm>
            <a:off x="5486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Rectangle 40"/>
          <p:cNvSpPr/>
          <p:nvPr/>
        </p:nvSpPr>
        <p:spPr>
          <a:xfrm>
            <a:off x="5638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Rectangle 41"/>
          <p:cNvSpPr/>
          <p:nvPr/>
        </p:nvSpPr>
        <p:spPr>
          <a:xfrm>
            <a:off x="5791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Rectangle 42"/>
          <p:cNvSpPr/>
          <p:nvPr/>
        </p:nvSpPr>
        <p:spPr>
          <a:xfrm>
            <a:off x="5943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Rectangle 43"/>
          <p:cNvSpPr/>
          <p:nvPr/>
        </p:nvSpPr>
        <p:spPr>
          <a:xfrm>
            <a:off x="6095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Rectangle 44"/>
          <p:cNvSpPr/>
          <p:nvPr/>
        </p:nvSpPr>
        <p:spPr>
          <a:xfrm>
            <a:off x="6248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45"/>
          <p:cNvSpPr/>
          <p:nvPr/>
        </p:nvSpPr>
        <p:spPr>
          <a:xfrm>
            <a:off x="6400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6"/>
          <p:cNvSpPr/>
          <p:nvPr/>
        </p:nvSpPr>
        <p:spPr>
          <a:xfrm>
            <a:off x="6553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47"/>
          <p:cNvSpPr/>
          <p:nvPr/>
        </p:nvSpPr>
        <p:spPr>
          <a:xfrm>
            <a:off x="6705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48"/>
          <p:cNvSpPr/>
          <p:nvPr/>
        </p:nvSpPr>
        <p:spPr>
          <a:xfrm>
            <a:off x="6858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49"/>
          <p:cNvSpPr/>
          <p:nvPr/>
        </p:nvSpPr>
        <p:spPr>
          <a:xfrm>
            <a:off x="7010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50"/>
          <p:cNvSpPr/>
          <p:nvPr/>
        </p:nvSpPr>
        <p:spPr>
          <a:xfrm>
            <a:off x="7162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51"/>
          <p:cNvSpPr/>
          <p:nvPr/>
        </p:nvSpPr>
        <p:spPr>
          <a:xfrm>
            <a:off x="7315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52"/>
          <p:cNvSpPr/>
          <p:nvPr/>
        </p:nvSpPr>
        <p:spPr>
          <a:xfrm>
            <a:off x="7467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53"/>
          <p:cNvSpPr/>
          <p:nvPr/>
        </p:nvSpPr>
        <p:spPr>
          <a:xfrm>
            <a:off x="7620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54"/>
          <p:cNvSpPr/>
          <p:nvPr/>
        </p:nvSpPr>
        <p:spPr>
          <a:xfrm>
            <a:off x="7772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55"/>
          <p:cNvSpPr/>
          <p:nvPr/>
        </p:nvSpPr>
        <p:spPr>
          <a:xfrm>
            <a:off x="7924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56"/>
          <p:cNvSpPr/>
          <p:nvPr/>
        </p:nvSpPr>
        <p:spPr>
          <a:xfrm>
            <a:off x="8077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57"/>
          <p:cNvSpPr/>
          <p:nvPr/>
        </p:nvSpPr>
        <p:spPr>
          <a:xfrm>
            <a:off x="8229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58"/>
          <p:cNvSpPr/>
          <p:nvPr/>
        </p:nvSpPr>
        <p:spPr>
          <a:xfrm>
            <a:off x="8381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59"/>
          <p:cNvSpPr/>
          <p:nvPr/>
        </p:nvSpPr>
        <p:spPr>
          <a:xfrm>
            <a:off x="8534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60"/>
          <p:cNvSpPr/>
          <p:nvPr/>
        </p:nvSpPr>
        <p:spPr>
          <a:xfrm>
            <a:off x="8686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61"/>
          <p:cNvSpPr/>
          <p:nvPr/>
        </p:nvSpPr>
        <p:spPr>
          <a:xfrm>
            <a:off x="8839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62"/>
          <p:cNvSpPr/>
          <p:nvPr/>
        </p:nvSpPr>
        <p:spPr>
          <a:xfrm>
            <a:off x="8991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63"/>
          <p:cNvSpPr/>
          <p:nvPr/>
        </p:nvSpPr>
        <p:spPr>
          <a:xfrm>
            <a:off x="68436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7C29-D118-4CC7-92C7-3A1F69CAE542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3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684D-83B3-41F0-9ED4-A3DA1F314F32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Verdana"/>
              </a:rPr>
              <a:t>The Budget Interview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Leo Isaa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209680" y="4114800"/>
            <a:ext cx="609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following slides provide advice to help you determine the difference between good and not so good interview questions. Click your left mouse button to step through the present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918440" y="152388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at is sold at the b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752480" y="29718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Silly questi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941840" y="1523880"/>
            <a:ext cx="530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How many competitions have been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planned for the current seas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752480" y="2971800"/>
            <a:ext cx="611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sn’t it next season you are budgeting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Anyway, just ask for next years calendar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752480" y="152388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at is the ration of male to female participan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752480" y="29718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How will this help your budget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969560" y="152388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at is the buying cost of trophi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752480" y="2971800"/>
            <a:ext cx="61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You could obtain basic information about the cost of trophies by visiting a web s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012040" y="15238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How much is the electricity bill per ye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752480" y="2971800"/>
            <a:ext cx="611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y not ask for a copy of previous year’s financial accounts? Then you can get information on many cos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930680" y="152388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How much is player registr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752480" y="2971800"/>
            <a:ext cx="61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is information is likely found on the web site or in promotional brochu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026"/>
          <p:cNvSpPr/>
          <p:nvPr/>
        </p:nvSpPr>
        <p:spPr>
          <a:xfrm>
            <a:off x="1752480" y="152388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s your organisation a profit or non-profit organisation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027"/>
          <p:cNvSpPr/>
          <p:nvPr/>
        </p:nvSpPr>
        <p:spPr>
          <a:xfrm>
            <a:off x="1752480" y="29718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Question makes you look dumb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2001600" y="1523880"/>
            <a:ext cx="62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Does the club have any gaming machin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752480" y="29718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Look and see for yourself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752480" y="152388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at is the total cost of club merchandi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752480" y="2971800"/>
            <a:ext cx="611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oo complicated, interviewee unlikely to know the answer. Better to simply ask about types of product so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752480" y="152388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at functions do you run through the ye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752480" y="2971800"/>
            <a:ext cx="61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You will need to explain what is a function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995120" y="1523880"/>
            <a:ext cx="56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hat are the pay rates for employe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752480" y="29718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is information may be too sensitiv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2001600" y="1523880"/>
            <a:ext cx="62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Does the club have any gaming machin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752480" y="29718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Look and see for yourself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970280" y="1523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Does the organisation have a clubhous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752480" y="2971800"/>
            <a:ext cx="611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You will get some strange looks, if you ask this question, especially if you are sitting in one at time of interview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4:02:15Z</dcterms:created>
  <dc:creator>Leo</dc:creator>
  <dc:description/>
  <dc:language>en-US</dc:language>
  <cp:lastModifiedBy>ds0929</cp:lastModifiedBy>
  <dcterms:modified xsi:type="dcterms:W3CDTF">2012-11-04T13:01:54Z</dcterms:modified>
  <cp:revision>3</cp:revision>
  <dc:subject/>
  <dc:title>PowerPoint Presentation</dc:title>
</cp:coreProperties>
</file>