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F84B-3102-4C88-86A9-052684B6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BCE-57E2-45BE-97AE-1EA3F295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913-5FA5-454B-A3FC-2FE6CE98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B9C3-1F28-451E-BAC7-1AD3668B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44B-A0BE-4829-8AD4-7AD5E4E6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55E-2348-469E-AA77-BC7AFDBD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7FA-BD38-40B3-8DE6-0FB6FE35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B2F-6079-439C-BD45-3D81E2BE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7D2-895A-446F-8F96-7C89E6DD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DEE-A929-40D9-A1D4-9C039AAB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FAAA-F6D1-4E0C-8196-53B69F10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9E3-4D10-4280-AACA-AD53EE77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B611-94D1-4CED-8930-7B5AD0728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9200" y="1249200"/>
            <a:ext cx="50241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0" spc="-1" strike="noStrike">
                <a:solidFill>
                  <a:srgbClr val="ffff00"/>
                </a:solidFill>
                <a:latin typeface="Broadway"/>
              </a:rPr>
              <a:t>Extra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0" spc="-1" strike="noStrike">
                <a:solidFill>
                  <a:srgbClr val="ffff00"/>
                </a:solidFill>
                <a:latin typeface="Broadway"/>
              </a:rPr>
              <a:t>Slides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640720" y="663264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1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0" y="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g. 342 Eg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8880" y="466560"/>
            <a:ext cx="1430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180 k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9240" y="1033560"/>
            <a:ext cx="122796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415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000" y="1601640"/>
            <a:ext cx="953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1640" y="0"/>
            <a:ext cx="0" cy="6837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9440" y="2341440"/>
            <a:ext cx="130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2400" y="2946240"/>
            <a:ext cx="150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400" y="3551400"/>
            <a:ext cx="132552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53.1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1400" y="4156200"/>
            <a:ext cx="147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a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1320" y="4761000"/>
            <a:ext cx="22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180 k tan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53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4720" y="5367240"/>
            <a:ext cx="161928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240 k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66440" y="466560"/>
            <a:ext cx="953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68240" y="1008000"/>
            <a:ext cx="130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81200" y="1550880"/>
            <a:ext cx="150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81560" y="2093760"/>
            <a:ext cx="132552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25.8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0200" y="2635200"/>
            <a:ext cx="147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a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8480" y="3178080"/>
            <a:ext cx="22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180 k tan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25.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87680" y="3720960"/>
            <a:ext cx="181152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87.18 k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1000" y="4262400"/>
            <a:ext cx="143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– 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13960" y="4805280"/>
            <a:ext cx="2582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(240 – 87.17) k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7040" y="5348160"/>
            <a:ext cx="1950120" cy="405720"/>
          </a:xfrm>
          <a:prstGeom prst="rect">
            <a:avLst/>
          </a:prstGeom>
          <a:solidFill>
            <a:srgbClr val="66ff66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152.83 k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808680" y="297000"/>
                <a:ext cx="9414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808680" y="1266840"/>
                <a:ext cx="14907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840000" y="2174760"/>
            <a:ext cx="1340640" cy="405720"/>
          </a:xfrm>
          <a:prstGeom prst="rect">
            <a:avLst/>
          </a:prstGeom>
          <a:solidFill>
            <a:srgbClr val="66ff66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1.13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808680" y="2820960"/>
                <a:ext cx="11257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08680" y="3646440"/>
                <a:ext cx="1125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808680" y="4522680"/>
                <a:ext cx="14572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838920" y="5348160"/>
            <a:ext cx="1480680" cy="368280"/>
          </a:xfrm>
          <a:prstGeom prst="rect">
            <a:avLst/>
          </a:prstGeom>
          <a:solidFill>
            <a:srgbClr val="66ff66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C = 2,824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35640" y="0"/>
            <a:ext cx="0" cy="6837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640720" y="663264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120" y="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g. 350 Ex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" y="468360"/>
            <a:ext cx="125352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3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000" y="1035000"/>
            <a:ext cx="121860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11 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000" y="1601640"/>
            <a:ext cx="953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11640" y="0"/>
            <a:ext cx="0" cy="6837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9440" y="2378160"/>
            <a:ext cx="130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2400" y="2968560"/>
            <a:ext cx="150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920" y="3559320"/>
            <a:ext cx="100224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6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1400" y="4149720"/>
            <a:ext cx="147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a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2480" y="4740120"/>
            <a:ext cx="182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3M tan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8960" y="5330880"/>
            <a:ext cx="176580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5.20 M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66440" y="468360"/>
            <a:ext cx="953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68240" y="1006560"/>
            <a:ext cx="130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81200" y="1544760"/>
            <a:ext cx="150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81560" y="2082960"/>
            <a:ext cx="132552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36.87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0200" y="2620800"/>
            <a:ext cx="147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a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8120" y="3159000"/>
            <a:ext cx="21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3M tan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36.87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7760" y="3697200"/>
            <a:ext cx="176580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2.25 M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01000" y="4235400"/>
            <a:ext cx="143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– 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22240" y="4773600"/>
            <a:ext cx="259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(5.20 – 2.25) M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2800" y="5311800"/>
            <a:ext cx="1773360" cy="405720"/>
          </a:xfrm>
          <a:prstGeom prst="rect">
            <a:avLst/>
          </a:prstGeom>
          <a:solidFill>
            <a:srgbClr val="66ff66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2.95 M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804000" y="297000"/>
                <a:ext cx="9414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04000" y="1260360"/>
                <a:ext cx="13334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6851160" y="2181240"/>
            <a:ext cx="1148760" cy="405720"/>
          </a:xfrm>
          <a:prstGeom prst="rect">
            <a:avLst/>
          </a:prstGeom>
          <a:solidFill>
            <a:srgbClr val="66ff66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= 41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804000" y="2820960"/>
                <a:ext cx="11257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804000" y="3639960"/>
                <a:ext cx="1125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04000" y="4510080"/>
                <a:ext cx="1352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826680" y="5311800"/>
            <a:ext cx="1349640" cy="368280"/>
          </a:xfrm>
          <a:prstGeom prst="rect">
            <a:avLst/>
          </a:prstGeom>
          <a:solidFill>
            <a:srgbClr val="66ff66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C = 77.6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35640" y="0"/>
            <a:ext cx="0" cy="6837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40720" y="663264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g. 350 Ex.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9600" y="816120"/>
            <a:ext cx="156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1 k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760" y="333360"/>
            <a:ext cx="160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3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27480" y="33336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0.5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1160" y="130032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= 50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42240" y="8161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69600" y="1300320"/>
            <a:ext cx="1172880" cy="5317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6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64920" y="2216160"/>
            <a:ext cx="194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ta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96240" y="3365640"/>
            <a:ext cx="228960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5.20 M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67440" y="2790720"/>
            <a:ext cx="240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3M tan 6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3160" y="2216160"/>
            <a:ext cx="194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ta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44120" y="3365640"/>
            <a:ext cx="228960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2.25 M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24680" y="2790720"/>
            <a:ext cx="283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3M tan 36.8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59520" y="33336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0.8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74280" y="8161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cos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0640" y="1300320"/>
            <a:ext cx="1602720" cy="5317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36.8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12080" y="5262480"/>
            <a:ext cx="228960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2.95 M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4520" y="4221000"/>
            <a:ext cx="18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– 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30080" y="4741920"/>
            <a:ext cx="338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(5.20 – 2.25) M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50960" y="5262480"/>
            <a:ext cx="220140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983 k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67440" y="4411800"/>
                <a:ext cx="13222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195640" y="0"/>
            <a:ext cx="3132000" cy="4067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77080" y="0"/>
            <a:ext cx="3132000" cy="4067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40720" y="663264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g. 350 Ex.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77320" y="3220920"/>
            <a:ext cx="146196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41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04800" y="3220920"/>
            <a:ext cx="184284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77.5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612880" y="1233360"/>
                <a:ext cx="1297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489600" y="800280"/>
            <a:ext cx="156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1 k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7760" y="360360"/>
            <a:ext cx="160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3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1160" y="130032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= 50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612880" y="2265480"/>
                <a:ext cx="1756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3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067360" y="1258920"/>
                <a:ext cx="1652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067360" y="2278080"/>
                <a:ext cx="2035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40360" y="4471920"/>
            <a:ext cx="179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√3V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76280" y="5006880"/>
                <a:ext cx="16477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2867040" y="421956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0.5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07160" y="421956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0.8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74960" y="4753080"/>
                <a:ext cx="25322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k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815080" y="4753080"/>
                <a:ext cx="25574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k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2950560" y="5632560"/>
            <a:ext cx="186192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L1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314.9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06520" y="5632560"/>
            <a:ext cx="186192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L2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196.8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67880" y="398520"/>
            <a:ext cx="220140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983 k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205240" y="250920"/>
                <a:ext cx="1144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764040" y="398520"/>
            <a:ext cx="1830960" cy="5821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= 6.35 k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1125360"/>
            <a:ext cx="2592360" cy="295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1125360"/>
            <a:ext cx="2592360" cy="295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6000" y="4076640"/>
            <a:ext cx="2448000" cy="219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4000" y="4076640"/>
            <a:ext cx="2952720" cy="219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6720" y="4076640"/>
            <a:ext cx="2952720" cy="219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40720" y="663264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03840" y="285840"/>
            <a:ext cx="31374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cc99"/>
                </a:solidFill>
                <a:latin typeface="Comic Sans MS"/>
              </a:rPr>
              <a:t>9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640720" y="663264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27040" y="0"/>
            <a:ext cx="629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Comic Sans MS"/>
              </a:rPr>
              <a:t>Example Calculations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Comic Sans MS"/>
              </a:rPr>
              <a:t>Pp. 160 - 16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65120" y="2459160"/>
                <a:ext cx="11336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125960" y="5192640"/>
                <a:ext cx="17064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125960" y="5697360"/>
                <a:ext cx="1706400" cy="3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125960" y="4605480"/>
                <a:ext cx="11574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7027920" y="2638440"/>
                <a:ext cx="1650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43280" y="2457360"/>
                <a:ext cx="1917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427040" y="1592280"/>
            <a:ext cx="629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C I V I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063880" y="2638440"/>
                <a:ext cx="21128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65120" y="3470400"/>
                <a:ext cx="28702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65120" y="4394160"/>
                <a:ext cx="29224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65120" y="5319720"/>
                <a:ext cx="29275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 flipV="1">
            <a:off x="6030720" y="4033800"/>
            <a:ext cx="2481840" cy="208296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9200000">
            <a:off x="7050240" y="43711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27840" y="6114960"/>
            <a:ext cx="248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15480" y="62485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510760" y="4035240"/>
            <a:ext cx="0" cy="208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83840" y="49118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87000" y="55260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 rot="16200000">
            <a:off x="4776480" y="4632840"/>
            <a:ext cx="2526840" cy="26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90" y="80"/>
                </a:moveTo>
                <a:arcTo wR="10800" hR="10800" stAng="-5817920" swAng="2617905"/>
                <a:lnTo>
                  <a:pt x="10800" y="10800"/>
                </a:lnTo>
                <a:close/>
              </a:path>
              <a:path fill="none" w="21600" h="21600">
                <a:moveTo>
                  <a:pt x="9490" y="80"/>
                </a:moveTo>
                <a:arcTo wR="10800" hR="10800" stAng="-5817920" swAng="2617905"/>
              </a:path>
            </a:pathLst>
          </a:custGeom>
          <a:noFill/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032360" y="3392640"/>
                <a:ext cx="18111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8640720" y="663264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 rot="60000">
            <a:off x="2809440" y="3141720"/>
            <a:ext cx="3454560" cy="1952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 rot="60000">
            <a:off x="2738160" y="4932360"/>
            <a:ext cx="3454200" cy="1952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rcRect l="0" t="0" r="52459" b="0"/>
          <a:stretch/>
        </p:blipFill>
        <p:spPr>
          <a:xfrm>
            <a:off x="1584360" y="3321000"/>
            <a:ext cx="5003640" cy="636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619280" y="3392640"/>
            <a:ext cx="43178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560" y="3230640"/>
            <a:ext cx="34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619280" y="2960640"/>
            <a:ext cx="2879640" cy="432000"/>
            <a:chOff x="1619280" y="2960640"/>
            <a:chExt cx="2879640" cy="432000"/>
          </a:xfrm>
        </p:grpSpPr>
        <p:sp>
          <p:nvSpPr>
            <p:cNvPr id="184" name=""/>
            <p:cNvSpPr/>
            <p:nvPr/>
          </p:nvSpPr>
          <p:spPr>
            <a:xfrm>
              <a:off x="1619280" y="3392640"/>
              <a:ext cx="28796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90320" y="2960640"/>
              <a:ext cx="1109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= 80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-12240" y="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g. 170 Q.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rcRect l="0" t="0" r="0" b="67167"/>
          <a:stretch/>
        </p:blipFill>
        <p:spPr>
          <a:xfrm>
            <a:off x="3935520" y="3357720"/>
            <a:ext cx="636480" cy="3456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170160" y="6630840"/>
            <a:ext cx="4318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500720" y="3392640"/>
            <a:ext cx="431280" cy="3238200"/>
            <a:chOff x="4500720" y="3392640"/>
            <a:chExt cx="431280" cy="3238200"/>
          </a:xfrm>
        </p:grpSpPr>
        <p:sp>
          <p:nvSpPr>
            <p:cNvPr id="190" name=""/>
            <p:cNvSpPr/>
            <p:nvPr/>
          </p:nvSpPr>
          <p:spPr>
            <a:xfrm>
              <a:off x="4500720" y="3392640"/>
              <a:ext cx="0" cy="3238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4173840" y="4473720"/>
              <a:ext cx="111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= 90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583960" y="2420640"/>
            <a:ext cx="360720" cy="223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86" y="1618"/>
                </a:moveTo>
                <a:arcTo wR="10800" hR="10800" stAng="-3493995" swAng="2710785"/>
                <a:lnTo>
                  <a:pt x="10800" y="10800"/>
                </a:lnTo>
                <a:close/>
              </a:path>
              <a:path fill="none" w="21600" h="21600">
                <a:moveTo>
                  <a:pt x="16486" y="1618"/>
                </a:moveTo>
                <a:arcTo wR="10800" hR="10800" stAng="-3493995" swAng="2710785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7886600">
            <a:off x="5950800" y="2227320"/>
            <a:ext cx="434520" cy="208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17" y="2950"/>
                </a:moveTo>
                <a:arcTo wR="10800" hR="10800" stAng="-2797423" swAng="2797423"/>
                <a:lnTo>
                  <a:pt x="10800" y="10800"/>
                </a:lnTo>
                <a:close/>
              </a:path>
              <a:path fill="none" w="21600" h="21600">
                <a:moveTo>
                  <a:pt x="18217" y="2950"/>
                </a:moveTo>
                <a:arcTo wR="10800" hR="10800" stAng="-2797423" swAng="2797423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 rot="60000">
            <a:off x="-142920" y="1700280"/>
            <a:ext cx="3454560" cy="195264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-2629080" y="-3051000"/>
            <a:ext cx="8637480" cy="8637480"/>
            <a:chOff x="-2629080" y="-3051000"/>
            <a:chExt cx="8637480" cy="8637480"/>
          </a:xfrm>
        </p:grpSpPr>
        <p:sp>
          <p:nvSpPr>
            <p:cNvPr id="196" name=""/>
            <p:cNvSpPr/>
            <p:nvPr/>
          </p:nvSpPr>
          <p:spPr>
            <a:xfrm>
              <a:off x="4456440" y="1333440"/>
              <a:ext cx="1230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r>
                <a:rPr b="0" lang="en-AU" sz="18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AU" sz="1800" spc="-1" strike="noStrike">
                  <a:solidFill>
                    <a:srgbClr val="000000"/>
                  </a:solidFill>
                  <a:latin typeface="Comic Sans MS"/>
                </a:rPr>
                <a:t> = 120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-2629080" y="-3051000"/>
              <a:ext cx="8637480" cy="8637480"/>
              <a:chOff x="-2629080" y="-3051000"/>
              <a:chExt cx="8637480" cy="8637480"/>
            </a:xfrm>
          </p:grpSpPr>
          <p:sp>
            <p:nvSpPr>
              <p:cNvPr id="198" name=""/>
              <p:cNvSpPr/>
              <p:nvPr/>
            </p:nvSpPr>
            <p:spPr>
              <a:xfrm>
                <a:off x="1690560" y="1266840"/>
                <a:ext cx="431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-2629080" y="-3051000"/>
                <a:ext cx="8637480" cy="8637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-649440" y="-2008080"/>
            <a:ext cx="7917120" cy="7916760"/>
            <a:chOff x="-649440" y="-2008080"/>
            <a:chExt cx="7917120" cy="7916760"/>
          </a:xfrm>
        </p:grpSpPr>
        <p:sp>
          <p:nvSpPr>
            <p:cNvPr id="201" name=""/>
            <p:cNvSpPr/>
            <p:nvPr/>
          </p:nvSpPr>
          <p:spPr>
            <a:xfrm>
              <a:off x="5835240" y="1989000"/>
              <a:ext cx="1227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= 110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-649440" y="-2008080"/>
              <a:ext cx="7917120" cy="7916760"/>
              <a:chOff x="-649440" y="-2008080"/>
              <a:chExt cx="7917120" cy="7916760"/>
            </a:xfrm>
          </p:grpSpPr>
          <p:sp>
            <p:nvSpPr>
              <p:cNvPr id="203" name=""/>
              <p:cNvSpPr/>
              <p:nvPr/>
            </p:nvSpPr>
            <p:spPr>
              <a:xfrm>
                <a:off x="3309840" y="1949400"/>
                <a:ext cx="39574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-649440" y="-2008080"/>
                <a:ext cx="7917120" cy="7916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5" name="" descr=""/>
          <p:cNvPicPr/>
          <p:nvPr/>
        </p:nvPicPr>
        <p:blipFill>
          <a:blip r:embed="rId6"/>
          <a:srcRect l="0" t="0" r="52459" b="0"/>
          <a:stretch/>
        </p:blipFill>
        <p:spPr>
          <a:xfrm>
            <a:off x="3276720" y="1881360"/>
            <a:ext cx="5003640" cy="636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7"/>
          <a:srcRect l="0" t="0" r="52459" b="0"/>
          <a:stretch/>
        </p:blipFill>
        <p:spPr>
          <a:xfrm>
            <a:off x="1655640" y="1197000"/>
            <a:ext cx="5004000" cy="636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640720" y="663264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0046 L 0.13038 0.68287 E">
                                      <p:cBhvr>
                                        <p:cTn id="544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22222E-006 L -0.00764 0.30996 E">
                                      <p:cBhvr>
                                        <p:cTn id="569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140000">
                                      <p:cBhvr>
                                        <p:cTn id="57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">
                                      <p:cBhvr>
                                        <p:cTn id="58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-0.17343 -0.47222 E">
                                      <p:cBhvr>
                                        <p:cTn id="60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1:48:05Z</dcterms:created>
  <dc:creator>Authorised DET User</dc:creator>
  <dc:description/>
  <dc:language>en-US</dc:language>
  <cp:lastModifiedBy>Authorised DET User</cp:lastModifiedBy>
  <dcterms:modified xsi:type="dcterms:W3CDTF">2006-10-31T23:46:07Z</dcterms:modified>
  <cp:revision>4</cp:revision>
  <dc:subject/>
  <dc:title>Slide 1</dc:title>
</cp:coreProperties>
</file>