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A5E6-A466-4F34-82D9-583545648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792F-1858-408C-B5FB-60ACE59D2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7C1B-6BC9-4F41-BC59-9ADFB63FF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B3AC-18D4-4BA9-9C41-96B485EAE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4E0E-A390-4159-B52A-9F07C3C62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89F8-932F-48FE-97B0-D2C954010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C2C5-8582-478E-B1B4-8687AD869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A8F0-8494-4053-B34C-53C6E45D3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37EC-A4CA-4F20-9153-90D3B5FE4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B4CE-722B-4600-AC79-FEAA8C48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82C2-22BE-4233-B942-FD3A8C7E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86FA-A29B-4868-9AFB-93F9520F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73392-145C-4F3B-91FA-1CE0ACFBA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9200" y="1249200"/>
            <a:ext cx="502416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0" spc="-1" strike="noStrike">
                <a:solidFill>
                  <a:srgbClr val="ffff00"/>
                </a:solidFill>
                <a:latin typeface="Broadway"/>
              </a:rPr>
              <a:t>Extra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0" spc="-1" strike="noStrike">
                <a:solidFill>
                  <a:srgbClr val="ffff00"/>
                </a:solidFill>
                <a:latin typeface="Broadway"/>
              </a:rPr>
              <a:t>Slides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640720" y="6632640"/>
            <a:ext cx="144360" cy="142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10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200" y="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g. 342 Eg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8880" y="466560"/>
            <a:ext cx="1430280" cy="40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= 180 k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9240" y="1033560"/>
            <a:ext cx="1227960" cy="40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= 415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000" y="1601640"/>
            <a:ext cx="953640" cy="40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λ</a:t>
            </a:r>
            <a:r>
              <a:rPr b="0" lang="en-AU" sz="1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= 0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311640" y="0"/>
            <a:ext cx="0" cy="68374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9440" y="2341440"/>
            <a:ext cx="1302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θ</a:t>
            </a:r>
            <a:r>
              <a:rPr b="0" lang="en-AU" sz="1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= cos</a:t>
            </a:r>
            <a:r>
              <a:rPr b="0" lang="en-AU" sz="1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2400" y="2946240"/>
            <a:ext cx="1502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θ</a:t>
            </a:r>
            <a:r>
              <a:rPr b="0" lang="en-AU" sz="1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= cos</a:t>
            </a:r>
            <a:r>
              <a:rPr b="0" lang="en-AU" sz="1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0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4400" y="3551400"/>
            <a:ext cx="1325520" cy="405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θ</a:t>
            </a:r>
            <a:r>
              <a:rPr b="0" lang="en-AU" sz="1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= 53.13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91400" y="4156200"/>
            <a:ext cx="1479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AU" sz="1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= P</a:t>
            </a:r>
            <a:r>
              <a:rPr b="0" lang="en-AU" sz="1800" spc="-1" strike="noStrike" baseline="-25000">
                <a:solidFill>
                  <a:srgbClr val="000000"/>
                </a:solidFill>
                <a:latin typeface="Comic Sans MS"/>
              </a:rPr>
              <a:t>T 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tan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1320" y="4761000"/>
            <a:ext cx="2291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AU" sz="1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= 180 k tan</a:t>
            </a:r>
            <a:r>
              <a:rPr b="0" lang="en-AU" sz="1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53.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4720" y="5367240"/>
            <a:ext cx="1619280" cy="405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AU" sz="1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= 240 k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66440" y="466560"/>
            <a:ext cx="953640" cy="40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λ</a:t>
            </a:r>
            <a:r>
              <a:rPr b="0" lang="en-AU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= 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68240" y="1008000"/>
            <a:ext cx="1302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θ</a:t>
            </a:r>
            <a:r>
              <a:rPr b="0" lang="en-AU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= cos</a:t>
            </a:r>
            <a:r>
              <a:rPr b="0" lang="en-AU" sz="1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81200" y="1550880"/>
            <a:ext cx="1502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θ</a:t>
            </a:r>
            <a:r>
              <a:rPr b="0" lang="en-AU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= cos</a:t>
            </a:r>
            <a:r>
              <a:rPr b="0" lang="en-AU" sz="1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81560" y="2093760"/>
            <a:ext cx="1325520" cy="405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θ</a:t>
            </a:r>
            <a:r>
              <a:rPr b="0" lang="en-AU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= 25.84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0200" y="2635200"/>
            <a:ext cx="1479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AU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= P</a:t>
            </a:r>
            <a:r>
              <a:rPr b="0" lang="en-AU" sz="1800" spc="-1" strike="noStrike" baseline="-25000">
                <a:solidFill>
                  <a:srgbClr val="000000"/>
                </a:solidFill>
                <a:latin typeface="Comic Sans MS"/>
              </a:rPr>
              <a:t>T 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tan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98480" y="3178080"/>
            <a:ext cx="2291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AU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= 180 k tan</a:t>
            </a:r>
            <a:r>
              <a:rPr b="0" lang="en-AU" sz="1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25.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87680" y="3720960"/>
            <a:ext cx="1811520" cy="405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AU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= 87.18 k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01000" y="4262400"/>
            <a:ext cx="1435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AU" sz="18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= Q</a:t>
            </a:r>
            <a:r>
              <a:rPr b="0" lang="en-AU" sz="1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– Q</a:t>
            </a:r>
            <a:r>
              <a:rPr b="0" lang="en-AU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513960" y="4805280"/>
            <a:ext cx="2582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AU" sz="18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= (240 – 87.17) k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7040" y="5348160"/>
            <a:ext cx="1950120" cy="405720"/>
          </a:xfrm>
          <a:prstGeom prst="rect">
            <a:avLst/>
          </a:prstGeom>
          <a:solidFill>
            <a:srgbClr val="66ff66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AU" sz="18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= 152.83 k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6808680" y="297000"/>
                <a:ext cx="9414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6808680" y="1266840"/>
                <a:ext cx="149076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1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3</m:t>
                        </m:r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6840000" y="2174760"/>
            <a:ext cx="1340640" cy="405720"/>
          </a:xfrm>
          <a:prstGeom prst="rect">
            <a:avLst/>
          </a:prstGeom>
          <a:solidFill>
            <a:srgbClr val="66ff66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AU" sz="18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= 1.13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6808680" y="2820960"/>
                <a:ext cx="112572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f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6808680" y="3646440"/>
                <a:ext cx="11257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6808680" y="4522680"/>
                <a:ext cx="145728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6838920" y="5348160"/>
            <a:ext cx="1480680" cy="368280"/>
          </a:xfrm>
          <a:prstGeom prst="rect">
            <a:avLst/>
          </a:prstGeom>
          <a:solidFill>
            <a:srgbClr val="66ff66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C = 2,824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335640" y="0"/>
            <a:ext cx="0" cy="68374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640720" y="6632640"/>
            <a:ext cx="144360" cy="142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4120" y="0"/>
            <a:ext cx="153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g. 350 Ex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94640" y="468360"/>
            <a:ext cx="1253520" cy="40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= 3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000" y="1035000"/>
            <a:ext cx="1218600" cy="40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= 11 k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000" y="1601640"/>
            <a:ext cx="953640" cy="40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λ</a:t>
            </a:r>
            <a:r>
              <a:rPr b="0" lang="en-AU" sz="1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=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311640" y="0"/>
            <a:ext cx="0" cy="68374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9440" y="2378160"/>
            <a:ext cx="1302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θ</a:t>
            </a:r>
            <a:r>
              <a:rPr b="0" lang="en-AU" sz="1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= cos</a:t>
            </a:r>
            <a:r>
              <a:rPr b="0" lang="en-AU" sz="1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2400" y="2968560"/>
            <a:ext cx="1502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θ</a:t>
            </a:r>
            <a:r>
              <a:rPr b="0" lang="en-AU" sz="1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= cos</a:t>
            </a:r>
            <a:r>
              <a:rPr b="0" lang="en-AU" sz="1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5920" y="3559320"/>
            <a:ext cx="1002240" cy="405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θ</a:t>
            </a:r>
            <a:r>
              <a:rPr b="0" lang="en-AU" sz="1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= 6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91400" y="4149720"/>
            <a:ext cx="1479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AU" sz="1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= P</a:t>
            </a:r>
            <a:r>
              <a:rPr b="0" lang="en-AU" sz="1800" spc="-1" strike="noStrike" baseline="-25000">
                <a:solidFill>
                  <a:srgbClr val="000000"/>
                </a:solidFill>
                <a:latin typeface="Comic Sans MS"/>
              </a:rPr>
              <a:t>T 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tan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92480" y="4740120"/>
            <a:ext cx="182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AU" sz="1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= 3M tan</a:t>
            </a:r>
            <a:r>
              <a:rPr b="0" lang="en-AU" sz="1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98960" y="5330880"/>
            <a:ext cx="1765800" cy="405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AU" sz="1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= 5.20 M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66440" y="468360"/>
            <a:ext cx="953640" cy="40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λ</a:t>
            </a:r>
            <a:r>
              <a:rPr b="0" lang="en-AU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= 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68240" y="1006560"/>
            <a:ext cx="1302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θ</a:t>
            </a:r>
            <a:r>
              <a:rPr b="0" lang="en-AU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= cos</a:t>
            </a:r>
            <a:r>
              <a:rPr b="0" lang="en-AU" sz="1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81200" y="1544760"/>
            <a:ext cx="1502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θ</a:t>
            </a:r>
            <a:r>
              <a:rPr b="0" lang="en-AU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= cos</a:t>
            </a:r>
            <a:r>
              <a:rPr b="0" lang="en-AU" sz="1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81560" y="2082960"/>
            <a:ext cx="1325520" cy="405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θ</a:t>
            </a:r>
            <a:r>
              <a:rPr b="0" lang="en-AU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= 36.87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0200" y="2620800"/>
            <a:ext cx="1479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AU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= P</a:t>
            </a:r>
            <a:r>
              <a:rPr b="0" lang="en-AU" sz="1800" spc="-1" strike="noStrike" baseline="-25000">
                <a:solidFill>
                  <a:srgbClr val="000000"/>
                </a:solidFill>
                <a:latin typeface="Comic Sans MS"/>
              </a:rPr>
              <a:t>T 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tan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8120" y="3159000"/>
            <a:ext cx="215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AU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= 3M tan</a:t>
            </a:r>
            <a:r>
              <a:rPr b="0" lang="en-AU" sz="1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36.87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7760" y="3697200"/>
            <a:ext cx="1765800" cy="405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AU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= 2.25 M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501000" y="4235400"/>
            <a:ext cx="1435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AU" sz="18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= Q</a:t>
            </a:r>
            <a:r>
              <a:rPr b="0" lang="en-AU" sz="1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– Q</a:t>
            </a:r>
            <a:r>
              <a:rPr b="0" lang="en-AU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22240" y="4773600"/>
            <a:ext cx="2597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AU" sz="18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= (5.20 – 2.25) M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02800" y="5311800"/>
            <a:ext cx="1773360" cy="405720"/>
          </a:xfrm>
          <a:prstGeom prst="rect">
            <a:avLst/>
          </a:prstGeom>
          <a:solidFill>
            <a:srgbClr val="66ff66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AU" sz="18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= 2.95 M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6804000" y="297000"/>
                <a:ext cx="9414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6804000" y="1260360"/>
                <a:ext cx="133344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6851160" y="2181240"/>
            <a:ext cx="1148760" cy="405720"/>
          </a:xfrm>
          <a:prstGeom prst="rect">
            <a:avLst/>
          </a:prstGeom>
          <a:solidFill>
            <a:srgbClr val="66ff66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AU" sz="18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= 41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6804000" y="2820960"/>
                <a:ext cx="112572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f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6804000" y="3639960"/>
                <a:ext cx="11257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6804000" y="4510080"/>
                <a:ext cx="13525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6826680" y="5311800"/>
            <a:ext cx="1349640" cy="368280"/>
          </a:xfrm>
          <a:prstGeom prst="rect">
            <a:avLst/>
          </a:prstGeom>
          <a:solidFill>
            <a:srgbClr val="66ff66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C = 77.6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35640" y="0"/>
            <a:ext cx="0" cy="68374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640720" y="6632640"/>
            <a:ext cx="144360" cy="142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18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g. 350 Ex.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89600" y="816120"/>
            <a:ext cx="156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11 k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760" y="333360"/>
            <a:ext cx="160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3 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27480" y="333360"/>
            <a:ext cx="16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λ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= 0.5 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1160" y="130032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= 50 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42240" y="816120"/>
            <a:ext cx="15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θ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= cos</a:t>
            </a:r>
            <a:r>
              <a:rPr b="0" lang="en-AU" sz="24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469600" y="1300320"/>
            <a:ext cx="1172880" cy="531720"/>
          </a:xfrm>
          <a:prstGeom prst="rect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82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θ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= 6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64920" y="2216160"/>
            <a:ext cx="1942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= P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tan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496240" y="3365640"/>
            <a:ext cx="2289600" cy="582120"/>
          </a:xfrm>
          <a:prstGeom prst="rect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82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= 5.20 M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67440" y="2790720"/>
            <a:ext cx="2406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= 3M tan 6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13160" y="2216160"/>
            <a:ext cx="1942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= P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tan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44120" y="3365640"/>
            <a:ext cx="2289600" cy="582120"/>
          </a:xfrm>
          <a:prstGeom prst="rect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82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= 2.25 M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24680" y="2790720"/>
            <a:ext cx="2836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= 3M tan 36.87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59520" y="333360"/>
            <a:ext cx="16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λ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= 0.8 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74280" y="816120"/>
            <a:ext cx="15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θ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= cos</a:t>
            </a:r>
            <a:r>
              <a:rPr b="0" lang="en-AU" sz="24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10640" y="1300320"/>
            <a:ext cx="1602720" cy="531720"/>
          </a:xfrm>
          <a:prstGeom prst="rect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82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θ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= 36.87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12080" y="5262480"/>
            <a:ext cx="2289600" cy="582120"/>
          </a:xfrm>
          <a:prstGeom prst="rect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82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= 2.95 M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04520" y="4221000"/>
            <a:ext cx="1838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= Q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– Q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30080" y="4741920"/>
            <a:ext cx="338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= (5.20 – 2.25) M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50960" y="5262480"/>
            <a:ext cx="2201400" cy="582120"/>
          </a:xfrm>
          <a:prstGeom prst="rect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82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= 983 k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67440" y="4411800"/>
                <a:ext cx="13222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2195640" y="0"/>
            <a:ext cx="3132000" cy="4067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77080" y="0"/>
            <a:ext cx="3132000" cy="4067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640720" y="6632640"/>
            <a:ext cx="144360" cy="142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50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18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g. 350 Ex.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77320" y="3220920"/>
            <a:ext cx="1461960" cy="582120"/>
          </a:xfrm>
          <a:prstGeom prst="rect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82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= 41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104800" y="3220920"/>
            <a:ext cx="1842840" cy="582120"/>
          </a:xfrm>
          <a:prstGeom prst="rect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82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= 77.5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μ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612880" y="1233360"/>
                <a:ext cx="12970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489600" y="800280"/>
            <a:ext cx="156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11 k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27760" y="360360"/>
            <a:ext cx="160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3 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1160" y="130032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= 50 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612880" y="2265480"/>
                <a:ext cx="17560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83</m:t>
                        </m:r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5067360" y="1258920"/>
                <a:ext cx="16524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5067360" y="2278080"/>
                <a:ext cx="20350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540360" y="4471920"/>
            <a:ext cx="179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= √3V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476280" y="5006880"/>
                <a:ext cx="1647720" cy="9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2867040" y="4219560"/>
            <a:ext cx="16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λ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= 0.5 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807160" y="4219560"/>
            <a:ext cx="16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λ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= 0.8 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874960" y="4753080"/>
                <a:ext cx="253224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M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k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5815080" y="4753080"/>
                <a:ext cx="255744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M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k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2950560" y="5632560"/>
            <a:ext cx="1861920" cy="582120"/>
          </a:xfrm>
          <a:prstGeom prst="rect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82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Comic Sans MS"/>
              </a:rPr>
              <a:t>L1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= 314.9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906520" y="5632560"/>
            <a:ext cx="1861920" cy="582120"/>
          </a:xfrm>
          <a:prstGeom prst="rect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82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Comic Sans MS"/>
              </a:rPr>
              <a:t>L2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= 196.8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67880" y="398520"/>
            <a:ext cx="2201400" cy="582120"/>
          </a:xfrm>
          <a:prstGeom prst="rect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82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= 983 k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5205240" y="250920"/>
                <a:ext cx="11448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6764040" y="398520"/>
            <a:ext cx="1830960" cy="582120"/>
          </a:xfrm>
          <a:prstGeom prst="rect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82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= 6.35 k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195640" y="1125360"/>
            <a:ext cx="2592360" cy="295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88000" y="1125360"/>
            <a:ext cx="2592360" cy="295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16000" y="4076640"/>
            <a:ext cx="2448000" cy="2197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664000" y="4076640"/>
            <a:ext cx="2952720" cy="2197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616720" y="4076640"/>
            <a:ext cx="2952720" cy="2197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640720" y="6632640"/>
            <a:ext cx="144360" cy="142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500"/>
                            </p:stCondLst>
                            <p:childTnLst>
                              <p:par>
                                <p:cTn id="3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500"/>
                            </p:stCondLst>
                            <p:childTnLst>
                              <p:par>
                                <p:cTn id="4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20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003840" y="285840"/>
            <a:ext cx="3137400" cy="62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700" spc="-1" strike="noStrike">
                <a:solidFill>
                  <a:srgbClr val="00cc99"/>
                </a:solidFill>
                <a:latin typeface="Comic Sans MS"/>
              </a:rPr>
              <a:t>9</a:t>
            </a:r>
            <a:endParaRPr b="0" lang="en-US" sz="40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640720" y="6632640"/>
            <a:ext cx="144360" cy="142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427040" y="0"/>
            <a:ext cx="6291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Comic Sans MS"/>
              </a:rPr>
              <a:t>Example Calculations</a:t>
            </a:r>
            <a:br>
              <a:rPr sz="4800"/>
            </a:br>
            <a:r>
              <a:rPr b="0" lang="en-US" sz="4800" spc="-1" strike="noStrike">
                <a:solidFill>
                  <a:srgbClr val="000066"/>
                </a:solidFill>
                <a:latin typeface="Comic Sans MS"/>
              </a:rPr>
              <a:t>Pp. 160 - 16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465120" y="2459160"/>
                <a:ext cx="113364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4125960" y="5192640"/>
                <a:ext cx="17064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I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125960" y="5697360"/>
                <a:ext cx="1706400" cy="3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4125960" y="4605480"/>
                <a:ext cx="11574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7027920" y="2638440"/>
                <a:ext cx="165096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f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643280" y="2457360"/>
                <a:ext cx="191772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f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1427040" y="1592280"/>
            <a:ext cx="6291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C I V I 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063880" y="2638440"/>
                <a:ext cx="211284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465120" y="3470400"/>
                <a:ext cx="287028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65120" y="4394160"/>
                <a:ext cx="292248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465120" y="5319720"/>
                <a:ext cx="292752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 flipV="1">
            <a:off x="6030720" y="4033800"/>
            <a:ext cx="2481840" cy="208296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19200000">
            <a:off x="7050240" y="437112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27840" y="6114960"/>
            <a:ext cx="2482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215480" y="624852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8510760" y="4035240"/>
            <a:ext cx="0" cy="208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583840" y="49118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687000" y="5526000"/>
            <a:ext cx="3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 rot="16200000">
            <a:off x="4776480" y="4632840"/>
            <a:ext cx="2526840" cy="266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490" y="80"/>
                </a:moveTo>
                <a:arcTo wR="10800" hR="10800" stAng="-5817920" swAng="2617905"/>
                <a:lnTo>
                  <a:pt x="10800" y="10800"/>
                </a:lnTo>
                <a:close/>
              </a:path>
              <a:path fill="none" w="21600" h="21600">
                <a:moveTo>
                  <a:pt x="9490" y="80"/>
                </a:moveTo>
                <a:arcTo wR="10800" hR="10800" stAng="-5817920" swAng="2617905"/>
              </a:path>
            </a:pathLst>
          </a:custGeom>
          <a:noFill/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4032360" y="3392640"/>
                <a:ext cx="181116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8640720" y="6632640"/>
            <a:ext cx="144360" cy="142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 rot="60000">
            <a:off x="2809440" y="3141720"/>
            <a:ext cx="3454560" cy="19526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 rot="60000">
            <a:off x="2738160" y="4932360"/>
            <a:ext cx="3454200" cy="19526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rcRect l="0" t="0" r="52459" b="0"/>
          <a:stretch/>
        </p:blipFill>
        <p:spPr>
          <a:xfrm>
            <a:off x="1584360" y="3321000"/>
            <a:ext cx="5003640" cy="6364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619280" y="3392640"/>
            <a:ext cx="43178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19560" y="3230640"/>
            <a:ext cx="349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619280" y="2960640"/>
            <a:ext cx="2879640" cy="432000"/>
            <a:chOff x="1619280" y="2960640"/>
            <a:chExt cx="2879640" cy="432000"/>
          </a:xfrm>
        </p:grpSpPr>
        <p:sp>
          <p:nvSpPr>
            <p:cNvPr id="184" name=""/>
            <p:cNvSpPr/>
            <p:nvPr/>
          </p:nvSpPr>
          <p:spPr>
            <a:xfrm>
              <a:off x="1619280" y="3392640"/>
              <a:ext cx="287964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190320" y="2960640"/>
              <a:ext cx="1109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V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= 80 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-12240" y="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g. 170 Q.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4"/>
          <a:srcRect l="0" t="0" r="0" b="67167"/>
          <a:stretch/>
        </p:blipFill>
        <p:spPr>
          <a:xfrm>
            <a:off x="3935520" y="3357720"/>
            <a:ext cx="636480" cy="3456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170160" y="6630840"/>
            <a:ext cx="4318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4500720" y="3392640"/>
            <a:ext cx="431280" cy="3238200"/>
            <a:chOff x="4500720" y="3392640"/>
            <a:chExt cx="431280" cy="3238200"/>
          </a:xfrm>
        </p:grpSpPr>
        <p:sp>
          <p:nvSpPr>
            <p:cNvPr id="190" name=""/>
            <p:cNvSpPr/>
            <p:nvPr/>
          </p:nvSpPr>
          <p:spPr>
            <a:xfrm>
              <a:off x="4500720" y="3392640"/>
              <a:ext cx="0" cy="32382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5400000">
              <a:off x="4173840" y="4473720"/>
              <a:ext cx="1110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V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= 90 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5583960" y="2420640"/>
            <a:ext cx="360720" cy="223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486" y="1618"/>
                </a:moveTo>
                <a:arcTo wR="10800" hR="10800" stAng="-3493995" swAng="2710785"/>
                <a:lnTo>
                  <a:pt x="10800" y="10800"/>
                </a:lnTo>
                <a:close/>
              </a:path>
              <a:path fill="none" w="21600" h="21600">
                <a:moveTo>
                  <a:pt x="16486" y="1618"/>
                </a:moveTo>
                <a:arcTo wR="10800" hR="10800" stAng="-3493995" swAng="2710785"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17886600">
            <a:off x="5950800" y="2227320"/>
            <a:ext cx="434520" cy="208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217" y="2950"/>
                </a:moveTo>
                <a:arcTo wR="10800" hR="10800" stAng="-2797423" swAng="2797423"/>
                <a:lnTo>
                  <a:pt x="10800" y="10800"/>
                </a:lnTo>
                <a:close/>
              </a:path>
              <a:path fill="none" w="21600" h="21600">
                <a:moveTo>
                  <a:pt x="18217" y="2950"/>
                </a:moveTo>
                <a:arcTo wR="10800" hR="10800" stAng="-2797423" swAng="2797423"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 rot="60000">
            <a:off x="-142920" y="1700280"/>
            <a:ext cx="3454560" cy="1952640"/>
          </a:xfrm>
          <a:prstGeom prst="rect">
            <a:avLst/>
          </a:prstGeom>
          <a:ln w="0">
            <a:noFill/>
          </a:ln>
        </p:spPr>
      </p:pic>
      <p:grpSp>
        <p:nvGrpSpPr>
          <p:cNvPr id="195" name=""/>
          <p:cNvGrpSpPr/>
          <p:nvPr/>
        </p:nvGrpSpPr>
        <p:grpSpPr>
          <a:xfrm>
            <a:off x="-2629080" y="-3051000"/>
            <a:ext cx="8637480" cy="8637480"/>
            <a:chOff x="-2629080" y="-3051000"/>
            <a:chExt cx="8637480" cy="8637480"/>
          </a:xfrm>
        </p:grpSpPr>
        <p:sp>
          <p:nvSpPr>
            <p:cNvPr id="196" name=""/>
            <p:cNvSpPr/>
            <p:nvPr/>
          </p:nvSpPr>
          <p:spPr>
            <a:xfrm>
              <a:off x="4456440" y="1333440"/>
              <a:ext cx="1230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Comic Sans MS"/>
                </a:rPr>
                <a:t>V</a:t>
              </a:r>
              <a:r>
                <a:rPr b="0" lang="en-AU" sz="1800" spc="-1" strike="noStrike" baseline="-25000">
                  <a:solidFill>
                    <a:srgbClr val="000000"/>
                  </a:solidFill>
                  <a:latin typeface="Comic Sans MS"/>
                </a:rPr>
                <a:t>T</a:t>
              </a:r>
              <a:r>
                <a:rPr b="0" lang="en-AU" sz="1800" spc="-1" strike="noStrike">
                  <a:solidFill>
                    <a:srgbClr val="000000"/>
                  </a:solidFill>
                  <a:latin typeface="Comic Sans MS"/>
                </a:rPr>
                <a:t> = 120 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-2629080" y="-3051000"/>
              <a:ext cx="8637480" cy="8637480"/>
              <a:chOff x="-2629080" y="-3051000"/>
              <a:chExt cx="8637480" cy="8637480"/>
            </a:xfrm>
          </p:grpSpPr>
          <p:sp>
            <p:nvSpPr>
              <p:cNvPr id="198" name=""/>
              <p:cNvSpPr/>
              <p:nvPr/>
            </p:nvSpPr>
            <p:spPr>
              <a:xfrm>
                <a:off x="1690560" y="1266840"/>
                <a:ext cx="4317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-2629080" y="-3051000"/>
                <a:ext cx="8637480" cy="86374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0" name=""/>
          <p:cNvGrpSpPr/>
          <p:nvPr/>
        </p:nvGrpSpPr>
        <p:grpSpPr>
          <a:xfrm>
            <a:off x="-649440" y="-2008080"/>
            <a:ext cx="7917120" cy="7916760"/>
            <a:chOff x="-649440" y="-2008080"/>
            <a:chExt cx="7917120" cy="7916760"/>
          </a:xfrm>
        </p:grpSpPr>
        <p:sp>
          <p:nvSpPr>
            <p:cNvPr id="201" name=""/>
            <p:cNvSpPr/>
            <p:nvPr/>
          </p:nvSpPr>
          <p:spPr>
            <a:xfrm>
              <a:off x="5835240" y="1989000"/>
              <a:ext cx="1227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V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L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= 110 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-649440" y="-2008080"/>
              <a:ext cx="7917120" cy="7916760"/>
              <a:chOff x="-649440" y="-2008080"/>
              <a:chExt cx="7917120" cy="7916760"/>
            </a:xfrm>
          </p:grpSpPr>
          <p:sp>
            <p:nvSpPr>
              <p:cNvPr id="203" name=""/>
              <p:cNvSpPr/>
              <p:nvPr/>
            </p:nvSpPr>
            <p:spPr>
              <a:xfrm>
                <a:off x="3309840" y="1949400"/>
                <a:ext cx="3957480" cy="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-649440" y="-2008080"/>
                <a:ext cx="7917120" cy="79167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05" name="" descr=""/>
          <p:cNvPicPr/>
          <p:nvPr/>
        </p:nvPicPr>
        <p:blipFill>
          <a:blip r:embed="rId6"/>
          <a:srcRect l="0" t="0" r="52459" b="0"/>
          <a:stretch/>
        </p:blipFill>
        <p:spPr>
          <a:xfrm>
            <a:off x="3276720" y="1881360"/>
            <a:ext cx="5003640" cy="6364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7"/>
          <a:srcRect l="0" t="0" r="52459" b="0"/>
          <a:stretch/>
        </p:blipFill>
        <p:spPr>
          <a:xfrm>
            <a:off x="1655640" y="1197000"/>
            <a:ext cx="5004000" cy="636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8640720" y="6632640"/>
            <a:ext cx="144360" cy="142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3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000"/>
                            </p:stCondLst>
                            <p:childTnLst>
                              <p:par>
                                <p:cTn id="5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5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0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34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8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0.00046 L 0.13038 0.68287 E">
                                      <p:cBhvr>
                                        <p:cTn id="544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2500"/>
                            </p:stCondLst>
                            <p:childTnLst>
                              <p:par>
                                <p:cTn id="5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59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3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2.22222E-006 L -0.00764 0.30996 E">
                                      <p:cBhvr>
                                        <p:cTn id="569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2500"/>
                            </p:stCondLst>
                            <p:childTnLst>
                              <p:par>
                                <p:cTn id="5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4140000">
                                      <p:cBhvr>
                                        <p:cTn id="577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2000"/>
                            </p:stCondLst>
                            <p:childTnLst>
                              <p:par>
                                <p:cTn id="57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60000">
                                      <p:cBhvr>
                                        <p:cTn id="580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1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85185E-006 L -0.17343 -0.47222 E">
                                      <p:cBhvr>
                                        <p:cTn id="600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2500"/>
                            </p:stCondLst>
                            <p:childTnLst>
                              <p:par>
                                <p:cTn id="6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3000"/>
                            </p:stCondLst>
                            <p:childTnLst>
                              <p:par>
                                <p:cTn id="6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21:48:05Z</dcterms:created>
  <dc:creator>Authorised DET User</dc:creator>
  <dc:description/>
  <dc:language>en-US</dc:language>
  <cp:lastModifiedBy>Authorised DET User</cp:lastModifiedBy>
  <dcterms:modified xsi:type="dcterms:W3CDTF">2006-10-31T23:46:07Z</dcterms:modified>
  <cp:revision>4</cp:revision>
  <dc:subject/>
  <dc:title>Slide 1</dc:title>
</cp:coreProperties>
</file>