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87A-EDCB-4B65-B65B-B3A4D28B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1BF-2DB5-4FE2-B276-A1B8EA9C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188-A993-4380-B5B2-D781A0F0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372-1307-46C1-8C43-A08C8471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885-D5DB-4EE4-A3E5-4E282A86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304-D71E-4877-AAAA-6F510C4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F8D-4AB0-41A9-A036-73EFE1C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CFE-BE2E-48AF-B9E9-1ECB1883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EC2-11A3-4F19-8B07-CF1FE040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7D2-7951-491C-912F-08DFC48F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281-95A1-4EF1-B72D-79B8D01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88B-44F6-47ED-8446-F4F968EA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" y="6516360"/>
            <a:ext cx="10461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258560" y="6545160"/>
            <a:ext cx="66610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316720" y="6560640"/>
            <a:ext cx="7189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0136-2814-44B8-906E-CD58A458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790640"/>
            <a:ext cx="8532720" cy="45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55280" y="187200"/>
            <a:ext cx="58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AC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Princip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137-3079-4022-8D2B-7FD9ACB1DA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8209080" cy="5322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18880" y="13572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a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2160" y="242100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0520" y="4365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riod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64560" y="4041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773840" y="168768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75640" y="328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41385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00360" y="29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2240" y="42465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0569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933720"/>
            <a:ext cx="0" cy="682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168768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676520"/>
            <a:ext cx="1225440" cy="1224000"/>
            <a:chOff x="1042920" y="1676520"/>
            <a:chExt cx="1225440" cy="1224000"/>
          </a:xfrm>
        </p:grpSpPr>
        <p:sp>
          <p:nvSpPr>
            <p:cNvPr id="126" name=""/>
            <p:cNvSpPr/>
            <p:nvPr/>
          </p:nvSpPr>
          <p:spPr>
            <a:xfrm>
              <a:off x="1042920" y="1676520"/>
              <a:ext cx="1225440" cy="12240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0200" y="2287800"/>
              <a:ext cx="61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000000"/>
                  </a:solidFill>
                  <a:latin typeface="Times New Roman"/>
                </a:rPr>
                <a:t>+ 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268360" y="2900160"/>
            <a:ext cx="1225440" cy="1223640"/>
            <a:chOff x="2268360" y="2900160"/>
            <a:chExt cx="1225440" cy="1223640"/>
          </a:xfrm>
        </p:grpSpPr>
        <p:sp>
          <p:nvSpPr>
            <p:cNvPr id="129" name=""/>
            <p:cNvSpPr/>
            <p:nvPr/>
          </p:nvSpPr>
          <p:spPr>
            <a:xfrm flipV="1">
              <a:off x="2268360" y="2899800"/>
              <a:ext cx="1225440" cy="122364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8720" y="31525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000000"/>
                  </a:solidFill>
                  <a:latin typeface="Times New Roman"/>
                </a:rPr>
                <a:t>- 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030-4C83-4CEE-A1A3-579D77EA1E2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1760" y="360360"/>
            <a:ext cx="8964720" cy="572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41920" y="1197000"/>
                <a:ext cx="1458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672000" y="4041720"/>
                <a:ext cx="1439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C37-B019-47CD-B583-2EFBEFE48DE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55520"/>
            <a:ext cx="8496000" cy="654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70440" y="41846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 x 340 = 68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1360" y="471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4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6800" y="5267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87280" y="5613480"/>
                <a:ext cx="40341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 x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50 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857-971F-435E-96C9-5B3FC85962E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11280" y="2097000"/>
            <a:ext cx="6769080" cy="505080"/>
          </a:xfrm>
          <a:prstGeom prst="rect">
            <a:avLst/>
          </a:prstGeom>
          <a:solidFill>
            <a:srgbClr val="00ff00">
              <a:alpha val="25000"/>
            </a:srgbClr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11280" y="1592280"/>
            <a:ext cx="6769080" cy="504720"/>
          </a:xfrm>
          <a:prstGeom prst="rect">
            <a:avLst/>
          </a:prstGeom>
          <a:solidFill>
            <a:srgbClr val="00ff00">
              <a:alpha val="25000"/>
            </a:srgbClr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47640" y="7920"/>
            <a:ext cx="7831080" cy="678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16000" y="873000"/>
            <a:ext cx="7128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1089000"/>
            <a:ext cx="68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1085760"/>
            <a:ext cx="1042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71640" y="1542960"/>
            <a:ext cx="3095640" cy="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943080" y="3936960"/>
            <a:ext cx="2665800" cy="1874520"/>
            <a:chOff x="3943080" y="3936960"/>
            <a:chExt cx="2665800" cy="1874520"/>
          </a:xfrm>
        </p:grpSpPr>
        <p:grpSp>
          <p:nvGrpSpPr>
            <p:cNvPr id="151" name=""/>
            <p:cNvGrpSpPr/>
            <p:nvPr/>
          </p:nvGrpSpPr>
          <p:grpSpPr>
            <a:xfrm>
              <a:off x="3943080" y="3936960"/>
              <a:ext cx="1325880" cy="934920"/>
              <a:chOff x="3943080" y="3936960"/>
              <a:chExt cx="1325880" cy="934920"/>
            </a:xfrm>
          </p:grpSpPr>
          <p:sp>
            <p:nvSpPr>
              <p:cNvPr id="152" name=""/>
              <p:cNvSpPr/>
              <p:nvPr/>
            </p:nvSpPr>
            <p:spPr>
              <a:xfrm>
                <a:off x="4597200" y="3936960"/>
                <a:ext cx="671760" cy="93492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942720" y="3936960"/>
                <a:ext cx="671400" cy="93492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283000" y="4876560"/>
              <a:ext cx="1325880" cy="934920"/>
              <a:chOff x="5283000" y="4876560"/>
              <a:chExt cx="1325880" cy="934920"/>
            </a:xfrm>
          </p:grpSpPr>
          <p:sp>
            <p:nvSpPr>
              <p:cNvPr id="155" name=""/>
              <p:cNvSpPr/>
              <p:nvPr/>
            </p:nvSpPr>
            <p:spPr>
              <a:xfrm flipV="1">
                <a:off x="5937120" y="4876200"/>
                <a:ext cx="671760" cy="93492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5282640" y="4876200"/>
                <a:ext cx="671400" cy="93492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3793680" y="4653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9360" y="4329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11120" y="414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9600" y="40766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31800" y="3848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5600" y="3987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3920" y="3735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8200" y="4083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93680" y="3843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6640" y="4322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7080" y="414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66280" y="4653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25680" y="4653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56640" y="49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55720" y="5160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6400" y="5241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5760" y="54975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7680" y="5337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09680" y="55990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4280" y="5241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25680" y="54910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17280" y="4989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78040" y="50846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65240" y="4653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09440" y="4665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617520" y="3922560"/>
            <a:ext cx="671400" cy="935280"/>
          </a:xfrm>
          <a:custGeom>
            <a:avLst/>
            <a:gdLst/>
            <a:ahLst/>
            <a:rect l="l" t="t" r="r" b="b"/>
            <a:pathLst>
              <a:path w="423" h="589">
                <a:moveTo>
                  <a:pt x="0" y="3"/>
                </a:moveTo>
                <a:cubicBezTo>
                  <a:pt x="15" y="6"/>
                  <a:pt x="53" y="0"/>
                  <a:pt x="89" y="25"/>
                </a:cubicBezTo>
                <a:cubicBezTo>
                  <a:pt x="125" y="50"/>
                  <a:pt x="174" y="93"/>
                  <a:pt x="216" y="154"/>
                </a:cubicBezTo>
                <a:cubicBezTo>
                  <a:pt x="258" y="215"/>
                  <a:pt x="308" y="320"/>
                  <a:pt x="342" y="392"/>
                </a:cubicBezTo>
                <a:cubicBezTo>
                  <a:pt x="376" y="464"/>
                  <a:pt x="406" y="548"/>
                  <a:pt x="423" y="589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21D-55FA-40A7-930D-263768A7FE9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0"/>
                            </p:stCondLst>
                            <p:childTnLst>
                              <p:par>
                                <p:cTn id="57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158840" y="2071800"/>
            <a:ext cx="784440" cy="684000"/>
            <a:chOff x="1158840" y="2071800"/>
            <a:chExt cx="784440" cy="684000"/>
          </a:xfrm>
        </p:grpSpPr>
        <p:sp>
          <p:nvSpPr>
            <p:cNvPr id="184" name=""/>
            <p:cNvSpPr/>
            <p:nvPr/>
          </p:nvSpPr>
          <p:spPr>
            <a:xfrm>
              <a:off x="1158840" y="2071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80960" y="2071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43280" y="2071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68320" y="2071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008000" y="44280"/>
            <a:ext cx="111600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8000" y="4772160"/>
            <a:ext cx="1116000" cy="1944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82760" y="503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83120" y="739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2376360"/>
            <a:ext cx="0" cy="21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3475080"/>
            <a:ext cx="82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72760" y="3403440"/>
            <a:ext cx="1946160" cy="142920"/>
            <a:chOff x="572760" y="3403440"/>
            <a:chExt cx="1946160" cy="142920"/>
          </a:xfrm>
        </p:grpSpPr>
        <p:sp>
          <p:nvSpPr>
            <p:cNvPr id="195" name=""/>
            <p:cNvSpPr/>
            <p:nvPr/>
          </p:nvSpPr>
          <p:spPr>
            <a:xfrm rot="5400000">
              <a:off x="2375280" y="3402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573480" y="34027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47280" y="354636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47280" y="34034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059280" y="3367080"/>
            <a:ext cx="1443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132000" y="2521080"/>
            <a:ext cx="4284360" cy="2050560"/>
            <a:chOff x="3132000" y="2521080"/>
            <a:chExt cx="4284360" cy="2050560"/>
          </a:xfrm>
        </p:grpSpPr>
        <p:sp>
          <p:nvSpPr>
            <p:cNvPr id="201" name=""/>
            <p:cNvSpPr/>
            <p:nvPr/>
          </p:nvSpPr>
          <p:spPr>
            <a:xfrm>
              <a:off x="6345360" y="2521080"/>
              <a:ext cx="1071000" cy="2050560"/>
            </a:xfrm>
            <a:custGeom>
              <a:avLst/>
              <a:gdLst/>
              <a:ahLst/>
              <a:rect l="l" t="t" r="r" b="b"/>
              <a:pathLst>
                <a:path w="1814" h="1361">
                  <a:moveTo>
                    <a:pt x="0" y="658"/>
                  </a:moveTo>
                  <a:cubicBezTo>
                    <a:pt x="151" y="329"/>
                    <a:pt x="303" y="0"/>
                    <a:pt x="454" y="0"/>
                  </a:cubicBezTo>
                  <a:cubicBezTo>
                    <a:pt x="605" y="0"/>
                    <a:pt x="760" y="431"/>
                    <a:pt x="907" y="658"/>
                  </a:cubicBezTo>
                  <a:cubicBezTo>
                    <a:pt x="1054" y="885"/>
                    <a:pt x="1187" y="1361"/>
                    <a:pt x="1338" y="1361"/>
                  </a:cubicBezTo>
                  <a:cubicBezTo>
                    <a:pt x="1489" y="1361"/>
                    <a:pt x="1735" y="775"/>
                    <a:pt x="1814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74360" y="2521080"/>
              <a:ext cx="1071000" cy="2050560"/>
            </a:xfrm>
            <a:custGeom>
              <a:avLst/>
              <a:gdLst/>
              <a:ahLst/>
              <a:rect l="l" t="t" r="r" b="b"/>
              <a:pathLst>
                <a:path w="1814" h="1361">
                  <a:moveTo>
                    <a:pt x="0" y="658"/>
                  </a:moveTo>
                  <a:cubicBezTo>
                    <a:pt x="151" y="329"/>
                    <a:pt x="303" y="0"/>
                    <a:pt x="454" y="0"/>
                  </a:cubicBezTo>
                  <a:cubicBezTo>
                    <a:pt x="605" y="0"/>
                    <a:pt x="760" y="431"/>
                    <a:pt x="907" y="658"/>
                  </a:cubicBezTo>
                  <a:cubicBezTo>
                    <a:pt x="1054" y="885"/>
                    <a:pt x="1187" y="1361"/>
                    <a:pt x="1338" y="1361"/>
                  </a:cubicBezTo>
                  <a:cubicBezTo>
                    <a:pt x="1489" y="1361"/>
                    <a:pt x="1735" y="775"/>
                    <a:pt x="1814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03000" y="2521080"/>
              <a:ext cx="1071360" cy="2050560"/>
            </a:xfrm>
            <a:custGeom>
              <a:avLst/>
              <a:gdLst/>
              <a:ahLst/>
              <a:rect l="l" t="t" r="r" b="b"/>
              <a:pathLst>
                <a:path w="1814" h="1361">
                  <a:moveTo>
                    <a:pt x="0" y="658"/>
                  </a:moveTo>
                  <a:cubicBezTo>
                    <a:pt x="151" y="329"/>
                    <a:pt x="303" y="0"/>
                    <a:pt x="454" y="0"/>
                  </a:cubicBezTo>
                  <a:cubicBezTo>
                    <a:pt x="605" y="0"/>
                    <a:pt x="760" y="431"/>
                    <a:pt x="907" y="658"/>
                  </a:cubicBezTo>
                  <a:cubicBezTo>
                    <a:pt x="1054" y="885"/>
                    <a:pt x="1187" y="1361"/>
                    <a:pt x="1338" y="1361"/>
                  </a:cubicBezTo>
                  <a:cubicBezTo>
                    <a:pt x="1489" y="1361"/>
                    <a:pt x="1735" y="775"/>
                    <a:pt x="1814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32000" y="2521080"/>
              <a:ext cx="1071000" cy="2050560"/>
            </a:xfrm>
            <a:custGeom>
              <a:avLst/>
              <a:gdLst/>
              <a:ahLst/>
              <a:rect l="l" t="t" r="r" b="b"/>
              <a:pathLst>
                <a:path w="1814" h="1361">
                  <a:moveTo>
                    <a:pt x="0" y="658"/>
                  </a:moveTo>
                  <a:cubicBezTo>
                    <a:pt x="151" y="329"/>
                    <a:pt x="303" y="0"/>
                    <a:pt x="454" y="0"/>
                  </a:cubicBezTo>
                  <a:cubicBezTo>
                    <a:pt x="605" y="0"/>
                    <a:pt x="760" y="431"/>
                    <a:pt x="907" y="658"/>
                  </a:cubicBezTo>
                  <a:cubicBezTo>
                    <a:pt x="1054" y="885"/>
                    <a:pt x="1187" y="1361"/>
                    <a:pt x="1338" y="1361"/>
                  </a:cubicBezTo>
                  <a:cubicBezTo>
                    <a:pt x="1489" y="1361"/>
                    <a:pt x="1735" y="775"/>
                    <a:pt x="1814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258920" y="209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5120" y="27144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9ccff"/>
                </a:solidFill>
                <a:latin typeface="Arial"/>
              </a:rPr>
              <a:t>Single Phas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3320" y="504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48000" y="249228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9560" y="21337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008000" y="245736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0" y="227664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A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5720" y="43290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7640" y="360828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50920" y="44370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40480" y="425772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en-A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E60-C7C5-4D4E-A3A9-B421EF0CA27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C 0.0052 -0.07037 0.01284 -0.1375 0.0276 -0.1375 C 0.04427 -0.1375 0.05017 -0.07037 0.05573 -2.22222E-006 C 0.06302 0.07824 0.06857 0.15672 0.08732 0.15672 C 0.10399 0.15672 0.10955 0.07824 0.11684 -2.22222E-006 C 0.12048 -0.07037 0.12795 -0.1375 0.14461 -0.1375 C 0.15955 -0.1375 0.16701 -0.07037 0.17257 -2.22222E-006 C 0.17812 0.07824 0.18576 0.15672 0.20243 0.15672 C 0.21909 0.15672 0.23229 -2.22221999999995E-006 0.23229 0.0007 C 0.2375 -0.07037 0.2434 -0.1375 0.25989 -0.1375 C 0.27656 -0.1375 0.28246 -0.07037 0.28802 -2.22222E-006 C 0.29531 0.07824 0.30086 0.15672 0.31961 0.15672 C 0.33628 0.15672 0.34184 0.07824 0.34722 -2.22222E-006 C 0.35468 -0.07037 0.36024 -0.1375 0.37691 -0.1375 C 0.39184 -0.1375 0.3993 -0.07037 0.40486 -2.22222E-006 C 0.41041 0.07824 0.41805 0.15672 0.43472 0.15672 C 0.45139 0.15672 0.45694 0.07824 0.46458 -2.22222E-006 E">
                                      <p:cBhvr>
                                        <p:cTn id="702" dur="80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18" dur="20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80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22" presetSubtype="1">
                                  <p:stCondLst>
                                    <p:cond delay="16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22" presetSubtype="4">
                                  <p:stCondLst>
                                    <p:cond delay="16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80000"/>
                            </p:stCondLst>
                            <p:childTnLst>
                              <p:par>
                                <p:cTn id="771" nodeType="afterEffect" fill="hold" presetClass="exit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03280" y="55440"/>
            <a:ext cx="802944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2920" y="3465360"/>
            <a:ext cx="885816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3321000"/>
            <a:ext cx="9072720" cy="3210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3280" y="0"/>
            <a:ext cx="8136000" cy="3514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527640" y="903240"/>
            <a:ext cx="15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 l v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64640" y="4329000"/>
            <a:ext cx="1448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64640" y="4437000"/>
            <a:ext cx="159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07D-8991-4F4A-B5C1-8BA6044C6C3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62148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03280" y="4952880"/>
            <a:ext cx="417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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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87760" y="49640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601640"/>
            <a:ext cx="3889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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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 A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0000" y="5845320"/>
            <a:ext cx="47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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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 75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628164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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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0000" y="5392800"/>
            <a:ext cx="4319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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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055960"/>
            <a:ext cx="3997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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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 8.48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13320" y="5400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2160" y="5856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3440" y="6292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3080" y="2066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1601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600-5E24-4F05-B992-E76A8C381DC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050560" y="979560"/>
            <a:ext cx="5957280" cy="4896360"/>
            <a:chOff x="2050560" y="979560"/>
            <a:chExt cx="5957280" cy="4896360"/>
          </a:xfrm>
        </p:grpSpPr>
        <p:grpSp>
          <p:nvGrpSpPr>
            <p:cNvPr id="240" name=""/>
            <p:cNvGrpSpPr/>
            <p:nvPr/>
          </p:nvGrpSpPr>
          <p:grpSpPr>
            <a:xfrm>
              <a:off x="2050560" y="979560"/>
              <a:ext cx="2976120" cy="2449080"/>
              <a:chOff x="2050560" y="979560"/>
              <a:chExt cx="2976120" cy="2449080"/>
            </a:xfrm>
          </p:grpSpPr>
          <p:sp>
            <p:nvSpPr>
              <p:cNvPr id="241" name=""/>
              <p:cNvSpPr/>
              <p:nvPr/>
            </p:nvSpPr>
            <p:spPr>
              <a:xfrm>
                <a:off x="3518640" y="979560"/>
                <a:ext cx="1508040" cy="244908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050200" y="979560"/>
                <a:ext cx="1507320" cy="244908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031720" y="3426840"/>
              <a:ext cx="2976120" cy="2449080"/>
              <a:chOff x="5031720" y="3426840"/>
              <a:chExt cx="2976120" cy="244908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6499800" y="3426480"/>
                <a:ext cx="1508040" cy="244908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5031360" y="3426480"/>
                <a:ext cx="1507320" cy="244908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2050920" y="549360"/>
            <a:ext cx="6445080" cy="5759280"/>
            <a:chOff x="2050920" y="549360"/>
            <a:chExt cx="6445080" cy="5759280"/>
          </a:xfrm>
        </p:grpSpPr>
        <p:sp>
          <p:nvSpPr>
            <p:cNvPr id="247" name=""/>
            <p:cNvSpPr/>
            <p:nvPr/>
          </p:nvSpPr>
          <p:spPr>
            <a:xfrm>
              <a:off x="2050920" y="549360"/>
              <a:ext cx="0" cy="5759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50920" y="3429000"/>
              <a:ext cx="644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17520" y="728640"/>
            <a:ext cx="150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1" lang="en-AU" sz="1800" spc="-1" strike="noStrike" baseline="-25000">
                <a:solidFill>
                  <a:srgbClr val="ff3300"/>
                </a:solidFill>
                <a:latin typeface="Comic Sans MS"/>
              </a:rPr>
              <a:t>max </a:t>
            </a:r>
            <a:r>
              <a:rPr b="1" lang="en-AU" sz="1800" spc="-1" strike="noStrike">
                <a:solidFill>
                  <a:srgbClr val="ff3300"/>
                </a:solidFill>
                <a:latin typeface="Comic Sans MS"/>
              </a:rPr>
              <a:t> = 15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64000" y="1015920"/>
            <a:ext cx="0" cy="240984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981000"/>
            <a:ext cx="19432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3284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40360" y="3284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80000" y="3284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328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44600" y="355752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35575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07120" y="35575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05040" y="35575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35280" y="1628280"/>
            <a:ext cx="0" cy="1908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907640" y="1700280"/>
            <a:ext cx="90036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3440" y="353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40</a:t>
            </a:r>
            <a:r>
              <a:rPr b="0" lang="en-AU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2400" y="1521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a) v = 96.4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76720" y="1341360"/>
            <a:ext cx="0" cy="22305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908000" y="1412640"/>
            <a:ext cx="2376720" cy="36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61000" y="3573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135</a:t>
            </a:r>
            <a:r>
              <a:rPr b="0" lang="en-AU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6920" y="1233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b) v = 106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472000" y="3355560"/>
            <a:ext cx="0" cy="1368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871280" y="4544640"/>
            <a:ext cx="3745080" cy="36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2080" y="3025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210</a:t>
            </a:r>
            <a:r>
              <a:rPr b="0" lang="en-AU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0560" y="43941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c) v = - 75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128000" y="3321000"/>
            <a:ext cx="0" cy="2232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979280" y="5408280"/>
            <a:ext cx="5329080" cy="36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32080" y="3025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300</a:t>
            </a:r>
            <a:r>
              <a:rPr b="0" lang="en-AU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9840" y="52228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d) v = - 129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AF3-DC3D-4F26-875B-C40FE20F7C8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9039240" cy="389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84200" y="4041720"/>
            <a:ext cx="8659800" cy="2557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36720" y="12762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oot mean squ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37440" y="17748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36720" y="2233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3720" y="4745160"/>
            <a:ext cx="160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17720" y="4722840"/>
            <a:ext cx="149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852640"/>
            <a:ext cx="7632720" cy="289080"/>
          </a:xfrm>
          <a:prstGeom prst="rect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3357720"/>
            <a:ext cx="8424720" cy="560160"/>
          </a:xfrm>
          <a:prstGeom prst="rect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FD7-6AA5-4FDC-B6BB-FFDEFCD75C9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6560" y="441360"/>
            <a:ext cx="8209080" cy="4365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88600" y="1623960"/>
            <a:ext cx="412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0.707 = 600 x 0.707 = 424.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42960" y="3944880"/>
                <a:ext cx="4211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8E0-1A81-4959-809A-BB571C67FA3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1640" y="1521000"/>
            <a:ext cx="804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PO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o develop an understanding of the characteristics of alternating voltage and current waveforms and how they are gener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9720" y="7776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ccff"/>
                </a:solidFill>
                <a:latin typeface="Arial"/>
              </a:rPr>
              <a:t>Applied Electricity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69080" y="1881360"/>
            <a:ext cx="22989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0" spc="-1" strike="noStrike">
                <a:solidFill>
                  <a:srgbClr val="99cc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94172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raw an alternating waveform and identify the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ositive and negativ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ositive half-cycle and negative half-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ak to pea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ak 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588000" y="6296040"/>
            <a:ext cx="1629000" cy="56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9280" y="620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C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26002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CHIEVE THE PURPOSE OF THIS SE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t the end of this section the student will be able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28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escribe what is meant by the terms alternating voltage and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lternating curr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4113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xplain how a sinusoidal voltage is generated in a single turn coil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tated in a uniform magnetic fie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930-6833-45C9-8259-FDE7AA802D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748720" cy="5100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08120" y="5442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54C-B984-4D83-A3B5-7D60397F6D2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31640" y="1592280"/>
            <a:ext cx="8280720" cy="4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8200" y="657360"/>
            <a:ext cx="8605800" cy="4503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481360" y="2490840"/>
            <a:ext cx="1505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0.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86440" y="241920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0.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B4A-9C70-43FF-ACA5-0FAE0476E99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63640" y="4605480"/>
            <a:ext cx="2736720" cy="18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343400"/>
            <a:ext cx="21258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24000" y="3608280"/>
            <a:ext cx="973080" cy="1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5049720"/>
            <a:ext cx="5832720" cy="6843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1643040"/>
            <a:ext cx="5653080" cy="6843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1149480"/>
            <a:ext cx="2232360" cy="2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9640" y="873000"/>
            <a:ext cx="2592720" cy="2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24000" y="873000"/>
            <a:ext cx="1008000" cy="2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5280" y="225360"/>
            <a:ext cx="8569440" cy="5889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BFC-A142-491D-B59A-8E18536E165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504600" y="77760"/>
            <a:ext cx="20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ccff"/>
                </a:solidFill>
                <a:latin typeface="Arial"/>
              </a:rPr>
              <a:t>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ccff"/>
                </a:solidFill>
                <a:latin typeface="Arial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77800" y="1376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61080" y="162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60720" y="1144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60720" y="1628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29440" y="1736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9800" y="1413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56720" y="119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20000" y="17161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3800" y="21337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 l v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92920" y="3249720"/>
            <a:ext cx="228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x sin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7480" y="3249720"/>
            <a:ext cx="205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x sin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0520" y="4257720"/>
            <a:ext cx="276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= 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7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98320" y="4221000"/>
            <a:ext cx="252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7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4120" y="5121360"/>
            <a:ext cx="26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= 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6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40520" y="5084640"/>
            <a:ext cx="239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v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6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79D-99A2-45F1-8320-9A421217C70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451960" y="855720"/>
            <a:ext cx="4330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0" spc="-1" strike="noStrike">
                <a:solidFill>
                  <a:srgbClr val="ffffff"/>
                </a:solidFill>
                <a:latin typeface="Broadway"/>
              </a:rPr>
              <a:t>End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0" spc="-1" strike="noStrike">
                <a:solidFill>
                  <a:srgbClr val="ffffff"/>
                </a:solidFill>
                <a:latin typeface="Broadway"/>
              </a:rPr>
              <a:t>of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0" spc="-1" strike="noStrike">
                <a:solidFill>
                  <a:srgbClr val="ffffff"/>
                </a:solidFill>
                <a:latin typeface="Broadway"/>
              </a:rPr>
              <a:t>Less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6B8-CD0B-4974-95F8-727C6B92AAEB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 spd="slow">
    <p:fade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4" nodeType="afterEffect" fill="hold" presetClass="exit" presetID="25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7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51264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efine the terms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maximu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ak-to pea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instantaneou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averag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root-mean-square (rms)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n relation to a sinusoidal wavefo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24972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alculate the instantaneous value of induced voltage of a generated sinusoidal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avefo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436572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alculate the root-mean-square (rms) value and frequency of a sinusoidal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aveform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from values of peak voltage and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EAA-2024-466B-B84D-4CD7FA8EBF2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117440" y="546120"/>
          <a:ext cx="3976920" cy="546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7440" y="546120"/>
                    <a:ext cx="39769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854600" y="3422160"/>
            <a:ext cx="428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9240"/>
                <a:tab algn="l" pos="457200"/>
                <a:tab algn="l" pos="695160"/>
                <a:tab algn="l" pos="914400"/>
                <a:tab algn="l" pos="1143000"/>
                <a:tab algn="l" pos="1362240"/>
                <a:tab algn="l" pos="1600200"/>
                <a:tab algn="l" pos="1828800"/>
                <a:tab algn="l" pos="2057400"/>
                <a:tab algn="l" pos="2295360"/>
                <a:tab algn="l" pos="2514600"/>
                <a:tab algn="l" pos="2743200"/>
                <a:tab algn="l" pos="3209760"/>
                <a:tab algn="l" pos="3657600"/>
                <a:tab algn="r" pos="5862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9240"/>
                <a:tab algn="l" pos="457200"/>
                <a:tab algn="l" pos="695160"/>
                <a:tab algn="l" pos="914400"/>
                <a:tab algn="l" pos="1143000"/>
                <a:tab algn="l" pos="1362240"/>
                <a:tab algn="l" pos="1600200"/>
                <a:tab algn="l" pos="1828800"/>
                <a:tab algn="l" pos="2057400"/>
                <a:tab algn="l" pos="2295360"/>
                <a:tab algn="l" pos="2514600"/>
                <a:tab algn="l" pos="2743200"/>
                <a:tab algn="l" pos="3209760"/>
                <a:tab algn="l" pos="3657600"/>
                <a:tab algn="r" pos="5862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Electrical Principles for the Electrical Trades. 5th Edition. Jenneson J.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7480" y="177948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ff"/>
                </a:solidFill>
                <a:latin typeface="Arial"/>
                <a:ea typeface="Arial"/>
              </a:rPr>
              <a:t>Page 1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D10-05E1-49FA-A4E8-95DE02FA543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7280" y="368280"/>
            <a:ext cx="8623440" cy="468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59280" y="1557360"/>
            <a:ext cx="4681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4400640"/>
            <a:ext cx="3745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4627440"/>
            <a:ext cx="3132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905360"/>
            <a:ext cx="6805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0BA-F6AC-4CEE-9C30-7D141AD58F4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6560" y="404640"/>
            <a:ext cx="7669080" cy="5402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1158840"/>
            <a:ext cx="7056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1398600"/>
            <a:ext cx="3421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522936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5467320"/>
            <a:ext cx="255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00360" y="5697360"/>
            <a:ext cx="827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A7B-4A4A-465C-A75B-FAEEEA65963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525600"/>
            <a:ext cx="8496360" cy="2903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51280" y="16653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7280" y="2205000"/>
            <a:ext cx="2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2079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33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24360" y="2744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274464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50920" y="3456000"/>
            <a:ext cx="7416720" cy="340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360" y="384336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cts in one directio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545616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Has both +ve and –ve negative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417816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DC wav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00360" y="5778360"/>
            <a:ext cx="53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Alternating waveform – called 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0360" y="6093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Used in electricit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63920" y="4456080"/>
            <a:ext cx="38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Only positiv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0000" y="16509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(seconds or electrical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F0A-82DE-440B-A89A-0C43E3F400E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34920" y="5805360"/>
            <a:ext cx="7921800" cy="395280"/>
          </a:xfrm>
          <a:prstGeom prst="rect">
            <a:avLst/>
          </a:prstGeom>
          <a:solidFill>
            <a:srgbClr val="00ff00">
              <a:alpha val="2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2920" y="189000"/>
            <a:ext cx="8569440" cy="3881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7280" y="4761000"/>
            <a:ext cx="8712360" cy="165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0" y="4748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Has both +ve and –ve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25509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Has both +ve and –ve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6920" y="62064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85896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Triangular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12193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Used in electroni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292248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Square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32958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Used in electroni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930-3CB1-4E53-8B03-E21D1B59CFA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533080" cy="5007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87280" y="2263680"/>
            <a:ext cx="158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719440"/>
            <a:ext cx="16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76640"/>
            <a:ext cx="936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3871800"/>
            <a:ext cx="16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67320"/>
            <a:ext cx="576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998960"/>
            <a:ext cx="432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5445000"/>
            <a:ext cx="82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4F9-3ADE-4F99-BBC2-3344F31CC91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4:42:32Z</dcterms:created>
  <dc:creator>mspain</dc:creator>
  <dc:description/>
  <dc:language>en-US</dc:language>
  <cp:lastModifiedBy>pchadwick</cp:lastModifiedBy>
  <dcterms:modified xsi:type="dcterms:W3CDTF">2006-03-02T06:58:09Z</dcterms:modified>
  <cp:revision>113</cp:revision>
  <dc:subject/>
  <dc:title>Slide 1</dc:title>
</cp:coreProperties>
</file>