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9F94-5355-40F4-A5A2-92A3A356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92D3-0361-4410-817C-7FD3F6AC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0B43-6E47-4F39-ACF0-12C67672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218C-71DB-49A5-B58F-23A9A437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2E40-80F0-4FDD-8431-EB641786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3889-5D0A-46DA-9F05-BB711F37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5A8B-DE8F-46EE-AB9F-2BC1B9DB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A199-8855-4891-B238-BF47C08F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8CF3-F4AB-4EB1-B28A-54A0451A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290B-2DFC-4895-BCF1-B202ACE4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E030-C937-403A-84B3-3E2D5A52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E19C-6EC4-4F52-AEEC-779D7756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6BB9-F630-40DD-8675-5062C9F2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4831-7810-464A-B7B8-A64FF379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DC9F-14C7-4D47-BC94-625F4A10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D293-05D9-46F7-B190-9C467F22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988C-B6EB-4BED-BEC9-16130DE0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1266-5F21-44D0-825D-FF090517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D0B7-355B-447D-905F-6D6ADD78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0EDB-918E-4F46-A96B-9C56B866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D8A-A5F5-417F-A89B-4321BECC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6B9D-0D14-4C25-87B9-93C4FDDD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B6D3-3F00-4F38-A8AC-5369AF6B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DD43-1ECE-422F-93D0-8C068ECB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9A72-22BF-49C3-BFA3-9966BABD99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0A25-A8B5-49E0-A6E5-29B549CB83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X86" TargetMode="External"/><Relationship Id="rId2" Type="http://schemas.openxmlformats.org/officeDocument/2006/relationships/hyperlink" Target="http://www.computercloset.org/IBMPC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System Architectur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62520" y="3809880"/>
            <a:ext cx="12952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66135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Stuart Alexander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om 3.32 Architect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2645" b="0"/>
          <a:stretch/>
        </p:blipFill>
        <p:spPr>
          <a:xfrm>
            <a:off x="0" y="1398600"/>
            <a:ext cx="5943600" cy="5459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248520" y="2057400"/>
            <a:ext cx="2895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he HP Vectra VL400 uses a Socket 370 motherboard with a Pentium III processor and uses the x86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586728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ctra VL400 Motherbo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66135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Stuart Alexander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om 3.32 Architecture Cont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0" t="0" r="7186" b="0"/>
          <a:stretch/>
        </p:blipFill>
        <p:spPr>
          <a:xfrm>
            <a:off x="1981080" y="1295280"/>
            <a:ext cx="5105520" cy="5562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80880" y="1676520"/>
            <a:ext cx="152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PU &amp; 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3733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114800"/>
            <a:ext cx="1905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xpansion Ports/ Cards &amp;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82880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us &amp; Bus Control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19810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600200" y="3504960"/>
            <a:ext cx="76212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5181480"/>
            <a:ext cx="609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486040" y="2590920"/>
            <a:ext cx="167652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334120" y="22860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553080" y="3580920"/>
            <a:ext cx="990720" cy="304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5715000"/>
            <a:ext cx="17524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66135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Stuart Alexander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more info see…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en.wikipedia.org/wiki/X8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computercloset.org/IBMPC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66135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Stuart Alexander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ww.mcsx.co.uk defines architecture 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4572000"/>
            <a:ext cx="70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How the different hardware, adapters &amp; interfaces are arranged on the motherboard and interact with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24382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he way a system is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Arial"/>
              </a:rPr>
              <a:t>designed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nd how the components are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Arial"/>
              </a:rPr>
              <a:t>connected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with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38862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in my words means 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66135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Stuart Alexander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onsidered part of the Architectu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2757600"/>
            <a:ext cx="6248520" cy="4100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7200" y="2590920"/>
            <a:ext cx="2514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21828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docs.rinet.ru/ZadnyyOffice/12bou01.g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7652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PU &amp; 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16002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us &amp; Bus Control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1371600"/>
            <a:ext cx="2819520" cy="137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xpansion Cards/ ports &amp;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4864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2743200"/>
            <a:ext cx="4572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2743200"/>
            <a:ext cx="381240" cy="1371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259092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24382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238520" y="41148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543800" y="594360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579132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8381880" y="2819520"/>
            <a:ext cx="76320" cy="3124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43800" y="6553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Stuart Alexander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Architecture Use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91520" y="66135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Stuart Alexander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447920"/>
            <a:ext cx="815364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Pentium 4 and Athlons use x86 32bit architecture. (These can use up to 4GB of RAM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x86 architecture has been used since the early days of pc’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Athlon64, Pentium D, Intel Core 2 use the x86 architecture with 64bit expan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64bit allows the CPU to store more bits of data in the memory at any one time (These have the potential to use up to </a:t>
            </a:r>
            <a:r>
              <a:rPr b="0" lang="en-AU" sz="3000" spc="-1" strike="noStrike">
                <a:solidFill>
                  <a:srgbClr val="ffcc66"/>
                </a:solidFill>
                <a:latin typeface="Arial"/>
              </a:rPr>
              <a:t>17,179,869,184GB RAM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Architecture cont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One of the main parts of the x86 architecture is the chip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The chipsets are defined primarily by the CPU type it uses but is also the glue between the graphics card, memory and disk controll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ffcc66"/>
                </a:solidFill>
                <a:latin typeface="Arial"/>
              </a:rPr>
              <a:t>Example Chip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Intel P965 chipsets run most of the Intel Core 2 Duo CPU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c66"/>
                </a:solidFill>
                <a:latin typeface="Arial"/>
              </a:rPr>
              <a:t>Nvidia nForce 570 chipsets run most new AMD CPU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e on Chipse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Refers to the specialized motherboard chips on a computer or expansion c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On Intel Pentiums, the "chipsets" often refers to the northbridge and southbri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3140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psets on a Motherboar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2699" t="1871" r="5405" b="3134"/>
          <a:stretch/>
        </p:blipFill>
        <p:spPr>
          <a:xfrm>
            <a:off x="457200" y="1828800"/>
            <a:ext cx="5181480" cy="4038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324480" y="2590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42670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Northbridge &amp; Southbri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60958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mbined make up the Motherboard Chip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3581280"/>
            <a:ext cx="1066680" cy="1067040"/>
          </a:xfrm>
          <a:prstGeom prst="ellipse">
            <a:avLst/>
          </a:prstGeom>
          <a:noFill/>
          <a:ln w="69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62320" y="3538440"/>
            <a:ext cx="990720" cy="1067040"/>
          </a:xfrm>
          <a:prstGeom prst="ellipse">
            <a:avLst/>
          </a:prstGeom>
          <a:noFill/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181480" y="2971800"/>
            <a:ext cx="990720" cy="533520"/>
          </a:xfrm>
          <a:prstGeom prst="line">
            <a:avLst/>
          </a:prstGeom>
          <a:ln w="69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09520" y="4647960"/>
            <a:ext cx="2210040" cy="228600"/>
          </a:xfrm>
          <a:prstGeom prst="line">
            <a:avLst/>
          </a:prstGeom>
          <a:ln w="698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sible Compatibility Issu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55306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are less common today than they were in the past but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66135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Stuart Alexander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37160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Historically compatibility problems with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rchitecture occurred wh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1. Different hardware did not work together because they were made by different companies or used incompatible slo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2. Software being designed for a particular set of hardware specs did not work on all 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3. Initially there were a number of CPU makers. The CPU’s handled hardware different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tibility Problem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ill happ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PU’s can only be used in specific motherboards eg. Pentium 4 can’t fit in a Pentium 2 s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Graphics cards will either use the AGP slot (lower-end cards) or PCI Express slot (higher end cards). These are non-interchange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here are generic hardware drivers but to get the most out of a piece of hardware, brand specific drivers need to be instal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661356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Stuart Alexander 200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gg331-07</cp:lastModifiedBy>
  <dcterms:modified xsi:type="dcterms:W3CDTF">2007-03-15T08:04:5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