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331-610B-46AB-82CD-44C95D56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986-7090-4CB0-B90C-F97F0993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555-A05E-4BFA-9CBA-97DB9596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803-93F9-4FEC-A669-8B0A5E1F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87D5-D00D-4EF5-8B82-A0A4226E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E598-8AF2-4CC5-AE5F-BACC1A6D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B9A0-AFA1-4EC7-BA7B-CF902CEE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A77E-3520-418E-A284-5E548F28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73F1-5D7E-47EC-A791-1BEB08EC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D701-987A-4AEC-92EA-FC6B1C97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2C77-19A4-480B-8A49-F402B47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241-19E3-4C51-9BA6-BD560FF0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2F93-D246-43BC-8B44-B30E180E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A2B0-1C77-485C-8305-057DB74D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AB54-FAC6-42E2-BB36-B5134882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B764-75F6-461E-B040-0158AD7F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5CF6-345D-4021-B2AE-04E83941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F0C-A3E0-4D1E-A8E4-B9AE26CD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4FE-BDD0-4DDA-9B0C-68B82536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E32-A136-44B1-ABE0-B281319B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5C2-B3E5-479B-915B-4EA6F001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CA9-6243-4F7A-96AC-6B28E90D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644-1AFA-4CCF-956F-BE05A277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C1F-6ED9-4728-A3A6-2283223A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7765-71BC-425F-8195-7F9534D769D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1BB9-F069-41CC-84F4-AF72CDC90B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DCEF-FC22-49D3-9234-7D41CA14A49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E274-EE72-43B2-8F1B-6DC829A3D4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ntrollers </a:t>
            </a: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(hard drive controllers)</a:t>
            </a:r>
            <a:endParaRPr b="0" i="1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7284"/>
          <a:stretch/>
        </p:blipFill>
        <p:spPr>
          <a:xfrm>
            <a:off x="1800360" y="3608280"/>
            <a:ext cx="540072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4FCA-1C01-422B-80A4-18D9507638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Controllers used in lab :G3.32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tandard floppy disk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Intel Bus Master IDE Controller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Primary IDE Channel [Controller]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Secondary IDE Channel [Controller]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3D9-87C4-4BC2-8CB5-FC7E367818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Summary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ontroller is a hardware device it can be an expansion card or integrated onto the computer motherboar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t enables communication between The computer and another hardware devi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_ARCOIDE" descr=""/>
          <p:cNvPicPr/>
          <p:nvPr/>
        </p:nvPicPr>
        <p:blipFill>
          <a:blip r:embed="rId1"/>
          <a:srcRect l="0" t="15088" r="0" b="0"/>
          <a:stretch/>
        </p:blipFill>
        <p:spPr>
          <a:xfrm>
            <a:off x="1655640" y="4184640"/>
            <a:ext cx="630252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7F2-6C69-4158-8EB1-41EA880244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hat is a controller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A device that controls the transfer of data from a computer to a peripheral device For example, disk drives, display screens, keyboards, and printers all require controll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n personal computers, the controllers are often single chips. When you buy a computer, it comes with all the necessary controller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If you attach additional devices you may need to insert new controllers that come on expansion card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C38-997A-42E0-B0B5-ADDD568D4D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dis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graphics controller or video display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network contr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keyboar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RAID control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SCSI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AC3-EADC-49BB-A106-05E6A76F5A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" sz="3300" spc="-1" strike="noStrike">
                <a:solidFill>
                  <a:srgbClr val="336666"/>
                </a:solidFill>
                <a:latin typeface="Arial Black"/>
              </a:rPr>
              <a:t>Disk controll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disk controller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is the circuit which allows the CPU to communicate with a hard disk, floppy disk or other kind of disk dri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Early disk controllers were identified by their storage methods and data encoding. They were typically implemented on a separate controller car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Modern disk controllers are integrated into the disk drive. The interface between the computer and hard disk is called a </a:t>
            </a:r>
            <a:r>
              <a:rPr b="1" lang="en" sz="2600" spc="-1" strike="noStrike">
                <a:solidFill>
                  <a:srgbClr val="000000"/>
                </a:solidFill>
                <a:latin typeface="Arial"/>
              </a:rPr>
              <a:t>host adap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C649-B265-42CE-BDA1-FD6AA1E176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Host adapter</a:t>
            </a:r>
            <a:r>
              <a:rPr b="0" lang="en-A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n computer hardware, a host adapter or host bus adapter (HBA) connects a host system (the computer) to other network and storage device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Image:QLA 2200F.jpg"/>
          <p:cNvPicPr/>
          <p:nvPr/>
        </p:nvPicPr>
        <p:blipFill>
          <a:blip r:embed="rId1"/>
          <a:srcRect l="5129" t="10141" r="7689" b="18373"/>
          <a:stretch/>
        </p:blipFill>
        <p:spPr>
          <a:xfrm>
            <a:off x="2087640" y="3608280"/>
            <a:ext cx="525600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DB1-5A3C-4E2E-AB3E-D2A776233A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Types of hard disk controll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The most common types in use are IDE, Serial ATA, and SCSI(controller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Most home personal computers use an IDE or Serial ATA interfac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100" spc="-1" strike="noStrike">
                <a:solidFill>
                  <a:srgbClr val="000000"/>
                </a:solidFill>
                <a:latin typeface="Arial"/>
              </a:rPr>
              <a:t>network file servers mostly have SCSI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0A2-4595-44EE-82A1-679A93A7BE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IDE- Integrated Drive Electronic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A type of hardware interface widely used to connect hard disks, and  optical disks to a PC</a:t>
            </a:r>
            <a:br>
              <a:rPr sz="3100"/>
            </a:br>
            <a:r>
              <a:rPr b="0" lang="en-A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43280" y="3537000"/>
            <a:ext cx="4284720" cy="21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C0D-9D21-45CE-BD12-FA4ABCCFE5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300" spc="-1" strike="noStrike">
                <a:solidFill>
                  <a:srgbClr val="336666"/>
                </a:solidFill>
                <a:latin typeface="Arial Black"/>
              </a:rPr>
              <a:t>ATA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 Attachment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) is a standard interface for connecting storage devices such as hard disks and CD-ROM drives inside personal comput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700" spc="-1" strike="noStrike">
                <a:solidFill>
                  <a:srgbClr val="000000"/>
                </a:solidFill>
                <a:latin typeface="Arial"/>
              </a:rPr>
              <a:t>Serial ATA</a:t>
            </a:r>
            <a:r>
              <a:rPr b="0" lang="en" sz="2700" spc="-1" strike="noStrike">
                <a:solidFill>
                  <a:srgbClr val="000000"/>
                </a:solidFill>
                <a:latin typeface="Arial"/>
              </a:rPr>
              <a:t> is a computer bus technology designed for transfer of data to and from hard disks and optical driv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6EE-AA2F-418A-B65B-1928CF4939D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CSI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 (</a:t>
            </a:r>
            <a:r>
              <a:rPr b="1" lang="en" sz="2900" spc="-1" strike="noStrike">
                <a:solidFill>
                  <a:srgbClr val="336666"/>
                </a:solidFill>
                <a:latin typeface="Arial Black"/>
              </a:rPr>
              <a:t>Small Computer System Interface</a:t>
            </a:r>
            <a:r>
              <a:rPr b="0" lang="en" sz="2900" spc="-1" strike="noStrike">
                <a:solidFill>
                  <a:srgbClr val="336666"/>
                </a:solidFill>
                <a:latin typeface="Arial Black"/>
              </a:rPr>
              <a:t>)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is a set of standards for physically connecting and transferring data between computers and peripheral devic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600" spc="-1" strike="noStrike">
                <a:solidFill>
                  <a:srgbClr val="000000"/>
                </a:solidFill>
                <a:latin typeface="Arial"/>
              </a:rPr>
              <a:t>SCSI is most commonly used for hard disks, but it can connect a wide range of other devices, including scanners, printers, and optical drives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i Baydou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596-8962-4C87-B537-1B657CC6289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GG331-11</cp:lastModifiedBy>
  <dcterms:modified xsi:type="dcterms:W3CDTF">2007-03-08T07:20:1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