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D2A-7183-4C88-B9DA-93BF5AC1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EE3-2F56-48E8-BC39-F57C306A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0B8-95AA-4214-B836-B8EC9BE1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F4E-E327-4D95-96AE-1B9C4723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0AFF-261A-4EB1-81A9-0078C19F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8E92-C234-4718-BA6D-933B842D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314E-B916-4476-82B3-A1A49C89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63C1-BF16-4555-A9FC-24DF5F06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F640-8A1B-4CFC-A112-FA344843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5922-5B22-4A79-8EF0-6642C480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BAB6-2775-4039-BBEF-D7EF1EDF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F02-D04C-41D8-A2EE-8F5757A6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2AF2-8D54-46F1-A1CC-1BD58C46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35F4-037B-4B86-85F6-B76BA0D1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2EAC-549C-4839-8376-F0458366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6BEF-BDC2-42B3-8078-959A1E5A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54A3-3A49-4599-A7D0-2AEBC85C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08E-6C87-41A9-9502-8D3BE850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963-D40B-4536-9FC4-BC748A6A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314-7244-4D92-B7AB-F9D1FE5E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4AB-6437-4263-B255-C42AAF7E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00B-C98A-493D-B1BA-11898630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AA2-6DE2-48C4-94C4-5B4C420E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055-4642-4850-844A-A51F8BDB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6018-A5A4-4F57-8DF2-D637CD0AC7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A52C-6251-41DF-A788-916433F34AE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p.com.au/" TargetMode="External"/><Relationship Id="rId2" Type="http://schemas.openxmlformats.org/officeDocument/2006/relationships/hyperlink" Target="http://www.howstuffworks.com/" TargetMode="External"/><Relationship Id="rId3" Type="http://schemas.openxmlformats.org/officeDocument/2006/relationships/hyperlink" Target="http://www.pccomputernotes.com/" TargetMode="External"/><Relationship Id="rId4" Type="http://schemas.openxmlformats.org/officeDocument/2006/relationships/hyperlink" Target="http://www.wikipedia.com/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292392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So What am I Presenting to you??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External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54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onnects different external devices to the rest of the Compu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eripher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ansion Sl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\O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Drive Conn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 Simpler Terms the External Bus allows various devices to be added to the compu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External Bus is also known as the Expansion B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Architectral 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Busses connect different parts of the motherboard to one another"/>
          <p:cNvPicPr/>
          <p:nvPr/>
        </p:nvPicPr>
        <p:blipFill>
          <a:blip r:embed="rId1"/>
          <a:stretch/>
        </p:blipFill>
        <p:spPr>
          <a:xfrm>
            <a:off x="0" y="1628640"/>
            <a:ext cx="4067280" cy="5229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00720" y="1557000"/>
            <a:ext cx="46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Front Side Bus Connects the CPU to the Northbridge. (Determines the Sp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ackside Bus connects to the CP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memory Bus connects the Northbridge to the mem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IDE\ATA Bus Connects the Southbridge to the disk dr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PCI Bus Connects the PCI Slots to the South B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CI Express is the more latest BUS and eliminates the AGP BUS by introducing another PCI Express BUS to the graphics car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What Travels on the B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ta!!!!!!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ta has to be exchanged between de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 part of the bus is dedicated to moving this data, this is what we call the Data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is found on both the Internal and External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 Relation to Memo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ta is stored, manipulated and processed in system mem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Computer has to move information in and out of memory, and it has to keep track of which information has to go w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t has to keep a MAP of the different address locations in mem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ddress BU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t has to transmit and describe the locations of the memory so other components can access and locate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Information used to describe the locations of the memory to the Components travels along the ADDRESS B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more Memory locations that a processor addresses, the more RAM it uses 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 Relation To G3.32: Memory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Current memory in most of the computers is 256MB of 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owever Computer 25 has 128 MB of 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re are 2 168 PIN DIMM slots, however only 1 is in 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y use 133MHz SDRAM Modu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Maximum memory you can put in each slot is 512M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nd the maximum memory the Motherboard can handle is 512MB of 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1988640"/>
            <a:ext cx="7543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BUS on this Motherboard</a:t>
            </a:r>
            <a:br>
              <a:rPr sz="4400"/>
            </a:br>
            <a:br>
              <a:rPr sz="4400"/>
            </a:b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n Architectural 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32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formation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aken from the HP Website, using their technical reference manual from </a:t>
            </a: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www.hp.com.a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nd also searching through the Google website 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www.howstuffworks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www.pccomputernotes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www.wikipedia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31413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ank you for staying awake and liste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2276640"/>
            <a:ext cx="7086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s Selected by our Teacher Sharon…. </a:t>
            </a:r>
            <a:br>
              <a:rPr sz="4400"/>
            </a:br>
            <a:br>
              <a:rPr sz="4400"/>
            </a:b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 am Doing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Battery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420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System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What Is the System B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CPU, has to be able to send out different types of data, information and values to all devices and components through the compu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f you look underneath your motherboar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'll see a whole network of lines or electronic pathways that join the different components togeth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Research I have gathered that the wires are co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What is the System B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5819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Hence, the System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electronic pathways are nothing more than tiny wires that carry information, data and different signals throughout the computer to different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is is what we call the System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ypes of Bu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 Computers Bus is divided into 2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ternal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xternal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Internal B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nnects different components inside the c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CP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ystem Mem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nd All other components on the mother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Internal Bus is also known as the System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23:53:06Z</dcterms:created>
  <dc:creator>Fotis</dc:creator>
  <dc:description/>
  <dc:language>en-US</dc:language>
  <cp:lastModifiedBy>sgg331-06</cp:lastModifiedBy>
  <dcterms:modified xsi:type="dcterms:W3CDTF">2007-03-08T07:09:06Z</dcterms:modified>
  <cp:revision>4</cp:revision>
  <dc:subject/>
  <dc:title>So What am I Presenting to you???</dc:title>
</cp:coreProperties>
</file>